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006-3843-4074-AF49-A1EA835D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F78-5AA5-4644-BCFC-63E82D3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5B8-6037-4B17-AF9D-58B3359F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144-45E1-45EE-9C94-6891CA02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7D1-C991-4D26-81F0-E523745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03D-D72A-4809-80BD-8A004C71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32B-35F0-4FC9-BFC2-EFD620E9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18F-553B-47DA-9218-F6F16D23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343-C29E-4354-89E1-F4E9C6FF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3EB-4136-4CBF-99CE-38BB341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BEC-93C8-45E6-BA11-C5C2F3C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7F0-0485-439C-B60D-945616B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" y="1440"/>
            <a:ext cx="7329600" cy="1070280"/>
          </a:xfrm>
          <a:prstGeom prst="rect">
            <a:avLst/>
          </a:pr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24560" y="1440"/>
            <a:ext cx="219240" cy="107028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1676520" cy="404640"/>
          </a:xfrm>
          <a:prstGeom prst="rect">
            <a:avLst/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884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752120" y="6540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552720"/>
            <a:ext cx="236232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3A7-71BD-46AF-A6C0-5ED4E34956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-1440"/>
            <a:ext cx="4047840" cy="3004920"/>
          </a:xfrm>
          <a:prstGeom prst="rect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0"/>
            <a:ext cx="4124160" cy="300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0480" y="3352680"/>
            <a:ext cx="4043520" cy="3505320"/>
          </a:xfrm>
          <a:prstGeom prst="rect">
            <a:avLst/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0"/>
            <a:ext cx="5104080" cy="3352680"/>
          </a:xfrm>
          <a:prstGeom prst="rect">
            <a:avLst/>
          </a:pr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997360"/>
            <a:ext cx="4038480" cy="36036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7360"/>
            <a:ext cx="5105520" cy="36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52680"/>
            <a:ext cx="5100480" cy="350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0"/>
            <a:ext cx="4044960" cy="3008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4884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61760"/>
            <a:ext cx="503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国外柠檬水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1120" y="299988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52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9f5d2"/>
                </a:gs>
                <a:gs pos="100000">
                  <a:srgbClr val="ebd5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55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4d8"/>
                </a:gs>
                <a:gs pos="100000">
                  <a:srgbClr val="0488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58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edd5"/>
                </a:gs>
                <a:gs pos="100000">
                  <a:srgbClr val="66b1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66b1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ebd53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b13d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ebd531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66b13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3a2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66b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0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d531">
                    <a:alpha val="90196"/>
                  </a:srgbClr>
                </a:gs>
                <a:gs pos="50000">
                  <a:srgbClr val="f7efb8"/>
                </a:gs>
                <a:gs pos="100000">
                  <a:srgbClr val="ebd531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14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4884e">
                    <a:alpha val="90196"/>
                  </a:srgbClr>
                </a:gs>
                <a:gs pos="50000">
                  <a:srgbClr val="a9d6c2"/>
                </a:gs>
                <a:gs pos="100000">
                  <a:srgbClr val="04884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18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3f15"/>
                </a:gs>
                <a:gs pos="50000">
                  <a:srgbClr val="66b13d"/>
                </a:gs>
                <a:gs pos="100000">
                  <a:srgbClr val="243f15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13d">
                    <a:alpha val="90196"/>
                  </a:srgbClr>
                </a:gs>
                <a:gs pos="50000">
                  <a:srgbClr val="cae3bc"/>
                </a:gs>
                <a:gs pos="100000">
                  <a:srgbClr val="66b13d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b13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4884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324880" y="1933560"/>
            <a:ext cx="4218120" cy="4161960"/>
            <a:chOff x="2324880" y="1933560"/>
            <a:chExt cx="4218120" cy="4161960"/>
          </a:xfrm>
        </p:grpSpPr>
        <p:sp>
          <p:nvSpPr>
            <p:cNvPr id="526" name=""/>
            <p:cNvSpPr/>
            <p:nvPr/>
          </p:nvSpPr>
          <p:spPr>
            <a:xfrm rot="10800000">
              <a:off x="3814920" y="504324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32560" y="1933560"/>
              <a:ext cx="1194120" cy="10526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86200">
              <a:off x="5191920" y="4243320"/>
              <a:ext cx="1193760" cy="105408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597000">
              <a:off x="5188680" y="27093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4374200">
              <a:off x="2485080" y="4251600"/>
              <a:ext cx="1191960" cy="10544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7985000">
              <a:off x="2489040" y="2704680"/>
              <a:ext cx="1193760" cy="105444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56480" y="5429160"/>
              <a:ext cx="118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b1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53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rcRect l="37892" t="32815" r="31252" b="24483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rcRect l="37892" t="32815" r="31252" b="24483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rcRect l="37892" t="32815" r="31252" b="2448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rcRect l="37892" t="32815" r="31252" b="24483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rcRect l="37892" t="32815" r="31252" b="24483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6"/>
          <a:srcRect l="37892" t="32815" r="31252" b="24483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7"/>
          <a:srcRect l="37892" t="32815" r="31252" b="24483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8"/>
          <a:srcRect l="37892" t="32815" r="31252" b="24483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9"/>
          <a:srcRect l="37892" t="32815" r="31252" b="24483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0"/>
          <a:srcRect l="37892" t="32815" r="31252" b="24483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1"/>
          <a:srcRect l="37892" t="32815" r="31252" b="24483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12"/>
          <a:srcRect l="37892" t="32815" r="31252" b="24483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c8d20">
                  <a:alpha val="12156"/>
                </a:srgbClr>
              </a:gs>
              <a:gs pos="50000">
                <a:srgbClr val="ebd531"/>
              </a:gs>
              <a:gs pos="100000">
                <a:srgbClr val="9c8d20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07026"/>
              </a:gs>
              <a:gs pos="100000">
                <a:srgbClr val="66b13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bf1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bf1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bf1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66b13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ebd53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ff9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19358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b16800"/>
              </a:gs>
              <a:gs pos="100000">
                <a:srgbClr val="ff9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ebd531"/>
              </a:gs>
              <a:gs pos="100000">
                <a:srgbClr val="a3942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b183c"/>
              </a:gs>
              <a:gs pos="100000">
                <a:srgbClr val="193583">
                  <a:alpha val="9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3d6b24"/>
              </a:gs>
              <a:gs pos="100000">
                <a:srgbClr val="66b1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36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40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48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666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670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ebd531"/>
                </a:gs>
                <a:gs pos="100000">
                  <a:srgbClr val="6c62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b13d"/>
                </a:gs>
                <a:gs pos="100000">
                  <a:srgbClr val="2f51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4884e"/>
                </a:gs>
                <a:gs pos="100000">
                  <a:srgbClr val="48a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ebd53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bd53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bd53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688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44c11"/>
                </a:gs>
                <a:gs pos="50000">
                  <a:srgbClr val="ebd531"/>
                </a:gs>
                <a:gs pos="100000">
                  <a:srgbClr val="544c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746918"/>
                </a:gs>
                <a:gs pos="100000">
                  <a:srgbClr val="ebd5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691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e5300"/>
                </a:gs>
                <a:gs pos="50000">
                  <a:srgbClr val="ff9600"/>
                </a:gs>
                <a:gs pos="100000">
                  <a:srgbClr val="8e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8e5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694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3761b"/>
                </a:gs>
                <a:gs pos="50000">
                  <a:srgbClr val="ebd531"/>
                </a:gs>
                <a:gs pos="100000">
                  <a:srgbClr val="837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ebd531"/>
                </a:gs>
                <a:gs pos="100000">
                  <a:srgbClr val="8376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697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76200"/>
                </a:gs>
                <a:gs pos="50000">
                  <a:srgbClr val="ff9600"/>
                </a:gs>
                <a:gs pos="100000">
                  <a:srgbClr val="a7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c2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b13d"/>
                </a:gs>
                <a:gs pos="50000">
                  <a:srgbClr val="ddedd5"/>
                </a:gs>
                <a:gs pos="100000">
                  <a:srgbClr val="66b13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6b13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d531"/>
                </a:gs>
                <a:gs pos="50000">
                  <a:srgbClr val="f9f5d2"/>
                </a:gs>
                <a:gs pos="100000">
                  <a:srgbClr val="ebd53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ebd53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4884e"/>
                </a:gs>
                <a:gs pos="50000">
                  <a:srgbClr val="c9e4d8"/>
                </a:gs>
                <a:gs pos="100000">
                  <a:srgbClr val="04884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488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9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fee7c8"/>
                </a:gs>
                <a:gs pos="100000">
                  <a:srgbClr val="ff9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ff9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3583"/>
                    </a:gs>
                    <a:gs pos="100000">
                      <a:srgbClr val="04884e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3583"/>
                  </a:gs>
                  <a:gs pos="100000">
                    <a:srgbClr val="04884e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17" name=""/>
          <p:cNvSpPr/>
          <p:nvPr/>
        </p:nvSpPr>
        <p:spPr>
          <a:xfrm>
            <a:off x="18288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5181120" y="297180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2ED-DFDB-47DC-91AD-2868AE55E0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6280" y="1337760"/>
            <a:ext cx="818496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View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Master]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Slide Master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500" spc="-1" strike="noStrike">
                <a:solidFill>
                  <a:srgbClr val="04884e"/>
                </a:solidFill>
                <a:latin typeface="Arial"/>
              </a:rPr>
              <a:t>[Notes Master]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3020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ebd53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ebd53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ae3d"/>
              </a:gs>
              <a:gs pos="50000">
                <a:srgbClr val="ff9600"/>
              </a:gs>
              <a:gs pos="100000">
                <a:srgbClr val="feae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ac36b"/>
              </a:gs>
              <a:gs pos="50000">
                <a:srgbClr val="66b13d"/>
              </a:gs>
              <a:gs pos="100000">
                <a:srgbClr val="8ac3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38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d53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bd5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1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b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b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4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d53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bd5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0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57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63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4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0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47712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8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ff96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66b13d"/>
          </a:solidFill>
          <a:ln w="9360">
            <a:solidFill>
              <a:srgbClr val="66b13d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66b13d">
              <a:alpha val="50000"/>
            </a:srgbClr>
          </a:solidFill>
          <a:ln w="9360">
            <a:solidFill>
              <a:srgbClr val="66b1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0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8399600">
              <a:off x="3515040" y="32659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884e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b13d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15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16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7872600">
                <a:off x="5245560" y="12290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1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 rot="6519600">
                <a:off x="4917240" y="10065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f7efb8"/>
              </a:gs>
              <a:gs pos="100000">
                <a:srgbClr val="ebd53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47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48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1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79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297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23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49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54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59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0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66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72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78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79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85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1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12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 rot="5400000">
              <a:off x="3032640" y="231804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 flipV="1" rot="16200000">
              <a:off x="303588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0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0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38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39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31Z</dcterms:created>
  <dc:creator>http://www.eeppt.com</dc:creator>
  <dc:description>ppt模板下载网站 http://www.eeppt.com</dc:description>
  <dc:language>en-US</dc:language>
  <cp:lastModifiedBy/>
  <dcterms:modified xsi:type="dcterms:W3CDTF">2015-06-14T01:55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