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F3E7-F124-426C-8EC9-0B72534E7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DE4E-7EEB-45EF-87CE-F2C34CFEB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83931-77D9-4A26-95E9-593560B4D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7873-4AE8-4658-B987-EEEEE3B00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B647-91C5-40F5-81A8-C7EF6DA9B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EF987-3353-4CC6-847C-ACEF3AAAE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99BA-F7B4-462E-A5C4-DB15455ED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D9FB-48E9-479F-9B89-01A241F7F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686C-4C27-4CE6-A067-34A62097A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9614A-7233-4AB1-873B-AA517EC78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24E6C-3EEB-4F0B-B01A-5977BE901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F23EB-4E2A-46E7-97C6-3D01DBAED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1197000"/>
            <a:ext cx="8207280" cy="52563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52800" y="64576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7148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66699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543E-558D-4357-82F7-BC30D50125A7}" type="slidenum">
              <a:rPr b="0" lang="zh-CN" sz="1000" spc="-1" strike="noStrike">
                <a:solidFill>
                  <a:srgbClr val="666699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"/>
          <p:cNvSpPr/>
          <p:nvPr/>
        </p:nvSpPr>
        <p:spPr>
          <a:xfrm>
            <a:off x="395280" y="33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68360" y="981000"/>
            <a:ext cx="6264360" cy="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1800" spc="-1" strike="noStrike">
              <a:solidFill>
                <a:srgbClr val="1c1c1c"/>
              </a:solidFill>
              <a:latin typeface="黑体"/>
            </a:endParaRPr>
          </a:p>
          <a:p>
            <a:pPr lvl="2" marL="914400" indent="343080" algn="ctr">
              <a:lnSpc>
                <a:spcPct val="150000"/>
              </a:lnSpc>
              <a:spcBef>
                <a:spcPts val="400"/>
              </a:spcBef>
              <a:buClr>
                <a:srgbClr val="1c1c1c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1371600" indent="241200" algn="ctr">
              <a:lnSpc>
                <a:spcPct val="150000"/>
              </a:lnSpc>
              <a:spcBef>
                <a:spcPts val="400"/>
              </a:spcBef>
              <a:buClr>
                <a:srgbClr val="1c1c1c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1828800" indent="139680" algn="ctr">
              <a:lnSpc>
                <a:spcPct val="150000"/>
              </a:lnSpc>
              <a:spcBef>
                <a:spcPts val="400"/>
              </a:spcBef>
              <a:buClr>
                <a:srgbClr val="1c1c1c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1828800" indent="139680">
              <a:spcBef>
                <a:spcPts val="400"/>
              </a:spcBef>
              <a:buClr>
                <a:srgbClr val="66669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1828800" indent="139680">
              <a:spcBef>
                <a:spcPts val="400"/>
              </a:spcBef>
              <a:buClr>
                <a:srgbClr val="66669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420640"/>
            <a:ext cx="72388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  <a:ea typeface="宋体"/>
              </a:rPr>
              <a:t>Nordri 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设计工作室介绍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PP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1120" y="36237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黑体"/>
              </a:rPr>
              <a:t>目录</a:t>
            </a:r>
            <a:endParaRPr b="0" lang="en-US" sz="28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黑体"/>
              </a:rPr>
              <a:t>此处添加标题</a:t>
            </a:r>
            <a:endParaRPr b="0" lang="en-US" sz="28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4581360"/>
            <a:ext cx="6048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Arial"/>
                <a:ea typeface="宋体"/>
              </a:rPr>
              <a:t>Nordri</a:t>
            </a: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宋体"/>
              </a:rPr>
              <a:t>设计工作室</a:t>
            </a:r>
            <a:r>
              <a:rPr b="0" lang="en-US" sz="1200" spc="-1" strike="noStrike">
                <a:solidFill>
                  <a:srgbClr val="666699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宋体"/>
              </a:rPr>
              <a:t>模版发布供大家免费下载使用。版权为</a:t>
            </a:r>
            <a:r>
              <a:rPr b="0" lang="en-US" sz="1200" spc="-1" strike="noStrike">
                <a:solidFill>
                  <a:srgbClr val="666699"/>
                </a:solidFill>
                <a:latin typeface="Arial"/>
                <a:ea typeface="宋体"/>
              </a:rPr>
              <a:t>NORDRI</a:t>
            </a: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宋体"/>
              </a:rPr>
              <a:t>设计工作室所有。您可以自行使用、修改、复制本模版。转载、发表或以其它方式利用本模版上内容，亦或您需更进一步的服务，请和我们联系。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276280"/>
            <a:ext cx="72388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黑体"/>
              </a:rPr>
              <a:t>感谢您的关注</a:t>
            </a:r>
            <a:endParaRPr b="0" lang="en-US" sz="4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1120" y="36237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黑体"/>
              </a:rPr>
              <a:t>使用规范说明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黑体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黑体"/>
              </a:rPr>
              <a:t>：</a:t>
            </a:r>
            <a:endParaRPr b="1" lang="en-US" sz="18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黑体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黑体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1" lang="en-US" sz="18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黑体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黑体"/>
              </a:rPr>
              <a:t>：</a:t>
            </a:r>
            <a:endParaRPr b="1" lang="en-US" sz="18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669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C40C-86ED-4A5D-B507-678E91C958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04:50Z</dcterms:created>
  <dc:creator>http://www.eeppt.com</dc:creator>
  <dc:description>ppt模板下载网站 http://www.eeppt.com</dc:description>
  <dc:language>en-US</dc:language>
  <cp:lastModifiedBy/>
  <dcterms:modified xsi:type="dcterms:W3CDTF">2015-06-14T08:46:07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