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113-75D7-45E2-8FC3-3DE70404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D96-DBE8-4A4F-88E2-AD346FDE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A55-B61F-44A6-A33A-C15F51DF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139-12E2-4BA1-B6A6-6CAD2587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BD3-AD14-4A33-B3F1-2F3CA1C9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32B-B6A6-442A-950E-663C83D5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E44-F2F8-49E4-984C-4C83ED17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8E4-1A36-420A-9C33-EC5615C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187-EC05-4E0D-8C9E-1CF62928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C18-9AC0-4340-8780-D4283644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199-2DA6-4040-9747-6CC483EF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840-0254-4BD7-9C14-372EED3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E2EB-CF7B-4705-B879-7A83C7A60C0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2E06-3D04-4F25-A5C8-7C050051BF4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-23400" y="257040"/>
            <a:ext cx="50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免费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84"/>
          <p:cNvGrpSpPr/>
          <p:nvPr/>
        </p:nvGrpSpPr>
        <p:grpSpPr>
          <a:xfrm>
            <a:off x="1308240" y="1467000"/>
            <a:ext cx="6672240" cy="4422600"/>
            <a:chOff x="1308240" y="1467000"/>
            <a:chExt cx="6672240" cy="4422600"/>
          </a:xfrm>
        </p:grpSpPr>
        <p:sp>
          <p:nvSpPr>
            <p:cNvPr id="43" name="Freeform 6"/>
            <p:cNvSpPr/>
            <p:nvPr/>
          </p:nvSpPr>
          <p:spPr>
            <a:xfrm>
              <a:off x="1308240" y="2629440"/>
              <a:ext cx="1513440" cy="326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1459800" y="1948680"/>
              <a:ext cx="840960" cy="78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2661480" y="2247120"/>
              <a:ext cx="1346400" cy="324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3426480" y="2322720"/>
              <a:ext cx="636840" cy="42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932920" y="1562760"/>
              <a:ext cx="1306080" cy="75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3959280" y="2501280"/>
              <a:ext cx="1397160" cy="324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9000" y="1822320"/>
              <a:ext cx="1209960" cy="75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28800" y="2646360"/>
              <a:ext cx="1245240" cy="27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6598440" y="2339640"/>
              <a:ext cx="75600" cy="30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6483960" y="2176200"/>
              <a:ext cx="114480" cy="16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5762520" y="2188080"/>
              <a:ext cx="379080" cy="17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417280" y="2203200"/>
              <a:ext cx="119520" cy="14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5536800" y="1467000"/>
              <a:ext cx="947160" cy="73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6554880" y="2594160"/>
              <a:ext cx="1425600" cy="325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873480" y="1933560"/>
              <a:ext cx="1098720" cy="75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Freeform 6"/>
          <p:cNvSpPr/>
          <p:nvPr/>
        </p:nvSpPr>
        <p:spPr>
          <a:xfrm>
            <a:off x="1260360" y="2575080"/>
            <a:ext cx="1513080" cy="3260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7"/>
          <p:cNvSpPr/>
          <p:nvPr/>
        </p:nvSpPr>
        <p:spPr>
          <a:xfrm>
            <a:off x="1411200" y="1895400"/>
            <a:ext cx="841320" cy="78444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8"/>
          <p:cNvSpPr/>
          <p:nvPr/>
        </p:nvSpPr>
        <p:spPr>
          <a:xfrm>
            <a:off x="2612880" y="2193840"/>
            <a:ext cx="1346400" cy="3248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9"/>
          <p:cNvSpPr/>
          <p:nvPr/>
        </p:nvSpPr>
        <p:spPr>
          <a:xfrm>
            <a:off x="3378240" y="2268360"/>
            <a:ext cx="636480" cy="427320"/>
          </a:xfrm>
          <a:prstGeom prst="pie">
            <a:avLst/>
          </a:prstGeom>
          <a:solidFill>
            <a:srgbClr val="c21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2884320" y="1508040"/>
            <a:ext cx="1306800" cy="760320"/>
          </a:xfrm>
          <a:prstGeom prst="pie">
            <a:avLst/>
          </a:prstGeom>
          <a:solidFill>
            <a:srgbClr val="c21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3909960" y="2448000"/>
            <a:ext cx="1397160" cy="3244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2"/>
          <p:cNvSpPr/>
          <p:nvPr/>
        </p:nvSpPr>
        <p:spPr>
          <a:xfrm>
            <a:off x="4191120" y="1768320"/>
            <a:ext cx="1209600" cy="755640"/>
          </a:xfrm>
          <a:prstGeom prst="pie">
            <a:avLst/>
          </a:prstGeom>
          <a:solidFill>
            <a:srgbClr val="007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3"/>
          <p:cNvSpPr/>
          <p:nvPr/>
        </p:nvSpPr>
        <p:spPr>
          <a:xfrm>
            <a:off x="5380200" y="2592360"/>
            <a:ext cx="1244520" cy="2744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4"/>
          <p:cNvSpPr/>
          <p:nvPr/>
        </p:nvSpPr>
        <p:spPr>
          <a:xfrm>
            <a:off x="6550200" y="2286000"/>
            <a:ext cx="74520" cy="30636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5"/>
          <p:cNvSpPr/>
          <p:nvPr/>
        </p:nvSpPr>
        <p:spPr>
          <a:xfrm>
            <a:off x="6435720" y="2122560"/>
            <a:ext cx="114480" cy="16668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6"/>
          <p:cNvSpPr/>
          <p:nvPr/>
        </p:nvSpPr>
        <p:spPr>
          <a:xfrm>
            <a:off x="5713560" y="2133720"/>
            <a:ext cx="379440" cy="17604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7"/>
          <p:cNvSpPr/>
          <p:nvPr/>
        </p:nvSpPr>
        <p:spPr>
          <a:xfrm>
            <a:off x="5369040" y="2149560"/>
            <a:ext cx="118800" cy="14292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8"/>
          <p:cNvSpPr/>
          <p:nvPr/>
        </p:nvSpPr>
        <p:spPr>
          <a:xfrm>
            <a:off x="5487840" y="1413000"/>
            <a:ext cx="946440" cy="736560"/>
          </a:xfrm>
          <a:prstGeom prst="pie">
            <a:avLst/>
          </a:prstGeom>
          <a:solidFill>
            <a:srgbClr val="f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9"/>
          <p:cNvSpPr/>
          <p:nvPr/>
        </p:nvSpPr>
        <p:spPr>
          <a:xfrm>
            <a:off x="6505560" y="2540160"/>
            <a:ext cx="1425600" cy="3252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0"/>
          <p:cNvSpPr/>
          <p:nvPr/>
        </p:nvSpPr>
        <p:spPr>
          <a:xfrm>
            <a:off x="6824520" y="1879560"/>
            <a:ext cx="1098720" cy="757440"/>
          </a:xfrm>
          <a:prstGeom prst="pie">
            <a:avLst/>
          </a:prstGeom>
          <a:solidFill>
            <a:srgbClr val="007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63"/>
          <p:cNvSpPr/>
          <p:nvPr/>
        </p:nvSpPr>
        <p:spPr>
          <a:xfrm>
            <a:off x="1673280" y="5965920"/>
            <a:ext cx="54000" cy="554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64"/>
          <p:cNvSpPr/>
          <p:nvPr/>
        </p:nvSpPr>
        <p:spPr>
          <a:xfrm>
            <a:off x="2739960" y="5478480"/>
            <a:ext cx="54000" cy="5544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65"/>
          <p:cNvSpPr/>
          <p:nvPr/>
        </p:nvSpPr>
        <p:spPr>
          <a:xfrm>
            <a:off x="3990960" y="5514840"/>
            <a:ext cx="54000" cy="5580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166"/>
          <p:cNvSpPr/>
          <p:nvPr/>
        </p:nvSpPr>
        <p:spPr>
          <a:xfrm>
            <a:off x="6464160" y="5645160"/>
            <a:ext cx="54000" cy="54000"/>
          </a:xfrm>
          <a:prstGeom prst="ellipse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http://www.eeppt.com</dc:creator>
  <dc:description>ppt模板下载网站 http://www.eeppt.com</dc:description>
  <dc:language>en-US</dc:language>
  <cp:lastModifiedBy/>
  <dcterms:modified xsi:type="dcterms:W3CDTF">2015-05-09T06:48:39Z</dcterms:modified>
  <cp:revision>10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41</vt:lpwstr>
  </property>
  <property fmtid="{D5CDD505-2E9C-101B-9397-08002B2CF9AE}" pid="3" name="Presentation">
    <vt:lpwstr>锐普图表</vt:lpwstr>
  </property>
</Properties>
</file>