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22E-16B5-48CA-9899-754A7D49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3F8-A17C-400B-A79F-AEC86EB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DB3-41DB-4CFA-A5B6-0637668B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69D-E886-4637-B27A-F1030DC2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11C-A9A6-4E7F-9783-BA57CDE3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B77-1A86-470E-B6C9-F11AD28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901-AED0-42DF-9528-AE2EF15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CC8-E7D1-4BDE-A103-F1BDE0C6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AEF-F27A-4651-AD8C-6A57C8B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6CF-8969-457A-BE60-602F350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444-4B8D-4310-8C40-C1D28B7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C84-AFB9-4DEB-95CC-E309CC1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579D-DE4F-4829-BB24-73D0F0A64D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灰黄羽毛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9800" y="155700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2DE-280E-41B7-A5E4-A9804A2EC9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6:17:03Z</dcterms:created>
  <dc:creator>http://www.eeppt.com</dc:creator>
  <dc:description>ppt模板下载网站 http://www.eeppt.com</dc:description>
  <dc:language>en-US</dc:language>
  <cp:lastModifiedBy/>
  <dcterms:modified xsi:type="dcterms:W3CDTF">2015-06-14T08:36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