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A5EA-3408-48EB-A3BB-C62087AD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BBC7-50FD-4D4F-BC4F-44CDD6767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2E8F-597E-4F43-B978-31965BBC6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AB10-AAF8-4D8D-8245-AA9F57EE6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A2926-8E22-427B-BAC2-6F6E006B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CB70-23A3-4D72-AE5F-9F41595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4149F-D788-49DA-83EF-CAAAE8F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1F14B-D93F-4217-8EB5-2EABE32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7193-2DB2-4BEF-878F-0A5B732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6549C-F308-4514-9315-E6E1DD41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147CD-FB1A-4E0D-87E0-9B366B5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0EAD-C4F2-4CA6-90E8-65009E80F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5026E-761A-4924-8138-160FD570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42D4-7771-4388-BB62-C8CD81A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7D10-69F1-458A-AAB7-7DD0E17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E0833-8991-4F2E-A1F7-979063A4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D5403-3960-4174-93F3-0BC42DBC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ACBD-B5BA-41F7-A4CF-6CB4E008A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A6D8-1855-4CAF-BCB4-D09103BFA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C12C-69F3-45AD-90C9-7E048C9EA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A257-06E3-4F4D-B423-EA19FE6C4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B2F2-C33E-4026-892F-55BABF519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2FCB-1494-48A4-A9F2-FE4CAB09E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B80B-B51C-4A3A-9334-E8D5EEE34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C8EC-4E15-4C6B-A400-11D9ECFC3A60}" type="slidenum">
              <a:rPr b="0" lang="ko-K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85800"/>
            <a:ext cx="9144000" cy="23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17640"/>
            <a:ext cx="914400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775008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42472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3298680"/>
            <a:ext cx="9144000" cy="3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3691080"/>
            <a:ext cx="9144000" cy="20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4952880" y="3857760"/>
            <a:ext cx="954360" cy="741240"/>
          </a:xfrm>
          <a:custGeom>
            <a:avLst/>
            <a:gdLst>
              <a:gd name="textAreaLeft" fmla="*/ 0 w 954360"/>
              <a:gd name="textAreaRight" fmla="*/ 954720 w 9543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85792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67420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6564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22360" y="108108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03240" y="138096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447920" y="12175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284120" y="1741320"/>
            <a:ext cx="16380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665360" y="212256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046240" y="174132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820800" y="20383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D3B-DC9B-4BAD-98DA-B33B702D372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moban/jianjie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灰色简单大方</a:t>
            </a:r>
            <a:r>
              <a:rPr b="1" lang="zh-CN" sz="5000" spc="-1" strike="noStrike">
                <a:solidFill>
                  <a:srgbClr val="ffffcc"/>
                </a:solidFill>
                <a:latin typeface="Verdana"/>
                <a:ea typeface="宋体"/>
              </a:rPr>
              <a:t>PPT</a:t>
            </a: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模板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89640" y="63817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079720" y="152280"/>
            <a:ext cx="68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d5e494"/>
                </a:solidFill>
                <a:uFillTx/>
                <a:latin typeface="Lucida Sans Unicode"/>
                <a:hlinkClick r:id="rId3"/>
              </a:rPr>
              <a:t>简洁ppt模板</a:t>
            </a: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http://www.eeppt.com/moban/jianjie/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82" name="Object 3" descr=""/>
          <p:cNvPicPr/>
          <p:nvPr/>
        </p:nvPicPr>
        <p:blipFill>
          <a:blip r:embed="rId1"/>
          <a:stretch/>
        </p:blipFill>
        <p:spPr>
          <a:xfrm>
            <a:off x="1720800" y="1523880"/>
            <a:ext cx="5978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Thank you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Lucida Sans Unicode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F9FD-66CE-435D-8CB0-E3460FF37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142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04920" y="4800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281640" y="4724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00472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84724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618640" y="46544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29000" y="272736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29000" y="48690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477120" y="4175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3954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9" name="AutoShape 9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1" name="AutoShape 11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3478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683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2952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82880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051440" y="22096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28488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560" y="638496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cce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hart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69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4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File"/>
          <p:cNvSpPr/>
          <p:nvPr/>
        </p:nvSpPr>
        <p:spPr>
          <a:xfrm>
            <a:off x="8780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48320" y="259092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135080" y="2647800"/>
            <a:ext cx="29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" name="File"/>
          <p:cNvSpPr/>
          <p:nvPr/>
        </p:nvSpPr>
        <p:spPr>
          <a:xfrm>
            <a:off x="6494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06480" y="2647800"/>
            <a:ext cx="29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0" name="File"/>
          <p:cNvSpPr/>
          <p:nvPr/>
        </p:nvSpPr>
        <p:spPr>
          <a:xfrm>
            <a:off x="514512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402160" y="2647800"/>
            <a:ext cx="291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3" name="AutoShape 9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4" name=""/>
          <p:cNvSpPr/>
          <p:nvPr/>
        </p:nvSpPr>
        <p:spPr>
          <a:xfrm>
            <a:off x="167400" y="64771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0:58:10Z</dcterms:created>
  <dc:creator>http://www.eeppt.com</dc:creator>
  <dc:description>ppt模板下载网站 http://www.eeppt.com</dc:description>
  <dc:language>en-US</dc:language>
  <cp:lastModifiedBy/>
  <dcterms:modified xsi:type="dcterms:W3CDTF">2015-06-14T02:00:16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