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3D0B-6990-44C6-8972-61D82F05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89DA-630B-41C1-BA0B-30B84F511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5A95-7617-426E-BA96-E339E9D48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D92F-E0C4-4E4F-8611-BC0A8A6EB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A815-7C5A-41B5-9993-672B4749B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C6F8-5907-4B07-BA01-FF229613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776F-6B28-4CC0-8BB5-0EFAED78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9F4B-A1BC-41B7-AA48-0BCD0DF95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7BFE-48CA-4A4E-988F-B693E6C9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914400" y="276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E3A4-03E9-4E54-8FC9-B180DF85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763D-640A-4EF7-B745-27A671BF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722B-5254-4EDA-870D-853C8A5E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15DF4-F325-4108-B1E8-55E3361CE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5A13-69DD-4E95-B0F2-BB69214A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8983C-7A79-491A-A12D-B9EE1EAC2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128E-E026-4660-856D-628DA1E50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A805E-3609-4B86-8F9E-F10DA932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E2A7-8759-4D8E-B7CA-5D3D513D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577-7DE4-40F9-BA0A-DCA205F9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818-E39B-493D-9AD8-ADE0E1FB6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914400" y="276120"/>
            <a:ext cx="77724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5856-1FAA-4FA9-8337-A5BBC32AF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C42-F2F9-4BE8-A889-5B93BC93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974E-61DF-47BD-8226-867BBAA4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3A29-B358-4178-AA9A-068D11A4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52480" y="55627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a9cbe9">
                  <a:alpha val="2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7238880" y="5943600"/>
            <a:ext cx="1904760" cy="914400"/>
            <a:chOff x="7238880" y="5943600"/>
            <a:chExt cx="1904760" cy="91440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 rot="3067800">
              <a:off x="8172000" y="6242760"/>
              <a:ext cx="383760" cy="1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 rot="1840200">
              <a:off x="7590960" y="6225120"/>
              <a:ext cx="917280" cy="1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895200">
              <a:off x="7339680" y="6401880"/>
              <a:ext cx="1067400" cy="18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5"/>
            <a:stretch/>
          </p:blipFill>
          <p:spPr>
            <a:xfrm>
              <a:off x="7238880" y="6661080"/>
              <a:ext cx="1168560" cy="196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" descr=""/>
            <p:cNvPicPr/>
            <p:nvPr/>
          </p:nvPicPr>
          <p:blipFill>
            <a:blip r:embed="rId6"/>
            <a:stretch/>
          </p:blipFill>
          <p:spPr>
            <a:xfrm>
              <a:off x="8172000" y="5943600"/>
              <a:ext cx="97164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ftr" idx="2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3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A331-CD38-41A4-9A3C-073591E7D7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-452520" y="4343400"/>
            <a:ext cx="2586240" cy="27432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c6ecdf">
                  <a:alpha val="24313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" name=""/>
          <p:cNvGrpSpPr/>
          <p:nvPr/>
        </p:nvGrpSpPr>
        <p:grpSpPr>
          <a:xfrm>
            <a:off x="7696080" y="228600"/>
            <a:ext cx="1219320" cy="1066680"/>
            <a:chOff x="7696080" y="228600"/>
            <a:chExt cx="1219320" cy="1066680"/>
          </a:xfrm>
        </p:grpSpPr>
        <p:sp>
          <p:nvSpPr>
            <p:cNvPr id="13" name=""/>
            <p:cNvSpPr/>
            <p:nvPr/>
          </p:nvSpPr>
          <p:spPr>
            <a:xfrm>
              <a:off x="7696080" y="279360"/>
              <a:ext cx="1024200" cy="1015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8c1fa">
                    <a:alpha val="10196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427600" y="228600"/>
              <a:ext cx="487800" cy="5079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a9cbe9">
                    <a:alpha val="2000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914400" y="276120"/>
            <a:ext cx="77724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1600200"/>
            <a:ext cx="5181480" cy="525780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a4e0cc">
                  <a:alpha val="3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62720" y="3581280"/>
            <a:ext cx="2209680" cy="22273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e8b888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72400" y="228600"/>
            <a:ext cx="1066680" cy="99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a9cbe9">
                  <a:alpha val="4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rcRect l="31973" t="0" r="12269" b="0"/>
          <a:stretch/>
        </p:blipFill>
        <p:spPr>
          <a:xfrm>
            <a:off x="0" y="0"/>
            <a:ext cx="5715000" cy="6854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 rot="3067800">
            <a:off x="7176600" y="5644800"/>
            <a:ext cx="754200" cy="268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 rot="1840200">
            <a:off x="5978160" y="5614920"/>
            <a:ext cx="1870200" cy="303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 rot="895200">
            <a:off x="5463720" y="5962680"/>
            <a:ext cx="2178000" cy="353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5257800" y="6470640"/>
            <a:ext cx="2384280" cy="387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7162920" y="5059440"/>
            <a:ext cx="1981080" cy="1798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ftr" idx="5"/>
          </p:nvPr>
        </p:nvSpPr>
        <p:spPr>
          <a:xfrm>
            <a:off x="2743200" y="6476760"/>
            <a:ext cx="12952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sldNum" idx="6"/>
          </p:nvPr>
        </p:nvSpPr>
        <p:spPr>
          <a:xfrm>
            <a:off x="4191120" y="6476760"/>
            <a:ext cx="838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2F79-773B-4643-8FD9-B44228DA76A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2742840" y="2133360"/>
            <a:ext cx="6095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10.wmf"/><Relationship Id="rId5" Type="http://schemas.openxmlformats.org/officeDocument/2006/relationships/image" Target="../media/image11.png"/><Relationship Id="rId6" Type="http://schemas.openxmlformats.org/officeDocument/2006/relationships/image" Target="../media/image10.wmf"/><Relationship Id="rId7" Type="http://schemas.openxmlformats.org/officeDocument/2006/relationships/image" Target="../media/image11.png"/><Relationship Id="rId8" Type="http://schemas.openxmlformats.org/officeDocument/2006/relationships/image" Target="../media/image10.wmf"/><Relationship Id="rId9" Type="http://schemas.openxmlformats.org/officeDocument/2006/relationships/image" Target="../media/image11.png"/><Relationship Id="rId10" Type="http://schemas.openxmlformats.org/officeDocument/2006/relationships/image" Target="../media/image10.wmf"/><Relationship Id="rId11" Type="http://schemas.openxmlformats.org/officeDocument/2006/relationships/image" Target="../media/image11.png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wmf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42840" y="2057040"/>
            <a:ext cx="6248520" cy="20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化妆品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公司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PPT</a:t>
            </a: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模板下载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30120" y="3733560"/>
            <a:ext cx="59612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7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5800" y="1785960"/>
            <a:ext cx="752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d7181f"/>
              </a:buClr>
              <a:buFont typeface="Wingdings" charset="2"/>
              <a:buChar char=""/>
              <a:tabLst>
                <a:tab algn="l" pos="44607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9640" y="2589120"/>
            <a:ext cx="3098880" cy="3430800"/>
          </a:xfrm>
          <a:custGeom>
            <a:avLst/>
            <a:gdLst>
              <a:gd name="textAreaLeft" fmla="*/ 86040 w 3098880"/>
              <a:gd name="textAreaRight" fmla="*/ 3012840 w 3098880"/>
              <a:gd name="textAreaTop" fmla="*/ 86040 h 3430800"/>
              <a:gd name="textAreaBottom" fmla="*/ 3344760 h 3430800"/>
            </a:gdLst>
            <a:ahLst/>
            <a:rect l="textAreaLeft" t="textAreaTop" r="textAreaRight" b="textAreaBottom"/>
            <a:pathLst>
              <a:path w="21600" h="23913">
                <a:moveTo>
                  <a:pt x="2048" y="0"/>
                </a:moveTo>
                <a:arcTo wR="2048" hR="2048" stAng="16200000" swAng="-5400000"/>
                <a:lnTo>
                  <a:pt x="0" y="21865"/>
                </a:lnTo>
                <a:arcTo wR="2048" hR="2048" stAng="10800000" swAng="-5400000"/>
                <a:lnTo>
                  <a:pt x="19552" y="23913"/>
                </a:lnTo>
                <a:arcTo wR="2048" hR="2048" stAng="5400000" swAng="-5400000"/>
                <a:lnTo>
                  <a:pt x="21600" y="2048"/>
                </a:lnTo>
                <a:arcTo wR="2048" hR="2048" stAng="0" swAng="-5400000"/>
                <a:close/>
              </a:path>
            </a:pathLst>
          </a:custGeom>
          <a:gradFill rotWithShape="0">
            <a:gsLst>
              <a:gs pos="0">
                <a:srgbClr val="dfdfdf"/>
              </a:gs>
              <a:gs pos="50000">
                <a:srgbClr val="f6f6f6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-75240" y="39009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691200" y="3900960"/>
            <a:ext cx="2687760" cy="4986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1437480" y="39013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2147040" y="3901320"/>
            <a:ext cx="2687760" cy="4982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055520" y="3539880"/>
            <a:ext cx="423720" cy="1925640"/>
            <a:chOff x="1055520" y="3539880"/>
            <a:chExt cx="423720" cy="1925640"/>
          </a:xfrm>
        </p:grpSpPr>
        <p:sp>
          <p:nvSpPr>
            <p:cNvPr id="365" name=""/>
            <p:cNvSpPr/>
            <p:nvPr/>
          </p:nvSpPr>
          <p:spPr>
            <a:xfrm rot="16200000">
              <a:off x="304560" y="4290840"/>
              <a:ext cx="1925640" cy="423720"/>
            </a:xfrm>
            <a:prstGeom prst="roundRect">
              <a:avLst>
                <a:gd name="adj" fmla="val 50000"/>
              </a:avLst>
            </a:prstGeom>
            <a:solidFill>
              <a:srgbClr val="a9c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16200000">
              <a:off x="387000" y="4343400"/>
              <a:ext cx="1849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9cbe9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824120" y="3130560"/>
            <a:ext cx="423720" cy="2328480"/>
            <a:chOff x="1824120" y="3130560"/>
            <a:chExt cx="423720" cy="2328480"/>
          </a:xfrm>
        </p:grpSpPr>
        <p:sp>
          <p:nvSpPr>
            <p:cNvPr id="368" name=""/>
            <p:cNvSpPr/>
            <p:nvPr/>
          </p:nvSpPr>
          <p:spPr>
            <a:xfrm rot="16200000">
              <a:off x="871560" y="4082760"/>
              <a:ext cx="2328480" cy="423720"/>
            </a:xfrm>
            <a:prstGeom prst="roundRect">
              <a:avLst>
                <a:gd name="adj" fmla="val 50000"/>
              </a:avLst>
            </a:prstGeom>
            <a:solidFill>
              <a:srgbClr val="f2b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6200000">
              <a:off x="961920" y="4132440"/>
              <a:ext cx="22366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b0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2571840" y="4674960"/>
            <a:ext cx="423720" cy="787320"/>
            <a:chOff x="2571840" y="4674960"/>
            <a:chExt cx="423720" cy="787320"/>
          </a:xfrm>
        </p:grpSpPr>
        <p:sp>
          <p:nvSpPr>
            <p:cNvPr id="371" name=""/>
            <p:cNvSpPr/>
            <p:nvPr/>
          </p:nvSpPr>
          <p:spPr>
            <a:xfrm rot="16200000">
              <a:off x="2390040" y="4856760"/>
              <a:ext cx="787320" cy="423720"/>
            </a:xfrm>
            <a:prstGeom prst="roundRect">
              <a:avLst>
                <a:gd name="adj" fmla="val 50000"/>
              </a:avLst>
            </a:prstGeom>
            <a:solidFill>
              <a:srgbClr val="e8b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6200000">
              <a:off x="2449800" y="4914360"/>
              <a:ext cx="75636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8b888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3278160" y="3987360"/>
            <a:ext cx="423720" cy="1468440"/>
            <a:chOff x="3278160" y="3987360"/>
            <a:chExt cx="423720" cy="1468440"/>
          </a:xfrm>
        </p:grpSpPr>
        <p:sp>
          <p:nvSpPr>
            <p:cNvPr id="374" name=""/>
            <p:cNvSpPr/>
            <p:nvPr/>
          </p:nvSpPr>
          <p:spPr>
            <a:xfrm rot="16200000">
              <a:off x="2755800" y="4509720"/>
              <a:ext cx="1468440" cy="423720"/>
            </a:xfrm>
            <a:prstGeom prst="roundRect">
              <a:avLst>
                <a:gd name="adj" fmla="val 50000"/>
              </a:avLst>
            </a:prstGeom>
            <a:solidFill>
              <a:srgbClr val="a4e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6200000">
              <a:off x="2829240" y="4564440"/>
              <a:ext cx="1410480" cy="30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4e0cc"/>
                </a:gs>
                <a:gs pos="100000">
                  <a:srgbClr val="fefef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092240" y="5514840"/>
            <a:ext cx="2813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      B       C       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94680" y="3152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64720" y="287964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523600" y="43290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39640" y="365292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4299120" y="2865600"/>
            <a:ext cx="4038480" cy="59184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255920" y="2884320"/>
            <a:ext cx="552600" cy="583920"/>
            <a:chOff x="4255920" y="2884320"/>
            <a:chExt cx="552600" cy="583920"/>
          </a:xfrm>
        </p:grpSpPr>
        <p:grpSp>
          <p:nvGrpSpPr>
            <p:cNvPr id="383" name=""/>
            <p:cNvGrpSpPr/>
            <p:nvPr/>
          </p:nvGrpSpPr>
          <p:grpSpPr>
            <a:xfrm>
              <a:off x="4255920" y="2884320"/>
              <a:ext cx="552600" cy="583920"/>
              <a:chOff x="4255920" y="2884320"/>
              <a:chExt cx="552600" cy="583920"/>
            </a:xfrm>
          </p:grpSpPr>
          <p:pic>
            <p:nvPicPr>
              <p:cNvPr id="3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08480" y="33422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255920" y="288432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"/>
              <p:cNvSpPr/>
              <p:nvPr/>
            </p:nvSpPr>
            <p:spPr>
              <a:xfrm>
                <a:off x="4255920" y="288432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3c4853">
                      <a:alpha val="90196"/>
                    </a:srgbClr>
                  </a:gs>
                  <a:gs pos="50000">
                    <a:srgbClr val="a9cbe9">
                      <a:alpha val="55294"/>
                    </a:srgbClr>
                  </a:gs>
                  <a:gs pos="100000">
                    <a:srgbClr val="3c4853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7" name="" descr=""/>
            <p:cNvPicPr/>
            <p:nvPr/>
          </p:nvPicPr>
          <p:blipFill>
            <a:blip r:embed="rId3"/>
            <a:stretch/>
          </p:blipFill>
          <p:spPr>
            <a:xfrm>
              <a:off x="4310280" y="2889000"/>
              <a:ext cx="43704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8" name=""/>
          <p:cNvSpPr/>
          <p:nvPr/>
        </p:nvSpPr>
        <p:spPr>
          <a:xfrm>
            <a:off x="4914360" y="29671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99120" y="363384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255920" y="3652920"/>
            <a:ext cx="552600" cy="583920"/>
            <a:chOff x="4255920" y="3652920"/>
            <a:chExt cx="552600" cy="583920"/>
          </a:xfrm>
        </p:grpSpPr>
        <p:grpSp>
          <p:nvGrpSpPr>
            <p:cNvPr id="391" name=""/>
            <p:cNvGrpSpPr/>
            <p:nvPr/>
          </p:nvGrpSpPr>
          <p:grpSpPr>
            <a:xfrm>
              <a:off x="4255920" y="3652920"/>
              <a:ext cx="552600" cy="583920"/>
              <a:chOff x="4255920" y="3652920"/>
              <a:chExt cx="552600" cy="583920"/>
            </a:xfrm>
          </p:grpSpPr>
          <p:pic>
            <p:nvPicPr>
              <p:cNvPr id="39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308480" y="411084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255920" y="365292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4255920" y="365292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563f49">
                      <a:alpha val="90196"/>
                    </a:srgbClr>
                  </a:gs>
                  <a:gs pos="50000">
                    <a:srgbClr val="f2b0cc">
                      <a:alpha val="55294"/>
                    </a:srgbClr>
                  </a:gs>
                  <a:gs pos="100000">
                    <a:srgbClr val="563f4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5" name="" descr=""/>
            <p:cNvPicPr/>
            <p:nvPr/>
          </p:nvPicPr>
          <p:blipFill>
            <a:blip r:embed="rId6"/>
            <a:stretch/>
          </p:blipFill>
          <p:spPr>
            <a:xfrm>
              <a:off x="4310280" y="3657600"/>
              <a:ext cx="43704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4914360" y="373536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99120" y="441000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255920" y="4429080"/>
            <a:ext cx="552600" cy="583920"/>
            <a:chOff x="4255920" y="4429080"/>
            <a:chExt cx="552600" cy="583920"/>
          </a:xfrm>
        </p:grpSpPr>
        <p:grpSp>
          <p:nvGrpSpPr>
            <p:cNvPr id="399" name=""/>
            <p:cNvGrpSpPr/>
            <p:nvPr/>
          </p:nvGrpSpPr>
          <p:grpSpPr>
            <a:xfrm>
              <a:off x="4255920" y="4429080"/>
              <a:ext cx="552600" cy="583920"/>
              <a:chOff x="4255920" y="4429080"/>
              <a:chExt cx="552600" cy="583920"/>
            </a:xfrm>
          </p:grpSpPr>
          <p:pic>
            <p:nvPicPr>
              <p:cNvPr id="40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08480" y="488700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255920" y="442908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2" name=""/>
              <p:cNvSpPr/>
              <p:nvPr/>
            </p:nvSpPr>
            <p:spPr>
              <a:xfrm>
                <a:off x="4255920" y="442908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534230">
                      <a:alpha val="90196"/>
                    </a:srgbClr>
                  </a:gs>
                  <a:gs pos="50000">
                    <a:srgbClr val="e8b888">
                      <a:alpha val="55294"/>
                    </a:srgbClr>
                  </a:gs>
                  <a:gs pos="100000">
                    <a:srgbClr val="534230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03" name="" descr=""/>
            <p:cNvPicPr/>
            <p:nvPr/>
          </p:nvPicPr>
          <p:blipFill>
            <a:blip r:embed="rId9"/>
            <a:stretch/>
          </p:blipFill>
          <p:spPr>
            <a:xfrm>
              <a:off x="4310280" y="4433760"/>
              <a:ext cx="43704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"/>
          <p:cNvSpPr/>
          <p:nvPr/>
        </p:nvSpPr>
        <p:spPr>
          <a:xfrm>
            <a:off x="4914360" y="451152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99120" y="5146560"/>
            <a:ext cx="4038480" cy="592200"/>
          </a:xfrm>
          <a:prstGeom prst="roundRect">
            <a:avLst>
              <a:gd name="adj" fmla="val 50000"/>
            </a:avLst>
          </a:prstGeom>
          <a:solidFill>
            <a:srgbClr val="5f5f5f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4255920" y="5165640"/>
            <a:ext cx="552600" cy="583920"/>
            <a:chOff x="4255920" y="5165640"/>
            <a:chExt cx="552600" cy="583920"/>
          </a:xfrm>
        </p:grpSpPr>
        <p:grpSp>
          <p:nvGrpSpPr>
            <p:cNvPr id="407" name=""/>
            <p:cNvGrpSpPr/>
            <p:nvPr/>
          </p:nvGrpSpPr>
          <p:grpSpPr>
            <a:xfrm>
              <a:off x="4255920" y="5165640"/>
              <a:ext cx="552600" cy="583920"/>
              <a:chOff x="4255920" y="5165640"/>
              <a:chExt cx="552600" cy="583920"/>
            </a:xfrm>
          </p:grpSpPr>
          <p:pic>
            <p:nvPicPr>
              <p:cNvPr id="40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308480" y="5623560"/>
                <a:ext cx="455040" cy="12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255920" y="5165640"/>
                <a:ext cx="552600" cy="5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"/>
              <p:cNvSpPr/>
              <p:nvPr/>
            </p:nvSpPr>
            <p:spPr>
              <a:xfrm>
                <a:off x="4255920" y="5165640"/>
                <a:ext cx="549000" cy="540360"/>
              </a:xfrm>
              <a:prstGeom prst="ellipse">
                <a:avLst/>
              </a:prstGeom>
              <a:gradFill rotWithShape="0">
                <a:gsLst>
                  <a:gs pos="0">
                    <a:srgbClr val="3a5049">
                      <a:alpha val="90196"/>
                    </a:srgbClr>
                  </a:gs>
                  <a:gs pos="50000">
                    <a:srgbClr val="a4e0cc">
                      <a:alpha val="55294"/>
                    </a:srgbClr>
                  </a:gs>
                  <a:gs pos="100000">
                    <a:srgbClr val="3a5049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1" name="" descr=""/>
            <p:cNvPicPr/>
            <p:nvPr/>
          </p:nvPicPr>
          <p:blipFill>
            <a:blip r:embed="rId12"/>
            <a:stretch/>
          </p:blipFill>
          <p:spPr>
            <a:xfrm>
              <a:off x="4310280" y="5170320"/>
              <a:ext cx="437040" cy="19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2" name=""/>
          <p:cNvSpPr/>
          <p:nvPr/>
        </p:nvSpPr>
        <p:spPr>
          <a:xfrm>
            <a:off x="4914360" y="5248440"/>
            <a:ext cx="323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scription of 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221440" y="2133720"/>
            <a:ext cx="2971800" cy="2971800"/>
          </a:xfrm>
          <a:prstGeom prst="ellipse">
            <a:avLst/>
          </a:prstGeom>
          <a:noFill/>
          <a:ln w="38160">
            <a:solidFill>
              <a:srgbClr val="f2b0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0400" y="2133720"/>
            <a:ext cx="2971800" cy="2971800"/>
          </a:xfrm>
          <a:prstGeom prst="ellipse">
            <a:avLst/>
          </a:prstGeom>
          <a:noFill/>
          <a:ln w="38160">
            <a:solidFill>
              <a:srgbClr val="a9cbe9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"/>
          <p:cNvSpPr/>
          <p:nvPr/>
        </p:nvSpPr>
        <p:spPr>
          <a:xfrm>
            <a:off x="1365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285920" y="1744560"/>
            <a:ext cx="1000080" cy="978120"/>
            <a:chOff x="1285920" y="1744560"/>
            <a:chExt cx="1000080" cy="978120"/>
          </a:xfrm>
        </p:grpSpPr>
        <p:grpSp>
          <p:nvGrpSpPr>
            <p:cNvPr id="418" name=""/>
            <p:cNvGrpSpPr/>
            <p:nvPr/>
          </p:nvGrpSpPr>
          <p:grpSpPr>
            <a:xfrm>
              <a:off x="1285920" y="1744560"/>
              <a:ext cx="1000080" cy="978120"/>
              <a:chOff x="1285920" y="1744560"/>
              <a:chExt cx="1000080" cy="978120"/>
            </a:xfrm>
          </p:grpSpPr>
          <p:pic>
            <p:nvPicPr>
              <p:cNvPr id="419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285920" y="17445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0" name="Oval 18"/>
              <p:cNvSpPr/>
              <p:nvPr/>
            </p:nvSpPr>
            <p:spPr>
              <a:xfrm>
                <a:off x="1285920" y="17445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4d5d6b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1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385640" y="175392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Text Box 9"/>
          <p:cNvSpPr/>
          <p:nvPr/>
        </p:nvSpPr>
        <p:spPr>
          <a:xfrm>
            <a:off x="6072120" y="315612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6799320" y="1774800"/>
            <a:ext cx="1000080" cy="977760"/>
            <a:chOff x="6799320" y="1774800"/>
            <a:chExt cx="1000080" cy="977760"/>
          </a:xfrm>
        </p:grpSpPr>
        <p:grpSp>
          <p:nvGrpSpPr>
            <p:cNvPr id="424" name=""/>
            <p:cNvGrpSpPr/>
            <p:nvPr/>
          </p:nvGrpSpPr>
          <p:grpSpPr>
            <a:xfrm>
              <a:off x="6799320" y="1774800"/>
              <a:ext cx="1000080" cy="977760"/>
              <a:chOff x="6799320" y="1774800"/>
              <a:chExt cx="1000080" cy="977760"/>
            </a:xfrm>
          </p:grpSpPr>
          <p:pic>
            <p:nvPicPr>
              <p:cNvPr id="425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799320" y="177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Oval 48"/>
              <p:cNvSpPr/>
              <p:nvPr/>
            </p:nvSpPr>
            <p:spPr>
              <a:xfrm>
                <a:off x="6799320" y="177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25e6d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7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899040" y="178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8" name="Text Box 50"/>
          <p:cNvSpPr/>
          <p:nvPr/>
        </p:nvSpPr>
        <p:spPr>
          <a:xfrm>
            <a:off x="6765840" y="198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4"/>
          <p:cNvSpPr/>
          <p:nvPr/>
        </p:nvSpPr>
        <p:spPr>
          <a:xfrm>
            <a:off x="1387440" y="56070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285920" y="4497480"/>
            <a:ext cx="1000080" cy="977760"/>
            <a:chOff x="1285920" y="4497480"/>
            <a:chExt cx="1000080" cy="977760"/>
          </a:xfrm>
        </p:grpSpPr>
        <p:grpSp>
          <p:nvGrpSpPr>
            <p:cNvPr id="431" name=""/>
            <p:cNvGrpSpPr/>
            <p:nvPr/>
          </p:nvGrpSpPr>
          <p:grpSpPr>
            <a:xfrm>
              <a:off x="1285920" y="4497480"/>
              <a:ext cx="1000080" cy="977760"/>
              <a:chOff x="1285920" y="4497480"/>
              <a:chExt cx="1000080" cy="977760"/>
            </a:xfrm>
          </p:grpSpPr>
          <p:pic>
            <p:nvPicPr>
              <p:cNvPr id="43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285920" y="449748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Oval 18"/>
              <p:cNvSpPr/>
              <p:nvPr/>
            </p:nvSpPr>
            <p:spPr>
              <a:xfrm>
                <a:off x="1285920" y="449748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e7182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385640" y="45068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5" name=""/>
          <p:cNvGrpSpPr/>
          <p:nvPr/>
        </p:nvGrpSpPr>
        <p:grpSpPr>
          <a:xfrm>
            <a:off x="380880" y="3201840"/>
            <a:ext cx="1000080" cy="978120"/>
            <a:chOff x="380880" y="3201840"/>
            <a:chExt cx="1000080" cy="978120"/>
          </a:xfrm>
        </p:grpSpPr>
        <p:grpSp>
          <p:nvGrpSpPr>
            <p:cNvPr id="436" name=""/>
            <p:cNvGrpSpPr/>
            <p:nvPr/>
          </p:nvGrpSpPr>
          <p:grpSpPr>
            <a:xfrm>
              <a:off x="380880" y="3201840"/>
              <a:ext cx="1000080" cy="978120"/>
              <a:chOff x="380880" y="3201840"/>
              <a:chExt cx="1000080" cy="978120"/>
            </a:xfrm>
          </p:grpSpPr>
          <p:pic>
            <p:nvPicPr>
              <p:cNvPr id="43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380880" y="32018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Oval 18"/>
              <p:cNvSpPr/>
              <p:nvPr/>
            </p:nvSpPr>
            <p:spPr>
              <a:xfrm>
                <a:off x="380880" y="32018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9cbe9"/>
                  </a:gs>
                  <a:gs pos="50000">
                    <a:srgbClr val="5e7182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480600" y="3211200"/>
              <a:ext cx="789840" cy="345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0" name=""/>
          <p:cNvGrpSpPr/>
          <p:nvPr/>
        </p:nvGrpSpPr>
        <p:grpSpPr>
          <a:xfrm>
            <a:off x="6799320" y="4384800"/>
            <a:ext cx="1000080" cy="977760"/>
            <a:chOff x="6799320" y="4384800"/>
            <a:chExt cx="1000080" cy="977760"/>
          </a:xfrm>
        </p:grpSpPr>
        <p:grpSp>
          <p:nvGrpSpPr>
            <p:cNvPr id="441" name=""/>
            <p:cNvGrpSpPr/>
            <p:nvPr/>
          </p:nvGrpSpPr>
          <p:grpSpPr>
            <a:xfrm>
              <a:off x="6799320" y="4384800"/>
              <a:ext cx="1000080" cy="977760"/>
              <a:chOff x="6799320" y="4384800"/>
              <a:chExt cx="1000080" cy="977760"/>
            </a:xfrm>
          </p:grpSpPr>
          <p:pic>
            <p:nvPicPr>
              <p:cNvPr id="44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799320" y="43848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Oval 48"/>
              <p:cNvSpPr/>
              <p:nvPr/>
            </p:nvSpPr>
            <p:spPr>
              <a:xfrm>
                <a:off x="6799320" y="4384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25e6d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899040" y="4394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5" name="Text Box 50"/>
          <p:cNvSpPr/>
          <p:nvPr/>
        </p:nvSpPr>
        <p:spPr>
          <a:xfrm>
            <a:off x="6765840" y="45943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7647120" y="3146400"/>
            <a:ext cx="1000080" cy="977760"/>
            <a:chOff x="7647120" y="3146400"/>
            <a:chExt cx="1000080" cy="977760"/>
          </a:xfrm>
        </p:grpSpPr>
        <p:grpSp>
          <p:nvGrpSpPr>
            <p:cNvPr id="447" name=""/>
            <p:cNvGrpSpPr/>
            <p:nvPr/>
          </p:nvGrpSpPr>
          <p:grpSpPr>
            <a:xfrm>
              <a:off x="7647120" y="3146400"/>
              <a:ext cx="1000080" cy="977760"/>
              <a:chOff x="7647120" y="3146400"/>
              <a:chExt cx="1000080" cy="977760"/>
            </a:xfrm>
          </p:grpSpPr>
          <p:pic>
            <p:nvPicPr>
              <p:cNvPr id="44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647120" y="3146400"/>
                <a:ext cx="1000080" cy="974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Oval 48"/>
              <p:cNvSpPr/>
              <p:nvPr/>
            </p:nvSpPr>
            <p:spPr>
              <a:xfrm>
                <a:off x="7647120" y="31464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f2b0cc"/>
                  </a:gs>
                  <a:gs pos="50000">
                    <a:srgbClr val="825e6d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746840" y="31557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1" name="Text Box 50"/>
          <p:cNvSpPr/>
          <p:nvPr/>
        </p:nvSpPr>
        <p:spPr>
          <a:xfrm>
            <a:off x="7613640" y="33559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32200" y="2209680"/>
            <a:ext cx="1371600" cy="1162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984637"/>
                <a:lnTo>
                  <a:pt x="31" y="9983"/>
                </a:lnTo>
                <a:arcTo wR="10800" hR="10800" stAng="-10539777" swAng="8984637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a9cbe9">
                  <a:alpha val="80000"/>
                </a:srgbClr>
              </a:gs>
              <a:gs pos="100000">
                <a:srgbClr val="cfe1f2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65520" y="2916360"/>
            <a:ext cx="1676520" cy="1403280"/>
            <a:chOff x="4565520" y="2916360"/>
            <a:chExt cx="1676520" cy="1403280"/>
          </a:xfrm>
        </p:grpSpPr>
        <p:sp>
          <p:nvSpPr>
            <p:cNvPr id="454" name=""/>
            <p:cNvSpPr/>
            <p:nvPr/>
          </p:nvSpPr>
          <p:spPr>
            <a:xfrm>
              <a:off x="4565520" y="291636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0cc"/>
                </a:gs>
                <a:gs pos="100000">
                  <a:srgbClr val="f8dde9"/>
                </a:gs>
              </a:gsLst>
              <a:lin ang="81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620600" y="2971800"/>
              <a:ext cx="1551240" cy="128772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2b0cc"/>
                </a:gs>
                <a:gs pos="100000">
                  <a:srgbClr val="a87a8d"/>
                </a:gs>
              </a:gsLst>
              <a:lin ang="81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41120" y="2933640"/>
            <a:ext cx="1676520" cy="1403280"/>
            <a:chOff x="2841120" y="2933640"/>
            <a:chExt cx="1676520" cy="1403280"/>
          </a:xfrm>
        </p:grpSpPr>
        <p:sp>
          <p:nvSpPr>
            <p:cNvPr id="457" name=""/>
            <p:cNvSpPr/>
            <p:nvPr/>
          </p:nvSpPr>
          <p:spPr>
            <a:xfrm flipH="1">
              <a:off x="2840760" y="29336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2e3f2"/>
                </a:gs>
                <a:gs pos="100000">
                  <a:srgbClr val="a9cbe9"/>
                </a:gs>
              </a:gsLst>
              <a:lin ang="135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910960" y="2989080"/>
              <a:ext cx="1551240" cy="128772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720"/>
                <a:gd name="textAreaBottom" fmla="*/ 1288080 h 128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0869a"/>
                </a:gs>
                <a:gs pos="100000">
                  <a:srgbClr val="a9cbe9"/>
                </a:gs>
              </a:gsLst>
              <a:lin ang="135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Text Box 8"/>
          <p:cNvSpPr/>
          <p:nvPr/>
        </p:nvSpPr>
        <p:spPr>
          <a:xfrm>
            <a:off x="3106800" y="32115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8"/>
          <p:cNvSpPr/>
          <p:nvPr/>
        </p:nvSpPr>
        <p:spPr>
          <a:xfrm>
            <a:off x="4692600" y="32115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30"/>
          <p:cNvSpPr/>
          <p:nvPr/>
        </p:nvSpPr>
        <p:spPr>
          <a:xfrm>
            <a:off x="36036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0"/>
          <p:cNvSpPr/>
          <p:nvPr/>
        </p:nvSpPr>
        <p:spPr>
          <a:xfrm>
            <a:off x="3603600" y="50594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832200" y="3867120"/>
            <a:ext cx="1371600" cy="11620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162080"/>
              <a:gd name="textAreaBottom" fmla="*/ 1162080 h 1162080"/>
            </a:gdLst>
            <a:ahLst/>
            <a:rect l="textAreaLeft" t="textAreaTop" r="textAreaRight" b="textAreaBottom"/>
            <a:pathLst>
              <a:path w="21600" h="21600">
                <a:moveTo>
                  <a:pt x="3488" y="14354"/>
                </a:moveTo>
                <a:arcTo wR="-8130" hR="-8130" stAng="9244860" swAng="-8732136"/>
                <a:lnTo>
                  <a:pt x="120" y="9195"/>
                </a:lnTo>
                <a:arcTo wR="10800" hR="10800" stAng="-10287276" swAng="8732136"/>
                <a:lnTo>
                  <a:pt x="22942" y="4899"/>
                </a:lnTo>
                <a:lnTo>
                  <a:pt x="21077" y="10292"/>
                </a:lnTo>
                <a:lnTo>
                  <a:pt x="15684" y="8427"/>
                </a:lnTo>
                <a:close/>
              </a:path>
            </a:pathLst>
          </a:custGeom>
          <a:gradFill rotWithShape="0">
            <a:gsLst>
              <a:gs pos="0">
                <a:srgbClr val="f2b0cc">
                  <a:alpha val="80000"/>
                </a:srgbClr>
              </a:gs>
              <a:gs pos="100000">
                <a:srgbClr val="f5ccdd">
                  <a:alpha val="8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30"/>
          <p:cNvSpPr/>
          <p:nvPr/>
        </p:nvSpPr>
        <p:spPr>
          <a:xfrm>
            <a:off x="1314360" y="19540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0"/>
          <p:cNvSpPr/>
          <p:nvPr/>
        </p:nvSpPr>
        <p:spPr>
          <a:xfrm>
            <a:off x="1314360" y="470700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0"/>
          <p:cNvSpPr/>
          <p:nvPr/>
        </p:nvSpPr>
        <p:spPr>
          <a:xfrm>
            <a:off x="409680" y="34113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661000" y="1646280"/>
            <a:ext cx="2368440" cy="124632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324240" y="2208240"/>
            <a:ext cx="2340000" cy="124632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968400" y="2567160"/>
            <a:ext cx="2352600" cy="1431720"/>
          </a:xfrm>
          <a:prstGeom prst="rect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579680" y="4965840"/>
            <a:ext cx="2885760" cy="443880"/>
            <a:chOff x="1579680" y="4965840"/>
            <a:chExt cx="2885760" cy="443880"/>
          </a:xfrm>
        </p:grpSpPr>
        <p:sp>
          <p:nvSpPr>
            <p:cNvPr id="472" name=""/>
            <p:cNvSpPr/>
            <p:nvPr/>
          </p:nvSpPr>
          <p:spPr>
            <a:xfrm>
              <a:off x="1579680" y="4965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99120" y="49694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4703760" y="4965840"/>
            <a:ext cx="2885760" cy="443880"/>
            <a:chOff x="4703760" y="4965840"/>
            <a:chExt cx="2885760" cy="443880"/>
          </a:xfrm>
        </p:grpSpPr>
        <p:sp>
          <p:nvSpPr>
            <p:cNvPr id="475" name=""/>
            <p:cNvSpPr/>
            <p:nvPr/>
          </p:nvSpPr>
          <p:spPr>
            <a:xfrm>
              <a:off x="4703760" y="4965840"/>
              <a:ext cx="2885760" cy="44388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723200" y="496944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efefe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685800" y="4356000"/>
            <a:ext cx="7824960" cy="552600"/>
            <a:chOff x="685800" y="4356000"/>
            <a:chExt cx="7824960" cy="552600"/>
          </a:xfrm>
        </p:grpSpPr>
        <p:sp>
          <p:nvSpPr>
            <p:cNvPr id="478" name=""/>
            <p:cNvSpPr/>
            <p:nvPr/>
          </p:nvSpPr>
          <p:spPr>
            <a:xfrm>
              <a:off x="685800" y="4491000"/>
              <a:ext cx="345960" cy="277920"/>
            </a:xfrm>
            <a:prstGeom prst="roundRect">
              <a:avLst>
                <a:gd name="adj" fmla="val 29069"/>
              </a:avLst>
            </a:prstGeom>
            <a:gradFill rotWithShape="0">
              <a:gsLst>
                <a:gs pos="0">
                  <a:srgbClr val="a4e0cc"/>
                </a:gs>
                <a:gs pos="100000">
                  <a:srgbClr val="dff3e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14320" y="4356000"/>
              <a:ext cx="7696440" cy="552600"/>
            </a:xfrm>
            <a:prstGeom prst="rightArrow">
              <a:avLst>
                <a:gd name="adj1" fmla="val 50000"/>
                <a:gd name="adj2" fmla="val 63190"/>
              </a:avLst>
            </a:prstGeom>
            <a:gradFill rotWithShape="0">
              <a:gsLst>
                <a:gs pos="0">
                  <a:srgbClr val="a4e0cc"/>
                </a:gs>
                <a:gs pos="100000">
                  <a:srgbClr val="dff3e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1652760" y="4451400"/>
            <a:ext cx="66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97240" y="4451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562800" y="445140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966960" y="2546280"/>
            <a:ext cx="0" cy="1905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3322800" y="2209320"/>
            <a:ext cx="0" cy="2241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5662440" y="1752120"/>
            <a:ext cx="0" cy="269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8026560" y="1371240"/>
            <a:ext cx="0" cy="30798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966960" y="399420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cce0f1"/>
              </a:gs>
              <a:gs pos="100000">
                <a:srgbClr val="a9cbe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24240" y="346068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f1d7bd"/>
              </a:gs>
              <a:gs pos="100000">
                <a:srgbClr val="e8b888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672160" y="285120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f5ccdd"/>
              </a:gs>
              <a:gs pos="100000">
                <a:srgbClr val="f2b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966960" y="282240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351240" y="231768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699160" y="1708200"/>
            <a:ext cx="2286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95560" y="399744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608120" y="50292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734000" y="501156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57280" y="548784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72000" y="548784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557520" y="37656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886360" y="34974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-7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1752480"/>
            <a:ext cx="4343400" cy="152424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a4e0cc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未知"/>
          <p:cNvSpPr/>
          <p:nvPr/>
        </p:nvSpPr>
        <p:spPr>
          <a:xfrm>
            <a:off x="1362240" y="3063960"/>
            <a:ext cx="7386480" cy="2287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solidFill>
            <a:srgbClr val="a4e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5478480" y="2773440"/>
            <a:ext cx="1131840" cy="988920"/>
          </a:xfrm>
          <a:prstGeom prst="rect">
            <a:avLst/>
          </a:prstGeom>
          <a:ln w="0">
            <a:noFill/>
          </a:ln>
        </p:spPr>
      </p:pic>
      <p:grpSp>
        <p:nvGrpSpPr>
          <p:cNvPr id="505" name=""/>
          <p:cNvGrpSpPr/>
          <p:nvPr/>
        </p:nvGrpSpPr>
        <p:grpSpPr>
          <a:xfrm>
            <a:off x="1295280" y="5437080"/>
            <a:ext cx="1670040" cy="290520"/>
            <a:chOff x="1295280" y="5437080"/>
            <a:chExt cx="1670040" cy="290520"/>
          </a:xfrm>
        </p:grpSpPr>
        <p:sp>
          <p:nvSpPr>
            <p:cNvPr id="506" name=""/>
            <p:cNvSpPr/>
            <p:nvPr/>
          </p:nvSpPr>
          <p:spPr>
            <a:xfrm>
              <a:off x="1295280" y="543708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2881440" y="5461560"/>
              <a:ext cx="7452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05000" y="5462640"/>
              <a:ext cx="74160" cy="23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Text Box 18"/>
          <p:cNvSpPr/>
          <p:nvPr/>
        </p:nvSpPr>
        <p:spPr>
          <a:xfrm>
            <a:off x="1459080" y="5416560"/>
            <a:ext cx="1360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533520" y="1828800"/>
            <a:ext cx="385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62240" y="5759280"/>
            <a:ext cx="163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319560" y="51116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70320" y="4348080"/>
            <a:ext cx="163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13600" y="358308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3262320" y="4699080"/>
            <a:ext cx="1670040" cy="288720"/>
            <a:chOff x="3262320" y="4699080"/>
            <a:chExt cx="1670040" cy="288720"/>
          </a:xfrm>
        </p:grpSpPr>
        <p:sp>
          <p:nvSpPr>
            <p:cNvPr id="516" name=""/>
            <p:cNvSpPr/>
            <p:nvPr/>
          </p:nvSpPr>
          <p:spPr>
            <a:xfrm>
              <a:off x="3262320" y="4699080"/>
              <a:ext cx="1670040" cy="28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4848480" y="4723560"/>
              <a:ext cx="74520" cy="241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272040" y="4724640"/>
              <a:ext cx="74160" cy="237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Text Box 18"/>
          <p:cNvSpPr/>
          <p:nvPr/>
        </p:nvSpPr>
        <p:spPr>
          <a:xfrm>
            <a:off x="3435480" y="4668840"/>
            <a:ext cx="1363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5137200" y="3948120"/>
            <a:ext cx="1670040" cy="290520"/>
            <a:chOff x="5137200" y="3948120"/>
            <a:chExt cx="1670040" cy="290520"/>
          </a:xfrm>
        </p:grpSpPr>
        <p:sp>
          <p:nvSpPr>
            <p:cNvPr id="521" name=""/>
            <p:cNvSpPr/>
            <p:nvPr/>
          </p:nvSpPr>
          <p:spPr>
            <a:xfrm>
              <a:off x="5137200" y="3948120"/>
              <a:ext cx="1670040" cy="29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6723360" y="3972600"/>
              <a:ext cx="7452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46920" y="3973680"/>
              <a:ext cx="74160" cy="239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Text Box 18"/>
          <p:cNvSpPr/>
          <p:nvPr/>
        </p:nvSpPr>
        <p:spPr>
          <a:xfrm>
            <a:off x="5254560" y="3917880"/>
            <a:ext cx="1416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7093080" y="3218040"/>
            <a:ext cx="1670040" cy="290160"/>
            <a:chOff x="7093080" y="3218040"/>
            <a:chExt cx="1670040" cy="290160"/>
          </a:xfrm>
        </p:grpSpPr>
        <p:sp>
          <p:nvSpPr>
            <p:cNvPr id="526" name=""/>
            <p:cNvSpPr/>
            <p:nvPr/>
          </p:nvSpPr>
          <p:spPr>
            <a:xfrm>
              <a:off x="7093080" y="3218040"/>
              <a:ext cx="1670040" cy="2901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68a1c"/>
                </a:gs>
                <a:gs pos="50000">
                  <a:srgbClr val="c8a859"/>
                </a:gs>
                <a:gs pos="100000">
                  <a:srgbClr val="b68a1c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8679240" y="3242520"/>
              <a:ext cx="74520" cy="2430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02800" y="3243600"/>
              <a:ext cx="74160" cy="238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180" y="854"/>
                    <a:pt x="4759" y="5080"/>
                    <a:pt x="4759" y="10800"/>
                  </a:cubicBezTo>
                  <a:cubicBezTo>
                    <a:pt x="4759" y="16520"/>
                    <a:pt x="13180" y="2074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57575">
                    <a:alpha val="0"/>
                  </a:srgbClr>
                </a:gs>
                <a:gs pos="50000">
                  <a:srgbClr val="ffffff">
                    <a:alpha val="84313"/>
                  </a:srgbClr>
                </a:gs>
                <a:gs pos="100000">
                  <a:srgbClr val="757575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 Box 18"/>
          <p:cNvSpPr/>
          <p:nvPr/>
        </p:nvSpPr>
        <p:spPr>
          <a:xfrm>
            <a:off x="7176960" y="3198960"/>
            <a:ext cx="14446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3657600" y="3370320"/>
            <a:ext cx="1066680" cy="114120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3"/>
          <a:stretch/>
        </p:blipFill>
        <p:spPr>
          <a:xfrm>
            <a:off x="7238880" y="1920960"/>
            <a:ext cx="966960" cy="11430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4"/>
          <a:stretch/>
        </p:blipFill>
        <p:spPr>
          <a:xfrm>
            <a:off x="1981080" y="3890880"/>
            <a:ext cx="65592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90720" y="311472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41960" y="177012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8b8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8b88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e8b88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348080" y="218268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340160" y="2895480"/>
            <a:ext cx="3810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9cbe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9cbe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9cbe9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48080" y="327024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341960" y="401148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2b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b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2b0c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348080" y="442440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41960" y="5122800"/>
            <a:ext cx="3809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a4e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4e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a4e0cc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48080" y="5535720"/>
            <a:ext cx="448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609840" y="1537920"/>
            <a:ext cx="3882240" cy="4178880"/>
            <a:chOff x="609840" y="1537920"/>
            <a:chExt cx="3882240" cy="4178880"/>
          </a:xfrm>
        </p:grpSpPr>
        <p:sp>
          <p:nvSpPr>
            <p:cNvPr id="544" name=""/>
            <p:cNvSpPr/>
            <p:nvPr/>
          </p:nvSpPr>
          <p:spPr>
            <a:xfrm rot="279000">
              <a:off x="762120" y="1676160"/>
              <a:ext cx="3577680" cy="390168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3901680"/>
                <a:gd name="textAreaBottom" fmla="*/ 390168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505" y="11372"/>
                  </a:moveTo>
                  <a:arcTo wR="-7317" hR="-7317" stAng="10530997" swAng="-3693184"/>
                  <a:lnTo>
                    <a:pt x="15186" y="931"/>
                  </a:lnTo>
                  <a:arcTo wR="10800" hR="10800" stAng="-3962187" swAng="3693184"/>
                  <a:lnTo>
                    <a:pt x="24259" y="9745"/>
                  </a:lnTo>
                  <a:lnTo>
                    <a:pt x="20178" y="14520"/>
                  </a:lnTo>
                  <a:lnTo>
                    <a:pt x="15403" y="10439"/>
                  </a:lnTo>
                  <a:close/>
                </a:path>
              </a:pathLst>
            </a:custGeom>
            <a:solidFill>
              <a:srgbClr val="a9c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5972600">
              <a:off x="599760" y="1838520"/>
              <a:ext cx="3901680" cy="3577680"/>
            </a:xfrm>
            <a:custGeom>
              <a:avLst/>
              <a:gdLst>
                <a:gd name="textAreaLeft" fmla="*/ 0 w 3901680"/>
                <a:gd name="textAreaRight" fmla="*/ 3901680 w 3901680"/>
                <a:gd name="textAreaTop" fmla="*/ 0 h 3577680"/>
                <a:gd name="textAreaBottom" fmla="*/ 35780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71" y="9655"/>
                  </a:moveTo>
                  <a:arcTo wR="-7220" hR="-7220" stAng="-10252534" swAng="-3449138"/>
                  <a:lnTo>
                    <a:pt x="17976" y="2729"/>
                  </a:lnTo>
                  <a:arcTo wR="10800" hR="10800" stAng="-2901671" swAng="3449138"/>
                  <a:lnTo>
                    <a:pt x="24129" y="12941"/>
                  </a:lnTo>
                  <a:lnTo>
                    <a:pt x="18984" y="16662"/>
                  </a:lnTo>
                  <a:lnTo>
                    <a:pt x="15263" y="11517"/>
                  </a:lnTo>
                  <a:close/>
                </a:path>
              </a:pathLst>
            </a:custGeom>
            <a:solidFill>
              <a:srgbClr val="e8b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10800000">
              <a:off x="762120" y="1676520"/>
              <a:ext cx="3577680" cy="3901680"/>
            </a:xfrm>
            <a:custGeom>
              <a:avLst/>
              <a:gdLst>
                <a:gd name="textAreaLeft" fmla="*/ 0 w 3577680"/>
                <a:gd name="textAreaRight" fmla="*/ 3578040 w 3577680"/>
                <a:gd name="textAreaTop" fmla="*/ 0 h 3901680"/>
                <a:gd name="textAreaBottom" fmla="*/ 390168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62" y="10457"/>
                  </a:moveTo>
                  <a:arcTo wR="-7146" hR="-7146" stAng="-10634934" swAng="-3642614"/>
                  <a:lnTo>
                    <a:pt x="16530" y="1645"/>
                  </a:lnTo>
                  <a:arcTo wR="10800" hR="10800" stAng="-3477548" swAng="3642614"/>
                  <a:lnTo>
                    <a:pt x="24284" y="11448"/>
                  </a:lnTo>
                  <a:lnTo>
                    <a:pt x="19545" y="15752"/>
                  </a:lnTo>
                  <a:lnTo>
                    <a:pt x="15241" y="11013"/>
                  </a:lnTo>
                  <a:close/>
                </a:path>
              </a:pathLst>
            </a:custGeom>
            <a:solidFill>
              <a:srgbClr val="a4e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600120" y="1838160"/>
              <a:ext cx="3901680" cy="3577680"/>
            </a:xfrm>
            <a:custGeom>
              <a:avLst/>
              <a:gdLst>
                <a:gd name="textAreaLeft" fmla="*/ 0 w 3901680"/>
                <a:gd name="textAreaRight" fmla="*/ 3901680 w 3901680"/>
                <a:gd name="textAreaTop" fmla="*/ 0 h 3577680"/>
                <a:gd name="textAreaBottom" fmla="*/ 3578040 h 357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88" y="10954"/>
                  </a:moveTo>
                  <a:arcTo wR="-7114" hR="-7114" stAng="10725582" swAng="-3801681"/>
                  <a:lnTo>
                    <a:pt x="15432" y="1044"/>
                  </a:lnTo>
                  <a:arcTo wR="10800" hR="10800" stAng="-3876098" swAng="3801681"/>
                  <a:lnTo>
                    <a:pt x="24297" y="10508"/>
                  </a:lnTo>
                  <a:lnTo>
                    <a:pt x="19853" y="15148"/>
                  </a:lnTo>
                  <a:lnTo>
                    <a:pt x="15213" y="10704"/>
                  </a:lnTo>
                  <a:close/>
                </a:path>
              </a:pathLst>
            </a:custGeom>
            <a:solidFill>
              <a:srgbClr val="f2b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"/>
          <a:stretch/>
        </p:blipFill>
        <p:spPr>
          <a:xfrm>
            <a:off x="3367080" y="536400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550" name="" descr=""/>
          <p:cNvPicPr/>
          <p:nvPr/>
        </p:nvPicPr>
        <p:blipFill>
          <a:blip r:embed="rId2"/>
          <a:stretch/>
        </p:blipFill>
        <p:spPr>
          <a:xfrm>
            <a:off x="5881680" y="5354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3"/>
          <a:stretch/>
        </p:blipFill>
        <p:spPr>
          <a:xfrm>
            <a:off x="873000" y="536400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552" name=""/>
          <p:cNvGrpSpPr/>
          <p:nvPr/>
        </p:nvGrpSpPr>
        <p:grpSpPr>
          <a:xfrm>
            <a:off x="5986440" y="2077920"/>
            <a:ext cx="2174760" cy="3380040"/>
            <a:chOff x="5986440" y="2077920"/>
            <a:chExt cx="2174760" cy="3380040"/>
          </a:xfrm>
        </p:grpSpPr>
        <p:sp>
          <p:nvSpPr>
            <p:cNvPr id="553" name=""/>
            <p:cNvSpPr/>
            <p:nvPr/>
          </p:nvSpPr>
          <p:spPr>
            <a:xfrm>
              <a:off x="5986440" y="2077920"/>
              <a:ext cx="2174760" cy="338004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80040"/>
                <a:gd name="textAreaBottom" fmla="*/ 3349440 h 3380040"/>
              </a:gdLst>
              <a:ahLst/>
              <a:rect l="textAreaLeft" t="textAreaTop" r="textAreaRight" b="textAreaBottom"/>
              <a:pathLst>
                <a:path w="21600" h="33569">
                  <a:moveTo>
                    <a:pt x="1038" y="0"/>
                  </a:moveTo>
                  <a:arcTo wR="1038" hR="1038" stAng="16200000" swAng="-5400000"/>
                  <a:lnTo>
                    <a:pt x="0" y="32531"/>
                  </a:lnTo>
                  <a:arcTo wR="1038" hR="1038" stAng="10800000" swAng="-5400000"/>
                  <a:lnTo>
                    <a:pt x="20562" y="3356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9cbe9"/>
                </a:gs>
                <a:gs pos="100000">
                  <a:srgbClr val="5c6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092640" y="2091960"/>
              <a:ext cx="197820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未知"/>
            <p:cNvSpPr/>
            <p:nvPr/>
          </p:nvSpPr>
          <p:spPr>
            <a:xfrm flipV="1">
              <a:off x="6002280" y="5408280"/>
              <a:ext cx="2147760" cy="428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未知"/>
            <p:cNvSpPr/>
            <p:nvPr/>
          </p:nvSpPr>
          <p:spPr>
            <a:xfrm>
              <a:off x="6013440" y="2081880"/>
              <a:ext cx="2120760" cy="3312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3490920" y="2535120"/>
            <a:ext cx="2174760" cy="2922840"/>
            <a:chOff x="3490920" y="2535120"/>
            <a:chExt cx="2174760" cy="2922840"/>
          </a:xfrm>
        </p:grpSpPr>
        <p:sp>
          <p:nvSpPr>
            <p:cNvPr id="558" name=""/>
            <p:cNvSpPr/>
            <p:nvPr/>
          </p:nvSpPr>
          <p:spPr>
            <a:xfrm>
              <a:off x="3490920" y="2535120"/>
              <a:ext cx="2174760" cy="292284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840"/>
                <a:gd name="textAreaBottom" fmla="*/ 2892240 h 2922840"/>
              </a:gdLst>
              <a:ahLst/>
              <a:rect l="textAreaLeft" t="textAreaTop" r="textAreaRight" b="textAreaBottom"/>
              <a:pathLst>
                <a:path w="21600" h="29029">
                  <a:moveTo>
                    <a:pt x="1038" y="0"/>
                  </a:moveTo>
                  <a:arcTo wR="1038" hR="1038" stAng="16200000" swAng="-5400000"/>
                  <a:lnTo>
                    <a:pt x="0" y="27991"/>
                  </a:lnTo>
                  <a:arcTo wR="1038" hR="1038" stAng="10800000" swAng="-5400000"/>
                  <a:lnTo>
                    <a:pt x="20562" y="29029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e8b888"/>
                </a:gs>
                <a:gs pos="100000">
                  <a:srgbClr val="7e644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97120" y="2548800"/>
              <a:ext cx="197820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未知"/>
            <p:cNvSpPr/>
            <p:nvPr/>
          </p:nvSpPr>
          <p:spPr>
            <a:xfrm flipV="1">
              <a:off x="3514680" y="5413320"/>
              <a:ext cx="2121120" cy="3816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未知"/>
            <p:cNvSpPr/>
            <p:nvPr/>
          </p:nvSpPr>
          <p:spPr>
            <a:xfrm>
              <a:off x="3517920" y="2538000"/>
              <a:ext cx="2120760" cy="2916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1019160" y="3187800"/>
            <a:ext cx="2146320" cy="2270160"/>
            <a:chOff x="1019160" y="3187800"/>
            <a:chExt cx="2146320" cy="2270160"/>
          </a:xfrm>
        </p:grpSpPr>
        <p:sp>
          <p:nvSpPr>
            <p:cNvPr id="563" name=""/>
            <p:cNvSpPr/>
            <p:nvPr/>
          </p:nvSpPr>
          <p:spPr>
            <a:xfrm>
              <a:off x="1019160" y="318780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4e0cc"/>
                </a:gs>
                <a:gs pos="100000">
                  <a:srgbClr val="597a6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123920" y="319896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 flipV="1">
              <a:off x="1042920" y="5423040"/>
              <a:ext cx="2092320" cy="302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未知"/>
          <p:cNvSpPr/>
          <p:nvPr/>
        </p:nvSpPr>
        <p:spPr>
          <a:xfrm>
            <a:off x="1046160" y="3189240"/>
            <a:ext cx="2092320" cy="30240"/>
          </a:xfrm>
          <a:custGeom>
            <a:avLst/>
            <a:gdLst/>
            <a:ahLst/>
            <a:rect l="l" t="t" r="r" b="b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33560" y="414180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024600" y="3068640"/>
            <a:ext cx="2133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222200" y="328140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030320" y="560700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1701720" y="2335320"/>
            <a:ext cx="720720" cy="821880"/>
            <a:chOff x="1701720" y="2335320"/>
            <a:chExt cx="720720" cy="821880"/>
          </a:xfrm>
        </p:grpSpPr>
        <p:grpSp>
          <p:nvGrpSpPr>
            <p:cNvPr id="572" name=""/>
            <p:cNvGrpSpPr/>
            <p:nvPr/>
          </p:nvGrpSpPr>
          <p:grpSpPr>
            <a:xfrm>
              <a:off x="1701720" y="2335320"/>
              <a:ext cx="720720" cy="821880"/>
              <a:chOff x="1701720" y="2335320"/>
              <a:chExt cx="720720" cy="821880"/>
            </a:xfrm>
          </p:grpSpPr>
          <p:pic>
            <p:nvPicPr>
              <p:cNvPr id="573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770120" y="2979720"/>
                <a:ext cx="59328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701720" y="2335320"/>
                <a:ext cx="720720" cy="757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5" name=""/>
              <p:cNvSpPr/>
              <p:nvPr/>
            </p:nvSpPr>
            <p:spPr>
              <a:xfrm>
                <a:off x="1701720" y="233532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4b675e">
                      <a:alpha val="90196"/>
                    </a:srgbClr>
                  </a:gs>
                  <a:gs pos="50000">
                    <a:srgbClr val="a4e0cc">
                      <a:alpha val="55294"/>
                    </a:srgbClr>
                  </a:gs>
                  <a:gs pos="100000">
                    <a:srgbClr val="4b675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6" name="" descr=""/>
            <p:cNvPicPr/>
            <p:nvPr/>
          </p:nvPicPr>
          <p:blipFill>
            <a:blip r:embed="rId6"/>
            <a:stretch/>
          </p:blipFill>
          <p:spPr>
            <a:xfrm>
              <a:off x="1773720" y="2342520"/>
              <a:ext cx="569160" cy="26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7" name=""/>
          <p:cNvSpPr txBox="1"/>
          <p:nvPr/>
        </p:nvSpPr>
        <p:spPr>
          <a:xfrm>
            <a:off x="1805040" y="2509920"/>
            <a:ext cx="520560" cy="420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1122480" y="396252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693960" y="2692440"/>
            <a:ext cx="17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154400" y="1697040"/>
            <a:ext cx="739800" cy="822240"/>
            <a:chOff x="4154400" y="1697040"/>
            <a:chExt cx="739800" cy="822240"/>
          </a:xfrm>
        </p:grpSpPr>
        <p:grpSp>
          <p:nvGrpSpPr>
            <p:cNvPr id="581" name=""/>
            <p:cNvGrpSpPr/>
            <p:nvPr/>
          </p:nvGrpSpPr>
          <p:grpSpPr>
            <a:xfrm>
              <a:off x="4154400" y="1697040"/>
              <a:ext cx="739800" cy="822240"/>
              <a:chOff x="4154400" y="1697040"/>
              <a:chExt cx="739800" cy="822240"/>
            </a:xfrm>
          </p:grpSpPr>
          <p:pic>
            <p:nvPicPr>
              <p:cNvPr id="5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24240" y="234144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54400" y="169704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4" name=""/>
              <p:cNvSpPr/>
              <p:nvPr/>
            </p:nvSpPr>
            <p:spPr>
              <a:xfrm>
                <a:off x="4154400" y="169704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6a543e">
                      <a:alpha val="90196"/>
                    </a:srgbClr>
                  </a:gs>
                  <a:gs pos="50000">
                    <a:srgbClr val="e8b888">
                      <a:alpha val="55294"/>
                    </a:srgbClr>
                  </a:gs>
                  <a:gs pos="100000">
                    <a:srgbClr val="6a543e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5" name="" descr=""/>
            <p:cNvPicPr/>
            <p:nvPr/>
          </p:nvPicPr>
          <p:blipFill>
            <a:blip r:embed="rId9"/>
            <a:stretch/>
          </p:blipFill>
          <p:spPr>
            <a:xfrm>
              <a:off x="4244760" y="170496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6" name=""/>
          <p:cNvSpPr txBox="1"/>
          <p:nvPr/>
        </p:nvSpPr>
        <p:spPr>
          <a:xfrm>
            <a:off x="4267080" y="187164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87" name=""/>
          <p:cNvSpPr/>
          <p:nvPr/>
        </p:nvSpPr>
        <p:spPr>
          <a:xfrm>
            <a:off x="3594240" y="33735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189840" y="222552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0"/>
          <a:stretch/>
        </p:blipFill>
        <p:spPr>
          <a:xfrm>
            <a:off x="6778800" y="1268280"/>
            <a:ext cx="569880" cy="26856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6089760" y="29163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544920" y="367992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6665760" y="1255680"/>
            <a:ext cx="739800" cy="822240"/>
            <a:chOff x="6665760" y="1255680"/>
            <a:chExt cx="739800" cy="822240"/>
          </a:xfrm>
        </p:grpSpPr>
        <p:grpSp>
          <p:nvGrpSpPr>
            <p:cNvPr id="593" name=""/>
            <p:cNvGrpSpPr/>
            <p:nvPr/>
          </p:nvGrpSpPr>
          <p:grpSpPr>
            <a:xfrm>
              <a:off x="6665760" y="1255680"/>
              <a:ext cx="739800" cy="822240"/>
              <a:chOff x="6665760" y="1255680"/>
              <a:chExt cx="739800" cy="822240"/>
            </a:xfrm>
          </p:grpSpPr>
          <p:pic>
            <p:nvPicPr>
              <p:cNvPr id="594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735600" y="1900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65760" y="1255680"/>
                <a:ext cx="73980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6" name=""/>
              <p:cNvSpPr/>
              <p:nvPr/>
            </p:nvSpPr>
            <p:spPr>
              <a:xfrm>
                <a:off x="6665760" y="1255680"/>
                <a:ext cx="735120" cy="760320"/>
              </a:xfrm>
              <a:prstGeom prst="ellipse">
                <a:avLst/>
              </a:prstGeom>
              <a:gradFill rotWithShape="0">
                <a:gsLst>
                  <a:gs pos="0">
                    <a:srgbClr val="4d5d6b">
                      <a:alpha val="90196"/>
                    </a:srgbClr>
                  </a:gs>
                  <a:gs pos="50000">
                    <a:srgbClr val="a9cbe9">
                      <a:alpha val="55294"/>
                    </a:srgbClr>
                  </a:gs>
                  <a:gs pos="100000">
                    <a:srgbClr val="4d5d6b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97" name="" descr=""/>
            <p:cNvPicPr/>
            <p:nvPr/>
          </p:nvPicPr>
          <p:blipFill>
            <a:blip r:embed="rId13"/>
            <a:stretch/>
          </p:blipFill>
          <p:spPr>
            <a:xfrm>
              <a:off x="6756120" y="1263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8" name=""/>
          <p:cNvSpPr txBox="1"/>
          <p:nvPr/>
        </p:nvSpPr>
        <p:spPr>
          <a:xfrm>
            <a:off x="6789600" y="143496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000000">
                    <a:alpha val="6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000000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1589040"/>
            <a:ext cx="9144000" cy="81288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50000">
                <a:srgbClr val="a4e0cc">
                  <a:alpha val="50196"/>
                </a:srgbClr>
              </a:gs>
              <a:gs pos="100000">
                <a:srgbClr val="fefefe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未知"/>
          <p:cNvSpPr/>
          <p:nvPr/>
        </p:nvSpPr>
        <p:spPr>
          <a:xfrm>
            <a:off x="2413080" y="360828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b0cc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未知"/>
          <p:cNvSpPr/>
          <p:nvPr/>
        </p:nvSpPr>
        <p:spPr>
          <a:xfrm>
            <a:off x="4332240" y="354348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2b0cc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未知"/>
          <p:cNvSpPr/>
          <p:nvPr/>
        </p:nvSpPr>
        <p:spPr>
          <a:xfrm flipH="1">
            <a:off x="4731480" y="360828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b0cc">
                  <a:alpha val="0"/>
                </a:srgbClr>
              </a:gs>
              <a:gs pos="100000">
                <a:srgbClr val="000000">
                  <a:alpha val="6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1905120" y="2535120"/>
            <a:ext cx="1361160" cy="1321920"/>
            <a:chOff x="1905120" y="2535120"/>
            <a:chExt cx="1361160" cy="1321920"/>
          </a:xfrm>
        </p:grpSpPr>
        <p:sp>
          <p:nvSpPr>
            <p:cNvPr id="605" name=""/>
            <p:cNvSpPr/>
            <p:nvPr/>
          </p:nvSpPr>
          <p:spPr>
            <a:xfrm>
              <a:off x="190512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4e0cc"/>
                </a:gs>
                <a:gs pos="100000">
                  <a:srgbClr val="729b8d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未知"/>
            <p:cNvSpPr/>
            <p:nvPr/>
          </p:nvSpPr>
          <p:spPr>
            <a:xfrm>
              <a:off x="199080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1eee5"/>
                </a:gs>
                <a:gs pos="50000">
                  <a:srgbClr val="a4e0cc">
                    <a:alpha val="0"/>
                  </a:srgbClr>
                </a:gs>
                <a:gs pos="100000">
                  <a:srgbClr val="d1eee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199872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3830760" y="2535120"/>
            <a:ext cx="1361160" cy="1321920"/>
            <a:chOff x="3830760" y="2535120"/>
            <a:chExt cx="1361160" cy="1321920"/>
          </a:xfrm>
        </p:grpSpPr>
        <p:sp>
          <p:nvSpPr>
            <p:cNvPr id="609" name=""/>
            <p:cNvSpPr/>
            <p:nvPr/>
          </p:nvSpPr>
          <p:spPr>
            <a:xfrm>
              <a:off x="3830760" y="253512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8b888"/>
                </a:gs>
                <a:gs pos="100000">
                  <a:srgbClr val="a17f5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未知"/>
            <p:cNvSpPr/>
            <p:nvPr/>
          </p:nvSpPr>
          <p:spPr>
            <a:xfrm>
              <a:off x="3916440" y="262080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2dbc4"/>
                </a:gs>
                <a:gs pos="50000">
                  <a:srgbClr val="e8b888">
                    <a:alpha val="0"/>
                  </a:srgbClr>
                </a:gs>
                <a:gs pos="100000">
                  <a:srgbClr val="f2dbc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5800680" y="2544840"/>
            <a:ext cx="1361520" cy="1321560"/>
            <a:chOff x="5800680" y="2544840"/>
            <a:chExt cx="1361520" cy="1321560"/>
          </a:xfrm>
        </p:grpSpPr>
        <p:sp>
          <p:nvSpPr>
            <p:cNvPr id="612" name=""/>
            <p:cNvSpPr/>
            <p:nvPr/>
          </p:nvSpPr>
          <p:spPr>
            <a:xfrm>
              <a:off x="5800680" y="2544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9cbe9"/>
                </a:gs>
                <a:gs pos="100000">
                  <a:srgbClr val="758da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未知"/>
            <p:cNvSpPr/>
            <p:nvPr/>
          </p:nvSpPr>
          <p:spPr>
            <a:xfrm>
              <a:off x="5886360" y="2630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4e4f3"/>
                </a:gs>
                <a:gs pos="50000">
                  <a:srgbClr val="a9cbe9">
                    <a:alpha val="0"/>
                  </a:srgbClr>
                </a:gs>
                <a:gs pos="100000">
                  <a:srgbClr val="d4e4f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3879720" y="282096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80240" y="2830680"/>
            <a:ext cx="124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xt 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295280" y="161136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579680" y="519588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4e0cc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1670040" y="535140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838080" y="1523880"/>
            <a:ext cx="6381720" cy="638172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4172040" y="20653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586400" y="129528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e8b88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48080" y="203832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b888"/>
                </a:solidFill>
                <a:latin typeface="Arial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172040" y="24606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72040" y="2440080"/>
            <a:ext cx="1508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439040" y="37195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2b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rot="6106200">
            <a:off x="7191720" y="3577320"/>
            <a:ext cx="785160" cy="729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020" y="364"/>
                </a:moveTo>
                <a:arcTo wR="10800" hR="10800" stAng="-6294958" swAng="3522128"/>
                <a:lnTo>
                  <a:pt x="10800" y="10800"/>
                </a:lnTo>
                <a:close/>
              </a:path>
              <a:path fill="none" w="21600" h="21600">
                <a:moveTo>
                  <a:pt x="8020" y="364"/>
                </a:moveTo>
                <a:arcTo wR="10800" hR="10800" stAng="-6294958" swAng="3522128"/>
              </a:path>
            </a:pathLst>
          </a:custGeom>
          <a:gradFill rotWithShape="0">
            <a:gsLst>
              <a:gs pos="0">
                <a:srgbClr val="f2b0cc"/>
              </a:gs>
              <a:gs pos="100000">
                <a:srgbClr val="6f515e"/>
              </a:gs>
            </a:gsLst>
            <a:lin ang="20892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489560" y="1461960"/>
            <a:ext cx="707400" cy="71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126747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126747"/>
              </a:path>
            </a:pathLst>
          </a:custGeom>
          <a:gradFill rotWithShape="0">
            <a:gsLst>
              <a:gs pos="0">
                <a:srgbClr val="81664b"/>
              </a:gs>
              <a:gs pos="100000">
                <a:srgbClr val="e8b888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002360" y="4519440"/>
            <a:ext cx="1508400" cy="10702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315200" y="44928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2b0cc"/>
                </a:solidFill>
                <a:latin typeface="Arial"/>
              </a:rPr>
              <a:t>3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002360" y="4915080"/>
            <a:ext cx="148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002360" y="489420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V="1">
            <a:off x="4352760" y="3138480"/>
            <a:ext cx="403560" cy="39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5767560" y="342756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072120" y="4646520"/>
            <a:ext cx="862200" cy="23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13640" y="171612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9cbe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289560" y="2486160"/>
            <a:ext cx="150840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53360" y="2459160"/>
            <a:ext cx="12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9cbe9"/>
                </a:solidFill>
                <a:latin typeface="Arial"/>
              </a:rPr>
              <a:t>20.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289560" y="28814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289560" y="286056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rot="5400000">
            <a:off x="6649560" y="1751400"/>
            <a:ext cx="521280" cy="52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226" y="2231"/>
                </a:moveTo>
                <a:arcTo wR="10800" hR="10800" stAng="-7649716" swAng="5638102"/>
                <a:lnTo>
                  <a:pt x="10800" y="10800"/>
                </a:lnTo>
                <a:close/>
              </a:path>
              <a:path fill="none" w="21600" h="21600">
                <a:moveTo>
                  <a:pt x="4226" y="2231"/>
                </a:moveTo>
                <a:arcTo wR="10800" hR="10800" stAng="-7649716" swAng="5638102"/>
              </a:path>
            </a:pathLst>
          </a:custGeom>
          <a:gradFill rotWithShape="0">
            <a:gsLst>
              <a:gs pos="0">
                <a:srgbClr val="6f8699"/>
              </a:gs>
              <a:gs pos="100000">
                <a:srgbClr val="a9cbe9"/>
              </a:gs>
            </a:gsLst>
            <a:lin ang="2700000"/>
          </a:gradFill>
          <a:ln w="0">
            <a:noFill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1873080" y="233676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309760" y="156672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4e0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H="1" flipV="1" rot="3328800">
            <a:off x="2442240" y="1689480"/>
            <a:ext cx="429840" cy="43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" y="11096"/>
                </a:moveTo>
                <a:arcTo wR="10800" hR="10800" stAng="10705729" swAng="14696638"/>
                <a:lnTo>
                  <a:pt x="10800" y="10800"/>
                </a:lnTo>
                <a:close/>
              </a:path>
              <a:path fill="none" w="21600" h="21600">
                <a:moveTo>
                  <a:pt x="4" y="11096"/>
                </a:moveTo>
                <a:arcTo wR="10800" hR="10800" stAng="10705729" swAng="14696638"/>
              </a:path>
            </a:pathLst>
          </a:custGeom>
          <a:gradFill rotWithShape="0">
            <a:gsLst>
              <a:gs pos="0">
                <a:srgbClr val="6b9385"/>
              </a:gs>
              <a:gs pos="100000">
                <a:srgbClr val="a4e0cc"/>
              </a:gs>
            </a:gsLst>
            <a:lin ang="2070000"/>
          </a:gradFill>
          <a:ln w="0">
            <a:noFill/>
          </a:ln>
          <a:effectLst>
            <a:outerShdw dist="52300" dir="4563564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185920" y="231156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e0cc"/>
                </a:solidFill>
                <a:latin typeface="Arial"/>
              </a:rPr>
              <a:t>9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873080" y="273204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873080" y="2711520"/>
            <a:ext cx="150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H="1" flipV="1">
            <a:off x="2552400" y="3433680"/>
            <a:ext cx="168120" cy="69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2"/>
          <p:cNvSpPr/>
          <p:nvPr/>
        </p:nvSpPr>
        <p:spPr>
          <a:xfrm>
            <a:off x="0" y="2192400"/>
            <a:ext cx="9144000" cy="677880"/>
          </a:xfrm>
          <a:prstGeom prst="rect">
            <a:avLst/>
          </a:prstGeom>
          <a:solidFill>
            <a:srgbClr val="000000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"/>
          <p:cNvSpPr/>
          <p:nvPr/>
        </p:nvSpPr>
        <p:spPr>
          <a:xfrm>
            <a:off x="0" y="2927520"/>
            <a:ext cx="9144000" cy="73008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2" name="Rectangle 5"/>
          <p:cNvSpPr/>
          <p:nvPr/>
        </p:nvSpPr>
        <p:spPr>
          <a:xfrm>
            <a:off x="1969920" y="5315040"/>
            <a:ext cx="52390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535680" y="22683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7"/>
          <p:cNvSpPr/>
          <p:nvPr/>
        </p:nvSpPr>
        <p:spPr>
          <a:xfrm>
            <a:off x="3381480" y="1724040"/>
            <a:ext cx="249696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AutoShape 8"/>
          <p:cNvSpPr/>
          <p:nvPr/>
        </p:nvSpPr>
        <p:spPr>
          <a:xfrm>
            <a:off x="212400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9"/>
          <p:cNvSpPr/>
          <p:nvPr/>
        </p:nvSpPr>
        <p:spPr>
          <a:xfrm>
            <a:off x="4635360" y="2606760"/>
            <a:ext cx="249732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3370320" y="1506600"/>
            <a:ext cx="2496960" cy="1985760"/>
            <a:chOff x="3370320" y="1506600"/>
            <a:chExt cx="2496960" cy="1985760"/>
          </a:xfrm>
        </p:grpSpPr>
        <p:sp>
          <p:nvSpPr>
            <p:cNvPr id="658" name="AutoShape 11"/>
            <p:cNvSpPr/>
            <p:nvPr/>
          </p:nvSpPr>
          <p:spPr>
            <a:xfrm>
              <a:off x="3370320" y="1506600"/>
              <a:ext cx="2496960" cy="1985760"/>
            </a:xfrm>
            <a:prstGeom prst="diamond">
              <a:avLst/>
            </a:prstGeom>
            <a:gradFill rotWithShape="0">
              <a:gsLst>
                <a:gs pos="0">
                  <a:srgbClr val="4b675e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12"/>
            <p:cNvSpPr/>
            <p:nvPr/>
          </p:nvSpPr>
          <p:spPr>
            <a:xfrm>
              <a:off x="3370320" y="249984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2112840" y="2417760"/>
            <a:ext cx="2496960" cy="1986120"/>
            <a:chOff x="2112840" y="2417760"/>
            <a:chExt cx="2496960" cy="1986120"/>
          </a:xfrm>
        </p:grpSpPr>
        <p:sp>
          <p:nvSpPr>
            <p:cNvPr id="661" name="AutoShape 14"/>
            <p:cNvSpPr/>
            <p:nvPr/>
          </p:nvSpPr>
          <p:spPr>
            <a:xfrm>
              <a:off x="211284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6a543e"/>
                </a:gs>
                <a:gs pos="100000">
                  <a:srgbClr val="e8b88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15"/>
            <p:cNvSpPr/>
            <p:nvPr/>
          </p:nvSpPr>
          <p:spPr>
            <a:xfrm>
              <a:off x="2117520" y="340668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4624560" y="2417760"/>
            <a:ext cx="2496960" cy="1986120"/>
            <a:chOff x="4624560" y="2417760"/>
            <a:chExt cx="2496960" cy="1986120"/>
          </a:xfrm>
        </p:grpSpPr>
        <p:sp>
          <p:nvSpPr>
            <p:cNvPr id="664" name="AutoShape 17"/>
            <p:cNvSpPr/>
            <p:nvPr/>
          </p:nvSpPr>
          <p:spPr>
            <a:xfrm>
              <a:off x="4624560" y="241776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4d5d6b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18"/>
            <p:cNvSpPr/>
            <p:nvPr/>
          </p:nvSpPr>
          <p:spPr>
            <a:xfrm>
              <a:off x="4635720" y="340848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Text Box 19"/>
          <p:cNvSpPr/>
          <p:nvPr/>
        </p:nvSpPr>
        <p:spPr>
          <a:xfrm>
            <a:off x="3692520" y="22986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2421000" y="32148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21"/>
          <p:cNvSpPr/>
          <p:nvPr/>
        </p:nvSpPr>
        <p:spPr>
          <a:xfrm>
            <a:off x="4919760" y="31798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3902040" y="3733920"/>
            <a:ext cx="1682280" cy="1551960"/>
            <a:chOff x="3902040" y="3733920"/>
            <a:chExt cx="1682280" cy="1551960"/>
          </a:xfrm>
        </p:grpSpPr>
        <p:sp>
          <p:nvSpPr>
            <p:cNvPr id="670" name="Freeform 23"/>
            <p:cNvSpPr/>
            <p:nvPr/>
          </p:nvSpPr>
          <p:spPr>
            <a:xfrm>
              <a:off x="4068360" y="4929120"/>
              <a:ext cx="655200" cy="33732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24"/>
            <p:cNvSpPr/>
            <p:nvPr/>
          </p:nvSpPr>
          <p:spPr>
            <a:xfrm>
              <a:off x="4518000" y="4806000"/>
              <a:ext cx="717840" cy="33156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25"/>
            <p:cNvSpPr/>
            <p:nvPr/>
          </p:nvSpPr>
          <p:spPr>
            <a:xfrm>
              <a:off x="4984200" y="5007240"/>
              <a:ext cx="600120" cy="278280"/>
            </a:xfrm>
            <a:prstGeom prst="pie">
              <a:avLst/>
            </a:pr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26"/>
            <p:cNvSpPr/>
            <p:nvPr/>
          </p:nvSpPr>
          <p:spPr>
            <a:xfrm>
              <a:off x="3902040" y="415296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27"/>
            <p:cNvSpPr/>
            <p:nvPr/>
          </p:nvSpPr>
          <p:spPr>
            <a:xfrm>
              <a:off x="4324680" y="3733920"/>
              <a:ext cx="551520" cy="13960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28"/>
            <p:cNvSpPr/>
            <p:nvPr/>
          </p:nvSpPr>
          <p:spPr>
            <a:xfrm>
              <a:off x="4829040" y="4176360"/>
              <a:ext cx="438120" cy="1109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-7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18243000">
            <a:off x="5671080" y="2876760"/>
            <a:ext cx="1521000" cy="132264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 flipH="1" flipV="1" rot="12822000">
            <a:off x="2439360" y="3792240"/>
            <a:ext cx="1589040" cy="155556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817640" y="3522600"/>
            <a:ext cx="939960" cy="993600"/>
            <a:chOff x="1817640" y="3522600"/>
            <a:chExt cx="939960" cy="993600"/>
          </a:xfrm>
        </p:grpSpPr>
        <p:pic>
          <p:nvPicPr>
            <p:cNvPr id="681" name="" descr=""/>
            <p:cNvPicPr/>
            <p:nvPr/>
          </p:nvPicPr>
          <p:blipFill>
            <a:blip r:embed="rId1"/>
            <a:stretch/>
          </p:blipFill>
          <p:spPr>
            <a:xfrm>
              <a:off x="1906560" y="4302000"/>
              <a:ext cx="7747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2" name="" descr=""/>
            <p:cNvPicPr/>
            <p:nvPr/>
          </p:nvPicPr>
          <p:blipFill>
            <a:blip r:embed="rId2"/>
            <a:stretch/>
          </p:blipFill>
          <p:spPr>
            <a:xfrm>
              <a:off x="1817640" y="35226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3" name=""/>
            <p:cNvSpPr/>
            <p:nvPr/>
          </p:nvSpPr>
          <p:spPr>
            <a:xfrm>
              <a:off x="1817640" y="352260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4" name=""/>
          <p:cNvSpPr/>
          <p:nvPr/>
        </p:nvSpPr>
        <p:spPr>
          <a:xfrm rot="19693200">
            <a:off x="3717720" y="2612880"/>
            <a:ext cx="1520640" cy="1322640"/>
          </a:xfrm>
          <a:prstGeom prst="blockArc">
            <a:avLst>
              <a:gd name="adj1" fmla="val 11415256"/>
              <a:gd name="adj2" fmla="val 20984744"/>
              <a:gd name="adj3" fmla="val 4958"/>
            </a:avLst>
          </a:pr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2938320" y="3395520"/>
            <a:ext cx="1216080" cy="1285920"/>
            <a:chOff x="2938320" y="3395520"/>
            <a:chExt cx="1216080" cy="1285920"/>
          </a:xfrm>
        </p:grpSpPr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3054240" y="440352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7" name="" descr=""/>
            <p:cNvPicPr/>
            <p:nvPr/>
          </p:nvPicPr>
          <p:blipFill>
            <a:blip r:embed="rId4"/>
            <a:stretch/>
          </p:blipFill>
          <p:spPr>
            <a:xfrm>
              <a:off x="2938320" y="339552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2938320" y="339552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4b675e">
                    <a:alpha val="90196"/>
                  </a:srgbClr>
                </a:gs>
                <a:gs pos="50000">
                  <a:srgbClr val="a4e0cc">
                    <a:alpha val="55294"/>
                  </a:srgbClr>
                </a:gs>
                <a:gs pos="100000">
                  <a:srgbClr val="4b675e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3200400" y="1630440"/>
            <a:ext cx="1447920" cy="1569960"/>
            <a:chOff x="3200400" y="1630440"/>
            <a:chExt cx="1447920" cy="1569960"/>
          </a:xfrm>
        </p:grpSpPr>
        <p:pic>
          <p:nvPicPr>
            <p:cNvPr id="690" name="" descr=""/>
            <p:cNvPicPr/>
            <p:nvPr/>
          </p:nvPicPr>
          <p:blipFill>
            <a:blip r:embed="rId5"/>
            <a:stretch/>
          </p:blipFill>
          <p:spPr>
            <a:xfrm>
              <a:off x="3338640" y="2860920"/>
              <a:ext cx="119052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1" name="" descr=""/>
            <p:cNvPicPr/>
            <p:nvPr/>
          </p:nvPicPr>
          <p:blipFill>
            <a:blip r:embed="rId6"/>
            <a:stretch/>
          </p:blipFill>
          <p:spPr>
            <a:xfrm>
              <a:off x="3200400" y="1630440"/>
              <a:ext cx="144792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2" name=""/>
            <p:cNvSpPr/>
            <p:nvPr/>
          </p:nvSpPr>
          <p:spPr>
            <a:xfrm>
              <a:off x="3200400" y="1630440"/>
              <a:ext cx="1438200" cy="1452600"/>
            </a:xfrm>
            <a:prstGeom prst="ellipse">
              <a:avLst/>
            </a:prstGeom>
            <a:gradFill rotWithShape="0">
              <a:gsLst>
                <a:gs pos="0">
                  <a:srgbClr val="5b6c66">
                    <a:alpha val="90196"/>
                  </a:srgbClr>
                </a:gs>
                <a:gs pos="50000">
                  <a:srgbClr val="c6ecdf">
                    <a:alpha val="55294"/>
                  </a:srgbClr>
                </a:gs>
                <a:gs pos="100000">
                  <a:srgbClr val="5b6c66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4902120" y="2392200"/>
            <a:ext cx="1216080" cy="1285920"/>
            <a:chOff x="4902120" y="2392200"/>
            <a:chExt cx="1216080" cy="1285920"/>
          </a:xfrm>
        </p:grpSpPr>
        <p:pic>
          <p:nvPicPr>
            <p:cNvPr id="694" name="" descr=""/>
            <p:cNvPicPr/>
            <p:nvPr/>
          </p:nvPicPr>
          <p:blipFill>
            <a:blip r:embed="rId7"/>
            <a:stretch/>
          </p:blipFill>
          <p:spPr>
            <a:xfrm>
              <a:off x="5018040" y="3400200"/>
              <a:ext cx="1000080" cy="27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5" name="" descr=""/>
            <p:cNvPicPr/>
            <p:nvPr/>
          </p:nvPicPr>
          <p:blipFill>
            <a:blip r:embed="rId8"/>
            <a:stretch/>
          </p:blipFill>
          <p:spPr>
            <a:xfrm>
              <a:off x="4902120" y="2392200"/>
              <a:ext cx="121608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"/>
            <p:cNvSpPr/>
            <p:nvPr/>
          </p:nvSpPr>
          <p:spPr>
            <a:xfrm>
              <a:off x="4902120" y="2392200"/>
              <a:ext cx="1208160" cy="1189080"/>
            </a:xfrm>
            <a:prstGeom prst="ellipse">
              <a:avLst/>
            </a:prstGeom>
            <a:gradFill rotWithShape="0">
              <a:gsLst>
                <a:gs pos="0">
                  <a:srgbClr val="6a543e">
                    <a:alpha val="90196"/>
                  </a:srgbClr>
                </a:gs>
                <a:gs pos="50000">
                  <a:srgbClr val="e8b888">
                    <a:alpha val="55294"/>
                  </a:srgbClr>
                </a:gs>
                <a:gs pos="100000">
                  <a:srgbClr val="6a543e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7" name=""/>
          <p:cNvGrpSpPr/>
          <p:nvPr/>
        </p:nvGrpSpPr>
        <p:grpSpPr>
          <a:xfrm>
            <a:off x="2470320" y="4549680"/>
            <a:ext cx="939600" cy="993600"/>
            <a:chOff x="2470320" y="4549680"/>
            <a:chExt cx="939600" cy="993600"/>
          </a:xfrm>
        </p:grpSpPr>
        <p:pic>
          <p:nvPicPr>
            <p:cNvPr id="698" name="" descr=""/>
            <p:cNvPicPr/>
            <p:nvPr/>
          </p:nvPicPr>
          <p:blipFill>
            <a:blip r:embed="rId9"/>
            <a:stretch/>
          </p:blipFill>
          <p:spPr>
            <a:xfrm>
              <a:off x="2558880" y="5329080"/>
              <a:ext cx="77436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9" name="" descr=""/>
            <p:cNvPicPr/>
            <p:nvPr/>
          </p:nvPicPr>
          <p:blipFill>
            <a:blip r:embed="rId10"/>
            <a:stretch/>
          </p:blipFill>
          <p:spPr>
            <a:xfrm>
              <a:off x="2470320" y="45496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2470320" y="4549680"/>
              <a:ext cx="93312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3780000" y="4529160"/>
            <a:ext cx="939600" cy="993600"/>
            <a:chOff x="3780000" y="4529160"/>
            <a:chExt cx="939600" cy="993600"/>
          </a:xfrm>
        </p:grpSpPr>
        <p:pic>
          <p:nvPicPr>
            <p:cNvPr id="702" name="" descr=""/>
            <p:cNvPicPr/>
            <p:nvPr/>
          </p:nvPicPr>
          <p:blipFill>
            <a:blip r:embed="rId11"/>
            <a:stretch/>
          </p:blipFill>
          <p:spPr>
            <a:xfrm>
              <a:off x="3868560" y="5308560"/>
              <a:ext cx="77436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" descr=""/>
            <p:cNvPicPr/>
            <p:nvPr/>
          </p:nvPicPr>
          <p:blipFill>
            <a:blip r:embed="rId12"/>
            <a:stretch/>
          </p:blipFill>
          <p:spPr>
            <a:xfrm>
              <a:off x="3780000" y="45291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3780000" y="4529160"/>
              <a:ext cx="93312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5450040" y="3706920"/>
            <a:ext cx="939600" cy="993600"/>
            <a:chOff x="5450040" y="3706920"/>
            <a:chExt cx="939600" cy="993600"/>
          </a:xfrm>
        </p:grpSpPr>
        <p:pic>
          <p:nvPicPr>
            <p:cNvPr id="706" name="" descr=""/>
            <p:cNvPicPr/>
            <p:nvPr/>
          </p:nvPicPr>
          <p:blipFill>
            <a:blip r:embed="rId13"/>
            <a:stretch/>
          </p:blipFill>
          <p:spPr>
            <a:xfrm>
              <a:off x="5538600" y="4486320"/>
              <a:ext cx="77436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7" name="" descr=""/>
            <p:cNvPicPr/>
            <p:nvPr/>
          </p:nvPicPr>
          <p:blipFill>
            <a:blip r:embed="rId14"/>
            <a:stretch/>
          </p:blipFill>
          <p:spPr>
            <a:xfrm>
              <a:off x="5450040" y="37069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8" name=""/>
            <p:cNvSpPr/>
            <p:nvPr/>
          </p:nvSpPr>
          <p:spPr>
            <a:xfrm>
              <a:off x="5450040" y="3706920"/>
              <a:ext cx="93312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6261120" y="2435400"/>
            <a:ext cx="939960" cy="993600"/>
            <a:chOff x="6261120" y="2435400"/>
            <a:chExt cx="939960" cy="993600"/>
          </a:xfrm>
        </p:grpSpPr>
        <p:pic>
          <p:nvPicPr>
            <p:cNvPr id="710" name="" descr=""/>
            <p:cNvPicPr/>
            <p:nvPr/>
          </p:nvPicPr>
          <p:blipFill>
            <a:blip r:embed="rId15"/>
            <a:stretch/>
          </p:blipFill>
          <p:spPr>
            <a:xfrm>
              <a:off x="6350040" y="3214800"/>
              <a:ext cx="77472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1" name="" descr=""/>
            <p:cNvPicPr/>
            <p:nvPr/>
          </p:nvPicPr>
          <p:blipFill>
            <a:blip r:embed="rId16"/>
            <a:stretch/>
          </p:blipFill>
          <p:spPr>
            <a:xfrm>
              <a:off x="6261120" y="243540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61120" y="2435400"/>
              <a:ext cx="933480" cy="919080"/>
            </a:xfrm>
            <a:prstGeom prst="ellipse">
              <a:avLst/>
            </a:prstGeom>
            <a:gradFill rotWithShape="0">
              <a:gsLst>
                <a:gs pos="0">
                  <a:srgbClr val="6b601d">
                    <a:alpha val="90196"/>
                  </a:srgbClr>
                </a:gs>
                <a:gs pos="50000">
                  <a:srgbClr val="e9d13f">
                    <a:alpha val="55294"/>
                  </a:srgbClr>
                </a:gs>
                <a:gs pos="100000">
                  <a:srgbClr val="6b601d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3" name=""/>
          <p:cNvSpPr/>
          <p:nvPr/>
        </p:nvSpPr>
        <p:spPr>
          <a:xfrm>
            <a:off x="3044880" y="368784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022720" y="26989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3582720" y="21636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04920" y="41306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600200" y="55785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557856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6319800" y="436248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157880" y="3063960"/>
            <a:ext cx="17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7"/>
          <a:stretch/>
        </p:blipFill>
        <p:spPr>
          <a:xfrm>
            <a:off x="3352680" y="1652760"/>
            <a:ext cx="1133640" cy="50616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18"/>
          <a:stretch/>
        </p:blipFill>
        <p:spPr>
          <a:xfrm>
            <a:off x="3029040" y="3403440"/>
            <a:ext cx="1031760" cy="52884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19"/>
          <a:stretch/>
        </p:blipFill>
        <p:spPr>
          <a:xfrm>
            <a:off x="4987800" y="2401920"/>
            <a:ext cx="1032120" cy="55080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20"/>
          <a:stretch/>
        </p:blipFill>
        <p:spPr>
          <a:xfrm>
            <a:off x="6280200" y="244620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21"/>
          <a:stretch/>
        </p:blipFill>
        <p:spPr>
          <a:xfrm>
            <a:off x="5473800" y="371952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22"/>
          <a:stretch/>
        </p:blipFill>
        <p:spPr>
          <a:xfrm>
            <a:off x="3809880" y="4546440"/>
            <a:ext cx="871560" cy="50040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23"/>
          <a:stretch/>
        </p:blipFill>
        <p:spPr>
          <a:xfrm>
            <a:off x="2490840" y="4557600"/>
            <a:ext cx="871560" cy="50004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24"/>
          <a:stretch/>
        </p:blipFill>
        <p:spPr>
          <a:xfrm>
            <a:off x="1836720" y="3535200"/>
            <a:ext cx="871560" cy="500400"/>
          </a:xfrm>
          <a:prstGeom prst="rect">
            <a:avLst/>
          </a:prstGeom>
          <a:ln w="0">
            <a:noFill/>
          </a:ln>
        </p:spPr>
      </p:pic>
      <p:sp>
        <p:nvSpPr>
          <p:cNvPr id="729" name=""/>
          <p:cNvSpPr/>
          <p:nvPr/>
        </p:nvSpPr>
        <p:spPr>
          <a:xfrm>
            <a:off x="6240600" y="26449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5430960" y="39006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1814400" y="37418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2465280" y="47815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780000" y="475452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ontent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1523880"/>
            <a:ext cx="586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7040" y="2558880"/>
            <a:ext cx="5311800" cy="457200"/>
          </a:xfrm>
          <a:prstGeom prst="roundRect">
            <a:avLst>
              <a:gd name="adj" fmla="val 7292"/>
            </a:avLst>
          </a:prstGeom>
          <a:gradFill rotWithShape="0">
            <a:gsLst>
              <a:gs pos="0">
                <a:srgbClr val="8f7153"/>
              </a:gs>
              <a:gs pos="100000">
                <a:srgbClr val="e8b888"/>
              </a:gs>
            </a:gsLst>
            <a:lin ang="5400000"/>
          </a:gradFill>
          <a:ln w="9360">
            <a:solidFill>
              <a:srgbClr val="ffffff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7040" y="2558880"/>
            <a:ext cx="5311800" cy="150840"/>
          </a:xfrm>
          <a:prstGeom prst="roundRect">
            <a:avLst>
              <a:gd name="adj" fmla="val 26389"/>
            </a:avLst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76440" y="2557440"/>
            <a:ext cx="41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922400" y="2562120"/>
            <a:ext cx="428760" cy="428760"/>
            <a:chOff x="1922400" y="2562120"/>
            <a:chExt cx="428760" cy="428760"/>
          </a:xfrm>
        </p:grpSpPr>
        <p:sp>
          <p:nvSpPr>
            <p:cNvPr id="112" name=""/>
            <p:cNvSpPr/>
            <p:nvPr/>
          </p:nvSpPr>
          <p:spPr>
            <a:xfrm>
              <a:off x="1922400" y="256212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927800" y="256428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32120" y="256860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955520" y="257940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936800" y="254628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698480" y="3213000"/>
            <a:ext cx="5311800" cy="457200"/>
            <a:chOff x="1698480" y="3213000"/>
            <a:chExt cx="5311800" cy="457200"/>
          </a:xfrm>
        </p:grpSpPr>
        <p:sp>
          <p:nvSpPr>
            <p:cNvPr id="118" name=""/>
            <p:cNvSpPr/>
            <p:nvPr/>
          </p:nvSpPr>
          <p:spPr>
            <a:xfrm>
              <a:off x="1698480" y="321300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58b7e"/>
                </a:gs>
                <a:gs pos="100000">
                  <a:srgbClr val="a4e0cc"/>
                </a:gs>
              </a:gsLst>
              <a:lin ang="5400000"/>
            </a:gradFill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698480" y="321300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75000" y="3211560"/>
            <a:ext cx="40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901880" y="3216240"/>
            <a:ext cx="428400" cy="428760"/>
            <a:chOff x="1901880" y="3216240"/>
            <a:chExt cx="428400" cy="428760"/>
          </a:xfrm>
        </p:grpSpPr>
        <p:sp>
          <p:nvSpPr>
            <p:cNvPr id="122" name=""/>
            <p:cNvSpPr/>
            <p:nvPr/>
          </p:nvSpPr>
          <p:spPr>
            <a:xfrm>
              <a:off x="1901880" y="321624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07280" y="321840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11600" y="322272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35000" y="323352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925640" y="32004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731960" y="3887640"/>
            <a:ext cx="5311800" cy="457200"/>
            <a:chOff x="1731960" y="3887640"/>
            <a:chExt cx="5311800" cy="457200"/>
          </a:xfrm>
        </p:grpSpPr>
        <p:sp>
          <p:nvSpPr>
            <p:cNvPr id="128" name=""/>
            <p:cNvSpPr/>
            <p:nvPr/>
          </p:nvSpPr>
          <p:spPr>
            <a:xfrm>
              <a:off x="1731960" y="3887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966d7e"/>
                </a:gs>
                <a:gs pos="100000">
                  <a:srgbClr val="f2b0cc"/>
                </a:gs>
              </a:gsLst>
              <a:lin ang="5400000"/>
            </a:gradFill>
            <a:ln w="9360">
              <a:solidFill>
                <a:srgbClr val="ffffff">
                  <a:alpha val="6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31960" y="3887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89040" y="3886200"/>
            <a:ext cx="412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35000" y="3902040"/>
            <a:ext cx="428760" cy="428760"/>
            <a:chOff x="1935000" y="3902040"/>
            <a:chExt cx="428760" cy="428760"/>
          </a:xfrm>
        </p:grpSpPr>
        <p:sp>
          <p:nvSpPr>
            <p:cNvPr id="132" name=""/>
            <p:cNvSpPr/>
            <p:nvPr/>
          </p:nvSpPr>
          <p:spPr>
            <a:xfrm>
              <a:off x="1935000" y="3902040"/>
              <a:ext cx="428760" cy="428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40400" y="3904200"/>
              <a:ext cx="41868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44720" y="3908520"/>
              <a:ext cx="398160" cy="390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68120" y="3919320"/>
              <a:ext cx="353880" cy="31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959120" y="388620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763640" y="4508640"/>
            <a:ext cx="5311800" cy="457200"/>
            <a:chOff x="1763640" y="4508640"/>
            <a:chExt cx="5311800" cy="457200"/>
          </a:xfrm>
        </p:grpSpPr>
        <p:sp>
          <p:nvSpPr>
            <p:cNvPr id="138" name=""/>
            <p:cNvSpPr/>
            <p:nvPr/>
          </p:nvSpPr>
          <p:spPr>
            <a:xfrm>
              <a:off x="1763640" y="4508640"/>
              <a:ext cx="5311800" cy="457200"/>
            </a:xfrm>
            <a:prstGeom prst="roundRect">
              <a:avLst>
                <a:gd name="adj" fmla="val 7292"/>
              </a:avLst>
            </a:prstGeom>
            <a:gradFill rotWithShape="0">
              <a:gsLst>
                <a:gs pos="0">
                  <a:srgbClr val="687e90"/>
                </a:gs>
                <a:gs pos="100000">
                  <a:srgbClr val="a9cbe9"/>
                </a:gs>
              </a:gsLst>
              <a:lin ang="5400000"/>
            </a:gradFill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3640" y="4508640"/>
              <a:ext cx="5311800" cy="150840"/>
            </a:xfrm>
            <a:prstGeom prst="roundRect">
              <a:avLst>
                <a:gd name="adj" fmla="val 26389"/>
              </a:avLst>
            </a:prstGeom>
            <a:solidFill>
              <a:srgbClr val="f8f8f8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511360" y="4495680"/>
            <a:ext cx="39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67040" y="4511520"/>
            <a:ext cx="428400" cy="428760"/>
            <a:chOff x="1967040" y="4511520"/>
            <a:chExt cx="428400" cy="428760"/>
          </a:xfrm>
        </p:grpSpPr>
        <p:sp>
          <p:nvSpPr>
            <p:cNvPr id="142" name=""/>
            <p:cNvSpPr/>
            <p:nvPr/>
          </p:nvSpPr>
          <p:spPr>
            <a:xfrm>
              <a:off x="1967040" y="4511520"/>
              <a:ext cx="428400" cy="4287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72440" y="4513680"/>
              <a:ext cx="418320" cy="418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76760" y="4518000"/>
              <a:ext cx="397800" cy="3909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000160" y="4528800"/>
              <a:ext cx="353520" cy="3171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1981080" y="4495680"/>
            <a:ext cx="3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742840" y="2743200"/>
            <a:ext cx="624852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Arial"/>
              </a:rPr>
              <a:t>Thank You!</a:t>
            </a:r>
            <a:endParaRPr b="1" lang="en-US" sz="6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3809880" y="3809880"/>
            <a:ext cx="5029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</a:rPr>
              <a:t>使用规范说明</a:t>
            </a:r>
            <a:endParaRPr b="1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a9cbe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B90A-2978-443F-9499-5A98E23F64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t Tip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086600" cy="33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3733200" y="3233520"/>
            <a:ext cx="1752480" cy="685800"/>
          </a:xfrm>
          <a:prstGeom prst="triangle">
            <a:avLst>
              <a:gd name="adj" fmla="val 50000"/>
            </a:avLst>
          </a:prstGeom>
          <a:solidFill>
            <a:srgbClr val="00336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74720" y="2360520"/>
            <a:ext cx="3416400" cy="689040"/>
            <a:chOff x="774720" y="2360520"/>
            <a:chExt cx="3416400" cy="689040"/>
          </a:xfrm>
        </p:grpSpPr>
        <p:sp>
          <p:nvSpPr>
            <p:cNvPr id="152" name=""/>
            <p:cNvSpPr/>
            <p:nvPr/>
          </p:nvSpPr>
          <p:spPr>
            <a:xfrm>
              <a:off x="774720" y="236052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e8b888"/>
                </a:gs>
                <a:gs pos="50000">
                  <a:srgbClr val="d4a87c"/>
                </a:gs>
                <a:gs pos="100000">
                  <a:srgbClr val="e8b88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783000" y="2381760"/>
              <a:ext cx="3403800" cy="636840"/>
              <a:chOff x="783000" y="2381760"/>
              <a:chExt cx="3403800" cy="636840"/>
            </a:xfrm>
          </p:grpSpPr>
          <p:sp>
            <p:nvSpPr>
              <p:cNvPr id="154" name=""/>
              <p:cNvSpPr/>
              <p:nvPr/>
            </p:nvSpPr>
            <p:spPr>
              <a:xfrm>
                <a:off x="783000" y="285372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b888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83000" y="238176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af2eb"/>
                  </a:gs>
                  <a:gs pos="100000">
                    <a:srgbClr val="e8b888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"/>
          <p:cNvGrpSpPr/>
          <p:nvPr/>
        </p:nvGrpSpPr>
        <p:grpSpPr>
          <a:xfrm>
            <a:off x="774720" y="3149640"/>
            <a:ext cx="3416400" cy="689040"/>
            <a:chOff x="774720" y="3149640"/>
            <a:chExt cx="3416400" cy="689040"/>
          </a:xfrm>
        </p:grpSpPr>
        <p:sp>
          <p:nvSpPr>
            <p:cNvPr id="157" name=""/>
            <p:cNvSpPr/>
            <p:nvPr/>
          </p:nvSpPr>
          <p:spPr>
            <a:xfrm>
              <a:off x="774720" y="314964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9cbe9"/>
                </a:gs>
                <a:gs pos="50000">
                  <a:srgbClr val="9bbad5"/>
                </a:gs>
                <a:gs pos="100000">
                  <a:srgbClr val="a9cb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783000" y="3170880"/>
              <a:ext cx="3403800" cy="636840"/>
              <a:chOff x="783000" y="3170880"/>
              <a:chExt cx="3403800" cy="636840"/>
            </a:xfrm>
          </p:grpSpPr>
          <p:sp>
            <p:nvSpPr>
              <p:cNvPr id="159" name=""/>
              <p:cNvSpPr/>
              <p:nvPr/>
            </p:nvSpPr>
            <p:spPr>
              <a:xfrm>
                <a:off x="783000" y="364284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cbe9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83000" y="317088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f0f8"/>
                  </a:gs>
                  <a:gs pos="100000">
                    <a:srgbClr val="a9cbe9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1" name=""/>
          <p:cNvGrpSpPr/>
          <p:nvPr/>
        </p:nvGrpSpPr>
        <p:grpSpPr>
          <a:xfrm>
            <a:off x="774720" y="3930480"/>
            <a:ext cx="3416400" cy="689040"/>
            <a:chOff x="774720" y="3930480"/>
            <a:chExt cx="3416400" cy="689040"/>
          </a:xfrm>
        </p:grpSpPr>
        <p:sp>
          <p:nvSpPr>
            <p:cNvPr id="162" name=""/>
            <p:cNvSpPr/>
            <p:nvPr/>
          </p:nvSpPr>
          <p:spPr>
            <a:xfrm>
              <a:off x="774720" y="3930480"/>
              <a:ext cx="34164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4e0cc"/>
                </a:gs>
                <a:gs pos="50000">
                  <a:srgbClr val="96cdbb"/>
                </a:gs>
                <a:gs pos="100000">
                  <a:srgbClr val="a4e0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783000" y="3951720"/>
              <a:ext cx="3403800" cy="636840"/>
              <a:chOff x="783000" y="3951720"/>
              <a:chExt cx="3403800" cy="636840"/>
            </a:xfrm>
          </p:grpSpPr>
          <p:sp>
            <p:nvSpPr>
              <p:cNvPr id="164" name=""/>
              <p:cNvSpPr/>
              <p:nvPr/>
            </p:nvSpPr>
            <p:spPr>
              <a:xfrm>
                <a:off x="783000" y="442368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4e0cc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83000" y="3951720"/>
                <a:ext cx="34038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9f7f2"/>
                  </a:gs>
                  <a:gs pos="100000">
                    <a:srgbClr val="a4e0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"/>
          <p:cNvSpPr/>
          <p:nvPr/>
        </p:nvSpPr>
        <p:spPr>
          <a:xfrm>
            <a:off x="830160" y="25099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27168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9880" y="405144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99040" y="1905120"/>
            <a:ext cx="3395520" cy="3004920"/>
          </a:xfrm>
          <a:prstGeom prst="flowChartAlternateProcess">
            <a:avLst/>
          </a:prstGeom>
          <a:gradFill rotWithShape="0">
            <a:gsLst>
              <a:gs pos="0">
                <a:srgbClr val="e2e2e2"/>
              </a:gs>
              <a:gs pos="50000">
                <a:srgbClr val="ffffff"/>
              </a:gs>
              <a:gs pos="100000">
                <a:srgbClr val="e2e2e2"/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81185" dir="307803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2057400"/>
            <a:ext cx="3230640" cy="27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a50021"/>
                </a:solidFill>
                <a:uFillTx/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 Description of  the cont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 Description of 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762120" y="241632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963720" y="3205080"/>
            <a:ext cx="538200" cy="6904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762120" y="3995640"/>
            <a:ext cx="538200" cy="6908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447920" y="5214960"/>
            <a:ext cx="60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629080" y="2087640"/>
            <a:ext cx="5457600" cy="13032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4e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638440" y="3460680"/>
            <a:ext cx="4991040" cy="132732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e8b8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66960" y="1565280"/>
            <a:ext cx="2438280" cy="1785960"/>
          </a:xfrm>
          <a:prstGeom prst="upArrow">
            <a:avLst>
              <a:gd name="adj1" fmla="val 49093"/>
              <a:gd name="adj2" fmla="val 22310"/>
            </a:avLst>
          </a:prstGeom>
          <a:gradFill rotWithShape="0">
            <a:gsLst>
              <a:gs pos="0">
                <a:srgbClr val="a4e0cc"/>
              </a:gs>
              <a:gs pos="100000">
                <a:srgbClr val="6c9386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28680" y="294624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e8b888"/>
              </a:gs>
              <a:gs pos="100000">
                <a:srgbClr val="8166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957320" y="485604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2b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4316400"/>
            <a:ext cx="2438280" cy="1805040"/>
          </a:xfrm>
          <a:prstGeom prst="upArrow">
            <a:avLst>
              <a:gd name="adj1" fmla="val 52602"/>
              <a:gd name="adj2" fmla="val 25245"/>
            </a:avLst>
          </a:prstGeom>
          <a:gradFill rotWithShape="0">
            <a:gsLst>
              <a:gs pos="0">
                <a:srgbClr val="f2b0cc"/>
              </a:gs>
              <a:gs pos="100000">
                <a:srgbClr val="8a647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 rot="5400000">
            <a:off x="1611360" y="3687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3" name=""/>
          <p:cNvSpPr txBox="1"/>
          <p:nvPr/>
        </p:nvSpPr>
        <p:spPr>
          <a:xfrm rot="5400000">
            <a:off x="1135440" y="5277600"/>
            <a:ext cx="6840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 rot="5400000">
            <a:off x="2244600" y="230328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2933640" y="21272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33520" y="341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43120" y="4894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990880" y="4925880"/>
            <a:ext cx="35859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68720" y="2133720"/>
            <a:ext cx="32385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51320" y="3516480"/>
            <a:ext cx="35812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6354720" y="1753560"/>
            <a:ext cx="1609920" cy="2027160"/>
          </a:xfrm>
          <a:prstGeom prst="downArrow">
            <a:avLst>
              <a:gd name="adj1" fmla="val 77426"/>
              <a:gd name="adj2" fmla="val 19919"/>
            </a:avLst>
          </a:prstGeom>
          <a:gradFill rotWithShape="0">
            <a:gsLst>
              <a:gs pos="0">
                <a:srgbClr val="cdede2"/>
              </a:gs>
              <a:gs pos="100000">
                <a:srgbClr val="a4e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6359400" y="3706920"/>
            <a:ext cx="1641600" cy="1143000"/>
            <a:chOff x="6359400" y="3706920"/>
            <a:chExt cx="1641600" cy="1143000"/>
          </a:xfrm>
        </p:grpSpPr>
        <p:grpSp>
          <p:nvGrpSpPr>
            <p:cNvPr id="194" name=""/>
            <p:cNvGrpSpPr/>
            <p:nvPr/>
          </p:nvGrpSpPr>
          <p:grpSpPr>
            <a:xfrm>
              <a:off x="6362640" y="4106880"/>
              <a:ext cx="1638360" cy="743040"/>
              <a:chOff x="6362640" y="4106880"/>
              <a:chExt cx="1638360" cy="743040"/>
            </a:xfrm>
          </p:grpSpPr>
          <p:sp>
            <p:nvSpPr>
              <p:cNvPr id="195" name=""/>
              <p:cNvSpPr/>
              <p:nvPr/>
            </p:nvSpPr>
            <p:spPr>
              <a:xfrm>
                <a:off x="6362640" y="4106880"/>
                <a:ext cx="1636560" cy="7430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cbfae"/>
                  </a:gs>
                  <a:gs pos="100000">
                    <a:srgbClr val="a4e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64080" y="4107960"/>
                <a:ext cx="1636920" cy="2970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4e0cc"/>
                  </a:gs>
                  <a:gs pos="100000">
                    <a:srgbClr val="c5ead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359400" y="3903840"/>
              <a:ext cx="1633320" cy="162000"/>
              <a:chOff x="6359400" y="3903840"/>
              <a:chExt cx="1633320" cy="162000"/>
            </a:xfrm>
          </p:grpSpPr>
          <p:sp>
            <p:nvSpPr>
              <p:cNvPr id="198" name=""/>
              <p:cNvSpPr/>
              <p:nvPr/>
            </p:nvSpPr>
            <p:spPr>
              <a:xfrm>
                <a:off x="6359400" y="390384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cbfae"/>
                  </a:gs>
                  <a:gs pos="100000">
                    <a:srgbClr val="a4e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360480" y="390384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4e0cc"/>
                  </a:gs>
                  <a:gs pos="100000">
                    <a:srgbClr val="bfe8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6359400" y="3706920"/>
              <a:ext cx="1633320" cy="162000"/>
              <a:chOff x="6359400" y="3706920"/>
              <a:chExt cx="1633320" cy="162000"/>
            </a:xfrm>
          </p:grpSpPr>
          <p:sp>
            <p:nvSpPr>
              <p:cNvPr id="201" name=""/>
              <p:cNvSpPr/>
              <p:nvPr/>
            </p:nvSpPr>
            <p:spPr>
              <a:xfrm>
                <a:off x="6359400" y="37069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cbfae"/>
                  </a:gs>
                  <a:gs pos="100000">
                    <a:srgbClr val="a4e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360480" y="37069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4e0cc"/>
                  </a:gs>
                  <a:gs pos="100000">
                    <a:srgbClr val="bfe8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3" name=""/>
          <p:cNvSpPr/>
          <p:nvPr/>
        </p:nvSpPr>
        <p:spPr>
          <a:xfrm flipV="1">
            <a:off x="4654440" y="1753560"/>
            <a:ext cx="1635120" cy="1850760"/>
          </a:xfrm>
          <a:prstGeom prst="downArrow">
            <a:avLst>
              <a:gd name="adj1" fmla="val 77380"/>
              <a:gd name="adj2" fmla="val 19708"/>
            </a:avLst>
          </a:prstGeom>
          <a:gradFill rotWithShape="0">
            <a:gsLst>
              <a:gs pos="0">
                <a:srgbClr val="cdede2"/>
              </a:gs>
              <a:gs pos="100000">
                <a:srgbClr val="a4e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4651200" y="3510000"/>
            <a:ext cx="1646280" cy="1339920"/>
            <a:chOff x="4651200" y="3510000"/>
            <a:chExt cx="1646280" cy="1339920"/>
          </a:xfrm>
        </p:grpSpPr>
        <p:grpSp>
          <p:nvGrpSpPr>
            <p:cNvPr id="205" name=""/>
            <p:cNvGrpSpPr/>
            <p:nvPr/>
          </p:nvGrpSpPr>
          <p:grpSpPr>
            <a:xfrm>
              <a:off x="4659120" y="4106880"/>
              <a:ext cx="1638360" cy="743040"/>
              <a:chOff x="4659120" y="4106880"/>
              <a:chExt cx="1638360" cy="743040"/>
            </a:xfrm>
          </p:grpSpPr>
          <p:sp>
            <p:nvSpPr>
              <p:cNvPr id="206" name=""/>
              <p:cNvSpPr/>
              <p:nvPr/>
            </p:nvSpPr>
            <p:spPr>
              <a:xfrm>
                <a:off x="4659120" y="4106880"/>
                <a:ext cx="1636560" cy="7430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c69d74"/>
                  </a:gs>
                  <a:gs pos="100000">
                    <a:srgbClr val="e8b888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60560" y="4107960"/>
                <a:ext cx="1636920" cy="2970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e8b888"/>
                  </a:gs>
                  <a:gs pos="100000">
                    <a:srgbClr val="f0d4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4651200" y="3903840"/>
              <a:ext cx="1633320" cy="161640"/>
              <a:chOff x="4651200" y="3903840"/>
              <a:chExt cx="1633320" cy="161640"/>
            </a:xfrm>
          </p:grpSpPr>
          <p:sp>
            <p:nvSpPr>
              <p:cNvPr id="209" name=""/>
              <p:cNvSpPr/>
              <p:nvPr/>
            </p:nvSpPr>
            <p:spPr>
              <a:xfrm>
                <a:off x="4651200" y="390384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69d74"/>
                  </a:gs>
                  <a:gs pos="100000">
                    <a:srgbClr val="e8b888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52280" y="390384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b888"/>
                  </a:gs>
                  <a:gs pos="100000">
                    <a:srgbClr val="eecc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4651200" y="3706920"/>
              <a:ext cx="1633320" cy="162000"/>
              <a:chOff x="4651200" y="3706920"/>
              <a:chExt cx="1633320" cy="162000"/>
            </a:xfrm>
          </p:grpSpPr>
          <p:sp>
            <p:nvSpPr>
              <p:cNvPr id="212" name=""/>
              <p:cNvSpPr/>
              <p:nvPr/>
            </p:nvSpPr>
            <p:spPr>
              <a:xfrm>
                <a:off x="4651200" y="37069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69d74"/>
                  </a:gs>
                  <a:gs pos="100000">
                    <a:srgbClr val="e8b888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652280" y="37069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b888"/>
                  </a:gs>
                  <a:gs pos="100000">
                    <a:srgbClr val="eecc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4651200" y="3510000"/>
              <a:ext cx="1633320" cy="162000"/>
              <a:chOff x="4651200" y="3510000"/>
              <a:chExt cx="1633320" cy="162000"/>
            </a:xfrm>
          </p:grpSpPr>
          <p:sp>
            <p:nvSpPr>
              <p:cNvPr id="215" name=""/>
              <p:cNvSpPr/>
              <p:nvPr/>
            </p:nvSpPr>
            <p:spPr>
              <a:xfrm>
                <a:off x="4651200" y="35100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69d74"/>
                  </a:gs>
                  <a:gs pos="100000">
                    <a:srgbClr val="e8b888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652280" y="35100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e8b888"/>
                  </a:gs>
                  <a:gs pos="100000">
                    <a:srgbClr val="eecc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"/>
          <p:cNvSpPr/>
          <p:nvPr/>
        </p:nvSpPr>
        <p:spPr>
          <a:xfrm flipV="1">
            <a:off x="2943360" y="1753560"/>
            <a:ext cx="1654200" cy="1531800"/>
          </a:xfrm>
          <a:prstGeom prst="downArrow">
            <a:avLst>
              <a:gd name="adj1" fmla="val 76157"/>
              <a:gd name="adj2" fmla="val 21037"/>
            </a:avLst>
          </a:prstGeom>
          <a:gradFill rotWithShape="0">
            <a:gsLst>
              <a:gs pos="0">
                <a:srgbClr val="cdede2"/>
              </a:gs>
              <a:gs pos="100000">
                <a:srgbClr val="a4e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54160" y="3119400"/>
            <a:ext cx="1642680" cy="1730520"/>
            <a:chOff x="2954160" y="3119400"/>
            <a:chExt cx="1642680" cy="1730520"/>
          </a:xfrm>
        </p:grpSpPr>
        <p:grpSp>
          <p:nvGrpSpPr>
            <p:cNvPr id="219" name=""/>
            <p:cNvGrpSpPr/>
            <p:nvPr/>
          </p:nvGrpSpPr>
          <p:grpSpPr>
            <a:xfrm>
              <a:off x="2954160" y="4106880"/>
              <a:ext cx="1638360" cy="743040"/>
              <a:chOff x="2954160" y="4106880"/>
              <a:chExt cx="1638360" cy="743040"/>
            </a:xfrm>
          </p:grpSpPr>
          <p:sp>
            <p:nvSpPr>
              <p:cNvPr id="220" name=""/>
              <p:cNvSpPr/>
              <p:nvPr/>
            </p:nvSpPr>
            <p:spPr>
              <a:xfrm>
                <a:off x="2954160" y="4106880"/>
                <a:ext cx="1636560" cy="7430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0adc7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955600" y="4107960"/>
                <a:ext cx="1636920" cy="2970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9cbe9"/>
                  </a:gs>
                  <a:gs pos="100000">
                    <a:srgbClr val="cbdff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63520" y="3903480"/>
              <a:ext cx="1633320" cy="162000"/>
              <a:chOff x="2963520" y="3903480"/>
              <a:chExt cx="1633320" cy="1620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63520" y="39034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adc7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64600" y="39034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cbe9"/>
                  </a:gs>
                  <a:gs pos="100000">
                    <a:srgbClr val="c2da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963520" y="3706920"/>
              <a:ext cx="1633320" cy="161640"/>
              <a:chOff x="2963520" y="3706920"/>
              <a:chExt cx="1633320" cy="16164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3520" y="37069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adc7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4600" y="37069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cbe9"/>
                  </a:gs>
                  <a:gs pos="100000">
                    <a:srgbClr val="c2da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963520" y="3510000"/>
              <a:ext cx="1633320" cy="162000"/>
              <a:chOff x="2963520" y="3510000"/>
              <a:chExt cx="1633320" cy="162000"/>
            </a:xfrm>
          </p:grpSpPr>
          <p:sp>
            <p:nvSpPr>
              <p:cNvPr id="229" name=""/>
              <p:cNvSpPr/>
              <p:nvPr/>
            </p:nvSpPr>
            <p:spPr>
              <a:xfrm>
                <a:off x="2963520" y="35100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adc7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964600" y="35100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cbe9"/>
                  </a:gs>
                  <a:gs pos="100000">
                    <a:srgbClr val="c2da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2963520" y="3313080"/>
              <a:ext cx="1633320" cy="162000"/>
              <a:chOff x="2963520" y="3313080"/>
              <a:chExt cx="1633320" cy="162000"/>
            </a:xfrm>
          </p:grpSpPr>
          <p:sp>
            <p:nvSpPr>
              <p:cNvPr id="232" name=""/>
              <p:cNvSpPr/>
              <p:nvPr/>
            </p:nvSpPr>
            <p:spPr>
              <a:xfrm>
                <a:off x="2963520" y="33130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adc7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964600" y="33130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cbe9"/>
                  </a:gs>
                  <a:gs pos="100000">
                    <a:srgbClr val="c2da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963520" y="3119400"/>
              <a:ext cx="1633320" cy="162000"/>
              <a:chOff x="2963520" y="3119400"/>
              <a:chExt cx="1633320" cy="162000"/>
            </a:xfrm>
          </p:grpSpPr>
          <p:sp>
            <p:nvSpPr>
              <p:cNvPr id="235" name=""/>
              <p:cNvSpPr/>
              <p:nvPr/>
            </p:nvSpPr>
            <p:spPr>
              <a:xfrm>
                <a:off x="2963520" y="31194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0adc7"/>
                  </a:gs>
                  <a:gs pos="100000">
                    <a:srgbClr val="a9cbe9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964600" y="31194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9cbe9"/>
                  </a:gs>
                  <a:gs pos="100000">
                    <a:srgbClr val="c2dae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 flipV="1">
            <a:off x="1216080" y="175176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dede2"/>
              </a:gs>
              <a:gs pos="100000">
                <a:srgbClr val="a4e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247760" y="2529000"/>
            <a:ext cx="1638360" cy="2320920"/>
            <a:chOff x="1247760" y="2529000"/>
            <a:chExt cx="1638360" cy="2320920"/>
          </a:xfrm>
        </p:grpSpPr>
        <p:grpSp>
          <p:nvGrpSpPr>
            <p:cNvPr id="239" name=""/>
            <p:cNvGrpSpPr/>
            <p:nvPr/>
          </p:nvGrpSpPr>
          <p:grpSpPr>
            <a:xfrm>
              <a:off x="1247760" y="4106880"/>
              <a:ext cx="1638360" cy="743040"/>
              <a:chOff x="1247760" y="4106880"/>
              <a:chExt cx="1638360" cy="743040"/>
            </a:xfrm>
          </p:grpSpPr>
          <p:sp>
            <p:nvSpPr>
              <p:cNvPr id="240" name=""/>
              <p:cNvSpPr/>
              <p:nvPr/>
            </p:nvSpPr>
            <p:spPr>
              <a:xfrm>
                <a:off x="1247760" y="4106880"/>
                <a:ext cx="1636560" cy="74304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49200" y="4107960"/>
                <a:ext cx="1636920" cy="29700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1252440" y="3903840"/>
              <a:ext cx="1633320" cy="162000"/>
              <a:chOff x="1252440" y="3903840"/>
              <a:chExt cx="1633320" cy="162000"/>
            </a:xfrm>
          </p:grpSpPr>
          <p:sp>
            <p:nvSpPr>
              <p:cNvPr id="243" name=""/>
              <p:cNvSpPr/>
              <p:nvPr/>
            </p:nvSpPr>
            <p:spPr>
              <a:xfrm>
                <a:off x="1252440" y="390384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253520" y="390384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1252440" y="3706920"/>
              <a:ext cx="1633320" cy="162000"/>
              <a:chOff x="1252440" y="3706920"/>
              <a:chExt cx="1633320" cy="162000"/>
            </a:xfrm>
          </p:grpSpPr>
          <p:sp>
            <p:nvSpPr>
              <p:cNvPr id="246" name=""/>
              <p:cNvSpPr/>
              <p:nvPr/>
            </p:nvSpPr>
            <p:spPr>
              <a:xfrm>
                <a:off x="1252440" y="37069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253520" y="37069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"/>
            <p:cNvGrpSpPr/>
            <p:nvPr/>
          </p:nvGrpSpPr>
          <p:grpSpPr>
            <a:xfrm>
              <a:off x="1252440" y="3510000"/>
              <a:ext cx="1633320" cy="162000"/>
              <a:chOff x="1252440" y="3510000"/>
              <a:chExt cx="1633320" cy="162000"/>
            </a:xfrm>
          </p:grpSpPr>
          <p:sp>
            <p:nvSpPr>
              <p:cNvPr id="249" name=""/>
              <p:cNvSpPr/>
              <p:nvPr/>
            </p:nvSpPr>
            <p:spPr>
              <a:xfrm>
                <a:off x="1252440" y="35100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253520" y="35100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1252440" y="3313080"/>
              <a:ext cx="1633320" cy="162000"/>
              <a:chOff x="1252440" y="3313080"/>
              <a:chExt cx="1633320" cy="162000"/>
            </a:xfrm>
          </p:grpSpPr>
          <p:sp>
            <p:nvSpPr>
              <p:cNvPr id="252" name=""/>
              <p:cNvSpPr/>
              <p:nvPr/>
            </p:nvSpPr>
            <p:spPr>
              <a:xfrm>
                <a:off x="1252440" y="33130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253520" y="33130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1252440" y="3119400"/>
              <a:ext cx="1633320" cy="162000"/>
              <a:chOff x="1252440" y="3119400"/>
              <a:chExt cx="1633320" cy="162000"/>
            </a:xfrm>
          </p:grpSpPr>
          <p:sp>
            <p:nvSpPr>
              <p:cNvPr id="255" name=""/>
              <p:cNvSpPr/>
              <p:nvPr/>
            </p:nvSpPr>
            <p:spPr>
              <a:xfrm>
                <a:off x="1252440" y="31194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253520" y="31194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1252440" y="2922840"/>
              <a:ext cx="1633320" cy="161640"/>
              <a:chOff x="1252440" y="2922840"/>
              <a:chExt cx="1633320" cy="161640"/>
            </a:xfrm>
          </p:grpSpPr>
          <p:sp>
            <p:nvSpPr>
              <p:cNvPr id="258" name=""/>
              <p:cNvSpPr/>
              <p:nvPr/>
            </p:nvSpPr>
            <p:spPr>
              <a:xfrm>
                <a:off x="1252440" y="292284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1253520" y="292284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1252440" y="2725920"/>
              <a:ext cx="1633320" cy="162000"/>
              <a:chOff x="1252440" y="2725920"/>
              <a:chExt cx="1633320" cy="162000"/>
            </a:xfrm>
          </p:grpSpPr>
          <p:sp>
            <p:nvSpPr>
              <p:cNvPr id="261" name=""/>
              <p:cNvSpPr/>
              <p:nvPr/>
            </p:nvSpPr>
            <p:spPr>
              <a:xfrm>
                <a:off x="1252440" y="27259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1253520" y="27259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"/>
            <p:cNvGrpSpPr/>
            <p:nvPr/>
          </p:nvGrpSpPr>
          <p:grpSpPr>
            <a:xfrm>
              <a:off x="1252440" y="2529000"/>
              <a:ext cx="1633320" cy="162000"/>
              <a:chOff x="1252440" y="2529000"/>
              <a:chExt cx="1633320" cy="162000"/>
            </a:xfrm>
          </p:grpSpPr>
          <p:sp>
            <p:nvSpPr>
              <p:cNvPr id="264" name=""/>
              <p:cNvSpPr/>
              <p:nvPr/>
            </p:nvSpPr>
            <p:spPr>
              <a:xfrm>
                <a:off x="1252440" y="25290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cf96ae"/>
                  </a:gs>
                  <a:gs pos="100000">
                    <a:srgbClr val="f2b0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253520" y="25290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b0cc"/>
                  </a:gs>
                  <a:gs pos="100000">
                    <a:srgbClr val="f5c7d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504800" y="514836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6d6d6"/>
              </a:gs>
              <a:gs pos="50000">
                <a:srgbClr val="f8f8f8"/>
              </a:gs>
              <a:gs pos="100000">
                <a:srgbClr val="d6d6d6"/>
              </a:gs>
            </a:gsLst>
            <a:lin ang="5400000"/>
          </a:gradFill>
          <a:ln w="19080">
            <a:solidFill>
              <a:srgbClr val="f8f8f8"/>
            </a:solidFill>
            <a:miter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46240" y="523872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88960" y="20638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79880" y="26575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69000" y="304488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578640" y="32432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319040" y="445140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21120" y="445140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29320" y="445140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416640" y="445140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266840" y="412128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971800" y="412128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1440" y="412128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67320" y="412128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-720" y="6400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911240" y="4019400"/>
            <a:ext cx="5056200" cy="923760"/>
            <a:chOff x="1911240" y="4019400"/>
            <a:chExt cx="5056200" cy="923760"/>
          </a:xfrm>
        </p:grpSpPr>
        <p:sp>
          <p:nvSpPr>
            <p:cNvPr id="283" name=""/>
            <p:cNvSpPr/>
            <p:nvPr/>
          </p:nvSpPr>
          <p:spPr>
            <a:xfrm>
              <a:off x="1911240" y="4019400"/>
              <a:ext cx="505620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fe2f2"/>
                </a:gs>
                <a:gs pos="100000">
                  <a:srgbClr val="a9cbe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141280" y="49384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51000" y="401940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1986120" y="5116680"/>
            <a:ext cx="5084640" cy="923760"/>
            <a:chOff x="1986120" y="5116680"/>
            <a:chExt cx="5084640" cy="923760"/>
          </a:xfrm>
        </p:grpSpPr>
        <p:sp>
          <p:nvSpPr>
            <p:cNvPr id="287" name=""/>
            <p:cNvSpPr/>
            <p:nvPr/>
          </p:nvSpPr>
          <p:spPr>
            <a:xfrm>
              <a:off x="1986120" y="511668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8b888"/>
                </a:gs>
                <a:gs pos="100000">
                  <a:srgbClr val="f1d8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109960" y="60357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133720" y="51166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986120" y="2906640"/>
            <a:ext cx="5084640" cy="923760"/>
            <a:chOff x="1986120" y="2906640"/>
            <a:chExt cx="5084640" cy="923760"/>
          </a:xfrm>
        </p:grpSpPr>
        <p:sp>
          <p:nvSpPr>
            <p:cNvPr id="291" name=""/>
            <p:cNvSpPr/>
            <p:nvPr/>
          </p:nvSpPr>
          <p:spPr>
            <a:xfrm>
              <a:off x="1986120" y="290664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4e0cc"/>
                </a:gs>
                <a:gs pos="100000">
                  <a:srgbClr val="cdede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151360" y="3825720"/>
              <a:ext cx="4682880" cy="0"/>
            </a:xfrm>
            <a:prstGeom prst="line">
              <a:avLst/>
            </a:prstGeom>
            <a:ln w="3240">
              <a:solidFill>
                <a:srgbClr val="ffff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109960" y="290988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1892160" y="1801800"/>
            <a:ext cx="5027760" cy="923760"/>
            <a:chOff x="1892160" y="1801800"/>
            <a:chExt cx="5027760" cy="923760"/>
          </a:xfrm>
        </p:grpSpPr>
        <p:sp>
          <p:nvSpPr>
            <p:cNvPr id="295" name=""/>
            <p:cNvSpPr/>
            <p:nvPr/>
          </p:nvSpPr>
          <p:spPr>
            <a:xfrm>
              <a:off x="1892160" y="1801800"/>
              <a:ext cx="502776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7d3e2"/>
                </a:gs>
                <a:gs pos="100000">
                  <a:srgbClr val="f2b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109600" y="272556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1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109600" y="1805040"/>
              <a:ext cx="4683240" cy="0"/>
            </a:xfrm>
            <a:prstGeom prst="line">
              <a:avLst/>
            </a:prstGeom>
            <a:ln w="324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Text Box 4"/>
          <p:cNvSpPr/>
          <p:nvPr/>
        </p:nvSpPr>
        <p:spPr>
          <a:xfrm>
            <a:off x="2200320" y="196380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2158920" y="305280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8"/>
          <p:cNvSpPr/>
          <p:nvPr/>
        </p:nvSpPr>
        <p:spPr>
          <a:xfrm>
            <a:off x="2200320" y="4199040"/>
            <a:ext cx="457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2158920" y="5273640"/>
            <a:ext cx="457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076400" y="1633680"/>
            <a:ext cx="1238040" cy="1236600"/>
            <a:chOff x="1076400" y="1633680"/>
            <a:chExt cx="1238040" cy="1236600"/>
          </a:xfrm>
        </p:grpSpPr>
        <p:sp>
          <p:nvSpPr>
            <p:cNvPr id="303" name="Oval 6"/>
            <p:cNvSpPr/>
            <p:nvPr/>
          </p:nvSpPr>
          <p:spPr>
            <a:xfrm>
              <a:off x="1076400" y="163368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f2b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7"/>
            <p:cNvSpPr/>
            <p:nvPr/>
          </p:nvSpPr>
          <p:spPr>
            <a:xfrm>
              <a:off x="1127160" y="1684440"/>
              <a:ext cx="1134720" cy="1135080"/>
            </a:xfrm>
            <a:prstGeom prst="ellipse">
              <a:avLst/>
            </a:prstGeom>
            <a:noFill/>
            <a:ln w="38160">
              <a:solidFill>
                <a:srgbClr val="f2b0cc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8"/>
            <p:cNvSpPr/>
            <p:nvPr/>
          </p:nvSpPr>
          <p:spPr>
            <a:xfrm>
              <a:off x="1177920" y="1738440"/>
              <a:ext cx="1032840" cy="1032840"/>
            </a:xfrm>
            <a:prstGeom prst="ellipse">
              <a:avLst/>
            </a:prstGeom>
            <a:noFill/>
            <a:ln w="38160">
              <a:solidFill>
                <a:srgbClr val="f2b0cc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9"/>
          <p:cNvSpPr/>
          <p:nvPr/>
        </p:nvSpPr>
        <p:spPr>
          <a:xfrm>
            <a:off x="1147680" y="193356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6657840" y="2725560"/>
            <a:ext cx="1238400" cy="1236960"/>
            <a:chOff x="6657840" y="2725560"/>
            <a:chExt cx="1238400" cy="1236960"/>
          </a:xfrm>
        </p:grpSpPr>
        <p:sp>
          <p:nvSpPr>
            <p:cNvPr id="308" name="Oval 13"/>
            <p:cNvSpPr/>
            <p:nvPr/>
          </p:nvSpPr>
          <p:spPr>
            <a:xfrm>
              <a:off x="6657840" y="2725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4e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14"/>
            <p:cNvSpPr/>
            <p:nvPr/>
          </p:nvSpPr>
          <p:spPr>
            <a:xfrm>
              <a:off x="6708600" y="2776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4e0cc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15"/>
            <p:cNvSpPr/>
            <p:nvPr/>
          </p:nvSpPr>
          <p:spPr>
            <a:xfrm>
              <a:off x="6759360" y="2830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4e0cc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Text Box 16"/>
          <p:cNvSpPr/>
          <p:nvPr/>
        </p:nvSpPr>
        <p:spPr>
          <a:xfrm>
            <a:off x="6729480" y="303516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1066680" y="3868560"/>
            <a:ext cx="1238400" cy="1236960"/>
            <a:chOff x="1066680" y="3868560"/>
            <a:chExt cx="1238400" cy="1236960"/>
          </a:xfrm>
        </p:grpSpPr>
        <p:sp>
          <p:nvSpPr>
            <p:cNvPr id="313" name="Oval 20"/>
            <p:cNvSpPr/>
            <p:nvPr/>
          </p:nvSpPr>
          <p:spPr>
            <a:xfrm>
              <a:off x="1066680" y="3868560"/>
              <a:ext cx="1238400" cy="123696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9cb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21"/>
            <p:cNvSpPr/>
            <p:nvPr/>
          </p:nvSpPr>
          <p:spPr>
            <a:xfrm>
              <a:off x="1117440" y="391932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a9cbe9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22"/>
            <p:cNvSpPr/>
            <p:nvPr/>
          </p:nvSpPr>
          <p:spPr>
            <a:xfrm>
              <a:off x="1168200" y="39733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a9cbe9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23"/>
          <p:cNvSpPr/>
          <p:nvPr/>
        </p:nvSpPr>
        <p:spPr>
          <a:xfrm>
            <a:off x="1138320" y="4168800"/>
            <a:ext cx="108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6657840" y="4935600"/>
            <a:ext cx="1238400" cy="1236600"/>
            <a:chOff x="6657840" y="4935600"/>
            <a:chExt cx="1238400" cy="1236600"/>
          </a:xfrm>
        </p:grpSpPr>
        <p:sp>
          <p:nvSpPr>
            <p:cNvPr id="318" name="Oval 27"/>
            <p:cNvSpPr/>
            <p:nvPr/>
          </p:nvSpPr>
          <p:spPr>
            <a:xfrm>
              <a:off x="6657840" y="493560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e8b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28"/>
            <p:cNvSpPr/>
            <p:nvPr/>
          </p:nvSpPr>
          <p:spPr>
            <a:xfrm>
              <a:off x="6708600" y="4986360"/>
              <a:ext cx="1135080" cy="1135080"/>
            </a:xfrm>
            <a:prstGeom prst="ellipse">
              <a:avLst/>
            </a:prstGeom>
            <a:noFill/>
            <a:ln w="38160">
              <a:solidFill>
                <a:srgbClr val="e8b888">
                  <a:alpha val="6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29"/>
            <p:cNvSpPr/>
            <p:nvPr/>
          </p:nvSpPr>
          <p:spPr>
            <a:xfrm>
              <a:off x="6759360" y="504036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e8b888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30"/>
          <p:cNvSpPr/>
          <p:nvPr/>
        </p:nvSpPr>
        <p:spPr>
          <a:xfrm>
            <a:off x="6729480" y="52434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未知"/>
          <p:cNvSpPr/>
          <p:nvPr/>
        </p:nvSpPr>
        <p:spPr>
          <a:xfrm flipH="1">
            <a:off x="106596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d0eee4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未知"/>
          <p:cNvSpPr/>
          <p:nvPr/>
        </p:nvSpPr>
        <p:spPr>
          <a:xfrm>
            <a:off x="3368520" y="182880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e8b888"/>
              </a:gs>
              <a:gs pos="100000">
                <a:srgbClr val="f4e1ce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未知"/>
          <p:cNvSpPr/>
          <p:nvPr/>
        </p:nvSpPr>
        <p:spPr>
          <a:xfrm>
            <a:off x="106668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f8dbe7"/>
              </a:gs>
              <a:gs pos="100000">
                <a:srgbClr val="f2b0cc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未知"/>
          <p:cNvSpPr/>
          <p:nvPr/>
        </p:nvSpPr>
        <p:spPr>
          <a:xfrm flipH="1">
            <a:off x="3367800" y="3843360"/>
            <a:ext cx="2063880" cy="172872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gradFill rotWithShape="0">
            <a:gsLst>
              <a:gs pos="0">
                <a:srgbClr val="cfe2f2"/>
              </a:gs>
              <a:gs pos="100000">
                <a:srgbClr val="a9cbe9"/>
              </a:gs>
            </a:gsLst>
            <a:lin ang="8100000"/>
          </a:gradFill>
          <a:ln w="28440">
            <a:solidFill>
              <a:srgbClr val="f8f8f8"/>
            </a:solidFill>
            <a:round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209680" y="2646360"/>
            <a:ext cx="2081160" cy="2082960"/>
          </a:xfrm>
          <a:prstGeom prst="ellipse">
            <a:avLst/>
          </a:prstGeom>
          <a:solidFill>
            <a:srgbClr val="fe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6828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619440" y="223200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27620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619440" y="4782960"/>
            <a:ext cx="157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782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581640" y="3105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782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81640" y="4048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4"/>
          <p:cNvSpPr/>
          <p:nvPr/>
        </p:nvSpPr>
        <p:spPr>
          <a:xfrm>
            <a:off x="5638680" y="2819520"/>
            <a:ext cx="28195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meGallery is a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Design Digital Content &amp; Contents mal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veloped by Guild Design In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6ecdf"/>
            </a:gs>
            <a:gs pos="50000">
              <a:srgbClr val="fefefe"/>
            </a:gs>
            <a:gs pos="100000">
              <a:srgbClr val="c6ecd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03120" y="426960"/>
            <a:ext cx="74833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itle style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2932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523880" y="1762200"/>
            <a:ext cx="2508480" cy="53316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ff">
                  <a:alpha val="7019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86720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342" name="未知"/>
          <p:cNvSpPr/>
          <p:nvPr/>
        </p:nvSpPr>
        <p:spPr>
          <a:xfrm>
            <a:off x="1738440" y="2384280"/>
            <a:ext cx="106668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8b888"/>
              </a:gs>
              <a:gs pos="100000">
                <a:srgbClr val="6a54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未知"/>
          <p:cNvSpPr/>
          <p:nvPr/>
        </p:nvSpPr>
        <p:spPr>
          <a:xfrm>
            <a:off x="223668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8b888"/>
              </a:gs>
              <a:gs pos="100000">
                <a:srgbClr val="6a54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未知"/>
          <p:cNvSpPr/>
          <p:nvPr/>
        </p:nvSpPr>
        <p:spPr>
          <a:xfrm>
            <a:off x="589428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4b6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未知"/>
          <p:cNvSpPr/>
          <p:nvPr/>
        </p:nvSpPr>
        <p:spPr>
          <a:xfrm>
            <a:off x="5257800" y="3475080"/>
            <a:ext cx="4446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4b6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未知"/>
          <p:cNvSpPr/>
          <p:nvPr/>
        </p:nvSpPr>
        <p:spPr>
          <a:xfrm>
            <a:off x="555948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4b6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未知"/>
          <p:cNvSpPr/>
          <p:nvPr/>
        </p:nvSpPr>
        <p:spPr>
          <a:xfrm>
            <a:off x="649440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4b6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未知"/>
          <p:cNvSpPr/>
          <p:nvPr/>
        </p:nvSpPr>
        <p:spPr>
          <a:xfrm>
            <a:off x="67881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a4e0cc"/>
              </a:gs>
              <a:gs pos="100000">
                <a:srgbClr val="4b67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未知"/>
          <p:cNvSpPr/>
          <p:nvPr/>
        </p:nvSpPr>
        <p:spPr>
          <a:xfrm>
            <a:off x="24321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e8b888"/>
              </a:gs>
              <a:gs pos="100000">
                <a:srgbClr val="6a543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282680" y="497196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5062680" y="497052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15901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8b888"/>
                </a:solidFill>
                <a:latin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2590920" y="1752480"/>
            <a:ext cx="154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569592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4e0cc"/>
                </a:solidFill>
                <a:latin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9"/>
          <p:cNvSpPr/>
          <p:nvPr/>
        </p:nvSpPr>
        <p:spPr>
          <a:xfrm>
            <a:off x="6629400" y="175248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3200400" y="281952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Calibri"/>
              </a:rPr>
              <a:t>Title in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19:05:47Z</dcterms:created>
  <dc:creator>http://www.eeppt.com</dc:creator>
  <dc:description>ppt模板下载网站 http://www.eeppt.com</dc:description>
  <dc:language>en-US</dc:language>
  <cp:lastModifiedBy/>
  <dcterms:modified xsi:type="dcterms:W3CDTF">2015-06-14T09:11:17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