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0A2F-3184-4177-B1ED-C5572C88D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EBDD-C9E0-42FA-81D5-F4D487758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A6F9-5FB7-4952-AEDE-1CF2A9418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7FD6-9F07-46F2-BA6B-222839FEB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3FC8-CC1D-4146-9872-51E3ADA64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AB5F-BCBE-47BE-AC5F-B594FDD88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4976-FB41-409E-935A-4E6B22C03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F5CF-CC1D-4EBE-A78E-9BB4D6256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77A0-DF5E-40BC-9C0E-4562BBB51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FB3A-2802-4F05-A046-B3377583A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26F6-34CD-4DA0-977D-D6533A38D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5C2F-74BF-4706-A74A-4B5D0AB6A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3564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BDF53EB-5529-464A-9BC2-98F8CABD844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360" y="101088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wmf"/><Relationship Id="rId3" Type="http://schemas.openxmlformats.org/officeDocument/2006/relationships/image" Target="../media/image19.png"/><Relationship Id="rId4" Type="http://schemas.openxmlformats.org/officeDocument/2006/relationships/image" Target="../media/image4.wmf"/><Relationship Id="rId5" Type="http://schemas.openxmlformats.org/officeDocument/2006/relationships/image" Target="../media/image19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360" y="101088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276720" y="2090880"/>
            <a:ext cx="540072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57280" y="1268280"/>
            <a:ext cx="178740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da5800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0">
                <a:noFill/>
              </a:ln>
              <a:solidFill>
                <a:srgbClr val="da5800"/>
              </a:solidFill>
              <a:latin typeface="黑体"/>
              <a:ea typeface="黑体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603760" y="1917360"/>
            <a:ext cx="1501920" cy="1515960"/>
            <a:chOff x="5603760" y="1917360"/>
            <a:chExt cx="1501920" cy="1515960"/>
          </a:xfrm>
        </p:grpSpPr>
        <p:sp>
          <p:nvSpPr>
            <p:cNvPr id="288" name="未知"/>
            <p:cNvSpPr/>
            <p:nvPr/>
          </p:nvSpPr>
          <p:spPr>
            <a:xfrm>
              <a:off x="5672160" y="2985840"/>
              <a:ext cx="143352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5603760" y="1917360"/>
              <a:ext cx="1488960" cy="14871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da5800"/>
                </a:gs>
                <a:gs pos="100000">
                  <a:srgbClr val="ff9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5837040" y="2323800"/>
              <a:ext cx="211320" cy="4996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6095880" y="2314440"/>
              <a:ext cx="295200" cy="520200"/>
            </a:xfrm>
            <a:custGeom>
              <a:avLst/>
              <a:gdLst/>
              <a:ahLst/>
              <a:rect l="l" t="t" r="r" b="b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6426000" y="2314440"/>
              <a:ext cx="416160" cy="520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668920" y="2784240"/>
              <a:ext cx="1423800" cy="6202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da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583000" y="1917360"/>
            <a:ext cx="1501200" cy="1515960"/>
            <a:chOff x="2583000" y="1917360"/>
            <a:chExt cx="1501200" cy="1515960"/>
          </a:xfrm>
        </p:grpSpPr>
        <p:sp>
          <p:nvSpPr>
            <p:cNvPr id="295" name="未知"/>
            <p:cNvSpPr/>
            <p:nvPr/>
          </p:nvSpPr>
          <p:spPr>
            <a:xfrm>
              <a:off x="2651040" y="2985840"/>
              <a:ext cx="143316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2583000" y="1917360"/>
              <a:ext cx="1488600" cy="148716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da5800"/>
                </a:gs>
                <a:gs pos="100000">
                  <a:srgbClr val="ff9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3298680" y="2314440"/>
              <a:ext cx="415440" cy="52020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2647800" y="2784240"/>
              <a:ext cx="1423440" cy="62028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da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2917440" y="2336760"/>
              <a:ext cx="309240" cy="5234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217520" y="3882960"/>
            <a:ext cx="1501920" cy="1514520"/>
            <a:chOff x="1217520" y="3882960"/>
            <a:chExt cx="1501920" cy="1514520"/>
          </a:xfrm>
        </p:grpSpPr>
        <p:sp>
          <p:nvSpPr>
            <p:cNvPr id="301" name="未知"/>
            <p:cNvSpPr/>
            <p:nvPr/>
          </p:nvSpPr>
          <p:spPr>
            <a:xfrm>
              <a:off x="1285920" y="4950000"/>
              <a:ext cx="143352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1217520" y="3882960"/>
              <a:ext cx="1488960" cy="148608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da5800"/>
                </a:gs>
                <a:gs pos="100000">
                  <a:srgbClr val="ff9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1450800" y="4287960"/>
              <a:ext cx="211320" cy="50148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2039760" y="4280040"/>
              <a:ext cx="416160" cy="51912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1282680" y="4748400"/>
              <a:ext cx="1423800" cy="62064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da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1709640" y="4287960"/>
              <a:ext cx="309600" cy="5238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79960" y="3882960"/>
            <a:ext cx="1501200" cy="1514520"/>
            <a:chOff x="4179960" y="3882960"/>
            <a:chExt cx="1501200" cy="1514520"/>
          </a:xfrm>
        </p:grpSpPr>
        <p:sp>
          <p:nvSpPr>
            <p:cNvPr id="308" name="未知"/>
            <p:cNvSpPr/>
            <p:nvPr/>
          </p:nvSpPr>
          <p:spPr>
            <a:xfrm>
              <a:off x="4248000" y="4950000"/>
              <a:ext cx="1433160" cy="447480"/>
            </a:xfrm>
            <a:custGeom>
              <a:avLst/>
              <a:gdLst/>
              <a:ahLst/>
              <a:rect l="l" t="t" r="r" b="b"/>
              <a:pathLst>
                <a:path w="774" h="242">
                  <a:moveTo>
                    <a:pt x="1" y="222"/>
                  </a:moveTo>
                  <a:cubicBezTo>
                    <a:pt x="0" y="221"/>
                    <a:pt x="3" y="220"/>
                    <a:pt x="5" y="218"/>
                  </a:cubicBezTo>
                  <a:cubicBezTo>
                    <a:pt x="5" y="218"/>
                    <a:pt x="715" y="1"/>
                    <a:pt x="758" y="0"/>
                  </a:cubicBezTo>
                  <a:cubicBezTo>
                    <a:pt x="758" y="0"/>
                    <a:pt x="774" y="151"/>
                    <a:pt x="737" y="195"/>
                  </a:cubicBezTo>
                  <a:cubicBezTo>
                    <a:pt x="737" y="195"/>
                    <a:pt x="28" y="242"/>
                    <a:pt x="1" y="2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5294"/>
                  </a:srgbClr>
                </a:gs>
                <a:gs pos="50000">
                  <a:srgbClr val="e2edfa"/>
                </a:gs>
                <a:gs pos="100000">
                  <a:srgbClr val="ffffff">
                    <a:alpha val="1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4179960" y="3882960"/>
              <a:ext cx="1488600" cy="1486080"/>
            </a:xfrm>
            <a:custGeom>
              <a:avLst/>
              <a:gdLst/>
              <a:ahLst/>
              <a:rect l="l" t="t" r="r" b="b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da5800"/>
                </a:gs>
                <a:gs pos="100000">
                  <a:srgbClr val="ff9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5067000" y="4280040"/>
              <a:ext cx="414000" cy="519120"/>
            </a:xfrm>
            <a:custGeom>
              <a:avLst/>
              <a:gdLst/>
              <a:ahLst/>
              <a:rect l="l" t="t" r="r" b="b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4244760" y="4748400"/>
              <a:ext cx="1423440" cy="620640"/>
            </a:xfrm>
            <a:custGeom>
              <a:avLst/>
              <a:gdLst/>
              <a:ahLst/>
              <a:rect l="l" t="t" r="r" b="b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021"/>
                </a:gs>
                <a:gs pos="100000">
                  <a:srgbClr val="da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393800" y="4284720"/>
              <a:ext cx="628200" cy="520200"/>
              <a:chOff x="4393800" y="4284720"/>
              <a:chExt cx="628200" cy="520200"/>
            </a:xfrm>
          </p:grpSpPr>
          <p:sp>
            <p:nvSpPr>
              <p:cNvPr id="313" name="未知"/>
              <p:cNvSpPr/>
              <p:nvPr/>
            </p:nvSpPr>
            <p:spPr>
              <a:xfrm>
                <a:off x="4393800" y="4284720"/>
                <a:ext cx="289080" cy="514080"/>
              </a:xfrm>
              <a:custGeom>
                <a:avLst/>
                <a:gdLst/>
                <a:ahLst/>
                <a:rect l="l" t="t" r="r" b="b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>
                <a:off x="4720320" y="4290840"/>
                <a:ext cx="301680" cy="514080"/>
              </a:xfrm>
              <a:custGeom>
                <a:avLst/>
                <a:gdLst/>
                <a:ahLst/>
                <a:rect l="l" t="t" r="r" b="b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56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56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56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56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3272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DD1D-A4BD-4C46-A233-B634584CF7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900000" y="2144880"/>
            <a:ext cx="7344000" cy="2813040"/>
            <a:chOff x="900000" y="2144880"/>
            <a:chExt cx="7344000" cy="2813040"/>
          </a:xfrm>
        </p:grpSpPr>
        <p:sp>
          <p:nvSpPr>
            <p:cNvPr id="326" name=""/>
            <p:cNvSpPr/>
            <p:nvPr/>
          </p:nvSpPr>
          <p:spPr>
            <a:xfrm>
              <a:off x="900000" y="2151720"/>
              <a:ext cx="5257080" cy="27946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83000" y="2144880"/>
              <a:ext cx="2061000" cy="2813040"/>
            </a:xfrm>
            <a:prstGeom prst="rect">
              <a:avLst/>
            </a:prstGeom>
            <a:gradFill rotWithShape="0">
              <a:gsLst>
                <a:gs pos="0">
                  <a:srgbClr val="ff9021"/>
                </a:gs>
                <a:gs pos="100000">
                  <a:srgbClr val="da58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400" spc="-1" strike="noStrike">
                  <a:solidFill>
                    <a:srgbClr val="ffffff"/>
                  </a:solidFill>
                  <a:latin typeface="Arial"/>
                </a:rPr>
                <a:t>单击添加段落文字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882360" y="4965480"/>
            <a:ext cx="7289640" cy="318960"/>
          </a:xfrm>
          <a:custGeom>
            <a:avLst/>
            <a:gdLst>
              <a:gd name="textAreaLeft" fmla="*/ 590400 w 7289640"/>
              <a:gd name="textAreaRight" fmla="*/ 6699240 w 7289640"/>
              <a:gd name="textAreaTop" fmla="*/ 25560 h 318960"/>
              <a:gd name="textAreaBottom" fmla="*/ 29340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93F5-D242-46F6-AA08-2FF6523C1C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800 w 1342800"/>
              <a:gd name="textAreaRight" fmla="*/ 119700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800 w 1344600"/>
              <a:gd name="textAreaRight" fmla="*/ 119880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800 w 1343160"/>
              <a:gd name="textAreaRight" fmla="*/ 119736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800 w 1342800"/>
              <a:gd name="textAreaRight" fmla="*/ 119700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9720 w 1341360"/>
              <a:gd name="textAreaRight" fmla="*/ 1151640 w 134136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9720 w 1342800"/>
              <a:gd name="textAreaRight" fmla="*/ 1153080 w 134280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9720 w 1342800"/>
              <a:gd name="textAreaRight" fmla="*/ 1153080 w 134280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9720 w 1342800"/>
              <a:gd name="textAreaRight" fmla="*/ 1153080 w 134280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9720 w 1341720"/>
              <a:gd name="textAreaRight" fmla="*/ 1152000 w 1341720"/>
              <a:gd name="textAreaTop" fmla="*/ 18000 h 127080"/>
              <a:gd name="textAreaBottom" fmla="*/ 109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"/>
          <p:cNvCxnSpPr>
            <a:stCxn id="341" idx="0"/>
            <a:endCxn id="342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80808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132000" y="3903840"/>
            <a:ext cx="0" cy="620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02360" y="3903840"/>
            <a:ext cx="0" cy="653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642800"/>
              </a:gs>
              <a:gs pos="100000">
                <a:srgbClr val="da5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16440 w 2238120"/>
              <a:gd name="textAreaRight" fmla="*/ 1921680 w 2238120"/>
              <a:gd name="textAreaTop" fmla="*/ 18000 h 128880"/>
              <a:gd name="textAreaBottom" fmla="*/ 11088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50" y="21600"/>
                </a:lnTo>
                <a:lnTo>
                  <a:pt x="235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800 w 1343160"/>
              <a:gd name="textAreaRight" fmla="*/ 119736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>
            <a:grayscl/>
            <a:lum contrast="6000"/>
          </a:blip>
          <a:srcRect l="0" t="0" r="121" b="210"/>
          <a:stretch/>
        </p:blipFill>
        <p:spPr>
          <a:xfrm>
            <a:off x="1095480" y="3851280"/>
            <a:ext cx="769680" cy="588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>
            <a:grayscl/>
            <a:lum contrast="12000"/>
          </a:blip>
          <a:srcRect l="0" t="0" r="44" b="52"/>
          <a:stretch/>
        </p:blipFill>
        <p:spPr>
          <a:xfrm>
            <a:off x="2739960" y="3846600"/>
            <a:ext cx="696960" cy="588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>
            <a:grayscl/>
            <a:lum contrast="6000"/>
          </a:blip>
          <a:srcRect l="0" t="0" r="0" b="93"/>
          <a:stretch/>
        </p:blipFill>
        <p:spPr>
          <a:xfrm>
            <a:off x="4138560" y="3776760"/>
            <a:ext cx="849240" cy="660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>
            <a:grayscl/>
            <a:lum contrast="12000"/>
          </a:blip>
          <a:srcRect l="0" t="0" r="166" b="147"/>
          <a:stretch/>
        </p:blipFill>
        <p:spPr>
          <a:xfrm>
            <a:off x="5688000" y="3809880"/>
            <a:ext cx="739800" cy="633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>
            <a:grayscl/>
            <a:lum contrast="24000"/>
          </a:blip>
          <a:srcRect l="0" t="0" r="156" b="-46"/>
          <a:stretch/>
        </p:blipFill>
        <p:spPr>
          <a:xfrm>
            <a:off x="7068960" y="3755880"/>
            <a:ext cx="787680" cy="6811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86480 w 2304720"/>
              <a:gd name="textAreaRight" fmla="*/ 2118240 w 2304720"/>
              <a:gd name="textAreaTop" fmla="*/ 25560 h 318960"/>
              <a:gd name="textAreaBottom" fmla="*/ 29340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da58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969696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/>
            <a:ahLst/>
            <a:rect l="l" t="t" r="r" b="b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/>
            <a:ahLst/>
            <a:rect l="l" t="t" r="r" b="b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81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/>
            <a:ahLst/>
            <a:rect l="l" t="t" r="r" b="b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30000"/>
          </a:gra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379" name="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382" name="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385" name="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388" name="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391" name="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394" name="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da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7" name="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8" name="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99" name="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0" name="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1" name="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03" name="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04" name="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da5800">
                      <a:alpha val="90196"/>
                    </a:srgbClr>
                  </a:gs>
                  <a:gs pos="100000">
                    <a:srgbClr val="ff9021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未知"/>
            <p:cNvSpPr/>
            <p:nvPr/>
          </p:nvSpPr>
          <p:spPr>
            <a:xfrm rot="16200000">
              <a:off x="3878280" y="307440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 rot="5400000">
              <a:off x="4215960" y="2058480"/>
              <a:ext cx="1030680" cy="205812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18" name="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22" name="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26" name="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30" name="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34" name="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22" idx="1"/>
            <a:endCxn id="420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ff9021"/>
            </a:solidFill>
            <a:miter/>
          </a:ln>
        </p:spPr>
      </p:cxnSp>
      <p:cxnSp>
        <p:nvCxnSpPr>
          <p:cNvPr id="436" name=""/>
          <p:cNvCxnSpPr>
            <a:stCxn id="416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ff9021"/>
            </a:solidFill>
            <a:miter/>
            <a:tailEnd len="lg" type="triangle" w="lg"/>
          </a:ln>
        </p:spPr>
      </p:cxnSp>
      <p:cxnSp>
        <p:nvCxnSpPr>
          <p:cNvPr id="437" name=""/>
          <p:cNvCxnSpPr>
            <a:stCxn id="422" idx="2"/>
            <a:endCxn id="424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ff9021"/>
            </a:solidFill>
            <a:miter/>
            <a:tailEnd len="lg" type="triangle" w="lg"/>
          </a:ln>
        </p:spPr>
      </p:cxnSp>
      <p:cxnSp>
        <p:nvCxnSpPr>
          <p:cNvPr id="438" name=""/>
          <p:cNvCxnSpPr>
            <a:stCxn id="426" idx="2"/>
            <a:endCxn id="428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48684"/>
            </a:avLst>
          </a:prstGeom>
          <a:ln w="9360">
            <a:solidFill>
              <a:srgbClr val="ff9021"/>
            </a:solidFill>
            <a:miter/>
            <a:tailEnd len="lg" type="triangle" w="lg"/>
          </a:ln>
        </p:spPr>
      </p:cxnSp>
      <p:cxnSp>
        <p:nvCxnSpPr>
          <p:cNvPr id="439" name=""/>
          <p:cNvCxnSpPr>
            <a:stCxn id="430" idx="2"/>
            <a:endCxn id="432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ff9021"/>
            </a:solidFill>
            <a:miter/>
            <a:tailEnd len="lg" type="triangle" w="lg"/>
          </a:ln>
        </p:spPr>
      </p:cxnSp>
      <p:sp>
        <p:nvSpPr>
          <p:cNvPr id="440" name=""/>
          <p:cNvSpPr/>
          <p:nvPr/>
        </p:nvSpPr>
        <p:spPr>
          <a:xfrm>
            <a:off x="6986520" y="2706840"/>
            <a:ext cx="1633680" cy="83340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86520" y="3681360"/>
            <a:ext cx="1633680" cy="83340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2" name=""/>
          <p:cNvCxnSpPr>
            <a:stCxn id="424" idx="3"/>
            <a:endCxn id="426" idx="3"/>
          </p:cNvCxnSpPr>
          <p:nvPr/>
        </p:nvCxnSpPr>
        <p:spPr>
          <a:xfrm>
            <a:off x="6429240" y="285120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ff9021"/>
            </a:solidFill>
            <a:miter/>
          </a:ln>
        </p:spPr>
      </p:cxnSp>
      <p:cxnSp>
        <p:nvCxnSpPr>
          <p:cNvPr id="443" name=""/>
          <p:cNvCxnSpPr>
            <a:stCxn id="430" idx="3"/>
            <a:endCxn id="428" idx="3"/>
          </p:cNvCxnSpPr>
          <p:nvPr/>
        </p:nvCxnSpPr>
        <p:spPr>
          <a:xfrm flipH="1" flipV="1">
            <a:off x="6428880" y="3820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ff9021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6602400" y="3057480"/>
            <a:ext cx="384120" cy="0"/>
          </a:xfrm>
          <a:prstGeom prst="line">
            <a:avLst/>
          </a:prstGeom>
          <a:ln w="9360">
            <a:solidFill>
              <a:srgbClr val="ff9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602400" y="4029120"/>
            <a:ext cx="384120" cy="0"/>
          </a:xfrm>
          <a:prstGeom prst="line">
            <a:avLst/>
          </a:prstGeom>
          <a:ln w="9360">
            <a:solidFill>
              <a:srgbClr val="ff9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75360" y="2709720"/>
            <a:ext cx="1644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75360" y="3691080"/>
            <a:ext cx="1644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64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2143-607E-419A-8D30-197CC356D5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31" descr=""/>
          <p:cNvPicPr/>
          <p:nvPr/>
        </p:nvPicPr>
        <p:blipFill>
          <a:blip r:embed="rId1"/>
          <a:stretch/>
        </p:blipFill>
        <p:spPr>
          <a:xfrm>
            <a:off x="469800" y="1803240"/>
            <a:ext cx="4471920" cy="3876840"/>
          </a:xfrm>
          <a:prstGeom prst="rect">
            <a:avLst/>
          </a:prstGeom>
          <a:ln w="0">
            <a:noFill/>
          </a:ln>
        </p:spPr>
      </p:pic>
      <p:sp>
        <p:nvSpPr>
          <p:cNvPr id="450" name="未知"/>
          <p:cNvSpPr/>
          <p:nvPr/>
        </p:nvSpPr>
        <p:spPr>
          <a:xfrm>
            <a:off x="1243080" y="1913040"/>
            <a:ext cx="2227320" cy="9651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ddddd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92760" y="4307400"/>
            <a:ext cx="2265480" cy="953640"/>
            <a:chOff x="1292760" y="4307400"/>
            <a:chExt cx="2265480" cy="953640"/>
          </a:xfrm>
        </p:grpSpPr>
        <p:grpSp>
          <p:nvGrpSpPr>
            <p:cNvPr id="452" name=""/>
            <p:cNvGrpSpPr/>
            <p:nvPr/>
          </p:nvGrpSpPr>
          <p:grpSpPr>
            <a:xfrm>
              <a:off x="1292760" y="4412160"/>
              <a:ext cx="1891080" cy="783000"/>
              <a:chOff x="1292760" y="4412160"/>
              <a:chExt cx="1891080" cy="783000"/>
            </a:xfrm>
          </p:grpSpPr>
          <p:sp>
            <p:nvSpPr>
              <p:cNvPr id="453" name=""/>
              <p:cNvSpPr/>
              <p:nvPr/>
            </p:nvSpPr>
            <p:spPr>
              <a:xfrm flipH="1" rot="6630600">
                <a:off x="1823400" y="4122720"/>
                <a:ext cx="32652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rot="5815200">
                <a:off x="2038680" y="4194720"/>
                <a:ext cx="32616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rot="5520000">
                <a:off x="2169720" y="4204080"/>
                <a:ext cx="326160" cy="136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rot="4987800">
                <a:off x="2325960" y="4210560"/>
                <a:ext cx="325800" cy="136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1702800" y="4307400"/>
              <a:ext cx="1855440" cy="953640"/>
              <a:chOff x="1702800" y="4307400"/>
              <a:chExt cx="1855440" cy="953640"/>
            </a:xfrm>
          </p:grpSpPr>
          <p:sp>
            <p:nvSpPr>
              <p:cNvPr id="458" name=""/>
              <p:cNvSpPr/>
              <p:nvPr/>
            </p:nvSpPr>
            <p:spPr>
              <a:xfrm flipH="1" rot="5278200">
                <a:off x="2224800" y="4215960"/>
                <a:ext cx="327600" cy="136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rot="4462800">
                <a:off x="2450880" y="419976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4167000">
                <a:off x="2574720" y="4158000"/>
                <a:ext cx="327600" cy="136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3634800">
                <a:off x="2720520" y="4103640"/>
                <a:ext cx="327600" cy="136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4670280" y="2143080"/>
            <a:ext cx="3286440" cy="371520"/>
          </a:xfrm>
          <a:prstGeom prst="rect">
            <a:avLst/>
          </a:prstGeom>
          <a:gradFill rotWithShape="0">
            <a:gsLst>
              <a:gs pos="0">
                <a:srgbClr val="963d00"/>
              </a:gs>
              <a:gs pos="100000">
                <a:srgbClr val="5e2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单击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70280" y="2577960"/>
            <a:ext cx="3286440" cy="2478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0800000">
            <a:off x="4669920" y="1895040"/>
            <a:ext cx="3286440" cy="247680"/>
          </a:xfrm>
          <a:custGeom>
            <a:avLst/>
            <a:gdLst>
              <a:gd name="textAreaLeft" fmla="*/ 730080 w 3286440"/>
              <a:gd name="textAreaRight" fmla="*/ 2556360 w 3286440"/>
              <a:gd name="textAreaTop" fmla="*/ 55080 h 247680"/>
              <a:gd name="textAreaBottom" fmla="*/ 1926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11" y="21600"/>
                </a:lnTo>
                <a:lnTo>
                  <a:pt x="5489" y="21600"/>
                </a:lnTo>
                <a:close/>
              </a:path>
            </a:pathLst>
          </a:custGeom>
          <a:gradFill rotWithShape="0">
            <a:gsLst>
              <a:gs pos="0">
                <a:srgbClr val="ffad5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0800000">
            <a:off x="4669920" y="5073480"/>
            <a:ext cx="3286440" cy="246240"/>
          </a:xfrm>
          <a:custGeom>
            <a:avLst/>
            <a:gdLst>
              <a:gd name="textAreaLeft" fmla="*/ 266040 w 3286440"/>
              <a:gd name="textAreaRight" fmla="*/ 3020400 w 3286440"/>
              <a:gd name="textAreaTop" fmla="*/ 19800 h 246240"/>
              <a:gd name="textAreaBottom" fmla="*/ 226440 h 2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e3e3e3"/>
              </a:gs>
              <a:gs pos="50000">
                <a:srgbClr val="808080"/>
              </a:gs>
              <a:gs pos="100000">
                <a:srgbClr val="e3e3e3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743920" y="4775400"/>
            <a:ext cx="1130400" cy="1126440"/>
            <a:chOff x="2743920" y="4775400"/>
            <a:chExt cx="1130400" cy="1126440"/>
          </a:xfrm>
        </p:grpSpPr>
        <p:grpSp>
          <p:nvGrpSpPr>
            <p:cNvPr id="471" name=""/>
            <p:cNvGrpSpPr/>
            <p:nvPr/>
          </p:nvGrpSpPr>
          <p:grpSpPr>
            <a:xfrm>
              <a:off x="2743920" y="4775400"/>
              <a:ext cx="1130400" cy="1126440"/>
              <a:chOff x="2743920" y="4775400"/>
              <a:chExt cx="1130400" cy="1126440"/>
            </a:xfrm>
          </p:grpSpPr>
          <p:sp>
            <p:nvSpPr>
              <p:cNvPr id="472" name=""/>
              <p:cNvSpPr/>
              <p:nvPr/>
            </p:nvSpPr>
            <p:spPr>
              <a:xfrm rot="649800">
                <a:off x="2825640" y="48574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649800">
                <a:off x="2880000" y="49096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75420f"/>
                  </a:gs>
                  <a:gs pos="100000">
                    <a:srgbClr val="ff9021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未知"/>
            <p:cNvSpPr/>
            <p:nvPr/>
          </p:nvSpPr>
          <p:spPr>
            <a:xfrm rot="16200000">
              <a:off x="3060000" y="51498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 rot="5400000">
              <a:off x="3180960" y="47880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807560" y="3169080"/>
            <a:ext cx="1130040" cy="1126440"/>
            <a:chOff x="1807560" y="3169080"/>
            <a:chExt cx="1130040" cy="1126440"/>
          </a:xfrm>
        </p:grpSpPr>
        <p:grpSp>
          <p:nvGrpSpPr>
            <p:cNvPr id="477" name=""/>
            <p:cNvGrpSpPr/>
            <p:nvPr/>
          </p:nvGrpSpPr>
          <p:grpSpPr>
            <a:xfrm>
              <a:off x="1807560" y="3169080"/>
              <a:ext cx="1130040" cy="1126440"/>
              <a:chOff x="1807560" y="3169080"/>
              <a:chExt cx="1130040" cy="1126440"/>
            </a:xfrm>
          </p:grpSpPr>
          <p:sp>
            <p:nvSpPr>
              <p:cNvPr id="478" name=""/>
              <p:cNvSpPr/>
              <p:nvPr/>
            </p:nvSpPr>
            <p:spPr>
              <a:xfrm rot="649800">
                <a:off x="1889280" y="325116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649800">
                <a:off x="1943640" y="330300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642800"/>
                  </a:gs>
                  <a:gs pos="100000">
                    <a:srgbClr val="da580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未知"/>
            <p:cNvSpPr/>
            <p:nvPr/>
          </p:nvSpPr>
          <p:spPr>
            <a:xfrm rot="16200000">
              <a:off x="2123280" y="354312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 rot="5400000">
              <a:off x="2243880" y="3181320"/>
              <a:ext cx="367200" cy="7354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088600" y="4775400"/>
            <a:ext cx="1130400" cy="1126440"/>
            <a:chOff x="5088600" y="4775400"/>
            <a:chExt cx="1130400" cy="1126440"/>
          </a:xfrm>
        </p:grpSpPr>
        <p:grpSp>
          <p:nvGrpSpPr>
            <p:cNvPr id="483" name=""/>
            <p:cNvGrpSpPr/>
            <p:nvPr/>
          </p:nvGrpSpPr>
          <p:grpSpPr>
            <a:xfrm>
              <a:off x="5088600" y="4775400"/>
              <a:ext cx="1130400" cy="1126440"/>
              <a:chOff x="5088600" y="4775400"/>
              <a:chExt cx="1130400" cy="1126440"/>
            </a:xfrm>
          </p:grpSpPr>
          <p:sp>
            <p:nvSpPr>
              <p:cNvPr id="484" name=""/>
              <p:cNvSpPr/>
              <p:nvPr/>
            </p:nvSpPr>
            <p:spPr>
              <a:xfrm rot="649800">
                <a:off x="5170320" y="48574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649800">
                <a:off x="5224680" y="49096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451c00"/>
                  </a:gs>
                  <a:gs pos="100000">
                    <a:srgbClr val="963d0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未知"/>
            <p:cNvSpPr/>
            <p:nvPr/>
          </p:nvSpPr>
          <p:spPr>
            <a:xfrm rot="16200000">
              <a:off x="5404680" y="51498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 rot="5400000">
              <a:off x="5525640" y="47880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743920" y="1560600"/>
            <a:ext cx="1130400" cy="1126440"/>
            <a:chOff x="2743920" y="1560600"/>
            <a:chExt cx="1130400" cy="1126440"/>
          </a:xfrm>
        </p:grpSpPr>
        <p:grpSp>
          <p:nvGrpSpPr>
            <p:cNvPr id="489" name=""/>
            <p:cNvGrpSpPr/>
            <p:nvPr/>
          </p:nvGrpSpPr>
          <p:grpSpPr>
            <a:xfrm>
              <a:off x="2743920" y="1560600"/>
              <a:ext cx="1130400" cy="1126440"/>
              <a:chOff x="2743920" y="1560600"/>
              <a:chExt cx="1130400" cy="1126440"/>
            </a:xfrm>
          </p:grpSpPr>
          <p:sp>
            <p:nvSpPr>
              <p:cNvPr id="490" name=""/>
              <p:cNvSpPr/>
              <p:nvPr/>
            </p:nvSpPr>
            <p:spPr>
              <a:xfrm rot="649800">
                <a:off x="2825640" y="16426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649800">
                <a:off x="2880000" y="16948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451c00"/>
                  </a:gs>
                  <a:gs pos="100000">
                    <a:srgbClr val="963d0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未知"/>
            <p:cNvSpPr/>
            <p:nvPr/>
          </p:nvSpPr>
          <p:spPr>
            <a:xfrm rot="16200000">
              <a:off x="3060000" y="19350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 rot="5400000">
              <a:off x="3180960" y="15732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088600" y="1560600"/>
            <a:ext cx="1130400" cy="1126440"/>
            <a:chOff x="5088600" y="1560600"/>
            <a:chExt cx="1130400" cy="1126440"/>
          </a:xfrm>
        </p:grpSpPr>
        <p:grpSp>
          <p:nvGrpSpPr>
            <p:cNvPr id="495" name=""/>
            <p:cNvGrpSpPr/>
            <p:nvPr/>
          </p:nvGrpSpPr>
          <p:grpSpPr>
            <a:xfrm>
              <a:off x="5088600" y="1560600"/>
              <a:ext cx="1130400" cy="1126440"/>
              <a:chOff x="5088600" y="1560600"/>
              <a:chExt cx="1130400" cy="1126440"/>
            </a:xfrm>
          </p:grpSpPr>
          <p:sp>
            <p:nvSpPr>
              <p:cNvPr id="496" name=""/>
              <p:cNvSpPr/>
              <p:nvPr/>
            </p:nvSpPr>
            <p:spPr>
              <a:xfrm rot="649800">
                <a:off x="5170320" y="164268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649800">
                <a:off x="5224680" y="169488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75420f"/>
                  </a:gs>
                  <a:gs pos="100000">
                    <a:srgbClr val="ff9021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未知"/>
            <p:cNvSpPr/>
            <p:nvPr/>
          </p:nvSpPr>
          <p:spPr>
            <a:xfrm rot="16200000">
              <a:off x="5404680" y="19350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 rot="5400000">
              <a:off x="5525640" y="157320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055560" y="3168720"/>
            <a:ext cx="1130400" cy="1126440"/>
            <a:chOff x="6055560" y="3168720"/>
            <a:chExt cx="1130400" cy="1126440"/>
          </a:xfrm>
        </p:grpSpPr>
        <p:grpSp>
          <p:nvGrpSpPr>
            <p:cNvPr id="501" name=""/>
            <p:cNvGrpSpPr/>
            <p:nvPr/>
          </p:nvGrpSpPr>
          <p:grpSpPr>
            <a:xfrm>
              <a:off x="6055560" y="3168720"/>
              <a:ext cx="1130400" cy="1126440"/>
              <a:chOff x="6055560" y="3168720"/>
              <a:chExt cx="1130400" cy="1126440"/>
            </a:xfrm>
          </p:grpSpPr>
          <p:sp>
            <p:nvSpPr>
              <p:cNvPr id="502" name=""/>
              <p:cNvSpPr/>
              <p:nvPr/>
            </p:nvSpPr>
            <p:spPr>
              <a:xfrm rot="649800">
                <a:off x="6137280" y="325080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649800">
                <a:off x="6191640" y="3303000"/>
                <a:ext cx="857880" cy="856800"/>
              </a:xfrm>
              <a:prstGeom prst="ellipse">
                <a:avLst/>
              </a:prstGeom>
              <a:gradFill rotWithShape="0">
                <a:gsLst>
                  <a:gs pos="0">
                    <a:srgbClr val="642800"/>
                  </a:gs>
                  <a:gs pos="100000">
                    <a:srgbClr val="da580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未知"/>
            <p:cNvSpPr/>
            <p:nvPr/>
          </p:nvSpPr>
          <p:spPr>
            <a:xfrm rot="16200000">
              <a:off x="6371640" y="354312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 rot="5400000">
              <a:off x="6492600" y="3181320"/>
              <a:ext cx="367200" cy="735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da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da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da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da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da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da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33640" y="332280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68560" y="171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45280" y="171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68560" y="495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45280" y="495612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281640" y="332280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98D8-7EDB-48AC-87CD-A9EC70B46A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13200 w 1852560"/>
              <a:gd name="textAreaRight" fmla="*/ 1539360 w 1852560"/>
              <a:gd name="textAreaTop" fmla="*/ 77040 h 455760"/>
              <a:gd name="textAreaBottom" fmla="*/ 37872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72" y="21600"/>
                </a:lnTo>
                <a:lnTo>
                  <a:pt x="3428" y="21600"/>
                </a:lnTo>
                <a:close/>
              </a:path>
            </a:pathLst>
          </a:custGeom>
          <a:gradFill rotWithShape="0">
            <a:gsLst>
              <a:gs pos="0">
                <a:srgbClr val="da5800"/>
              </a:gs>
              <a:gs pos="100000">
                <a:srgbClr val="963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80240 w 2840040"/>
              <a:gd name="textAreaRight" fmla="*/ 2359800 w 2840040"/>
              <a:gd name="textAreaTop" fmla="*/ 118800 h 703080"/>
              <a:gd name="textAreaBottom" fmla="*/ 58428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72" y="21600"/>
                </a:lnTo>
                <a:lnTo>
                  <a:pt x="3428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8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38720 w 4367160"/>
              <a:gd name="textAreaRight" fmla="*/ 3628440 w 4367160"/>
              <a:gd name="textAreaTop" fmla="*/ 182520 h 1079280"/>
              <a:gd name="textAreaBottom" fmla="*/ 8967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72" y="21600"/>
                </a:lnTo>
                <a:lnTo>
                  <a:pt x="3428" y="21600"/>
                </a:lnTo>
                <a:close/>
              </a:path>
            </a:pathLst>
          </a:custGeom>
          <a:gradFill rotWithShape="0">
            <a:gsLst>
              <a:gs pos="0">
                <a:srgbClr val="da5800"/>
              </a:gs>
              <a:gs pos="100000">
                <a:srgbClr val="963d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a5800"/>
              </a:gs>
              <a:gs pos="100000">
                <a:srgbClr val="96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56880 w 4351320"/>
              <a:gd name="textAreaRight" fmla="*/ 3394440 w 43513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62400 w 3013200"/>
              <a:gd name="textAreaRight" fmla="*/ 2350800 w 301320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624600 w 2840040"/>
              <a:gd name="textAreaRight" fmla="*/ 2215440 w 2840040"/>
              <a:gd name="textAreaTop" fmla="*/ 39240 h 179640"/>
              <a:gd name="textAreaBottom" fmla="*/ 1404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23000 w 1923840"/>
              <a:gd name="textAreaRight" fmla="*/ 1500840 w 19238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9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23000 w 1923840"/>
              <a:gd name="textAreaRight" fmla="*/ 1500840 w 1923840"/>
              <a:gd name="textAreaTop" fmla="*/ 29880 h 136440"/>
              <a:gd name="textAreaBottom" fmla="*/ 10656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9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84760 w 1295280"/>
              <a:gd name="textAreaRight" fmla="*/ 1010520 w 1295280"/>
              <a:gd name="textAreaTop" fmla="*/ 55080 h 250920"/>
              <a:gd name="textAreaBottom" fmla="*/ 19584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44440 w 1112760"/>
              <a:gd name="textAreaRight" fmla="*/ 868320 w 1112760"/>
              <a:gd name="textAreaTop" fmla="*/ 27720 h 127080"/>
              <a:gd name="textAreaBottom" fmla="*/ 993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9EE8-4966-432D-932E-0717109C58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963800" y="1700280"/>
            <a:ext cx="1611360" cy="15858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981000" y="3263760"/>
            <a:ext cx="718524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84320" y="3838680"/>
            <a:ext cx="1711440" cy="1404720"/>
          </a:xfrm>
          <a:prstGeom prst="rightArrowCallout">
            <a:avLst>
              <a:gd name="adj1" fmla="val 50005"/>
              <a:gd name="adj2" fmla="val 25000"/>
              <a:gd name="adj3" fmla="val 12065"/>
              <a:gd name="adj4" fmla="val 90097"/>
            </a:avLst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27440" y="3838680"/>
            <a:ext cx="1711080" cy="140472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da5800"/>
              </a:gs>
              <a:gs pos="100000">
                <a:srgbClr val="963d00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45000" y="3838680"/>
            <a:ext cx="1711440" cy="1404720"/>
          </a:xfrm>
          <a:prstGeom prst="rightArrowCallout">
            <a:avLst>
              <a:gd name="adj1" fmla="val 50005"/>
              <a:gd name="adj2" fmla="val 25000"/>
              <a:gd name="adj3" fmla="val 12065"/>
              <a:gd name="adj4" fmla="val 90097"/>
            </a:avLst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300720" y="3838680"/>
            <a:ext cx="1709640" cy="1404720"/>
          </a:xfrm>
          <a:prstGeom prst="rightArrowCallout">
            <a:avLst>
              <a:gd name="adj1" fmla="val 50005"/>
              <a:gd name="adj2" fmla="val 25000"/>
              <a:gd name="adj3" fmla="val 12052"/>
              <a:gd name="adj4" fmla="val 90097"/>
            </a:avLst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76600" y="33400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未知"/>
          <p:cNvSpPr/>
          <p:nvPr/>
        </p:nvSpPr>
        <p:spPr>
          <a:xfrm>
            <a:off x="1090440" y="38448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未知"/>
          <p:cNvSpPr/>
          <p:nvPr/>
        </p:nvSpPr>
        <p:spPr>
          <a:xfrm>
            <a:off x="2833560" y="3844800"/>
            <a:ext cx="139248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未知"/>
          <p:cNvSpPr/>
          <p:nvPr/>
        </p:nvSpPr>
        <p:spPr>
          <a:xfrm>
            <a:off x="4548240" y="38448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未知"/>
          <p:cNvSpPr/>
          <p:nvPr/>
        </p:nvSpPr>
        <p:spPr>
          <a:xfrm>
            <a:off x="6303960" y="3844800"/>
            <a:ext cx="1393920" cy="804960"/>
          </a:xfrm>
          <a:custGeom>
            <a:avLst/>
            <a:gdLst/>
            <a:ahLst/>
            <a:rect l="l" t="t" r="r" b="b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082520" y="383868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11600" y="383868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40320" y="383868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97480" y="383868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0800000">
            <a:off x="971640" y="5346360"/>
            <a:ext cx="7200720" cy="318960"/>
          </a:xfrm>
          <a:custGeom>
            <a:avLst/>
            <a:gdLst>
              <a:gd name="textAreaLeft" fmla="*/ 583200 w 7200720"/>
              <a:gd name="textAreaRight" fmla="*/ 6617520 w 7200720"/>
              <a:gd name="textAreaTop" fmla="*/ 25560 h 318960"/>
              <a:gd name="textAreaBottom" fmla="*/ 29340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73160" y="33400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7D89-7F1D-42D2-9744-DAED093B4C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9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9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f9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29560 w 6537240"/>
              <a:gd name="textAreaRight" fmla="*/ 6007680 w 6537240"/>
              <a:gd name="textAreaTop" fmla="*/ 13320 h 166680"/>
              <a:gd name="textAreaBottom" fmla="*/ 15336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021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20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E8E7-39B7-4917-A49E-A2181DFBD8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86" name="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da5800"/>
                  </a:gs>
                  <a:gs pos="100000">
                    <a:srgbClr val="ff9021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1" name="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ff9021">
                  <a:alpha val="20000"/>
                </a:srgbClr>
              </a:gs>
              <a:gs pos="100000">
                <a:srgbClr val="ff902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600"/>
              <a:gd name="textAreaBottom" fmla="*/ 1591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95" name="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da5800"/>
                  </a:gs>
                  <a:gs pos="100000">
                    <a:srgbClr val="ff9021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0" name="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ff9021">
                  <a:alpha val="20000"/>
                </a:srgbClr>
              </a:gs>
              <a:gs pos="100000">
                <a:srgbClr val="ff902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600"/>
              <a:gd name="textAreaBottom" fmla="*/ 1591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104" name="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da5800"/>
                  </a:gs>
                  <a:gs pos="100000">
                    <a:srgbClr val="ff9021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9" name="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ff9021">
                  <a:alpha val="20000"/>
                </a:srgbClr>
              </a:gs>
              <a:gs pos="100000">
                <a:srgbClr val="ff902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600"/>
              <a:gd name="textAreaBottom" fmla="*/ 15912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113" name="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1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da5800"/>
                  </a:gs>
                  <a:gs pos="100000">
                    <a:srgbClr val="ff9021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8" name="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ff9021">
                  <a:alpha val="20000"/>
                </a:srgbClr>
              </a:gs>
              <a:gs pos="100000">
                <a:srgbClr val="ff902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19920 w 6958080"/>
              <a:gd name="textAreaRight" fmla="*/ 6338160 w 6958080"/>
              <a:gd name="textAreaTop" fmla="*/ 15480 h 174960"/>
              <a:gd name="textAreaBottom" fmla="*/ 15948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85" y="21600"/>
                </a:lnTo>
                <a:lnTo>
                  <a:pt x="315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157E-21D8-4067-AA15-3823B8390C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583" name="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da5800"/>
                  </a:gs>
                  <a:gs pos="100000">
                    <a:srgbClr val="ff9021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7" name="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588" name="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5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9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1" name="" descr="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593" name="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59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da5800"/>
                  </a:gs>
                  <a:gs pos="100000">
                    <a:srgbClr val="ff9021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6" name="" descr="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ff9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ff9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02" name="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0000">
                  <a:alpha val="20000"/>
                </a:srgbClr>
              </a:gs>
              <a:gs pos="100000">
                <a:srgbClr val="99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ff9021">
                  <a:alpha val="20000"/>
                </a:srgbClr>
              </a:gs>
              <a:gs pos="100000">
                <a:srgbClr val="ff902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ff9021">
                  <a:alpha val="20000"/>
                </a:srgbClr>
              </a:gs>
              <a:gs pos="100000">
                <a:srgbClr val="ff902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39B1-8C76-47DD-A9C7-7AEED4C37D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808080">
                  <a:alpha val="90196"/>
                </a:srgbClr>
              </a:gs>
              <a:gs pos="50000">
                <a:srgbClr val="ffffff"/>
              </a:gs>
              <a:gs pos="100000">
                <a:srgbClr val="808080">
                  <a:alpha val="90196"/>
                </a:srgbClr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808080">
                  <a:alpha val="90196"/>
                </a:srgbClr>
              </a:gs>
              <a:gs pos="50000">
                <a:srgbClr val="ffffff"/>
              </a:gs>
              <a:gs pos="100000">
                <a:srgbClr val="808080">
                  <a:alpha val="90196"/>
                </a:srgbClr>
              </a:gs>
            </a:gsLst>
            <a:lin ang="90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615" name="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616" name="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da5800">
                      <a:alpha val="90196"/>
                    </a:srgbClr>
                  </a:gs>
                  <a:gs pos="100000">
                    <a:srgbClr val="ff9021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21" name="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a2a2a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021"/>
              </a:gs>
              <a:gs pos="100000">
                <a:srgbClr val="fead5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a5800"/>
              </a:gs>
              <a:gs pos="100000">
                <a:srgbClr val="e3854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63d00"/>
              </a:gs>
              <a:gs pos="100000">
                <a:srgbClr val="b2714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ad5b"/>
              </a:gs>
              <a:gs pos="100000">
                <a:srgbClr val="fec28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eb44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F345-FECC-4E4C-885C-F526DC62AE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未知"/>
          <p:cNvSpPr/>
          <p:nvPr/>
        </p:nvSpPr>
        <p:spPr>
          <a:xfrm>
            <a:off x="2494080" y="-3836880"/>
            <a:ext cx="4103640" cy="13744440"/>
          </a:xfrm>
          <a:custGeom>
            <a:avLst/>
            <a:gdLst/>
            <a:ahLst/>
            <a:rect l="l" t="t" r="r" b="b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da5800"/>
              </a:gs>
              <a:gs pos="100000">
                <a:srgbClr val="ff9021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55600 w 3157560"/>
              <a:gd name="textAreaRight" fmla="*/ 2901960 w 3157560"/>
              <a:gd name="textAreaTop" fmla="*/ 16200 h 201600"/>
              <a:gd name="textAreaBottom" fmla="*/ 1854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1720 w 3230640"/>
              <a:gd name="textAreaRight" fmla="*/ 2968920 w 3230640"/>
              <a:gd name="textAreaTop" fmla="*/ 16200 h 201600"/>
              <a:gd name="textAreaBottom" fmla="*/ 1854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9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9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9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9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单击添加段落文字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0494-616A-4D9F-B023-88E7ACA134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468360" y="134136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             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A0BC-23CF-480D-9655-3EC9B0FFEC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229C-5E3A-401A-A7B4-E6C5352CE5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26" name="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3440 w 6480000"/>
              <a:gd name="textAreaRight" fmla="*/ 5776560 w 6480000"/>
              <a:gd name="textAreaTop" fmla="*/ 29160 h 268560"/>
              <a:gd name="textAreaBottom" fmla="*/ 23940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3440 w 6480000"/>
              <a:gd name="textAreaRight" fmla="*/ 577656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0" name="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3440 w 6480000"/>
              <a:gd name="textAreaRight" fmla="*/ 577656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01AE-9FCF-4B3D-A5E5-EBF908BF59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5240 w 4010040"/>
              <a:gd name="textAreaRight" fmla="*/ 3574800 w 4010040"/>
              <a:gd name="textAreaTop" fmla="*/ 20520 h 188640"/>
              <a:gd name="textAreaBottom" fmla="*/ 16812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5240 w 4010040"/>
              <a:gd name="textAreaRight" fmla="*/ 3574800 w 4010040"/>
              <a:gd name="textAreaTop" fmla="*/ 20520 h 188640"/>
              <a:gd name="textAreaBottom" fmla="*/ 16812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1150560" y="2948040"/>
            <a:ext cx="2087640" cy="1411200"/>
          </a:xfrm>
          <a:prstGeom prst="rect">
            <a:avLst/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1150560" y="2722680"/>
            <a:ext cx="2087640" cy="217440"/>
          </a:xfrm>
          <a:custGeom>
            <a:avLst/>
            <a:gdLst>
              <a:gd name="textAreaLeft" fmla="*/ 463680 w 2087640"/>
              <a:gd name="textAreaRight" fmla="*/ 1623960 w 2087640"/>
              <a:gd name="textAreaTop" fmla="*/ 48240 h 217440"/>
              <a:gd name="textAreaBottom" fmla="*/ 1692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11" y="21600"/>
                </a:lnTo>
                <a:lnTo>
                  <a:pt x="5489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5240 w 4010040"/>
              <a:gd name="textAreaRight" fmla="*/ 35748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8" idx="1"/>
          </p:cNvCxnSpPr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da58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0"/>
          </p:cNvCxnSpPr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da58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endCxn id="150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da5800"/>
            </a:solidFill>
            <a:miter/>
            <a:tailEnd len="med" type="triangle" w="med"/>
          </a:ln>
        </p:spPr>
      </p:cxn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497A-40AB-4ADE-A9AA-627D539A25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1800 w 2504880"/>
              <a:gd name="textAreaRight" fmla="*/ 2233080 w 2504880"/>
              <a:gd name="textAreaTop" fmla="*/ 24120 h 222120"/>
              <a:gd name="textAreaBottom" fmla="*/ 1980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1800 w 2505240"/>
              <a:gd name="textAreaRight" fmla="*/ 2233440 w 2505240"/>
              <a:gd name="textAreaTop" fmla="*/ 24120 h 222120"/>
              <a:gd name="textAreaBottom" fmla="*/ 1980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8" name="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1800 w 2505240"/>
              <a:gd name="textAreaRight" fmla="*/ 2233440 w 2505240"/>
              <a:gd name="textAreaTop" fmla="*/ 24120 h 222120"/>
              <a:gd name="textAreaBottom" fmla="*/ 1980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ff9021"/>
              </a:gs>
              <a:gs pos="100000">
                <a:srgbClr val="da5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5" name="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7760 w 2376360"/>
              <a:gd name="textAreaRight" fmla="*/ 211860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528" y="21600"/>
                </a:lnTo>
                <a:lnTo>
                  <a:pt x="1072" y="21600"/>
                </a:lnTo>
                <a:close/>
              </a:path>
            </a:pathLst>
          </a:custGeom>
          <a:gradFill rotWithShape="0">
            <a:gsLst>
              <a:gs pos="0">
                <a:srgbClr val="ff902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93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498D-C403-49FB-BBBC-FADC97F9E8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971640" y="5460120"/>
            <a:ext cx="7200720" cy="319320"/>
          </a:xfrm>
          <a:custGeom>
            <a:avLst/>
            <a:gdLst>
              <a:gd name="textAreaLeft" fmla="*/ 583200 w 7200720"/>
              <a:gd name="textAreaRight" fmla="*/ 6617520 w 7200720"/>
              <a:gd name="textAreaTop" fmla="*/ 25560 h 319320"/>
              <a:gd name="textAreaBottom" fmla="*/ 29376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90972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963d00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155C-CA10-42D1-99FE-8B5FA5A100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3600000">
            <a:off x="4570200" y="2043000"/>
            <a:ext cx="3081240" cy="307800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3600000">
            <a:off x="5002200" y="2439720"/>
            <a:ext cx="2286000" cy="228312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3600000">
            <a:off x="1474560" y="2043000"/>
            <a:ext cx="3081240" cy="307800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3600000">
            <a:off x="1906560" y="2439720"/>
            <a:ext cx="2286000" cy="2283120"/>
          </a:xfrm>
          <a:prstGeom prst="ellipse">
            <a:avLst/>
          </a:prstGeom>
          <a:gradFill rotWithShape="0">
            <a:gsLst>
              <a:gs pos="0">
                <a:srgbClr val="808080">
                  <a:alpha val="42352"/>
                </a:srgbClr>
              </a:gs>
              <a:gs pos="50000">
                <a:srgbClr val="ffffff"/>
              </a:gs>
              <a:gs pos="100000">
                <a:srgbClr val="808080">
                  <a:alpha val="42352"/>
                </a:srgbClr>
              </a:gs>
            </a:gsLst>
            <a:lin ang="9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192" name="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193" name="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da5800">
                      <a:alpha val="90196"/>
                    </a:srgbClr>
                  </a:gs>
                  <a:gs pos="100000">
                    <a:srgbClr val="ff9021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未知"/>
            <p:cNvSpPr/>
            <p:nvPr/>
          </p:nvSpPr>
          <p:spPr>
            <a:xfrm rot="16200000">
              <a:off x="1171440" y="3352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 rot="5400000">
              <a:off x="131904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198" name="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199" name="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da5800">
                      <a:alpha val="90196"/>
                    </a:srgbClr>
                  </a:gs>
                  <a:gs pos="100000">
                    <a:srgbClr val="ff9021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未知"/>
            <p:cNvSpPr/>
            <p:nvPr/>
          </p:nvSpPr>
          <p:spPr>
            <a:xfrm rot="16200000">
              <a:off x="4163040" y="327456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 rot="5400000">
              <a:off x="4361040" y="267948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04" name="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05" name="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da5800">
                      <a:alpha val="90196"/>
                    </a:srgbClr>
                  </a:gs>
                  <a:gs pos="100000">
                    <a:srgbClr val="ff9021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未知"/>
            <p:cNvSpPr/>
            <p:nvPr/>
          </p:nvSpPr>
          <p:spPr>
            <a:xfrm rot="16200000">
              <a:off x="7362720" y="33523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 rot="5400000">
              <a:off x="7510320" y="290952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20" name="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0" i="1" lang="en-US" sz="1200" spc="-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21" name="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732720" y="4221000"/>
            <a:ext cx="674640" cy="3437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rcRect l="0" t="0" r="0" b="44387"/>
          <a:stretch/>
        </p:blipFill>
        <p:spPr>
          <a:xfrm>
            <a:off x="4427640" y="4341960"/>
            <a:ext cx="981000" cy="251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3DEC-0ACC-49B6-887D-100B2E4A39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22440" y="1832040"/>
            <a:ext cx="7542000" cy="3636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60480" y="437508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60480" y="46609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60480" y="52419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003320" y="1950840"/>
            <a:ext cx="0" cy="32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60480" y="20700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60480" y="23558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60480" y="49561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60480" y="26510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60480" y="293688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60480" y="322272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60480" y="350820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60480" y="380376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60480" y="4089240"/>
            <a:ext cx="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15040" y="3297240"/>
            <a:ext cx="1209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94600" y="5343480"/>
            <a:ext cx="1761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53120" y="197496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91280" y="235584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60840" y="5343480"/>
            <a:ext cx="1771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51400" y="4545000"/>
            <a:ext cx="190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6320" y="3801960"/>
            <a:ext cx="120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8640" y="5343480"/>
            <a:ext cx="1762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19440" y="4282920"/>
            <a:ext cx="120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84520" y="4802040"/>
            <a:ext cx="190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57520" y="379404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24400" y="3241800"/>
            <a:ext cx="244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53200" y="2940120"/>
            <a:ext cx="120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18280" y="4159080"/>
            <a:ext cx="190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32400" y="5343480"/>
            <a:ext cx="1762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S"/>
                <a:ea typeface="宋体"/>
              </a:rPr>
              <a:t>*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80120" y="4307040"/>
            <a:ext cx="1908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S"/>
                <a:ea typeface="宋体"/>
              </a:rPr>
              <a:t>*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44920" y="5740560"/>
            <a:ext cx="183528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95680" y="5850000"/>
            <a:ext cx="93600" cy="93600"/>
          </a:xfrm>
          <a:prstGeom prst="rect">
            <a:avLst/>
          </a:prstGeom>
          <a:solidFill>
            <a:srgbClr val="963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5837400"/>
            <a:ext cx="93600" cy="93600"/>
          </a:xfrm>
          <a:prstGeom prst="rect">
            <a:avLst/>
          </a:prstGeom>
          <a:solidFill>
            <a:srgbClr val="da5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67120" y="5837400"/>
            <a:ext cx="93960" cy="93600"/>
          </a:xfrm>
          <a:prstGeom prst="rect">
            <a:avLst/>
          </a:prstGeom>
          <a:solidFill>
            <a:srgbClr val="ff9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35480" y="5813280"/>
            <a:ext cx="336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S"/>
                <a:ea typeface="宋体"/>
              </a:rPr>
              <a:t>项目二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11840" y="5813280"/>
            <a:ext cx="3366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S"/>
                <a:ea typeface="宋体"/>
              </a:rPr>
              <a:t>项目三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40040" y="5826240"/>
            <a:ext cx="3366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S"/>
                <a:ea typeface="宋体"/>
              </a:rPr>
              <a:t>项目一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199C-5ECC-45F5-84B9-CB13A1BCA7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ad5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594720 w 7344000"/>
              <a:gd name="textAreaRight" fmla="*/ 6749280 w 7344000"/>
              <a:gd name="textAreaTop" fmla="*/ 24120 h 299880"/>
              <a:gd name="textAreaBottom" fmla="*/ 27576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ad5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ad5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da5800"/>
              </a:gs>
              <a:gs pos="100000">
                <a:srgbClr val="ffad5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594720 w 7344000"/>
              <a:gd name="textAreaRight" fmla="*/ 6749280 w 7344000"/>
              <a:gd name="textAreaTop" fmla="*/ 1224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0" i="1" lang="en-US" sz="2400" spc="-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79E2-C38B-42C7-A21E-2BC4878A28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http://www.eeppt.com</dc:creator>
  <dc:description>ppt模板下载网站 http://www.eeppt.com</dc:description>
  <dc:language>en-US</dc:language>
  <cp:lastModifiedBy/>
  <dcterms:modified xsi:type="dcterms:W3CDTF">2015-06-14T02:46:07Z</dcterms:modified>
  <cp:revision>2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