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C5D4-F4E8-49B8-AC8A-51F1CDEAF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D1B0-D35A-48D7-A2D9-20E35EF5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39B5-F344-4E32-B9A1-36C814B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15C6-3EC8-4B11-AA41-49F5181D5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4633-6492-4D9B-BD60-4BE3B1E2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AD92-8185-4AB3-A760-3394D49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08E7-B629-49DD-B4E5-8D8A0274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C014-8E3E-419F-B356-30CE47DD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ABA9-8222-4994-9DE5-A4CA900F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6BFD-4870-41A0-BA4B-DE2672B1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D2D1-1BF4-40BE-ABAB-89DD35B3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E63-00F3-4121-B958-BBCE393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3794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AE4D-2942-4712-B754-27C8BE56F4E5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869000"/>
            <a:ext cx="9144000" cy="72072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63794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63794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7360" y="4647960"/>
            <a:ext cx="917100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经典商务简约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演示模板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5289"/>
              </a:gs>
              <a:gs pos="50000">
                <a:srgbClr val="6699ff"/>
              </a:gs>
              <a:gs pos="100000">
                <a:srgbClr val="36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99ff">
                  <a:alpha val="0"/>
                </a:srgbClr>
              </a:gs>
              <a:gs pos="100000">
                <a:srgbClr val="4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未知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294" name="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2480" y="3610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2280" y="367056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956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0826600">
              <a:off x="1397160" y="4209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320840" y="3219480"/>
              <a:ext cx="1371240" cy="1441080"/>
              <a:chOff x="1320840" y="3219480"/>
              <a:chExt cx="1371240" cy="1441080"/>
            </a:xfrm>
          </p:grpSpPr>
          <p:sp>
            <p:nvSpPr>
              <p:cNvPr id="302" name=""/>
              <p:cNvSpPr/>
              <p:nvPr/>
            </p:nvSpPr>
            <p:spPr>
              <a:xfrm>
                <a:off x="132084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338840" y="3227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51800" y="3241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23440" y="3277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0128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19400" y="18637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076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21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27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332" name="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338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344" name="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350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61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72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73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3" name="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87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94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02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16" name="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421" name="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2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35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36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39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48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4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7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5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70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71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74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83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9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2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01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14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18" name=""/>
            <p:cNvCxnSpPr>
              <a:stCxn id="514" idx="3"/>
              <a:endCxn id="51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15" idx="3"/>
              <a:endCxn id="51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452600" y="1246320"/>
            <a:ext cx="5786280" cy="5077800"/>
            <a:chOff x="1452600" y="1246320"/>
            <a:chExt cx="5786280" cy="5077800"/>
          </a:xfrm>
        </p:grpSpPr>
        <p:sp>
          <p:nvSpPr>
            <p:cNvPr id="523" name=""/>
            <p:cNvSpPr/>
            <p:nvPr/>
          </p:nvSpPr>
          <p:spPr>
            <a:xfrm>
              <a:off x="5367240" y="2106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81680" y="3792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5120" y="5817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81200" y="4454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3770000">
              <a:off x="4911840" y="368028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856000">
              <a:off x="2928600" y="3234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867120" y="1928520"/>
              <a:ext cx="1699200" cy="1836000"/>
              <a:chOff x="3867120" y="1928520"/>
              <a:chExt cx="1699200" cy="1836000"/>
            </a:xfrm>
          </p:grpSpPr>
          <p:sp>
            <p:nvSpPr>
              <p:cNvPr id="530" name=""/>
              <p:cNvSpPr/>
              <p:nvPr/>
            </p:nvSpPr>
            <p:spPr>
              <a:xfrm rot="18394200">
                <a:off x="5038920" y="2140560"/>
                <a:ext cx="5943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3867120" y="2179800"/>
                <a:ext cx="1609560" cy="1584720"/>
                <a:chOff x="3867120" y="2179800"/>
                <a:chExt cx="1609560" cy="15847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867120" y="2179800"/>
                  <a:ext cx="1609560" cy="158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33" name="未知"/>
                <p:cNvSpPr/>
                <p:nvPr/>
              </p:nvSpPr>
              <p:spPr>
                <a:xfrm>
                  <a:off x="4051080" y="2206080"/>
                  <a:ext cx="1241640" cy="59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3953880" y="2869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276880" y="1246320"/>
              <a:ext cx="891720" cy="861480"/>
              <a:chOff x="5276880" y="1246320"/>
              <a:chExt cx="891720" cy="8614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5276880" y="1246320"/>
                <a:ext cx="871560" cy="861480"/>
                <a:chOff x="5276880" y="1246320"/>
                <a:chExt cx="871560" cy="8614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276880" y="1246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5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38" name="未知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452600" y="2571480"/>
              <a:ext cx="1744560" cy="1790280"/>
              <a:chOff x="1452600" y="2571480"/>
              <a:chExt cx="1744560" cy="179028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1452600" y="2571480"/>
                <a:ext cx="1744560" cy="1790280"/>
                <a:chOff x="1452600" y="2571480"/>
                <a:chExt cx="1744560" cy="17902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452600" y="2571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43" name="未知"/>
                <p:cNvSpPr/>
                <p:nvPr/>
              </p:nvSpPr>
              <p:spPr>
                <a:xfrm>
                  <a:off x="1652040" y="26010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1546920" y="3366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208480" y="3831840"/>
              <a:ext cx="2013120" cy="1989000"/>
              <a:chOff x="5208480" y="3831840"/>
              <a:chExt cx="2013120" cy="19890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5208480" y="3831840"/>
                <a:ext cx="2013120" cy="1989000"/>
                <a:chOff x="5208480" y="3831840"/>
                <a:chExt cx="2013120" cy="19890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5208480" y="3831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753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48" name="未知"/>
                <p:cNvSpPr/>
                <p:nvPr/>
              </p:nvSpPr>
              <p:spPr>
                <a:xfrm>
                  <a:off x="5438520" y="3864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5496840" y="4693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7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838080" y="224172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753480" y="603000"/>
            <a:ext cx="7379280" cy="5581080"/>
            <a:chOff x="753480" y="603000"/>
            <a:chExt cx="7379280" cy="5581080"/>
          </a:xfrm>
        </p:grpSpPr>
        <p:sp>
          <p:nvSpPr>
            <p:cNvPr id="586" name="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1621800" y="211428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01600">
              <a:off x="1537920" y="209988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20602200">
              <a:off x="1587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01600">
              <a:off x="1545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96eb8"/>
                </a:gs>
                <a:gs pos="100000">
                  <a:srgbClr val="66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602200">
              <a:off x="1555560" y="210960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539200">
              <a:off x="1171800" y="15069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78720" y="228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4546440" y="410220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8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601600">
              <a:off x="3184560" y="308124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608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adbfe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09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1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7eeee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15" name=""/>
            <p:cNvGraphicFramePr/>
            <p:nvPr/>
          </p:nvGraphicFramePr>
          <p:xfrm>
            <a:off x="4704120" y="2597400"/>
            <a:ext cx="292860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7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-2418480" y="1476720"/>
            <a:ext cx="4822560" cy="476424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rot="5400000">
            <a:off x="-2013480" y="1912680"/>
            <a:ext cx="4032000" cy="392436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5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2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09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6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3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163794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163794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63794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AD20-D0C1-4282-98AD-D0D3E9BB95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62485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商务ppt模板下载</a:t>
            </a:r>
            <a:r>
              <a:rPr b="0" lang="en-US" sz="1800" spc="-1" strike="noStrike">
                <a:solidFill>
                  <a:srgbClr val="163794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5c5c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9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40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4a7b"/>
                  </a:gs>
                  <a:gs pos="100000">
                    <a:srgbClr val="66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ba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a5dada"/>
                </a:gs>
                <a:gs pos="100000">
                  <a:srgbClr val="0099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48235"/>
                  </a:srgbClr>
                </a:gs>
                <a:gs pos="100000">
                  <a:srgbClr val="007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2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6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6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6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3" name="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94" name=""/>
              <p:cNvSpPr/>
              <p:nvPr/>
            </p:nvSpPr>
            <p:spPr>
              <a:xfrm flipH="1" rot="16200000">
                <a:off x="2927160" y="325368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400000">
                <a:off x="5531040" y="320256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0800000">
                <a:off x="423864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0624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3908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5289"/>
                  </a:gs>
                  <a:gs pos="50000">
                    <a:srgbClr val="6699ff"/>
                  </a:gs>
                  <a:gs pos="100000">
                    <a:srgbClr val="36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2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0000"/>
                </a:gs>
                <a:gs pos="5000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6e0000"/>
                </a:gs>
                <a:gs pos="5000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6eb8"/>
                </a:gs>
                <a:gs pos="50000">
                  <a:srgbClr val="6699ff"/>
                </a:gs>
                <a:gs pos="100000">
                  <a:srgbClr val="49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e6e"/>
                </a:gs>
                <a:gs pos="50000">
                  <a:srgbClr val="009999"/>
                </a:gs>
                <a:gs pos="100000">
                  <a:srgbClr val="006e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74c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3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http://www.eeppt.com</dc:creator>
  <dc:description>ppt模板下载网站 http://www.eeppt.com</dc:description>
  <dc:language>en-US</dc:language>
  <cp:lastModifiedBy/>
  <dcterms:modified xsi:type="dcterms:W3CDTF">2015-06-14T02:53:0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