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2E6-F82B-4E77-82B5-D1F7A46C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04416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337-DD5C-4A0C-8115-EA6291D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04416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622-15AE-4451-8E24-2CEA1163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AC5-D3A9-45B8-AF28-C2064C0C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FFA6-0287-49BA-A803-F7FFF55C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0FF0-15C4-497B-9DD9-9FAE8EF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60C6-B1F6-4881-AEEE-0F02C594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03CD-83A0-4DB8-8855-38CA088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E397-54DB-4562-9099-D688C1B6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EA0B-A880-4181-B012-91347A3B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4186-1834-4C38-BC73-E57AE809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073-044B-4667-9AA1-176FD59C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04416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5B39-D7DA-4491-A334-CF88521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7279-443E-4E2D-9954-58C3547B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04416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52AE-EDB6-4B57-90E9-3E197BEF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04416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BDCD-9CC6-4461-AC15-1AC9DE26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C21C-EC72-4219-B89C-C83AD83D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BF0-7770-49F4-9B1B-9EBB60D3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957-754C-4A1C-A71F-D6E1836A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4C8-B0F2-41E4-9995-55F70F6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842-D87B-4DBF-A92D-228A2E3E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B05-6472-48D6-A779-51CA48F5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04416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52F-7C63-4B3D-AE46-1F0F9D4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457200"/>
            <a:ext cx="446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55E-AE0E-4FA5-BAFB-A3789F76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10F3-B456-43E9-96B9-75FABF537FAC}" type="slidenum"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AFB9-E743-4ECA-8ED8-47EFDEC4D70A}" type="slidenum">
              <a:rPr b="0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78120" y="1735200"/>
            <a:ext cx="58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胶卷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素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our subtopic goes here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37335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rostile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44360" y="4190760"/>
            <a:ext cx="5675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14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our subtopic goes here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5049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Eurostile"/>
                <a:ea typeface="宋体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44360" y="3962160"/>
            <a:ext cx="5675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5f5f5f"/>
              </a:solidFill>
              <a:latin typeface="Franklin Gothic Book"/>
              <a:ea typeface="宋体"/>
            </a:endParaRPr>
          </a:p>
        </p:txBody>
      </p:sp>
      <p:pic>
        <p:nvPicPr>
          <p:cNvPr id="92" name="Picture 195" descr="azure_solution_prt"/>
          <p:cNvPicPr/>
          <p:nvPr/>
        </p:nvPicPr>
        <p:blipFill>
          <a:blip r:embed="rId1"/>
          <a:stretch/>
        </p:blipFill>
        <p:spPr>
          <a:xfrm>
            <a:off x="6934320" y="51814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6" descr="azure_solution_qx"/>
          <p:cNvPicPr/>
          <p:nvPr/>
        </p:nvPicPr>
        <p:blipFill>
          <a:blip r:embed="rId2"/>
          <a:stretch/>
        </p:blipFill>
        <p:spPr>
          <a:xfrm>
            <a:off x="76320" y="51814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7" descr="azure_solution_sld"/>
          <p:cNvPicPr/>
          <p:nvPr/>
        </p:nvPicPr>
        <p:blipFill>
          <a:blip r:embed="rId3"/>
          <a:stretch/>
        </p:blipFill>
        <p:spPr>
          <a:xfrm>
            <a:off x="2362320" y="51814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8" descr="azure_solution_trs"/>
          <p:cNvPicPr/>
          <p:nvPr/>
        </p:nvPicPr>
        <p:blipFill>
          <a:blip r:embed="rId4"/>
          <a:stretch/>
        </p:blipFill>
        <p:spPr>
          <a:xfrm>
            <a:off x="4648320" y="51814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Eurostile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ededed"/>
                </a:solidFill>
                <a:latin typeface="Franklin Gothic Book"/>
              </a:rPr>
              <a:t>站点介绍</a:t>
            </a:r>
            <a:r>
              <a:rPr b="1" i="1" lang="en-US" sz="1800" spc="-1" strike="noStrike">
                <a:solidFill>
                  <a:srgbClr val="ededed"/>
                </a:solidFill>
                <a:latin typeface="Franklin Gothic Book"/>
              </a:rPr>
              <a:t>：</a:t>
            </a:r>
            <a:endParaRPr b="0" i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i="1" lang="en-US" sz="16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i="1" lang="en-US" sz="16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i="1" lang="en-US" sz="16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i="1" lang="en-US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i="1" lang="en-US" sz="1600" spc="-1" strike="noStrike">
                <a:solidFill>
                  <a:srgbClr val="e8eff7"/>
                </a:solidFill>
                <a:latin typeface="Franklin Gothic Book"/>
              </a:rPr>
              <a:t>模板免费下载。</a:t>
            </a:r>
            <a:r>
              <a:rPr b="1" i="1" lang="zh-CN" sz="1600" spc="-1" strike="noStrike">
                <a:solidFill>
                  <a:srgbClr val="e8eff7"/>
                </a:solidFill>
                <a:latin typeface="Franklin Gothic Book"/>
              </a:rPr>
              <a:t>助</a:t>
            </a:r>
            <a:r>
              <a:rPr b="1" i="1" lang="en-US" sz="1600" spc="-1" strike="noStrike">
                <a:solidFill>
                  <a:srgbClr val="e8eff7"/>
                </a:solidFill>
                <a:latin typeface="Franklin Gothic Book"/>
              </a:rPr>
              <a:t>您轻松制作出精美</a:t>
            </a:r>
            <a:r>
              <a:rPr b="1" i="1" lang="en-US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i="1" lang="en-US" sz="16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i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i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i="1" lang="zh-CN" sz="1600" spc="-1" strike="noStrike">
                <a:solidFill>
                  <a:srgbClr val="ededed"/>
                </a:solidFill>
                <a:latin typeface="Franklin Gothic Book"/>
              </a:rPr>
              <a:t>模板收集于网络，</a:t>
            </a:r>
            <a:r>
              <a:rPr b="1" i="1" lang="en-US" sz="1600" spc="-1" strike="noStrike">
                <a:solidFill>
                  <a:srgbClr val="ededed"/>
                </a:solidFill>
                <a:latin typeface="Franklin Gothic Book"/>
              </a:rPr>
              <a:t>仅供学习与参考，请勿用于商业用途。否则产生的一切后果将由您自己承担！如有侵犯您的版权，请及时与我们联系。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ededed"/>
                </a:solidFill>
                <a:latin typeface="Franklin Gothic Book"/>
              </a:rPr>
              <a:t>栏目推荐</a:t>
            </a:r>
            <a:r>
              <a:rPr b="1" i="1" lang="en-US" sz="1800" spc="-1" strike="noStrike">
                <a:solidFill>
                  <a:srgbClr val="ededed"/>
                </a:solidFill>
                <a:latin typeface="Franklin Gothic Book"/>
              </a:rPr>
              <a:t>：</a:t>
            </a:r>
            <a:endParaRPr b="0" i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i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i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i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i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i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i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i="1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i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i="1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3013-6475-4086-A22C-83FA79DB7726}" type="slidenum">
              <a:t>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6:53:47Z</dcterms:created>
  <dc:creator>http://www.eeppt.com</dc:creator>
  <dc:description>ppt模板下载网站 http://www.eeppt.com</dc:description>
  <dc:language>en-US</dc:language>
  <cp:lastModifiedBy/>
  <dcterms:modified xsi:type="dcterms:W3CDTF">2015-06-15T01:08:49Z</dcterms:modified>
  <cp:revision>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