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8F0-CA20-427B-9DB5-71DCD9C3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1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7E5-E152-4306-BD38-C0B20E60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792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923-596F-4381-B643-E6DBF964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332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576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332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576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9F6-1E4C-4A1F-ADD3-EEBCDAB1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86B7-2C26-475D-B128-E4EAEBCA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DD1B-3BC4-4DCA-B812-DEA689E9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F7A2-2171-46BC-8840-8BB2D244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5DC5-6EBA-4444-9926-AE2611D7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9228-09B5-4749-9F9C-9A40FC3C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2240" y="533160"/>
            <a:ext cx="6838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83D4-ADFA-43A6-8F5C-27C04842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7B52-A097-4179-808B-317E007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F11-74E6-44B1-B9ED-554EF524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792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E1DB-50CA-4E3D-AE41-7A03F412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4117-B1CF-4E30-B221-D5BB291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880" y="3911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700A-7019-49F4-93CD-AAD9A31B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792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BC22-CF5C-460A-9769-09B174C4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332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576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88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332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576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77F1-8500-467F-93C2-055F2B71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E42-2C03-4142-88A0-C698E0DB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70F-1684-456F-B016-C836E49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900-092C-4832-A43E-45F9662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2240" y="533160"/>
            <a:ext cx="6838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F3E-402A-4CCC-8798-B94A3B3F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F65-973F-4620-832E-68452500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792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3AE-7AA4-4907-95CB-6450BBFB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93B-70BE-4F8D-8DCB-D1BF489D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1"/>
          <p:cNvSpPr/>
          <p:nvPr/>
        </p:nvSpPr>
        <p:spPr>
          <a:xfrm>
            <a:off x="8001000" y="838080"/>
            <a:ext cx="914400" cy="0"/>
          </a:xfrm>
          <a:prstGeom prst="line">
            <a:avLst/>
          </a:prstGeom>
          <a:ln w="9360">
            <a:solidFill>
              <a:srgbClr val="438a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346360" y="6337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7175520" y="617184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cc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8052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1BFF-11C8-473B-BB76-1FA3A34AE6C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32" descr="06_icon"/>
          <p:cNvPicPr/>
          <p:nvPr/>
        </p:nvPicPr>
        <p:blipFill>
          <a:blip r:embed="rId3"/>
          <a:stretch/>
        </p:blipFill>
        <p:spPr>
          <a:xfrm>
            <a:off x="7461360" y="533520"/>
            <a:ext cx="61596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7467480" y="34308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Line 23"/>
          <p:cNvSpPr/>
          <p:nvPr/>
        </p:nvSpPr>
        <p:spPr>
          <a:xfrm>
            <a:off x="1066680" y="5562720"/>
            <a:ext cx="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Line 24"/>
          <p:cNvSpPr/>
          <p:nvPr/>
        </p:nvSpPr>
        <p:spPr>
          <a:xfrm>
            <a:off x="1066680" y="601992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" name="Picture 25" descr="06_icon_f"/>
          <p:cNvPicPr/>
          <p:nvPr/>
        </p:nvPicPr>
        <p:blipFill>
          <a:blip r:embed="rId3"/>
          <a:stretch/>
        </p:blipFill>
        <p:spPr>
          <a:xfrm>
            <a:off x="434880" y="4724280"/>
            <a:ext cx="1317600" cy="1317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6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6407-7C85-46B0-8903-93E0762B946E}" type="slidenum">
              <a:rPr b="0" lang="zh-CN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一分为二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" name="Group 2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90" name="AutoShape 5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1238400" y="3372120"/>
              <a:ext cx="203832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" name="Freeform 7"/>
          <p:cNvSpPr/>
          <p:nvPr/>
        </p:nvSpPr>
        <p:spPr>
          <a:xfrm>
            <a:off x="322272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a9cc75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4" name="Group 22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95" name="Group 10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96" name="Group 11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97" name="Oval 12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3f2c"/>
                    </a:gs>
                    <a:gs pos="100000">
                      <a:srgbClr val="6e815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8" name="Oval 13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bfc7b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Oval 14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38acb"/>
                  </a:gs>
                  <a:gs pos="100000">
                    <a:srgbClr val="1f40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0" name="Oval 15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dd6ed"/>
                  </a:gs>
                  <a:gs pos="100000">
                    <a:srgbClr val="438acb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Oval 16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38acb">
                      <a:alpha val="48235"/>
                    </a:srgbClr>
                  </a:gs>
                  <a:gs pos="100000">
                    <a:srgbClr val="356da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Oval 17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38acb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3" name="Text Box 18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05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5715000" y="3372120"/>
              <a:ext cx="203832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7" name="Freeform 9"/>
          <p:cNvSpPr/>
          <p:nvPr/>
        </p:nvSpPr>
        <p:spPr>
          <a:xfrm flipH="1">
            <a:off x="487440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d1d7cb"/>
              </a:gs>
              <a:gs pos="100000">
                <a:srgbClr val="6e81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 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5" name="Group 10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06" name="AutoShape 10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AutoShape 10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AutoShape 10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AutoShape 10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AutoShape 10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AutoShape 10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2" name="Group 1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13" name="Oval 1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4" name="Oval 1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5" name="Oval 1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6" name="Oval 114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7" name="Oval 1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18" name="Text Box 1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Text Box 1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0" name="Group 1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321" name="AutoShape 1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2" name="AutoShape 120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AutoShape 1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Oval 1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Oval 124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Oval 125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Oval 126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Oval 127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Text Box 1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Text Box 129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AutoShape 130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AutoShape 131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335" name="AutoShape 133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AutoShape 1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AutoShape 135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AutoShape 136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9" name="Group 137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340" name="Oval 138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39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2" name="Oval 140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3" name="Oval 141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4" name="Oval 142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45" name="Text Box 1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Text Box 1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AutoShape 1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AutoShape 146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ogress Diagram 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1523880" y="1600200"/>
            <a:ext cx="1752480" cy="4267080"/>
            <a:chOff x="1523880" y="1600200"/>
            <a:chExt cx="1752480" cy="4267080"/>
          </a:xfrm>
        </p:grpSpPr>
        <p:sp>
          <p:nvSpPr>
            <p:cNvPr id="351" name="AutoShape 4"/>
            <p:cNvSpPr/>
            <p:nvPr/>
          </p:nvSpPr>
          <p:spPr>
            <a:xfrm>
              <a:off x="1600200" y="320040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75075"/>
                </a:gs>
                <a:gs pos="100000">
                  <a:srgbClr val="438acb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1817640" y="38862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AutoShape 6"/>
            <p:cNvSpPr/>
            <p:nvPr/>
          </p:nvSpPr>
          <p:spPr>
            <a:xfrm>
              <a:off x="1523880" y="160020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AutoShape 7"/>
            <p:cNvSpPr/>
            <p:nvPr/>
          </p:nvSpPr>
          <p:spPr>
            <a:xfrm>
              <a:off x="1565280" y="309240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8acb"/>
                </a:gs>
                <a:gs pos="100000">
                  <a:srgbClr val="a4c6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AutoShape 8"/>
            <p:cNvSpPr/>
            <p:nvPr/>
          </p:nvSpPr>
          <p:spPr>
            <a:xfrm>
              <a:off x="1565280" y="162252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d8ee"/>
                </a:gs>
                <a:gs pos="100000">
                  <a:srgbClr val="438a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9"/>
            <p:cNvSpPr/>
            <p:nvPr/>
          </p:nvSpPr>
          <p:spPr>
            <a:xfrm>
              <a:off x="198288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AutoShape 10"/>
            <p:cNvSpPr/>
            <p:nvPr/>
          </p:nvSpPr>
          <p:spPr>
            <a:xfrm flipV="1">
              <a:off x="1709640" y="55332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8acb"/>
                </a:gs>
                <a:gs pos="100000">
                  <a:srgbClr val="99bf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8" name="Group 11"/>
          <p:cNvGrpSpPr/>
          <p:nvPr/>
        </p:nvGrpSpPr>
        <p:grpSpPr>
          <a:xfrm>
            <a:off x="6059520" y="2286000"/>
            <a:ext cx="1712880" cy="3581280"/>
            <a:chOff x="6059520" y="2286000"/>
            <a:chExt cx="1712880" cy="3581280"/>
          </a:xfrm>
        </p:grpSpPr>
        <p:sp>
          <p:nvSpPr>
            <p:cNvPr id="359" name="AutoShape 12"/>
            <p:cNvSpPr/>
            <p:nvPr/>
          </p:nvSpPr>
          <p:spPr>
            <a:xfrm>
              <a:off x="6121440" y="365760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Text Box 13"/>
            <p:cNvSpPr/>
            <p:nvPr/>
          </p:nvSpPr>
          <p:spPr>
            <a:xfrm>
              <a:off x="6339240" y="431172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1" name="Group 14"/>
            <p:cNvGrpSpPr/>
            <p:nvPr/>
          </p:nvGrpSpPr>
          <p:grpSpPr>
            <a:xfrm>
              <a:off x="6059520" y="2286000"/>
              <a:ext cx="1712880" cy="1901880"/>
              <a:chOff x="6059520" y="2286000"/>
              <a:chExt cx="1712880" cy="1901880"/>
            </a:xfrm>
          </p:grpSpPr>
          <p:sp>
            <p:nvSpPr>
              <p:cNvPr id="362" name="AutoShape 15"/>
              <p:cNvSpPr/>
              <p:nvPr/>
            </p:nvSpPr>
            <p:spPr>
              <a:xfrm>
                <a:off x="6059520" y="228600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3" name="AutoShape 16"/>
              <p:cNvSpPr/>
              <p:nvPr/>
            </p:nvSpPr>
            <p:spPr>
              <a:xfrm>
                <a:off x="6099480" y="3665880"/>
                <a:ext cx="164016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d0da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4" name="AutoShape 17"/>
              <p:cNvSpPr/>
              <p:nvPr/>
            </p:nvSpPr>
            <p:spPr>
              <a:xfrm>
                <a:off x="6099480" y="2306880"/>
                <a:ext cx="1640160" cy="470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dade"/>
                  </a:gs>
                  <a:gs pos="100000">
                    <a:srgbClr val="90a8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5" name="Text Box 18"/>
            <p:cNvSpPr/>
            <p:nvPr/>
          </p:nvSpPr>
          <p:spPr>
            <a:xfrm>
              <a:off x="6555240" y="27432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AutoShape 19"/>
            <p:cNvSpPr/>
            <p:nvPr/>
          </p:nvSpPr>
          <p:spPr>
            <a:xfrm flipV="1">
              <a:off x="6248520" y="55620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fff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7" name="Group 20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368" name="AutoShape 21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34e37"/>
                </a:gs>
                <a:gs pos="100000">
                  <a:srgbClr val="6e81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9" name="Group 22"/>
            <p:cNvGrpSpPr/>
            <p:nvPr/>
          </p:nvGrpSpPr>
          <p:grpSpPr>
            <a:xfrm>
              <a:off x="3835440" y="1905120"/>
              <a:ext cx="1727280" cy="1980720"/>
              <a:chOff x="3835440" y="1905120"/>
              <a:chExt cx="1727280" cy="1980720"/>
            </a:xfrm>
          </p:grpSpPr>
          <p:sp>
            <p:nvSpPr>
              <p:cNvPr id="370" name="AutoShape 23"/>
              <p:cNvSpPr/>
              <p:nvPr/>
            </p:nvSpPr>
            <p:spPr>
              <a:xfrm>
                <a:off x="3835440" y="1905120"/>
                <a:ext cx="1727280" cy="198072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0720"/>
                  <a:gd name="textAreaBottom" fmla="*/ 1892160 h 1980720"/>
                </a:gdLst>
                <a:ahLst/>
                <a:rect l="textAreaLeft" t="textAreaTop" r="textAreaRight" b="textAreaBottom"/>
                <a:pathLst>
                  <a:path w="21600" h="24769">
                    <a:moveTo>
                      <a:pt x="3782" y="0"/>
                    </a:moveTo>
                    <a:arcTo wR="3782" hR="3782" stAng="16200000" swAng="-5400000"/>
                    <a:lnTo>
                      <a:pt x="0" y="20987"/>
                    </a:lnTo>
                    <a:arcTo wR="3782" hR="3782" stAng="10800000" swAng="-5400000"/>
                    <a:lnTo>
                      <a:pt x="17818" y="24769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6e8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1" name="AutoShape 24"/>
              <p:cNvSpPr/>
              <p:nvPr/>
            </p:nvSpPr>
            <p:spPr>
              <a:xfrm>
                <a:off x="3877200" y="3343320"/>
                <a:ext cx="165096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5b"/>
                  </a:gs>
                  <a:gs pos="100000">
                    <a:srgbClr val="9eab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2" name="AutoShape 25"/>
              <p:cNvSpPr/>
              <p:nvPr/>
            </p:nvSpPr>
            <p:spPr>
              <a:xfrm>
                <a:off x="3877200" y="1929240"/>
                <a:ext cx="165096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fd5c8"/>
                  </a:gs>
                  <a:gs pos="100000">
                    <a:srgbClr val="6e81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3" name="Text Box 26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27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AutoShape 28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5b">
                    <a:alpha val="0"/>
                  </a:srgbClr>
                </a:gs>
                <a:gs pos="100000">
                  <a:srgbClr val="e5e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台阶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7" name="Group 24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378" name="Freeform 3"/>
            <p:cNvSpPr/>
            <p:nvPr/>
          </p:nvSpPr>
          <p:spPr>
            <a:xfrm>
              <a:off x="5073480" y="1219320"/>
              <a:ext cx="1467000" cy="1155240"/>
            </a:xfrm>
            <a:prstGeom prst="pi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7b8c6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AutoShape 4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7a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e81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10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11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Freeform 12"/>
            <p:cNvSpPr/>
            <p:nvPr/>
          </p:nvSpPr>
          <p:spPr>
            <a:xfrm>
              <a:off x="2492280" y="1720440"/>
              <a:ext cx="1467000" cy="1157040"/>
            </a:xfrm>
            <a:prstGeom prst="pi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bfcdd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3911760" y="2485800"/>
              <a:ext cx="13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Text Box 14"/>
            <p:cNvSpPr/>
            <p:nvPr/>
          </p:nvSpPr>
          <p:spPr>
            <a:xfrm>
              <a:off x="6426360" y="1990440"/>
              <a:ext cx="13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0" name="Group 15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91" name="AutoShape 16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2" name="AutoShape 17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84144"/>
                  </a:gs>
                  <a:gs pos="50000">
                    <a:srgbClr val="90a8b0"/>
                  </a:gs>
                  <a:gs pos="100000">
                    <a:srgbClr val="3841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3" name="AutoShape 18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4" name="AutoShape 19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5" name="Text Box 20"/>
              <p:cNvSpPr/>
              <p:nvPr/>
            </p:nvSpPr>
            <p:spPr>
              <a:xfrm>
                <a:off x="1397160" y="2914560"/>
                <a:ext cx="131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6" name="Text Box 21"/>
              <p:cNvSpPr/>
              <p:nvPr/>
            </p:nvSpPr>
            <p:spPr>
              <a:xfrm>
                <a:off x="990720" y="3342960"/>
                <a:ext cx="2133360" cy="17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7" name="Text Box 22"/>
            <p:cNvSpPr/>
            <p:nvPr/>
          </p:nvSpPr>
          <p:spPr>
            <a:xfrm>
              <a:off x="3505320" y="2885760"/>
              <a:ext cx="213336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6019920" y="2352600"/>
              <a:ext cx="213336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/>
          <p:cNvSpPr/>
          <p:nvPr/>
        </p:nvSpPr>
        <p:spPr>
          <a:xfrm>
            <a:off x="969840" y="2289240"/>
            <a:ext cx="1990800" cy="3303360"/>
          </a:xfrm>
          <a:prstGeom prst="bevel">
            <a:avLst>
              <a:gd name="adj" fmla="val 2551"/>
            </a:avLst>
          </a:prstGeom>
          <a:gradFill rotWithShape="0">
            <a:gsLst>
              <a:gs pos="0">
                <a:srgbClr val="438acb"/>
              </a:gs>
              <a:gs pos="100000">
                <a:srgbClr val="accce8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1138320" y="2009880"/>
            <a:ext cx="1636560" cy="506160"/>
          </a:xfrm>
          <a:prstGeom prst="roundRect">
            <a:avLst>
              <a:gd name="adj" fmla="val 3197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1229400" y="2087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591000" y="2289240"/>
            <a:ext cx="1990800" cy="3303360"/>
          </a:xfrm>
          <a:prstGeom prst="bevel">
            <a:avLst>
              <a:gd name="adj" fmla="val 3032"/>
            </a:avLst>
          </a:prstGeom>
          <a:gradFill rotWithShape="0">
            <a:gsLst>
              <a:gs pos="0">
                <a:srgbClr val="6e815b"/>
              </a:gs>
              <a:gs pos="100000">
                <a:srgbClr val="bfc8b7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AutoShape 6"/>
          <p:cNvSpPr/>
          <p:nvPr/>
        </p:nvSpPr>
        <p:spPr>
          <a:xfrm>
            <a:off x="3757680" y="2009880"/>
            <a:ext cx="1638360" cy="506160"/>
          </a:xfrm>
          <a:prstGeom prst="roundRect">
            <a:avLst>
              <a:gd name="adj" fmla="val 36051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50200" y="2087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>
            <a:off x="6211800" y="2289240"/>
            <a:ext cx="1990800" cy="3303360"/>
          </a:xfrm>
          <a:prstGeom prst="bevel">
            <a:avLst>
              <a:gd name="adj" fmla="val 3588"/>
            </a:avLst>
          </a:prstGeom>
          <a:gradFill rotWithShape="0">
            <a:gsLst>
              <a:gs pos="0">
                <a:srgbClr val="90a8b0"/>
              </a:gs>
              <a:gs pos="100000">
                <a:srgbClr val="ced9dc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6380280" y="2009880"/>
            <a:ext cx="1636560" cy="506160"/>
          </a:xfrm>
          <a:prstGeom prst="roundRect">
            <a:avLst>
              <a:gd name="adj" fmla="val 36051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6468120" y="2087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020600" y="2744640"/>
            <a:ext cx="19400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9" name="Group 12"/>
          <p:cNvGrpSpPr/>
          <p:nvPr/>
        </p:nvGrpSpPr>
        <p:grpSpPr>
          <a:xfrm>
            <a:off x="7101000" y="4573800"/>
            <a:ext cx="915480" cy="849240"/>
            <a:chOff x="7101000" y="4573800"/>
            <a:chExt cx="915480" cy="849240"/>
          </a:xfrm>
        </p:grpSpPr>
        <p:sp>
          <p:nvSpPr>
            <p:cNvPr id="410" name="Oval 13"/>
            <p:cNvSpPr/>
            <p:nvPr/>
          </p:nvSpPr>
          <p:spPr>
            <a:xfrm rot="16200000">
              <a:off x="7097400" y="4956840"/>
              <a:ext cx="139320" cy="1321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 rot="16200000">
              <a:off x="7460280" y="5105160"/>
              <a:ext cx="198360" cy="18900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 rot="16200000">
              <a:off x="7316640" y="4786200"/>
              <a:ext cx="149040" cy="1396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 rot="16200000">
              <a:off x="7916040" y="513540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Line 17"/>
            <p:cNvSpPr/>
            <p:nvPr/>
          </p:nvSpPr>
          <p:spPr>
            <a:xfrm>
              <a:off x="7650360" y="5202000"/>
              <a:ext cx="27072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Line 18"/>
            <p:cNvSpPr/>
            <p:nvPr/>
          </p:nvSpPr>
          <p:spPr>
            <a:xfrm flipH="1" flipV="1">
              <a:off x="7422840" y="4908960"/>
              <a:ext cx="65160" cy="21744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Line 19"/>
            <p:cNvSpPr/>
            <p:nvPr/>
          </p:nvSpPr>
          <p:spPr>
            <a:xfrm flipH="1">
              <a:off x="7210080" y="4902840"/>
              <a:ext cx="117000" cy="8424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Oval 20"/>
            <p:cNvSpPr/>
            <p:nvPr/>
          </p:nvSpPr>
          <p:spPr>
            <a:xfrm rot="16200000">
              <a:off x="7223400" y="4576680"/>
              <a:ext cx="102960" cy="968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Oval 21"/>
            <p:cNvSpPr/>
            <p:nvPr/>
          </p:nvSpPr>
          <p:spPr>
            <a:xfrm rot="16200000">
              <a:off x="7598880" y="4707000"/>
              <a:ext cx="119160" cy="110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Line 22"/>
            <p:cNvSpPr/>
            <p:nvPr/>
          </p:nvSpPr>
          <p:spPr>
            <a:xfrm flipV="1">
              <a:off x="7459920" y="4784760"/>
              <a:ext cx="169920" cy="3636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Line 23"/>
            <p:cNvSpPr/>
            <p:nvPr/>
          </p:nvSpPr>
          <p:spPr>
            <a:xfrm flipH="1" flipV="1">
              <a:off x="7269480" y="4668120"/>
              <a:ext cx="96840" cy="1090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Oval 24"/>
            <p:cNvSpPr/>
            <p:nvPr/>
          </p:nvSpPr>
          <p:spPr>
            <a:xfrm rot="16200000">
              <a:off x="7311240" y="532260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Line 25"/>
            <p:cNvSpPr/>
            <p:nvPr/>
          </p:nvSpPr>
          <p:spPr>
            <a:xfrm flipV="1">
              <a:off x="7400880" y="5276520"/>
              <a:ext cx="86760" cy="8640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Line 26"/>
            <p:cNvSpPr/>
            <p:nvPr/>
          </p:nvSpPr>
          <p:spPr>
            <a:xfrm>
              <a:off x="7682760" y="4794840"/>
              <a:ext cx="42840" cy="16200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Oval 27"/>
            <p:cNvSpPr/>
            <p:nvPr/>
          </p:nvSpPr>
          <p:spPr>
            <a:xfrm rot="16200000">
              <a:off x="7684200" y="492048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Line 28"/>
            <p:cNvSpPr/>
            <p:nvPr/>
          </p:nvSpPr>
          <p:spPr>
            <a:xfrm flipV="1">
              <a:off x="7702920" y="4691880"/>
              <a:ext cx="42840" cy="3600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29"/>
            <p:cNvSpPr/>
            <p:nvPr/>
          </p:nvSpPr>
          <p:spPr>
            <a:xfrm rot="16200000">
              <a:off x="7753320" y="461016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7" name="Rectangle 30"/>
          <p:cNvSpPr/>
          <p:nvPr/>
        </p:nvSpPr>
        <p:spPr>
          <a:xfrm>
            <a:off x="3618000" y="2747880"/>
            <a:ext cx="19368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6273720" y="3062160"/>
            <a:ext cx="18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5704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AutoShape 32"/>
          <p:cNvSpPr/>
          <p:nvPr/>
        </p:nvSpPr>
        <p:spPr>
          <a:xfrm flipH="1">
            <a:off x="3065400" y="360360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AutoShape 33"/>
          <p:cNvSpPr/>
          <p:nvPr/>
        </p:nvSpPr>
        <p:spPr>
          <a:xfrm flipH="1">
            <a:off x="3260880" y="360360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AutoShape 34"/>
          <p:cNvSpPr/>
          <p:nvPr/>
        </p:nvSpPr>
        <p:spPr>
          <a:xfrm flipH="1">
            <a:off x="5708520" y="360360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AutoShape 35"/>
          <p:cNvSpPr/>
          <p:nvPr/>
        </p:nvSpPr>
        <p:spPr>
          <a:xfrm flipH="1">
            <a:off x="5903280" y="3603600"/>
            <a:ext cx="2156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顺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顺序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点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38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ffffff"/>
              </a:gs>
              <a:gs pos="100000">
                <a:srgbClr val="6e81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e815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Oval 7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3c4631"/>
              </a:gs>
              <a:gs pos="100000">
                <a:srgbClr val="6e815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Oval 8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652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Oval 9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ffffff"/>
              </a:gs>
              <a:gs pos="100000">
                <a:srgbClr val="90a8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11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0a8b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12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4e5b5f"/>
              </a:gs>
              <a:gs pos="100000">
                <a:srgbClr val="90a8b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13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90a8b0">
                  <a:alpha val="0"/>
                </a:srgbClr>
              </a:gs>
              <a:gs pos="100000">
                <a:srgbClr val="5b6b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7" name="Group 15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448" name="Oval 16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17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18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Oval 19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52" name="Oval 20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438acb"/>
              </a:gs>
              <a:gs pos="50000">
                <a:srgbClr val="ffffff"/>
              </a:gs>
              <a:gs pos="100000">
                <a:srgbClr val="438ac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21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1f405e"/>
              </a:gs>
              <a:gs pos="100000">
                <a:srgbClr val="438ac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22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38acb"/>
              </a:gs>
              <a:gs pos="50000">
                <a:srgbClr val="244b6e"/>
              </a:gs>
              <a:gs pos="100000">
                <a:srgbClr val="438ac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23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438acb">
                  <a:alpha val="0"/>
                </a:srgbClr>
              </a:gs>
              <a:gs pos="100000">
                <a:srgbClr val="2b58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Oval 24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7" name="Group 25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458" name="Oval 26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27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28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29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2" name="Group 30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463" name="Oval 31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Oval 32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Oval 33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Oval 34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7" name="AutoShape 35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AutoShape 36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AutoShape 37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Text Box 38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iagram 3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963720" y="139536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5f6f75"/>
              </a:gs>
              <a:gs pos="100000">
                <a:srgbClr val="90a8b0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63720" y="296244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49553c"/>
              </a:gs>
              <a:gs pos="100000">
                <a:srgbClr val="6e815b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963720" y="454356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4f7319"/>
              </a:gs>
              <a:gs pos="100000">
                <a:srgbClr val="77ae26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2514600" y="1600200"/>
            <a:ext cx="5867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Mis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2552760" y="3138480"/>
            <a:ext cx="574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Vision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2505240" y="4748040"/>
            <a:ext cx="5514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Business Model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1131480" y="18842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Mis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1213920" y="34560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Vi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1019160" y="493236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Business Mod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Oval 2"/>
          <p:cNvSpPr/>
          <p:nvPr/>
        </p:nvSpPr>
        <p:spPr>
          <a:xfrm>
            <a:off x="324000" y="4940280"/>
            <a:ext cx="576000" cy="576360"/>
          </a:xfrm>
          <a:prstGeom prst="ellipse">
            <a:avLst/>
          </a:pr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Oval 3"/>
          <p:cNvSpPr/>
          <p:nvPr/>
        </p:nvSpPr>
        <p:spPr>
          <a:xfrm>
            <a:off x="250920" y="3359160"/>
            <a:ext cx="576000" cy="574560"/>
          </a:xfrm>
          <a:prstGeom prst="ellipse">
            <a:avLst/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Oval 4"/>
          <p:cNvSpPr/>
          <p:nvPr/>
        </p:nvSpPr>
        <p:spPr>
          <a:xfrm>
            <a:off x="260280" y="1484280"/>
            <a:ext cx="577800" cy="576360"/>
          </a:xfrm>
          <a:prstGeom prst="ellipse">
            <a:avLst/>
          </a:prstGeom>
          <a:solidFill>
            <a:srgbClr val="51a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6e815b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WordArt 5"/>
          <p:cNvSpPr txBox="1"/>
          <p:nvPr/>
        </p:nvSpPr>
        <p:spPr>
          <a:xfrm>
            <a:off x="2514600" y="54100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38acb"/>
                    </a:gs>
                    <a:gs pos="100000">
                      <a:srgbClr val="51a0b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38acb"/>
                  </a:gs>
                  <a:gs pos="100000">
                    <a:srgbClr val="51a0b9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333760" y="18252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3548160" y="611496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3381480" y="6146640"/>
            <a:ext cx="75960" cy="228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CE88-31D4-4E87-A54E-063853731D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左右到当中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302904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09480" y="1905120"/>
            <a:ext cx="216396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8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905040" y="2642760"/>
            <a:ext cx="1773000" cy="2410200"/>
            <a:chOff x="905040" y="2642760"/>
            <a:chExt cx="1773000" cy="2410200"/>
          </a:xfrm>
        </p:grpSpPr>
        <p:sp>
          <p:nvSpPr>
            <p:cNvPr id="112" name="Freeform 6"/>
            <p:cNvSpPr/>
            <p:nvPr/>
          </p:nvSpPr>
          <p:spPr>
            <a:xfrm flipV="1">
              <a:off x="905040" y="2642400"/>
              <a:ext cx="1773000" cy="10141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909000" y="4038840"/>
              <a:ext cx="1769040" cy="10141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4" name="AutoShape 8"/>
          <p:cNvSpPr/>
          <p:nvPr/>
        </p:nvSpPr>
        <p:spPr>
          <a:xfrm>
            <a:off x="609480" y="3432240"/>
            <a:ext cx="2514600" cy="812880"/>
          </a:xfrm>
          <a:prstGeom prst="rightArrow">
            <a:avLst>
              <a:gd name="adj1" fmla="val 48824"/>
              <a:gd name="adj2" fmla="val 50770"/>
            </a:avLst>
          </a:prstGeom>
          <a:gradFill rotWithShape="0">
            <a:gsLst>
              <a:gs pos="0">
                <a:srgbClr val="e5c037"/>
              </a:gs>
              <a:gs pos="100000">
                <a:srgbClr val="6a5919"/>
              </a:gs>
            </a:gsLst>
            <a:lin ang="10800000"/>
          </a:gradFill>
          <a:ln w="9360">
            <a:solidFill>
              <a:srgbClr val="51a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70488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50000">
                <a:srgbClr val="dddddd"/>
              </a:gs>
              <a:gs pos="100000">
                <a:srgbClr val="f1f1f1"/>
              </a:gs>
            </a:gsLst>
            <a:lin ang="81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6230880" y="1905120"/>
            <a:ext cx="222732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8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6357600" y="2647440"/>
            <a:ext cx="1819080" cy="2401920"/>
            <a:chOff x="6357600" y="2647440"/>
            <a:chExt cx="1819080" cy="2401920"/>
          </a:xfrm>
        </p:grpSpPr>
        <p:sp>
          <p:nvSpPr>
            <p:cNvPr id="118" name="Freeform 12"/>
            <p:cNvSpPr/>
            <p:nvPr/>
          </p:nvSpPr>
          <p:spPr>
            <a:xfrm flipH="1" flipV="1">
              <a:off x="6357240" y="2647080"/>
              <a:ext cx="1819080" cy="10112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 flipH="1">
              <a:off x="6357960" y="4038120"/>
              <a:ext cx="1798560" cy="10112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" name="AutoShape 14"/>
          <p:cNvSpPr/>
          <p:nvPr/>
        </p:nvSpPr>
        <p:spPr>
          <a:xfrm flipH="1">
            <a:off x="5942880" y="3473280"/>
            <a:ext cx="2514600" cy="717840"/>
          </a:xfrm>
          <a:prstGeom prst="rightArrow">
            <a:avLst>
              <a:gd name="adj1" fmla="val 53991"/>
              <a:gd name="adj2" fmla="val 49220"/>
            </a:avLst>
          </a:prstGeom>
          <a:gradFill rotWithShape="0">
            <a:gsLst>
              <a:gs pos="0">
                <a:srgbClr val="77ae26"/>
              </a:gs>
              <a:gs pos="100000">
                <a:srgbClr val="375112"/>
              </a:gs>
            </a:gsLst>
            <a:lin ang="10800000"/>
          </a:gradFill>
          <a:ln w="9360">
            <a:solidFill>
              <a:srgbClr val="51a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81756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504120" y="190512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67464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e81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e81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649620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50000">
                <a:srgbClr val="dddddd"/>
              </a:gs>
              <a:gs pos="100000">
                <a:srgbClr val="f4f4f4"/>
              </a:gs>
            </a:gsLst>
            <a:lin ang="81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647388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e81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e81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3200400" y="2362320"/>
            <a:ext cx="2742480" cy="2889360"/>
            <a:chOff x="3200400" y="2362320"/>
            <a:chExt cx="2742480" cy="2889360"/>
          </a:xfrm>
        </p:grpSpPr>
        <p:sp>
          <p:nvSpPr>
            <p:cNvPr id="127" name="Oval 21"/>
            <p:cNvSpPr/>
            <p:nvPr/>
          </p:nvSpPr>
          <p:spPr>
            <a:xfrm>
              <a:off x="3206880" y="2362320"/>
              <a:ext cx="2726280" cy="2731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28" name="Picture 22" descr="aa"/>
            <p:cNvPicPr/>
            <p:nvPr/>
          </p:nvPicPr>
          <p:blipFill>
            <a:blip r:embed="rId2"/>
            <a:stretch/>
          </p:blipFill>
          <p:spPr>
            <a:xfrm>
              <a:off x="3200400" y="2362320"/>
              <a:ext cx="2738160" cy="27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rc 23"/>
            <p:cNvSpPr/>
            <p:nvPr/>
          </p:nvSpPr>
          <p:spPr>
            <a:xfrm>
              <a:off x="4579920" y="2365560"/>
              <a:ext cx="1361520" cy="1375920"/>
            </a:xfrm>
            <a:prstGeom prst="pie">
              <a:avLst/>
            </a:prstGeom>
            <a:solidFill>
              <a:srgbClr val="90a8b0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Arc 24"/>
            <p:cNvSpPr/>
            <p:nvPr/>
          </p:nvSpPr>
          <p:spPr>
            <a:xfrm rot="5400000">
              <a:off x="4557600" y="3724560"/>
              <a:ext cx="1400400" cy="1369800"/>
            </a:xfrm>
            <a:prstGeom prst="pie">
              <a:avLst/>
            </a:prstGeom>
            <a:solidFill>
              <a:srgbClr val="93c05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Arc 25"/>
            <p:cNvSpPr/>
            <p:nvPr/>
          </p:nvSpPr>
          <p:spPr>
            <a:xfrm flipH="1" flipV="1" rot="5400000">
              <a:off x="3212280" y="2369880"/>
              <a:ext cx="1371240" cy="1373040"/>
            </a:xfrm>
            <a:prstGeom prst="pie">
              <a:avLst/>
            </a:pr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Arc 26"/>
            <p:cNvSpPr/>
            <p:nvPr/>
          </p:nvSpPr>
          <p:spPr>
            <a:xfrm rot="10419000">
              <a:off x="3282840" y="3630960"/>
              <a:ext cx="1366560" cy="1549800"/>
            </a:xfrm>
            <a:prstGeom prst="pie">
              <a:avLst/>
            </a:prstGeom>
            <a:solidFill>
              <a:srgbClr val="90a8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WordArt 27"/>
            <p:cNvSpPr txBox="1"/>
            <p:nvPr/>
          </p:nvSpPr>
          <p:spPr>
            <a:xfrm rot="18976800">
              <a:off x="3520800" y="2870280"/>
              <a:ext cx="1374480" cy="1015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134" name="WordArt 28"/>
            <p:cNvSpPr txBox="1"/>
            <p:nvPr/>
          </p:nvSpPr>
          <p:spPr>
            <a:xfrm rot="2686800">
              <a:off x="4306680" y="2888640"/>
              <a:ext cx="1371240" cy="1015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135" name="WordArt 29"/>
            <p:cNvSpPr txBox="1"/>
            <p:nvPr/>
          </p:nvSpPr>
          <p:spPr>
            <a:xfrm rot="2760000">
              <a:off x="3413520" y="4005000"/>
              <a:ext cx="1275120" cy="50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8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003366"/>
                  </a:solidFill>
                  <a:latin typeface="Verdana"/>
                </a:rPr>
                <a:t>Your Text Here</a:t>
              </a:r>
              <a:endParaRPr b="0" lang="en-US" sz="1800" spc="-1" strike="noStrike">
                <a:ln w="0">
                  <a:noFill/>
                </a:ln>
                <a:solidFill>
                  <a:srgbClr val="003366"/>
                </a:solidFill>
                <a:latin typeface="Verdana"/>
                <a:ea typeface="Verdana"/>
              </a:endParaRPr>
            </a:p>
          </p:txBody>
        </p:sp>
        <p:sp>
          <p:nvSpPr>
            <p:cNvPr id="136" name="WordArt 30"/>
            <p:cNvSpPr txBox="1"/>
            <p:nvPr/>
          </p:nvSpPr>
          <p:spPr>
            <a:xfrm rot="19083600">
              <a:off x="4477680" y="3984840"/>
              <a:ext cx="1263960" cy="511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137" name="Group 31"/>
            <p:cNvGrpSpPr/>
            <p:nvPr/>
          </p:nvGrpSpPr>
          <p:grpSpPr>
            <a:xfrm>
              <a:off x="3839760" y="2989440"/>
              <a:ext cx="1465200" cy="1508040"/>
              <a:chOff x="3839760" y="2989440"/>
              <a:chExt cx="1465200" cy="1508040"/>
            </a:xfrm>
          </p:grpSpPr>
          <p:pic>
            <p:nvPicPr>
              <p:cNvPr id="138" name="Picture 3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844440" y="2997360"/>
                <a:ext cx="1460520" cy="142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Oval 33"/>
              <p:cNvGrpSpPr/>
              <p:nvPr/>
            </p:nvGrpSpPr>
            <p:grpSpPr>
              <a:xfrm>
                <a:off x="3839760" y="2989440"/>
                <a:ext cx="1463760" cy="1442520"/>
                <a:chOff x="3839760" y="2989440"/>
                <a:chExt cx="1463760" cy="1442520"/>
              </a:xfrm>
            </p:grpSpPr>
            <p:pic>
              <p:nvPicPr>
                <p:cNvPr id="140" name="Oval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839760" y="2989440"/>
                  <a:ext cx="1463760" cy="144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>
                  <a:off x="4057560" y="3206880"/>
                  <a:ext cx="1026000" cy="101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34"/>
              <p:cNvSpPr/>
              <p:nvPr/>
            </p:nvSpPr>
            <p:spPr>
              <a:xfrm>
                <a:off x="3995280" y="3026160"/>
                <a:ext cx="1139760" cy="49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43" name="Group 35"/>
              <p:cNvGrpSpPr/>
              <p:nvPr/>
            </p:nvGrpSpPr>
            <p:grpSpPr>
              <a:xfrm>
                <a:off x="3947760" y="3985920"/>
                <a:ext cx="1281600" cy="511560"/>
                <a:chOff x="3947760" y="3985920"/>
                <a:chExt cx="1281600" cy="511560"/>
              </a:xfrm>
            </p:grpSpPr>
            <p:grpSp>
              <p:nvGrpSpPr>
                <p:cNvPr id="144" name="Group 36"/>
                <p:cNvGrpSpPr/>
                <p:nvPr/>
              </p:nvGrpSpPr>
              <p:grpSpPr>
                <a:xfrm>
                  <a:off x="4171680" y="3985920"/>
                  <a:ext cx="1057680" cy="480600"/>
                  <a:chOff x="4171680" y="3985920"/>
                  <a:chExt cx="1057680" cy="480600"/>
                </a:xfrm>
              </p:grpSpPr>
              <p:sp>
                <p:nvSpPr>
                  <p:cNvPr id="145" name="AutoShape 37"/>
                  <p:cNvSpPr/>
                  <p:nvPr/>
                </p:nvSpPr>
                <p:spPr>
                  <a:xfrm flipH="1" flipV="1" rot="3964800">
                    <a:off x="4748040" y="3841200"/>
                    <a:ext cx="184680" cy="76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38"/>
                  <p:cNvSpPr/>
                  <p:nvPr/>
                </p:nvSpPr>
                <p:spPr>
                  <a:xfrm flipH="1" flipV="1" rot="4780200">
                    <a:off x="4629240" y="3889800"/>
                    <a:ext cx="184680" cy="76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39"/>
                  <p:cNvSpPr/>
                  <p:nvPr/>
                </p:nvSpPr>
                <p:spPr>
                  <a:xfrm flipH="1" flipV="1" rot="5076000">
                    <a:off x="4556160" y="3899880"/>
                    <a:ext cx="184680" cy="76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40"/>
                  <p:cNvSpPr/>
                  <p:nvPr/>
                </p:nvSpPr>
                <p:spPr>
                  <a:xfrm flipH="1" flipV="1" rot="5608200">
                    <a:off x="4468320" y="3907440"/>
                    <a:ext cx="184680" cy="76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41"/>
                <p:cNvGrpSpPr/>
                <p:nvPr/>
              </p:nvGrpSpPr>
              <p:grpSpPr>
                <a:xfrm>
                  <a:off x="3947760" y="3992760"/>
                  <a:ext cx="1056240" cy="504720"/>
                  <a:chOff x="3947760" y="3992760"/>
                  <a:chExt cx="1056240" cy="504720"/>
                </a:xfrm>
              </p:grpSpPr>
              <p:sp>
                <p:nvSpPr>
                  <p:cNvPr id="150" name="AutoShape 42"/>
                  <p:cNvSpPr/>
                  <p:nvPr/>
                </p:nvSpPr>
                <p:spPr>
                  <a:xfrm flipH="1" flipV="1" rot="5317800">
                    <a:off x="4524480" y="3907440"/>
                    <a:ext cx="186120" cy="76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43"/>
                  <p:cNvSpPr/>
                  <p:nvPr/>
                </p:nvSpPr>
                <p:spPr>
                  <a:xfrm flipH="1" flipV="1" rot="6133800">
                    <a:off x="4395600" y="3906000"/>
                    <a:ext cx="186120" cy="76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44"/>
                  <p:cNvSpPr/>
                  <p:nvPr/>
                </p:nvSpPr>
                <p:spPr>
                  <a:xfrm flipH="1" flipV="1" rot="6429000">
                    <a:off x="4325040" y="3885840"/>
                    <a:ext cx="186120" cy="76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45"/>
                  <p:cNvSpPr/>
                  <p:nvPr/>
                </p:nvSpPr>
                <p:spPr>
                  <a:xfrm flipH="1" flipV="1" rot="6961200">
                    <a:off x="4240080" y="3860640"/>
                    <a:ext cx="186120" cy="76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4" name="Rectangle 46"/>
            <p:cNvSpPr/>
            <p:nvPr/>
          </p:nvSpPr>
          <p:spPr>
            <a:xfrm>
              <a:off x="4222800" y="35287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中间到左右上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7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9"/>
            <p:cNvSpPr/>
            <p:nvPr/>
          </p:nvSpPr>
          <p:spPr>
            <a:xfrm>
              <a:off x="3125520" y="5288760"/>
              <a:ext cx="2816280" cy="57276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中间到左右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7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8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AutoShape 6"/>
              <p:cNvSpPr/>
              <p:nvPr/>
            </p:nvSpPr>
            <p:spPr>
              <a:xfrm flipH="1" rot="5400000">
                <a:off x="5531760" y="3205440"/>
                <a:ext cx="45936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AutoShape 7"/>
              <p:cNvSpPr/>
              <p:nvPr/>
            </p:nvSpPr>
            <p:spPr>
              <a:xfrm flipH="1" rot="10800000">
                <a:off x="4234680" y="4609800"/>
                <a:ext cx="44316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Oval 8"/>
              <p:cNvSpPr/>
              <p:nvPr/>
            </p:nvSpPr>
            <p:spPr>
              <a:xfrm>
                <a:off x="3305160" y="2209680"/>
                <a:ext cx="2322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Oval 9"/>
              <p:cNvSpPr/>
              <p:nvPr/>
            </p:nvSpPr>
            <p:spPr>
              <a:xfrm>
                <a:off x="3437640" y="2344680"/>
                <a:ext cx="205632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Oval 10"/>
              <p:cNvSpPr/>
              <p:nvPr/>
            </p:nvSpPr>
            <p:spPr>
              <a:xfrm>
                <a:off x="3560040" y="2471040"/>
                <a:ext cx="1813320" cy="187848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ffffff"/>
                  </a:gs>
                  <a:gs pos="100000">
                    <a:srgbClr val="6e815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11"/>
              <p:cNvSpPr/>
              <p:nvPr/>
            </p:nvSpPr>
            <p:spPr>
              <a:xfrm>
                <a:off x="3558600" y="2471040"/>
                <a:ext cx="1814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12"/>
              <p:cNvSpPr/>
              <p:nvPr/>
            </p:nvSpPr>
            <p:spPr>
              <a:xfrm>
                <a:off x="3678120" y="2595960"/>
                <a:ext cx="1576080" cy="16315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3c4631"/>
                  </a:gs>
                  <a:gs pos="100000">
                    <a:srgbClr val="6e815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3"/>
              <p:cNvSpPr/>
              <p:nvPr/>
            </p:nvSpPr>
            <p:spPr>
              <a:xfrm>
                <a:off x="3678120" y="2594520"/>
                <a:ext cx="157608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7" name="AutoShape 14"/>
            <p:cNvSpPr/>
            <p:nvPr/>
          </p:nvSpPr>
          <p:spPr>
            <a:xfrm>
              <a:off x="1143000" y="3707640"/>
              <a:ext cx="1658880" cy="561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16"/>
            <p:cNvSpPr/>
            <p:nvPr/>
          </p:nvSpPr>
          <p:spPr>
            <a:xfrm>
              <a:off x="1143000" y="2709000"/>
              <a:ext cx="1658880" cy="561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17"/>
            <p:cNvSpPr/>
            <p:nvPr/>
          </p:nvSpPr>
          <p:spPr>
            <a:xfrm>
              <a:off x="6120360" y="3707640"/>
              <a:ext cx="1728360" cy="561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9"/>
            <p:cNvSpPr/>
            <p:nvPr/>
          </p:nvSpPr>
          <p:spPr>
            <a:xfrm>
              <a:off x="6120360" y="2709000"/>
              <a:ext cx="1728360" cy="561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03" name="AutoShape 4"/>
            <p:cNvSpPr/>
            <p:nvPr/>
          </p:nvSpPr>
          <p:spPr>
            <a:xfrm flipH="1" rot="16200000">
              <a:off x="2817360" y="324396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bdae4"/>
                </a:gs>
                <a:gs pos="100000">
                  <a:srgbClr val="51a0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 flipH="1" rot="5400000">
              <a:off x="5688720" y="319032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bdae4"/>
                </a:gs>
                <a:gs pos="100000">
                  <a:srgbClr val="51a0b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bdae4"/>
                </a:gs>
                <a:gs pos="100000">
                  <a:srgbClr val="51a0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Oval 7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Oval 8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Oval 9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50000">
                  <a:srgbClr val="ffffff"/>
                </a:gs>
                <a:gs pos="100000">
                  <a:srgbClr val="6e81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Oval 10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Oval 11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50000">
                  <a:srgbClr val="3c4631"/>
                </a:gs>
                <a:gs pos="100000">
                  <a:srgbClr val="6e81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AutoShape 13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375112"/>
                </a:gs>
                <a:gs pos="100000">
                  <a:srgbClr val="77ae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AutoShape 14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375112"/>
                </a:gs>
                <a:gs pos="100000">
                  <a:srgbClr val="77ae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AutoShape 15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375112"/>
                </a:gs>
                <a:gs pos="100000">
                  <a:srgbClr val="77ae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AutoShape 16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AutoShape 17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AutoShape 18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AutoShape 20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10800000"/>
            </a:gra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Text Box 23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左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方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1981080" y="3886200"/>
            <a:ext cx="5334120" cy="1371600"/>
            <a:chOff x="1981080" y="3886200"/>
            <a:chExt cx="5334120" cy="1371600"/>
          </a:xfrm>
        </p:grpSpPr>
        <p:grpSp>
          <p:nvGrpSpPr>
            <p:cNvPr id="228" name="Group 4"/>
            <p:cNvGrpSpPr/>
            <p:nvPr/>
          </p:nvGrpSpPr>
          <p:grpSpPr>
            <a:xfrm>
              <a:off x="1981080" y="3886200"/>
              <a:ext cx="5334120" cy="1371600"/>
              <a:chOff x="1981080" y="3886200"/>
              <a:chExt cx="5334120" cy="1371600"/>
            </a:xfrm>
          </p:grpSpPr>
          <p:sp>
            <p:nvSpPr>
              <p:cNvPr id="229" name="Freeform 5"/>
              <p:cNvSpPr/>
              <p:nvPr/>
            </p:nvSpPr>
            <p:spPr>
              <a:xfrm>
                <a:off x="1981080" y="4191120"/>
                <a:ext cx="5334120" cy="1066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7c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200400" y="3886200"/>
                <a:ext cx="3123720" cy="1371600"/>
                <a:chOff x="3200400" y="3886200"/>
                <a:chExt cx="3123720" cy="1371600"/>
              </a:xfrm>
            </p:grpSpPr>
            <p:sp>
              <p:nvSpPr>
                <p:cNvPr id="231" name="Line 7"/>
                <p:cNvSpPr/>
                <p:nvPr/>
              </p:nvSpPr>
              <p:spPr>
                <a:xfrm flipV="1">
                  <a:off x="3200400" y="4114440"/>
                  <a:ext cx="838080" cy="114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"/>
                <p:cNvSpPr/>
                <p:nvPr/>
              </p:nvSpPr>
              <p:spPr>
                <a:xfrm flipV="1">
                  <a:off x="4114800" y="3886200"/>
                  <a:ext cx="152280" cy="1371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9"/>
                <p:cNvSpPr/>
                <p:nvPr/>
              </p:nvSpPr>
              <p:spPr>
                <a:xfrm flipV="1">
                  <a:off x="4800600" y="3962520"/>
                  <a:ext cx="0" cy="129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0"/>
                <p:cNvSpPr/>
                <p:nvPr/>
              </p:nvSpPr>
              <p:spPr>
                <a:xfrm flipH="1" flipV="1">
                  <a:off x="5105520" y="4038120"/>
                  <a:ext cx="457200" cy="121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1"/>
                <p:cNvSpPr/>
                <p:nvPr/>
              </p:nvSpPr>
              <p:spPr>
                <a:xfrm flipH="1" flipV="1">
                  <a:off x="5333760" y="4114440"/>
                  <a:ext cx="990360" cy="114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Line 12"/>
            <p:cNvSpPr/>
            <p:nvPr/>
          </p:nvSpPr>
          <p:spPr>
            <a:xfrm>
              <a:off x="2590560" y="4876920"/>
              <a:ext cx="411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Line 13"/>
            <p:cNvSpPr/>
            <p:nvPr/>
          </p:nvSpPr>
          <p:spPr>
            <a:xfrm>
              <a:off x="3047760" y="4572000"/>
              <a:ext cx="320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Line 14"/>
            <p:cNvSpPr/>
            <p:nvPr/>
          </p:nvSpPr>
          <p:spPr>
            <a:xfrm>
              <a:off x="3352680" y="434340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9" name="Group 15"/>
          <p:cNvGrpSpPr/>
          <p:nvPr/>
        </p:nvGrpSpPr>
        <p:grpSpPr>
          <a:xfrm>
            <a:off x="457200" y="2141640"/>
            <a:ext cx="2556000" cy="2430000"/>
            <a:chOff x="457200" y="2141640"/>
            <a:chExt cx="2556000" cy="2430000"/>
          </a:xfrm>
        </p:grpSpPr>
        <p:pic>
          <p:nvPicPr>
            <p:cNvPr id="240" name="Picture 16" descr="pan_03"/>
            <p:cNvPicPr/>
            <p:nvPr/>
          </p:nvPicPr>
          <p:blipFill>
            <a:blip r:embed="rId2"/>
            <a:stretch/>
          </p:blipFill>
          <p:spPr>
            <a:xfrm flipH="1">
              <a:off x="462960" y="2141640"/>
              <a:ext cx="25394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Freeform 17"/>
            <p:cNvSpPr/>
            <p:nvPr/>
          </p:nvSpPr>
          <p:spPr>
            <a:xfrm>
              <a:off x="457200" y="2144880"/>
              <a:ext cx="2556000" cy="2421360"/>
            </a:xfrm>
            <a:prstGeom prst="pie">
              <a:avLst/>
            </a:prstGeom>
            <a:solidFill>
              <a:srgbClr val="438a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2" name="Group 18"/>
          <p:cNvGrpSpPr/>
          <p:nvPr/>
        </p:nvGrpSpPr>
        <p:grpSpPr>
          <a:xfrm>
            <a:off x="1676520" y="5257800"/>
            <a:ext cx="6019200" cy="685440"/>
            <a:chOff x="1676520" y="5257800"/>
            <a:chExt cx="6019200" cy="685440"/>
          </a:xfrm>
        </p:grpSpPr>
        <p:sp>
          <p:nvSpPr>
            <p:cNvPr id="243" name="AutoShape 19"/>
            <p:cNvSpPr/>
            <p:nvPr/>
          </p:nvSpPr>
          <p:spPr>
            <a:xfrm>
              <a:off x="1676520" y="5257800"/>
              <a:ext cx="6019200" cy="68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adce"/>
                </a:gs>
                <a:gs pos="50000">
                  <a:srgbClr val="97ccf3"/>
                </a:gs>
                <a:gs pos="100000">
                  <a:srgbClr val="80adc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AutoShape 20"/>
            <p:cNvSpPr/>
            <p:nvPr/>
          </p:nvSpPr>
          <p:spPr>
            <a:xfrm>
              <a:off x="1962360" y="5367600"/>
              <a:ext cx="5417280" cy="43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6ebfa"/>
                </a:gs>
                <a:gs pos="50000">
                  <a:srgbClr val="97ccf3"/>
                </a:gs>
                <a:gs pos="100000">
                  <a:srgbClr val="d6ebfa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1a0b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Text Box 21"/>
          <p:cNvSpPr/>
          <p:nvPr/>
        </p:nvSpPr>
        <p:spPr>
          <a:xfrm>
            <a:off x="609480" y="244620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WordArt 22"/>
          <p:cNvSpPr txBox="1"/>
          <p:nvPr/>
        </p:nvSpPr>
        <p:spPr>
          <a:xfrm>
            <a:off x="3352680" y="1836720"/>
            <a:ext cx="243864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9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1c1c1c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1c1c1c"/>
              </a:solidFill>
              <a:latin typeface="Verdana"/>
              <a:ea typeface="Verdana"/>
            </a:endParaRPr>
          </a:p>
        </p:txBody>
      </p:sp>
      <p:grpSp>
        <p:nvGrpSpPr>
          <p:cNvPr id="247" name="Group 23"/>
          <p:cNvGrpSpPr/>
          <p:nvPr/>
        </p:nvGrpSpPr>
        <p:grpSpPr>
          <a:xfrm>
            <a:off x="6137280" y="2141640"/>
            <a:ext cx="2625840" cy="2353680"/>
            <a:chOff x="6137280" y="2141640"/>
            <a:chExt cx="2625840" cy="2353680"/>
          </a:xfrm>
        </p:grpSpPr>
        <p:pic>
          <p:nvPicPr>
            <p:cNvPr id="248" name="Picture 24" descr="pan_03"/>
            <p:cNvPicPr/>
            <p:nvPr/>
          </p:nvPicPr>
          <p:blipFill>
            <a:blip r:embed="rId3"/>
            <a:stretch/>
          </p:blipFill>
          <p:spPr>
            <a:xfrm>
              <a:off x="6148440" y="2141640"/>
              <a:ext cx="2608560" cy="23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Freeform 25"/>
            <p:cNvSpPr/>
            <p:nvPr/>
          </p:nvSpPr>
          <p:spPr>
            <a:xfrm flipH="1">
              <a:off x="6137280" y="2144880"/>
              <a:ext cx="2625840" cy="2345400"/>
            </a:xfrm>
            <a:prstGeom prst="pie">
              <a:avLst/>
            </a:prstGeom>
            <a:solidFill>
              <a:srgbClr val="438a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0" name="Text Box 26"/>
          <p:cNvSpPr/>
          <p:nvPr/>
        </p:nvSpPr>
        <p:spPr>
          <a:xfrm>
            <a:off x="6213600" y="2522520"/>
            <a:ext cx="213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1" name="Group 27"/>
          <p:cNvGrpSpPr/>
          <p:nvPr/>
        </p:nvGrpSpPr>
        <p:grpSpPr>
          <a:xfrm>
            <a:off x="3124080" y="2446200"/>
            <a:ext cx="2895480" cy="1325520"/>
            <a:chOff x="3124080" y="2446200"/>
            <a:chExt cx="2895480" cy="1325520"/>
          </a:xfrm>
        </p:grpSpPr>
        <p:sp>
          <p:nvSpPr>
            <p:cNvPr id="252" name="Oval 28"/>
            <p:cNvSpPr/>
            <p:nvPr/>
          </p:nvSpPr>
          <p:spPr>
            <a:xfrm>
              <a:off x="3155760" y="2488320"/>
              <a:ext cx="2863800" cy="12834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4182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Oval 29"/>
            <p:cNvSpPr/>
            <p:nvPr/>
          </p:nvSpPr>
          <p:spPr>
            <a:xfrm>
              <a:off x="3124080" y="2446200"/>
              <a:ext cx="2864160" cy="1283400"/>
            </a:xfrm>
            <a:prstGeom prst="ellipse">
              <a:avLst/>
            </a:prstGeom>
            <a:gradFill rotWithShape="0">
              <a:gsLst>
                <a:gs pos="0">
                  <a:srgbClr val="1d80e3"/>
                </a:gs>
                <a:gs pos="100000">
                  <a:srgbClr val="9bc7f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Oval 30"/>
          <p:cNvSpPr/>
          <p:nvPr/>
        </p:nvSpPr>
        <p:spPr>
          <a:xfrm>
            <a:off x="3260880" y="2370240"/>
            <a:ext cx="2592360" cy="1149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Oval 31"/>
          <p:cNvSpPr/>
          <p:nvPr/>
        </p:nvSpPr>
        <p:spPr>
          <a:xfrm>
            <a:off x="3294000" y="2376360"/>
            <a:ext cx="2529000" cy="1121040"/>
          </a:xfrm>
          <a:prstGeom prst="ellipse">
            <a:avLst/>
          </a:prstGeom>
          <a:gradFill rotWithShape="0">
            <a:gsLst>
              <a:gs pos="0">
                <a:srgbClr val="ffeda6"/>
              </a:gs>
              <a:gs pos="100000">
                <a:srgbClr val="ffcc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Oval 32"/>
          <p:cNvSpPr/>
          <p:nvPr/>
        </p:nvSpPr>
        <p:spPr>
          <a:xfrm>
            <a:off x="3321000" y="2387520"/>
            <a:ext cx="2406600" cy="1046160"/>
          </a:xfrm>
          <a:prstGeom prst="ellipse">
            <a:avLst/>
          </a:prstGeom>
          <a:gradFill rotWithShape="0">
            <a:gsLst>
              <a:gs pos="0">
                <a:srgbClr val="ffcc00">
                  <a:alpha val="48235"/>
                </a:srgbClr>
              </a:gs>
              <a:gs pos="100000">
                <a:srgbClr val="caa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Oval 33"/>
          <p:cNvSpPr/>
          <p:nvPr/>
        </p:nvSpPr>
        <p:spPr>
          <a:xfrm>
            <a:off x="3448080" y="2411280"/>
            <a:ext cx="2117520" cy="847800"/>
          </a:xfrm>
          <a:prstGeom prst="ellipse">
            <a:avLst/>
          </a:prstGeom>
          <a:gradFill rotWithShape="0">
            <a:gsLst>
              <a:gs pos="0">
                <a:srgbClr val="ffcc00">
                  <a:alpha val="38039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Text Box 34"/>
          <p:cNvSpPr/>
          <p:nvPr/>
        </p:nvSpPr>
        <p:spPr>
          <a:xfrm>
            <a:off x="3959280" y="2522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9" name="Group 35"/>
          <p:cNvGrpSpPr/>
          <p:nvPr/>
        </p:nvGrpSpPr>
        <p:grpSpPr>
          <a:xfrm>
            <a:off x="4038480" y="3970440"/>
            <a:ext cx="457200" cy="1137600"/>
            <a:chOff x="4038480" y="3970440"/>
            <a:chExt cx="457200" cy="1137600"/>
          </a:xfrm>
        </p:grpSpPr>
        <p:sp>
          <p:nvSpPr>
            <p:cNvPr id="260" name="Freeform 36"/>
            <p:cNvSpPr/>
            <p:nvPr/>
          </p:nvSpPr>
          <p:spPr>
            <a:xfrm>
              <a:off x="4149360" y="3970440"/>
              <a:ext cx="213840" cy="231840"/>
            </a:xfrm>
            <a:prstGeom prst="pie">
              <a:avLst/>
            </a:pr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Freeform 37"/>
            <p:cNvSpPr/>
            <p:nvPr/>
          </p:nvSpPr>
          <p:spPr>
            <a:xfrm>
              <a:off x="4038480" y="4227120"/>
              <a:ext cx="457200" cy="880920"/>
            </a:xfrm>
            <a:prstGeom prst="pie">
              <a:avLst/>
            </a:pr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2" name="Group 38"/>
          <p:cNvGrpSpPr/>
          <p:nvPr/>
        </p:nvGrpSpPr>
        <p:grpSpPr>
          <a:xfrm>
            <a:off x="4572000" y="3970440"/>
            <a:ext cx="457200" cy="1137600"/>
            <a:chOff x="4572000" y="3970440"/>
            <a:chExt cx="457200" cy="1137600"/>
          </a:xfrm>
        </p:grpSpPr>
        <p:sp>
          <p:nvSpPr>
            <p:cNvPr id="263" name="Freeform 39"/>
            <p:cNvSpPr/>
            <p:nvPr/>
          </p:nvSpPr>
          <p:spPr>
            <a:xfrm>
              <a:off x="4682880" y="3970440"/>
              <a:ext cx="213840" cy="231840"/>
            </a:xfrm>
            <a:prstGeom prst="pie">
              <a:avLst/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Freeform 40"/>
            <p:cNvSpPr/>
            <p:nvPr/>
          </p:nvSpPr>
          <p:spPr>
            <a:xfrm>
              <a:off x="4572000" y="4227120"/>
              <a:ext cx="457200" cy="880920"/>
            </a:xfrm>
            <a:prstGeom prst="pie">
              <a:avLst/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1447920" y="5181480"/>
            <a:ext cx="58672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d5d9"/>
              </a:gs>
              <a:gs pos="100000">
                <a:srgbClr val="90a8b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左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方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1066680" y="2293920"/>
            <a:ext cx="3041280" cy="2430000"/>
            <a:chOff x="1066680" y="2293920"/>
            <a:chExt cx="3041280" cy="2430000"/>
          </a:xfrm>
        </p:grpSpPr>
        <p:pic>
          <p:nvPicPr>
            <p:cNvPr id="268" name="Picture 5" descr="pan_03"/>
            <p:cNvPicPr/>
            <p:nvPr/>
          </p:nvPicPr>
          <p:blipFill>
            <a:blip r:embed="rId2"/>
            <a:stretch/>
          </p:blipFill>
          <p:spPr>
            <a:xfrm flipH="1">
              <a:off x="1073880" y="2295360"/>
              <a:ext cx="3021840" cy="242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" name="Freeform 6"/>
            <p:cNvGrpSpPr/>
            <p:nvPr/>
          </p:nvGrpSpPr>
          <p:grpSpPr>
            <a:xfrm>
              <a:off x="1066680" y="2293920"/>
              <a:ext cx="3041280" cy="2430000"/>
              <a:chOff x="1066680" y="2293920"/>
              <a:chExt cx="3041280" cy="2430000"/>
            </a:xfrm>
          </p:grpSpPr>
          <p:pic>
            <p:nvPicPr>
              <p:cNvPr id="270" name="Freefor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293920"/>
                <a:ext cx="3041280" cy="24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066680" y="2298960"/>
                <a:ext cx="3041280" cy="24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 Box 7"/>
          <p:cNvSpPr/>
          <p:nvPr/>
        </p:nvSpPr>
        <p:spPr>
          <a:xfrm>
            <a:off x="1371600" y="282744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WordArt 8"/>
          <p:cNvSpPr txBox="1"/>
          <p:nvPr/>
        </p:nvSpPr>
        <p:spPr>
          <a:xfrm>
            <a:off x="2895480" y="1905120"/>
            <a:ext cx="27432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1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3366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003366"/>
              </a:solidFill>
              <a:latin typeface="Verdana"/>
              <a:ea typeface="Verdana"/>
            </a:endParaRPr>
          </a:p>
        </p:txBody>
      </p:sp>
      <p:grpSp>
        <p:nvGrpSpPr>
          <p:cNvPr id="274" name="Group 9"/>
          <p:cNvGrpSpPr/>
          <p:nvPr/>
        </p:nvGrpSpPr>
        <p:grpSpPr>
          <a:xfrm>
            <a:off x="4420440" y="2286000"/>
            <a:ext cx="3123720" cy="2437920"/>
            <a:chOff x="4420440" y="2286000"/>
            <a:chExt cx="3123720" cy="2437920"/>
          </a:xfrm>
        </p:grpSpPr>
        <p:pic>
          <p:nvPicPr>
            <p:cNvPr id="275" name="Picture 10" descr="pan_03"/>
            <p:cNvPicPr/>
            <p:nvPr/>
          </p:nvPicPr>
          <p:blipFill>
            <a:blip r:embed="rId4"/>
            <a:stretch/>
          </p:blipFill>
          <p:spPr>
            <a:xfrm>
              <a:off x="4433400" y="2286000"/>
              <a:ext cx="3099960" cy="24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Freeform 11"/>
            <p:cNvGrpSpPr/>
            <p:nvPr/>
          </p:nvGrpSpPr>
          <p:grpSpPr>
            <a:xfrm>
              <a:off x="4420440" y="2286000"/>
              <a:ext cx="3123720" cy="2437920"/>
              <a:chOff x="4420440" y="2286000"/>
              <a:chExt cx="3123720" cy="2437920"/>
            </a:xfrm>
          </p:grpSpPr>
          <p:pic>
            <p:nvPicPr>
              <p:cNvPr id="277" name="Freeform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420440" y="2286000"/>
                <a:ext cx="3123720" cy="24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4420440" y="2289240"/>
                <a:ext cx="3120840" cy="242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Text Box 12"/>
          <p:cNvSpPr/>
          <p:nvPr/>
        </p:nvSpPr>
        <p:spPr>
          <a:xfrm>
            <a:off x="4648320" y="292248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1828800" y="527364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14" descr="173"/>
          <p:cNvPicPr/>
          <p:nvPr/>
        </p:nvPicPr>
        <p:blipFill>
          <a:blip r:embed="rId6"/>
          <a:stretch/>
        </p:blipFill>
        <p:spPr>
          <a:xfrm>
            <a:off x="3276720" y="358128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502920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438acb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左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方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150192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0a8b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4092480" y="1905120"/>
            <a:ext cx="790560" cy="1976400"/>
            <a:chOff x="4092480" y="1905120"/>
            <a:chExt cx="790560" cy="1976400"/>
          </a:xfrm>
        </p:grpSpPr>
        <p:sp>
          <p:nvSpPr>
            <p:cNvPr id="286" name="Freeform 6"/>
            <p:cNvSpPr/>
            <p:nvPr/>
          </p:nvSpPr>
          <p:spPr>
            <a:xfrm>
              <a:off x="4284720" y="1905120"/>
              <a:ext cx="369720" cy="403200"/>
            </a:xfrm>
            <a:prstGeom prst="pie">
              <a:avLst/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4092480" y="2351160"/>
              <a:ext cx="790560" cy="1530360"/>
            </a:xfrm>
            <a:prstGeom prst="pie">
              <a:avLst/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8" name="Text Box 8"/>
          <p:cNvSpPr/>
          <p:nvPr/>
        </p:nvSpPr>
        <p:spPr>
          <a:xfrm>
            <a:off x="1730520" y="2971800"/>
            <a:ext cx="2438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769000" y="29718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0" name="Group 10"/>
          <p:cNvGrpSpPr/>
          <p:nvPr/>
        </p:nvGrpSpPr>
        <p:grpSpPr>
          <a:xfrm>
            <a:off x="5006880" y="1905120"/>
            <a:ext cx="790560" cy="1976400"/>
            <a:chOff x="5006880" y="1905120"/>
            <a:chExt cx="790560" cy="1976400"/>
          </a:xfrm>
        </p:grpSpPr>
        <p:sp>
          <p:nvSpPr>
            <p:cNvPr id="291" name="Freeform 11"/>
            <p:cNvSpPr/>
            <p:nvPr/>
          </p:nvSpPr>
          <p:spPr>
            <a:xfrm>
              <a:off x="5199120" y="1905120"/>
              <a:ext cx="369720" cy="403200"/>
            </a:xfrm>
            <a:prstGeom prst="pie">
              <a:avLst/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5006880" y="2351160"/>
              <a:ext cx="790560" cy="1530360"/>
            </a:xfrm>
            <a:prstGeom prst="pie">
              <a:avLst/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438acb"/>
          </a:solidFill>
          <a:ln w="50760">
            <a:solidFill>
              <a:srgbClr val="003366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左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个方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6e815b"/>
          </a:solidFill>
          <a:ln w="50760">
            <a:solidFill>
              <a:srgbClr val="003366"/>
            </a:solidFill>
            <a:miter/>
          </a:ln>
          <a:effectLst>
            <a:outerShdw dist="107932" dir="81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6" name="Group 5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297" name="Freeform 6"/>
            <p:cNvSpPr/>
            <p:nvPr/>
          </p:nvSpPr>
          <p:spPr>
            <a:xfrm>
              <a:off x="3621240" y="1981080"/>
              <a:ext cx="369720" cy="403200"/>
            </a:xfrm>
            <a:prstGeom prst="pi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Freeform 7"/>
            <p:cNvSpPr/>
            <p:nvPr/>
          </p:nvSpPr>
          <p:spPr>
            <a:xfrm>
              <a:off x="3429000" y="2427120"/>
              <a:ext cx="790560" cy="1530360"/>
            </a:xfrm>
            <a:prstGeom prst="pi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9" name="Text Box 8"/>
          <p:cNvSpPr/>
          <p:nvPr/>
        </p:nvSpPr>
        <p:spPr>
          <a:xfrm>
            <a:off x="1066680" y="304812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5105520" y="304812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1" name="Group 10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302" name="Freeform 11"/>
            <p:cNvSpPr/>
            <p:nvPr/>
          </p:nvSpPr>
          <p:spPr>
            <a:xfrm>
              <a:off x="4535640" y="1981080"/>
              <a:ext cx="369720" cy="403200"/>
            </a:xfrm>
            <a:prstGeom prst="pie">
              <a:avLst/>
            </a:prstGeom>
            <a:gradFill rotWithShape="0">
              <a:gsLst>
                <a:gs pos="0">
                  <a:srgbClr val="438a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4343400" y="2427120"/>
              <a:ext cx="790560" cy="1530360"/>
            </a:xfrm>
            <a:prstGeom prst="pie">
              <a:avLst/>
            </a:prstGeom>
            <a:gradFill rotWithShape="0">
              <a:gsLst>
                <a:gs pos="0">
                  <a:srgbClr val="438a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8:50:10Z</dcterms:created>
  <dc:creator>http://www.eeppt.com</dc:creator>
  <dc:description>ppt模板下载网站 http://www.eeppt.com</dc:description>
  <dc:language>en-US</dc:language>
  <cp:lastModifiedBy/>
  <dcterms:modified xsi:type="dcterms:W3CDTF">2015-06-14T15:35:25Z</dcterms:modified>
  <cp:revision>1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