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4AB-D0BD-44EA-AD09-978CB795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D85-B555-49FC-8C89-36668A6F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5FC-70DE-4F32-97E7-24B6C740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975-E3EF-4B86-9A4C-412B9491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E5F1-7AA1-4EBC-B3D5-50C0D97E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BBDF-3D1D-49C4-AF4F-38D96AD5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6A02-6707-48FC-8D9E-A1C13964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CF2C-4C59-4D52-B08A-894F2AA2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9E68-8AAA-478E-987B-C82E7DF6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EE39-E4AD-4249-9683-B8B33BE4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3CE3-597E-488E-B8D8-FA21E7B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EF5-7E02-4869-B402-142168C0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8980-592C-4B33-8AEE-5F9118F2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3B61-D72E-4EA1-BF6A-97FA50C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D88C-1B1F-4EF8-920D-A765A70B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1742-B3CB-4694-B0AE-A985A9B0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EB72-DDE8-44A9-8741-2C07EC2B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825-1E21-4E0A-8CA5-4ECBAB9F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C4A-AA80-45F7-B77F-57435C3A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894-55D3-4C0C-84C9-D7B82BC6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BE9-548E-4B72-A25B-2BAB9FF0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1CA-E931-4272-A06A-D871840B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05E-26C8-4AC9-BCCB-59305B6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A2E-9907-4298-97A7-0DD5F872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6EF5-9762-4532-8394-A6B18A1543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314B-EDC2-4554-AC42-2A9D9B5E6C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9431-5690-4A89-8FFF-88EE12BD2F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9C1D-FABE-404D-9488-D22B8482C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201787-12062FS50673.jpg"/>
          <p:cNvPicPr/>
          <p:nvPr/>
        </p:nvPicPr>
        <p:blipFill>
          <a:blip r:embed="rId1"/>
          <a:stretch/>
        </p:blipFill>
        <p:spPr>
          <a:xfrm>
            <a:off x="1325520" y="0"/>
            <a:ext cx="7818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8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