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2835-6F64-4DFA-8614-8B7636C22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DFF9-5AF2-45C2-91F1-6392D9C5F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6A16-803F-4E64-BDE1-3ED611D07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79F7-927B-4F98-A33A-58283AD50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E8DE-7246-4A31-80B5-76F47C11D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7FA2-9697-490B-839A-6F0017811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7F96-9DC7-4911-82ED-4AA0921F1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6C23-EE18-4607-A9E8-BB2A4BF8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81A3-30C5-4733-B95A-ED6FD1EFC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E6CE-DA59-46D7-BB5D-24A718DEA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DECB-3FD6-4F0E-AB81-434474FFC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4673-333A-4032-A042-460290CF3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aab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3f7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F793-07AE-4495-AC3A-682078A374BA}" type="slidenum">
              <a:rPr b="0" lang="en-US" sz="1400" spc="-1" strike="noStrike">
                <a:solidFill>
                  <a:srgbClr val="113f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983000" y="43920"/>
            <a:ext cx="697320" cy="688320"/>
            <a:chOff x="7983000" y="43920"/>
            <a:chExt cx="697320" cy="688320"/>
          </a:xfrm>
        </p:grpSpPr>
        <p:sp>
          <p:nvSpPr>
            <p:cNvPr id="19" name=""/>
            <p:cNvSpPr/>
            <p:nvPr/>
          </p:nvSpPr>
          <p:spPr>
            <a:xfrm rot="149400">
              <a:off x="8192880" y="258840"/>
              <a:ext cx="277920" cy="27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8447040" y="492840"/>
              <a:ext cx="152640" cy="133560"/>
              <a:chOff x="8447040" y="492840"/>
              <a:chExt cx="152640" cy="133560"/>
            </a:xfrm>
          </p:grpSpPr>
          <p:sp>
            <p:nvSpPr>
              <p:cNvPr id="21" name=""/>
              <p:cNvSpPr/>
              <p:nvPr/>
            </p:nvSpPr>
            <p:spPr>
              <a:xfrm rot="334800">
                <a:off x="8517600" y="55296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4800">
                <a:off x="8562600" y="592920"/>
                <a:ext cx="3528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334800">
                <a:off x="8449560" y="496080"/>
                <a:ext cx="7020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8485560" y="364320"/>
              <a:ext cx="194760" cy="91800"/>
              <a:chOff x="8485560" y="364320"/>
              <a:chExt cx="194760" cy="91800"/>
            </a:xfrm>
          </p:grpSpPr>
          <p:sp>
            <p:nvSpPr>
              <p:cNvPr id="25" name=""/>
              <p:cNvSpPr/>
              <p:nvPr/>
            </p:nvSpPr>
            <p:spPr>
              <a:xfrm rot="19495200">
                <a:off x="8582400" y="38916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495200">
                <a:off x="8639280" y="39456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9495200">
                <a:off x="8497080" y="37836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460360" y="176760"/>
              <a:ext cx="157320" cy="130680"/>
              <a:chOff x="8460360" y="176760"/>
              <a:chExt cx="157320" cy="130680"/>
            </a:xfrm>
          </p:grpSpPr>
          <p:sp>
            <p:nvSpPr>
              <p:cNvPr id="29" name=""/>
              <p:cNvSpPr/>
              <p:nvPr/>
            </p:nvSpPr>
            <p:spPr>
              <a:xfrm rot="16953000">
                <a:off x="8537760" y="20340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53000">
                <a:off x="8581320" y="178560"/>
                <a:ext cx="3168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6953000">
                <a:off x="8469000" y="23400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8287200" y="540360"/>
              <a:ext cx="94680" cy="191880"/>
              <a:chOff x="8287200" y="540360"/>
              <a:chExt cx="94680" cy="191880"/>
            </a:xfrm>
          </p:grpSpPr>
          <p:sp>
            <p:nvSpPr>
              <p:cNvPr id="33" name=""/>
              <p:cNvSpPr/>
              <p:nvPr/>
            </p:nvSpPr>
            <p:spPr>
              <a:xfrm rot="2913000">
                <a:off x="8314920" y="632880"/>
                <a:ext cx="38520" cy="4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13000">
                <a:off x="8319960" y="691200"/>
                <a:ext cx="3168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2913000">
                <a:off x="8302680" y="55224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8294400" y="43920"/>
              <a:ext cx="94680" cy="191880"/>
              <a:chOff x="8294400" y="43920"/>
              <a:chExt cx="94680" cy="191880"/>
            </a:xfrm>
          </p:grpSpPr>
          <p:sp>
            <p:nvSpPr>
              <p:cNvPr id="37" name=""/>
              <p:cNvSpPr/>
              <p:nvPr/>
            </p:nvSpPr>
            <p:spPr>
              <a:xfrm rot="13711800">
                <a:off x="8322480" y="94680"/>
                <a:ext cx="38520" cy="4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711800">
                <a:off x="8324280" y="49680"/>
                <a:ext cx="3168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3711800">
                <a:off x="8309880" y="15336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8086320" y="138960"/>
              <a:ext cx="145080" cy="150120"/>
              <a:chOff x="8086320" y="138960"/>
              <a:chExt cx="145080" cy="150120"/>
            </a:xfrm>
          </p:grpSpPr>
          <p:sp>
            <p:nvSpPr>
              <p:cNvPr id="41" name=""/>
              <p:cNvSpPr/>
              <p:nvPr/>
            </p:nvSpPr>
            <p:spPr>
              <a:xfrm rot="11530200">
                <a:off x="8121600" y="174600"/>
                <a:ext cx="42120" cy="4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30200">
                <a:off x="8089200" y="141840"/>
                <a:ext cx="34560" cy="32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1530200">
                <a:off x="8155440" y="218160"/>
                <a:ext cx="69480" cy="64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7983000" y="342720"/>
              <a:ext cx="193320" cy="90720"/>
              <a:chOff x="7983000" y="342720"/>
              <a:chExt cx="193320" cy="90720"/>
            </a:xfrm>
          </p:grpSpPr>
          <p:sp>
            <p:nvSpPr>
              <p:cNvPr id="45" name=""/>
              <p:cNvSpPr/>
              <p:nvPr/>
            </p:nvSpPr>
            <p:spPr>
              <a:xfrm rot="8884800">
                <a:off x="8037000" y="361440"/>
                <a:ext cx="42480" cy="4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4800">
                <a:off x="7988400" y="3657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884800">
                <a:off x="8094960" y="35604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057520" y="483480"/>
              <a:ext cx="169200" cy="123120"/>
              <a:chOff x="8057520" y="483480"/>
              <a:chExt cx="169200" cy="123120"/>
            </a:xfrm>
          </p:grpSpPr>
          <p:sp>
            <p:nvSpPr>
              <p:cNvPr id="49" name=""/>
              <p:cNvSpPr/>
              <p:nvPr/>
            </p:nvSpPr>
            <p:spPr>
              <a:xfrm rot="6558000">
                <a:off x="8103600" y="53532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58000">
                <a:off x="8063280" y="568440"/>
                <a:ext cx="3168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6558000">
                <a:off x="8151480" y="489960"/>
                <a:ext cx="63360" cy="6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07920" y="634320"/>
            <a:ext cx="1995840" cy="2065680"/>
            <a:chOff x="907920" y="634320"/>
            <a:chExt cx="1995840" cy="2065680"/>
          </a:xfrm>
        </p:grpSpPr>
        <p:sp>
          <p:nvSpPr>
            <p:cNvPr id="100" name=""/>
            <p:cNvSpPr/>
            <p:nvPr/>
          </p:nvSpPr>
          <p:spPr>
            <a:xfrm rot="292200">
              <a:off x="1514520" y="1253520"/>
              <a:ext cx="790200" cy="842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212560" y="1997640"/>
              <a:ext cx="424080" cy="428400"/>
              <a:chOff x="2212560" y="1997640"/>
              <a:chExt cx="424080" cy="428400"/>
            </a:xfrm>
          </p:grpSpPr>
          <p:sp>
            <p:nvSpPr>
              <p:cNvPr id="102" name=""/>
              <p:cNvSpPr/>
              <p:nvPr/>
            </p:nvSpPr>
            <p:spPr>
              <a:xfrm rot="477600">
                <a:off x="2409840" y="2192760"/>
                <a:ext cx="12096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477600">
                <a:off x="2530800" y="232056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77600">
                <a:off x="2225160" y="2010240"/>
                <a:ext cx="198720" cy="19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333880" y="1605240"/>
              <a:ext cx="569880" cy="274320"/>
              <a:chOff x="2333880" y="1605240"/>
              <a:chExt cx="569880" cy="274320"/>
            </a:xfrm>
          </p:grpSpPr>
          <p:sp>
            <p:nvSpPr>
              <p:cNvPr id="106" name=""/>
              <p:cNvSpPr/>
              <p:nvPr/>
            </p:nvSpPr>
            <p:spPr>
              <a:xfrm rot="19638000">
                <a:off x="2619720" y="169452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9638000">
                <a:off x="2785320" y="1725480"/>
                <a:ext cx="99000" cy="99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638000">
                <a:off x="2371680" y="1642680"/>
                <a:ext cx="198000" cy="19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9520" y="1014120"/>
              <a:ext cx="473040" cy="404640"/>
              <a:chOff x="2279520" y="1014120"/>
              <a:chExt cx="473040" cy="404640"/>
            </a:xfrm>
          </p:grpSpPr>
          <p:sp>
            <p:nvSpPr>
              <p:cNvPr id="110" name=""/>
              <p:cNvSpPr/>
              <p:nvPr/>
            </p:nvSpPr>
            <p:spPr>
              <a:xfrm rot="17095800">
                <a:off x="2509200" y="1103040"/>
                <a:ext cx="12096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7095800">
                <a:off x="2642040" y="102528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095800">
                <a:off x="2301480" y="11980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732680" y="2133720"/>
              <a:ext cx="271800" cy="566280"/>
              <a:chOff x="1732680" y="2133720"/>
              <a:chExt cx="271800" cy="566280"/>
            </a:xfrm>
          </p:grpSpPr>
          <p:sp>
            <p:nvSpPr>
              <p:cNvPr id="114" name=""/>
              <p:cNvSpPr/>
              <p:nvPr/>
            </p:nvSpPr>
            <p:spPr>
              <a:xfrm rot="3570000">
                <a:off x="1779120" y="240912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3570000">
                <a:off x="1772280" y="258264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570000">
                <a:off x="1769040" y="21700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857960" y="634320"/>
              <a:ext cx="272160" cy="567000"/>
              <a:chOff x="1857960" y="634320"/>
              <a:chExt cx="272160" cy="567000"/>
            </a:xfrm>
          </p:grpSpPr>
          <p:sp>
            <p:nvSpPr>
              <p:cNvPr id="118" name=""/>
              <p:cNvSpPr/>
              <p:nvPr/>
            </p:nvSpPr>
            <p:spPr>
              <a:xfrm rot="14344200">
                <a:off x="1961280" y="78768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4344200">
                <a:off x="1987920" y="65268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4344200">
                <a:off x="1894680" y="9658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42360" y="865440"/>
              <a:ext cx="405720" cy="471600"/>
              <a:chOff x="1242360" y="865440"/>
              <a:chExt cx="405720" cy="471600"/>
            </a:xfrm>
          </p:grpSpPr>
          <p:sp>
            <p:nvSpPr>
              <p:cNvPr id="122" name=""/>
              <p:cNvSpPr/>
              <p:nvPr/>
            </p:nvSpPr>
            <p:spPr>
              <a:xfrm rot="11673000">
                <a:off x="1338840" y="978480"/>
                <a:ext cx="12096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1673000">
                <a:off x="1253160" y="875880"/>
                <a:ext cx="99360" cy="99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1673000">
                <a:off x="1427400" y="1116360"/>
                <a:ext cx="198720" cy="19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907920" y="1509120"/>
              <a:ext cx="563040" cy="269640"/>
              <a:chOff x="907920" y="1509120"/>
              <a:chExt cx="563040" cy="269640"/>
            </a:xfrm>
          </p:grpSpPr>
          <p:sp>
            <p:nvSpPr>
              <p:cNvPr id="126" name=""/>
              <p:cNvSpPr/>
              <p:nvPr/>
            </p:nvSpPr>
            <p:spPr>
              <a:xfrm rot="9028200">
                <a:off x="1068120" y="1543320"/>
                <a:ext cx="12060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9028200">
                <a:off x="925560" y="1542600"/>
                <a:ext cx="99000" cy="98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028200">
                <a:off x="1236960" y="1545120"/>
                <a:ext cx="198000" cy="19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083240" y="1938600"/>
              <a:ext cx="507960" cy="379440"/>
              <a:chOff x="1083240" y="1938600"/>
              <a:chExt cx="507960" cy="379440"/>
            </a:xfrm>
          </p:grpSpPr>
          <p:sp>
            <p:nvSpPr>
              <p:cNvPr id="130" name=""/>
              <p:cNvSpPr/>
              <p:nvPr/>
            </p:nvSpPr>
            <p:spPr>
              <a:xfrm rot="6700800">
                <a:off x="1219680" y="210348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6700800">
                <a:off x="1098000" y="22039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6700800">
                <a:off x="1362960" y="196812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4320" y="-6480"/>
            <a:ext cx="2098800" cy="31140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-6480"/>
            <a:ext cx="380880" cy="31284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2212920" y="2511360"/>
            <a:ext cx="4876560" cy="46368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574560" y="5520960"/>
            <a:ext cx="1600200" cy="4636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3f7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3f71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简约</a:t>
            </a:r>
            <a:r>
              <a:rPr b="1" i="1" lang="zh-CN" sz="3600" spc="-1" strike="noStrike">
                <a:solidFill>
                  <a:srgbClr val="113f71"/>
                </a:solidFill>
                <a:latin typeface="Verdana"/>
                <a:ea typeface="宋体"/>
              </a:rPr>
              <a:t>PPT</a:t>
            </a: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模板在线下载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78240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ab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aab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05c6d"/>
              </a:gs>
              <a:gs pos="50000">
                <a:srgbClr val="5aabcc"/>
              </a:gs>
              <a:gs pos="100000">
                <a:srgbClr val="305c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aabcc">
                  <a:alpha val="0"/>
                </a:srgbClr>
              </a:gs>
              <a:gs pos="100000">
                <a:srgbClr val="386c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d9e6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d9e6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55534"/>
              </a:gs>
              <a:gs pos="50000">
                <a:srgbClr val="bd9e61"/>
              </a:gs>
              <a:gs pos="100000">
                <a:srgbClr val="6555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bd9e61">
                  <a:alpha val="0"/>
                </a:srgbClr>
              </a:gs>
              <a:gs pos="100000">
                <a:srgbClr val="77633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41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d7ac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4385f"/>
              </a:gs>
              <a:gs pos="100000">
                <a:srgbClr val="2d7ac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8416f"/>
              </a:gs>
              <a:gs pos="50000">
                <a:srgbClr val="2d7acf"/>
              </a:gs>
              <a:gs pos="100000">
                <a:srgbClr val="1841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d7acf">
                  <a:alpha val="0"/>
                </a:srgbClr>
              </a:gs>
              <a:gs pos="100000">
                <a:srgbClr val="1c4d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423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428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d7ac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446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3636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00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526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6376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17760" y="2041560"/>
            <a:ext cx="84744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369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305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52560" y="1542960"/>
            <a:ext cx="68292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22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687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0512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231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060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62120" y="1295280"/>
            <a:ext cx="7619400" cy="4557240"/>
            <a:chOff x="762120" y="1295280"/>
            <a:chExt cx="7619400" cy="4557240"/>
          </a:xfrm>
        </p:grpSpPr>
        <p:sp>
          <p:nvSpPr>
            <p:cNvPr id="466" name=""/>
            <p:cNvSpPr/>
            <p:nvPr/>
          </p:nvSpPr>
          <p:spPr>
            <a:xfrm>
              <a:off x="2701800" y="2058840"/>
              <a:ext cx="3671280" cy="364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2d7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601800" y="2970000"/>
              <a:ext cx="1869840" cy="1960560"/>
              <a:chOff x="3601800" y="2970000"/>
              <a:chExt cx="1869840" cy="1960560"/>
            </a:xfrm>
          </p:grpSpPr>
          <p:sp>
            <p:nvSpPr>
              <p:cNvPr id="468" name=""/>
              <p:cNvSpPr/>
              <p:nvPr/>
            </p:nvSpPr>
            <p:spPr>
              <a:xfrm>
                <a:off x="3601800" y="2970000"/>
                <a:ext cx="1869840" cy="1960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>
                <a:off x="3815280" y="3002400"/>
                <a:ext cx="1442520" cy="73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3875400" y="37400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155840" y="1708200"/>
              <a:ext cx="623520" cy="606240"/>
              <a:chOff x="4155840" y="1708200"/>
              <a:chExt cx="623520" cy="60624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155840" y="1708200"/>
                <a:ext cx="623520" cy="606240"/>
                <a:chOff x="4155840" y="1708200"/>
                <a:chExt cx="623520" cy="6062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155840" y="1708200"/>
                  <a:ext cx="623520" cy="60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05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4" name="未知"/>
                <p:cNvSpPr/>
                <p:nvPr/>
              </p:nvSpPr>
              <p:spPr>
                <a:xfrm>
                  <a:off x="4227120" y="1717920"/>
                  <a:ext cx="48096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4287600" y="1801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550320" y="4729320"/>
              <a:ext cx="335880" cy="307080"/>
              <a:chOff x="3550320" y="4729320"/>
              <a:chExt cx="335880" cy="307080"/>
            </a:xfrm>
          </p:grpSpPr>
          <p:sp>
            <p:nvSpPr>
              <p:cNvPr id="477" name=""/>
              <p:cNvSpPr/>
              <p:nvPr/>
            </p:nvSpPr>
            <p:spPr>
              <a:xfrm rot="18226800">
                <a:off x="3575880" y="4887360"/>
                <a:ext cx="120960" cy="12672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8226800">
                <a:off x="3738960" y="4751280"/>
                <a:ext cx="121320" cy="12672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977920" y="4995720"/>
              <a:ext cx="623520" cy="630360"/>
              <a:chOff x="2977920" y="4995720"/>
              <a:chExt cx="623520" cy="6303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977920" y="4995720"/>
                <a:ext cx="623520" cy="630360"/>
                <a:chOff x="2977920" y="4995720"/>
                <a:chExt cx="623520" cy="6303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977920" y="4995720"/>
                  <a:ext cx="62352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9e61"/>
                    </a:gs>
                    <a:gs pos="100000">
                      <a:srgbClr val="2d26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2" name="未知"/>
                <p:cNvSpPr/>
                <p:nvPr/>
              </p:nvSpPr>
              <p:spPr>
                <a:xfrm>
                  <a:off x="3049200" y="5006160"/>
                  <a:ext cx="48096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9e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3105720" y="5113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028920" y="2970000"/>
              <a:ext cx="620640" cy="636840"/>
              <a:chOff x="6028920" y="2970000"/>
              <a:chExt cx="620640" cy="6368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6028920" y="2970000"/>
                <a:ext cx="620640" cy="636840"/>
                <a:chOff x="6028920" y="2970000"/>
                <a:chExt cx="620640" cy="636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028920" y="2970000"/>
                  <a:ext cx="620640" cy="6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9fcd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7" name="未知"/>
                <p:cNvSpPr/>
                <p:nvPr/>
              </p:nvSpPr>
              <p:spPr>
                <a:xfrm>
                  <a:off x="6099840" y="2980440"/>
                  <a:ext cx="478800" cy="240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6143760" y="3057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472000" y="5000400"/>
              <a:ext cx="594720" cy="571680"/>
              <a:chOff x="5472000" y="5000400"/>
              <a:chExt cx="594720" cy="571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472000" y="5000400"/>
                <a:ext cx="594720" cy="571680"/>
                <a:chOff x="5472000" y="5000400"/>
                <a:chExt cx="594720" cy="571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472000" y="5000400"/>
                  <a:ext cx="59472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2" name="未知"/>
                <p:cNvSpPr/>
                <p:nvPr/>
              </p:nvSpPr>
              <p:spPr>
                <a:xfrm>
                  <a:off x="5539680" y="5009760"/>
                  <a:ext cx="45900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596200" y="50310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2493720" y="2970000"/>
              <a:ext cx="623520" cy="630360"/>
              <a:chOff x="2493720" y="2970000"/>
              <a:chExt cx="623520" cy="6303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2493720" y="2970000"/>
                <a:ext cx="623520" cy="630360"/>
                <a:chOff x="2493720" y="2970000"/>
                <a:chExt cx="623520" cy="6303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493720" y="2970000"/>
                  <a:ext cx="62352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437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7" name="未知"/>
                <p:cNvSpPr/>
                <p:nvPr/>
              </p:nvSpPr>
              <p:spPr>
                <a:xfrm>
                  <a:off x="2565000" y="2980440"/>
                  <a:ext cx="48096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2621880" y="30398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rot="18226800">
              <a:off x="5403600" y="485388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8226800">
              <a:off x="5263920" y="471420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162600" y="3364200"/>
              <a:ext cx="379440" cy="239760"/>
              <a:chOff x="3162600" y="3364200"/>
              <a:chExt cx="379440" cy="239760"/>
            </a:xfrm>
          </p:grpSpPr>
          <p:sp>
            <p:nvSpPr>
              <p:cNvPr id="502" name=""/>
              <p:cNvSpPr/>
              <p:nvPr/>
            </p:nvSpPr>
            <p:spPr>
              <a:xfrm rot="18226800">
                <a:off x="3187800" y="3386880"/>
                <a:ext cx="122400" cy="12636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94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226800">
                <a:off x="3394440" y="3454920"/>
                <a:ext cx="122040" cy="12636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53b6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410720" y="2424960"/>
              <a:ext cx="171000" cy="428040"/>
              <a:chOff x="4410720" y="2424960"/>
              <a:chExt cx="171000" cy="428040"/>
            </a:xfrm>
          </p:grpSpPr>
          <p:sp>
            <p:nvSpPr>
              <p:cNvPr id="505" name=""/>
              <p:cNvSpPr/>
              <p:nvPr/>
            </p:nvSpPr>
            <p:spPr>
              <a:xfrm rot="18226800">
                <a:off x="4435560" y="2446920"/>
                <a:ext cx="120600" cy="12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55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8226800">
                <a:off x="4435560" y="2705400"/>
                <a:ext cx="120600" cy="12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a6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rot="18226800">
              <a:off x="5766480" y="3409920"/>
              <a:ext cx="118800" cy="12492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8226800">
              <a:off x="5541120" y="3524040"/>
              <a:ext cx="119160" cy="12492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120" y="310968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90560" y="129528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9920" y="312264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07720" y="520992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5880" y="520992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516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523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90188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531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3880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5628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6420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7032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0560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8164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85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528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545" name=""/>
            <p:cNvSpPr/>
            <p:nvPr/>
          </p:nvSpPr>
          <p:spPr>
            <a:xfrm>
              <a:off x="586764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1840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1840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6612120" y="1679400"/>
              <a:ext cx="642960" cy="642960"/>
              <a:chOff x="6612120" y="1679400"/>
              <a:chExt cx="642960" cy="642960"/>
            </a:xfrm>
          </p:grpSpPr>
          <p:sp>
            <p:nvSpPr>
              <p:cNvPr id="550" name=""/>
              <p:cNvSpPr/>
              <p:nvPr/>
            </p:nvSpPr>
            <p:spPr>
              <a:xfrm>
                <a:off x="661212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1860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2652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3300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6684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054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561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564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65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68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77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2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3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6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4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99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600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603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7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8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9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1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630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643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647" name=""/>
            <p:cNvCxnSpPr>
              <a:stCxn id="643" idx="3"/>
              <a:endCxn id="644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"/>
            <p:cNvCxnSpPr>
              <a:stCxn id="644" idx="3"/>
              <a:endCxn id="645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9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652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66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6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7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7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8240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981000" y="2249640"/>
          <a:ext cx="7280280" cy="3124080"/>
        </p:xfrm>
        <a:graphic>
          <a:graphicData uri="http://schemas.openxmlformats.org/drawingml/2006/table">
            <a:tbl>
              <a:tblPr/>
              <a:tblGrid>
                <a:gridCol w="1641600"/>
                <a:gridCol w="1145880"/>
                <a:gridCol w="1122480"/>
                <a:gridCol w="1120680"/>
                <a:gridCol w="1128960"/>
                <a:gridCol w="11206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13f71"/>
                      </a:solidFill>
                    </a:lnR>
                    <a:lnT>
                      <a:noFill/>
                    </a:lnT>
                    <a:lnB w="5760">
                      <a:solidFill>
                        <a:srgbClr val="113f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2514600" y="228600"/>
            <a:ext cx="56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aabcc"/>
                </a:solidFill>
                <a:uFillTx/>
                <a:latin typeface="Arial"/>
                <a:hlinkClick r:id="rId1"/>
              </a:rPr>
              <a:t>简约ppt模板</a:t>
            </a:r>
            <a:r>
              <a:rPr b="0" lang="en-US" sz="1800" spc="-1" strike="noStrike">
                <a:solidFill>
                  <a:srgbClr val="113f71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6" name="未知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aecf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698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81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709" name="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abcc"/>
                </a:gs>
                <a:gs pos="50000">
                  <a:srgbClr val="94c8dd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60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未知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7" name="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066680" y="560772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2859840" y="4075200"/>
                <a:ext cx="1433880" cy="1428480"/>
                <a:chOff x="2859840" y="4075200"/>
                <a:chExt cx="1433880" cy="14284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2859840" y="407520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2e5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2" name="未知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2931480" y="476064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95480" y="560772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73e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8" name="未知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486864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4632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6590160" y="4033800"/>
                <a:ext cx="1434240" cy="1438200"/>
                <a:chOff x="6590160" y="4033800"/>
                <a:chExt cx="1434240" cy="143820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6590160" y="4033800"/>
                  <a:ext cx="1434240" cy="1438200"/>
                  <a:chOff x="6590160" y="4033800"/>
                  <a:chExt cx="1434240" cy="143820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6590160" y="403380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d9e61"/>
                      </a:gs>
                      <a:gs pos="100000">
                        <a:srgbClr val="2d261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未知"/>
                  <p:cNvSpPr/>
                  <p:nvPr/>
                </p:nvSpPr>
                <p:spPr>
                  <a:xfrm>
                    <a:off x="6753960" y="4057560"/>
                    <a:ext cx="110628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d9e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>
                  <a:off x="668988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14600" y="1828800"/>
            <a:ext cx="3809880" cy="609480"/>
            <a:chOff x="2514600" y="1828800"/>
            <a:chExt cx="3809880" cy="609480"/>
          </a:xfrm>
        </p:grpSpPr>
        <p:grpSp>
          <p:nvGrpSpPr>
            <p:cNvPr id="196" name=""/>
            <p:cNvGrpSpPr/>
            <p:nvPr/>
          </p:nvGrpSpPr>
          <p:grpSpPr>
            <a:xfrm>
              <a:off x="2514600" y="1828800"/>
              <a:ext cx="533160" cy="609480"/>
              <a:chOff x="2514600" y="1828800"/>
              <a:chExt cx="533160" cy="609480"/>
            </a:xfrm>
          </p:grpSpPr>
          <p:sp>
            <p:nvSpPr>
              <p:cNvPr id="197" name="未知"/>
              <p:cNvSpPr/>
              <p:nvPr/>
            </p:nvSpPr>
            <p:spPr>
              <a:xfrm>
                <a:off x="2677680" y="18288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2514600" y="19573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2514600" y="211680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2674800" y="213228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2771640" y="2116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2771640" y="19537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2690280" y="20538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353400" y="18288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8120" y="228600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14600" y="2514600"/>
            <a:ext cx="3809880" cy="609480"/>
            <a:chOff x="2514600" y="2514600"/>
            <a:chExt cx="3809880" cy="609480"/>
          </a:xfrm>
        </p:grpSpPr>
        <p:grpSp>
          <p:nvGrpSpPr>
            <p:cNvPr id="207" name=""/>
            <p:cNvGrpSpPr/>
            <p:nvPr/>
          </p:nvGrpSpPr>
          <p:grpSpPr>
            <a:xfrm>
              <a:off x="2514600" y="2514600"/>
              <a:ext cx="533160" cy="609480"/>
              <a:chOff x="2514600" y="2514600"/>
              <a:chExt cx="533160" cy="609480"/>
            </a:xfrm>
          </p:grpSpPr>
          <p:sp>
            <p:nvSpPr>
              <p:cNvPr id="208" name="未知"/>
              <p:cNvSpPr/>
              <p:nvPr/>
            </p:nvSpPr>
            <p:spPr>
              <a:xfrm>
                <a:off x="2677680" y="25146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2514600" y="26431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2514600" y="280260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674800" y="281808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771640" y="28026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2771640" y="2639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2690280" y="27396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353400" y="25146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297180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514600" y="3276720"/>
            <a:ext cx="3809880" cy="609480"/>
            <a:chOff x="2514600" y="3276720"/>
            <a:chExt cx="3809880" cy="609480"/>
          </a:xfrm>
        </p:grpSpPr>
        <p:grpSp>
          <p:nvGrpSpPr>
            <p:cNvPr id="218" name=""/>
            <p:cNvGrpSpPr/>
            <p:nvPr/>
          </p:nvGrpSpPr>
          <p:grpSpPr>
            <a:xfrm>
              <a:off x="2514600" y="3276720"/>
              <a:ext cx="533160" cy="609480"/>
              <a:chOff x="2514600" y="3276720"/>
              <a:chExt cx="533160" cy="60948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2677680" y="327672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514600" y="34052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514600" y="356472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2674800" y="358020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2771640" y="35647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2771640" y="3401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2690280" y="350172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353400" y="327672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3733920"/>
              <a:ext cx="3276360" cy="0"/>
            </a:xfrm>
            <a:prstGeom prst="line">
              <a:avLst/>
            </a:prstGeom>
            <a:ln w="9360">
              <a:solidFill>
                <a:srgbClr val="bd9e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514600" y="4038480"/>
            <a:ext cx="3809880" cy="609480"/>
            <a:chOff x="2514600" y="4038480"/>
            <a:chExt cx="3809880" cy="609480"/>
          </a:xfrm>
        </p:grpSpPr>
        <p:grpSp>
          <p:nvGrpSpPr>
            <p:cNvPr id="229" name=""/>
            <p:cNvGrpSpPr/>
            <p:nvPr/>
          </p:nvGrpSpPr>
          <p:grpSpPr>
            <a:xfrm>
              <a:off x="2514600" y="4038480"/>
              <a:ext cx="533160" cy="609480"/>
              <a:chOff x="2514600" y="4038480"/>
              <a:chExt cx="533160" cy="60948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2677680" y="40384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2514600" y="41670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14600" y="432648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2674800" y="434196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2771640" y="43264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2771640" y="41634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690280" y="42634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353400" y="40384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4956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14600" y="4724280"/>
            <a:ext cx="3809880" cy="609480"/>
            <a:chOff x="2514600" y="4724280"/>
            <a:chExt cx="3809880" cy="609480"/>
          </a:xfrm>
        </p:grpSpPr>
        <p:grpSp>
          <p:nvGrpSpPr>
            <p:cNvPr id="240" name=""/>
            <p:cNvGrpSpPr/>
            <p:nvPr/>
          </p:nvGrpSpPr>
          <p:grpSpPr>
            <a:xfrm>
              <a:off x="2514600" y="4724280"/>
              <a:ext cx="533160" cy="609480"/>
              <a:chOff x="2514600" y="4724280"/>
              <a:chExt cx="533160" cy="609480"/>
            </a:xfrm>
          </p:grpSpPr>
          <p:sp>
            <p:nvSpPr>
              <p:cNvPr id="241" name="未知"/>
              <p:cNvSpPr/>
              <p:nvPr/>
            </p:nvSpPr>
            <p:spPr>
              <a:xfrm>
                <a:off x="2677680" y="47242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2514600" y="4852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2514600" y="501228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2674800" y="502776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2771640" y="50122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2771640" y="48492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2690280" y="49492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353400" y="47242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518148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966b3"/>
              </a:solidFill>
              <a:latin typeface="Verdan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752480" y="289548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d7acf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d7acf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13f71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788C-6AE4-4DA7-96A6-679A57826F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6440" y="1523520"/>
            <a:ext cx="762948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5aab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59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260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53b64"/>
                  </a:gs>
                  <a:gs pos="100000">
                    <a:srgbClr val="2d7a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a1c3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4e0ec"/>
                </a:gs>
                <a:gs pos="100000">
                  <a:srgbClr val="5aabc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48235"/>
                  </a:srgbClr>
                </a:gs>
                <a:gs pos="100000">
                  <a:srgbClr val="4786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3408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7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1e3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0e26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6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4036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3f7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28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13f71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9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7060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1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314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ab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05c6d"/>
                  </a:gs>
                  <a:gs pos="50000">
                    <a:srgbClr val="5aabcc"/>
                  </a:gs>
                  <a:gs pos="100000">
                    <a:srgbClr val="305c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52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13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e9300"/>
                </a:gs>
                <a:gs pos="50000">
                  <a:srgbClr val="99cc00"/>
                </a:gs>
                <a:gs pos="100000">
                  <a:srgbClr val="6e9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17b93"/>
                </a:gs>
                <a:gs pos="50000">
                  <a:srgbClr val="5aabcc"/>
                </a:gs>
                <a:gs pos="100000">
                  <a:srgbClr val="417b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bd9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887246"/>
                </a:gs>
                <a:gs pos="50000">
                  <a:srgbClr val="bd9e61"/>
                </a:gs>
                <a:gs pos="100000">
                  <a:srgbClr val="8872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c2d51"/>
                </a:gs>
                <a:gs pos="50000">
                  <a:srgbClr val="113f71"/>
                </a:gs>
                <a:gs pos="100000">
                  <a:srgbClr val="0c2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33520" y="1752480"/>
            <a:ext cx="7390800" cy="3886200"/>
            <a:chOff x="533520" y="1752480"/>
            <a:chExt cx="7390800" cy="3886200"/>
          </a:xfrm>
        </p:grpSpPr>
        <p:sp>
          <p:nvSpPr>
            <p:cNvPr id="366" name=""/>
            <p:cNvSpPr/>
            <p:nvPr/>
          </p:nvSpPr>
          <p:spPr>
            <a:xfrm>
              <a:off x="533520" y="4944960"/>
              <a:ext cx="5338440" cy="658800"/>
            </a:xfrm>
            <a:prstGeom prst="rect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232240" y="4705200"/>
              <a:ext cx="987120" cy="933480"/>
              <a:chOff x="5232240" y="4705200"/>
              <a:chExt cx="987120" cy="933480"/>
            </a:xfrm>
          </p:grpSpPr>
          <p:sp>
            <p:nvSpPr>
              <p:cNvPr id="368" name=""/>
              <p:cNvSpPr/>
              <p:nvPr/>
            </p:nvSpPr>
            <p:spPr>
              <a:xfrm>
                <a:off x="5232240" y="4705200"/>
                <a:ext cx="987120" cy="93348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2d26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5344920" y="4720680"/>
                <a:ext cx="761400" cy="352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d9e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613480" y="4765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3016080"/>
              <a:ext cx="3793680" cy="658800"/>
            </a:xfrm>
            <a:prstGeom prst="rect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014720" y="2784240"/>
              <a:ext cx="972360" cy="921960"/>
              <a:chOff x="4014720" y="2784240"/>
              <a:chExt cx="972360" cy="9219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014720" y="2784240"/>
                <a:ext cx="972360" cy="921960"/>
                <a:chOff x="4014720" y="2784240"/>
                <a:chExt cx="972360" cy="9219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014720" y="2784240"/>
                  <a:ext cx="97236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d24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4125600" y="2799360"/>
                  <a:ext cx="750240" cy="34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4301640" y="29109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33520" y="396396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717800" y="3706560"/>
              <a:ext cx="909000" cy="928440"/>
              <a:chOff x="4717800" y="3706560"/>
              <a:chExt cx="909000" cy="92844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4717800" y="3706560"/>
                <a:ext cx="909000" cy="928440"/>
                <a:chOff x="4717800" y="3706560"/>
                <a:chExt cx="909000" cy="9284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717800" y="3706560"/>
                  <a:ext cx="909000" cy="9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1529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>
                  <a:off x="4821480" y="3721680"/>
                  <a:ext cx="701280" cy="350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034240" y="37562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33520" y="1812960"/>
              <a:ext cx="3883680" cy="916920"/>
              <a:chOff x="533520" y="1812960"/>
              <a:chExt cx="3883680" cy="916920"/>
            </a:xfrm>
          </p:grpSpPr>
          <p:sp>
            <p:nvSpPr>
              <p:cNvPr id="384" name=""/>
              <p:cNvSpPr/>
              <p:nvPr/>
            </p:nvSpPr>
            <p:spPr>
              <a:xfrm>
                <a:off x="533520" y="2064240"/>
                <a:ext cx="3440160" cy="6584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22240" y="1812960"/>
                <a:ext cx="894960" cy="916920"/>
                <a:chOff x="3522240" y="1812960"/>
                <a:chExt cx="894960" cy="91692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3522240" y="1812960"/>
                  <a:ext cx="894960" cy="916920"/>
                  <a:chOff x="3522240" y="1812960"/>
                  <a:chExt cx="894960" cy="9169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3522240" y="1812960"/>
                    <a:ext cx="894960" cy="916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3b4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未知"/>
                  <p:cNvSpPr/>
                  <p:nvPr/>
                </p:nvSpPr>
                <p:spPr>
                  <a:xfrm>
                    <a:off x="3624480" y="1828080"/>
                    <a:ext cx="69048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3798000" y="191484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761760" y="2206440"/>
              <a:ext cx="25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320328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99840" y="412596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33360" y="5119560"/>
              <a:ext cx="29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75040" y="1752480"/>
              <a:ext cx="2249280" cy="18144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http://www.eeppt.com</dc:creator>
  <dc:description>ppt模板下载网站 http://www.eeppt.com</dc:description>
  <dc:language>en-US</dc:language>
  <cp:lastModifiedBy/>
  <dcterms:modified xsi:type="dcterms:W3CDTF">2015-06-14T02:09:08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