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DB2-27BA-4B21-B3AB-945D008E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9BC-E574-4E98-81F1-E05F0AE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77D-DD9E-4C9A-9873-2AC855C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0F4-8DA1-4838-B007-9F3E948A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E12AA-8C75-45BA-971F-B088F9BB83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71D6-6A1D-43E1-9A58-F3952E02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96FB-2746-4A9A-9ABC-AE18AE4E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98C19-A5CF-4A5C-AB74-1C295C7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6524B-A06C-46EF-90CC-CF18D764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510FE-2560-4A49-A440-388F14B2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7327-21E5-47F4-BB23-793F845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A10-DEBE-4130-88B0-60DF3EB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D1F71-19FF-43D1-8FD1-A46F12E5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1554-4988-46DE-9054-A2261B74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3618D-65C8-473E-83B3-5928878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C3ADD-8C42-47F0-AC86-C100364A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86226-C257-48BF-A4CB-B0051F089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BA6-6FCE-42DC-9367-E4B9686F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9A9-01C0-4B46-B66B-9EFB1970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C60-3785-4260-92C0-BBE5418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96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79D-E2A4-40C5-ABC4-795B87A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B7C-5C1A-44CB-94BE-E0F7F2C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603-01BA-4480-B1BD-EF7E02C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05A-602A-45D2-AA54-87BA26D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2e507a"/>
              </a:gs>
              <a:gs pos="100000">
                <a:srgbClr val="1220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80F-6475-4206-B463-111D424BD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8ac246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8ac246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8ac246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efc821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efc821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efc821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8ac246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efc821">
              <a:alpha val="5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80" name="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2e507a"/>
              </a:gs>
              <a:gs pos="100000">
                <a:srgbClr val="15243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8ac24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8ac24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8ac24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111" name="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4618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efc82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040" y="1147680"/>
            <a:ext cx="725400" cy="633600"/>
          </a:xfrm>
          <a:prstGeom prst="rect">
            <a:avLst/>
          </a:prstGeom>
          <a:solidFill>
            <a:srgbClr val="efc82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9280" y="1165320"/>
            <a:ext cx="725400" cy="633240"/>
          </a:xfrm>
          <a:prstGeom prst="rect">
            <a:avLst/>
          </a:prstGeom>
          <a:solidFill>
            <a:srgbClr val="efc8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7960" y="534960"/>
            <a:ext cx="72576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dt" idx="4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5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146E-4330-4687-B91C-79CA81427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wmf"/><Relationship Id="rId3" Type="http://schemas.openxmlformats.org/officeDocument/2006/relationships/image" Target="../media/image18.png"/><Relationship Id="rId4" Type="http://schemas.openxmlformats.org/officeDocument/2006/relationships/image" Target="../media/image3.wmf"/><Relationship Id="rId5" Type="http://schemas.openxmlformats.org/officeDocument/2006/relationships/image" Target="../media/image18.png"/><Relationship Id="rId6" Type="http://schemas.openxmlformats.org/officeDocument/2006/relationships/image" Target="../media/image3.wmf"/><Relationship Id="rId7" Type="http://schemas.openxmlformats.org/officeDocument/2006/relationships/image" Target="../media/image18.png"/><Relationship Id="rId8" Type="http://schemas.openxmlformats.org/officeDocument/2006/relationships/image" Target="../media/image3.wmf"/><Relationship Id="rId9" Type="http://schemas.openxmlformats.org/officeDocument/2006/relationships/image" Target="../media/image18.png"/><Relationship Id="rId10" Type="http://schemas.openxmlformats.org/officeDocument/2006/relationships/image" Target="../media/image3.wmf"/><Relationship Id="rId11" Type="http://schemas.openxmlformats.org/officeDocument/2006/relationships/image" Target="../media/image18.png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wmf"/><Relationship Id="rId13" Type="http://schemas.openxmlformats.org/officeDocument/2006/relationships/image" Target="../media/image4.png"/><Relationship Id="rId14" Type="http://schemas.openxmlformats.org/officeDocument/2006/relationships/image" Target="../media/image2.png"/><Relationship Id="rId15" Type="http://schemas.openxmlformats.org/officeDocument/2006/relationships/image" Target="../media/image3.wmf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hyperlink" Target="http://www.eeppt.com/moban/shangwu/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09680" y="3124080"/>
            <a:ext cx="64008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762120" y="4659480"/>
            <a:ext cx="1752480" cy="16412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765520" y="4070520"/>
            <a:ext cx="1752480" cy="2233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4745160" y="3276720"/>
            <a:ext cx="1739880" cy="3024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>
            <a:lum bright="-30000"/>
          </a:blip>
          <a:stretch/>
        </p:blipFill>
        <p:spPr>
          <a:xfrm>
            <a:off x="6727680" y="2514600"/>
            <a:ext cx="1739880" cy="3792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48040" y="3213000"/>
            <a:ext cx="1728720" cy="533520"/>
            <a:chOff x="4748040" y="3213000"/>
            <a:chExt cx="1728720" cy="533520"/>
          </a:xfrm>
        </p:grpSpPr>
        <p:sp>
          <p:nvSpPr>
            <p:cNvPr id="427" name=""/>
            <p:cNvSpPr/>
            <p:nvPr/>
          </p:nvSpPr>
          <p:spPr>
            <a:xfrm>
              <a:off x="4752720" y="32558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648a0e"/>
                </a:gs>
                <a:gs pos="50000">
                  <a:srgbClr val="b0f319"/>
                </a:gs>
                <a:gs pos="100000">
                  <a:srgbClr val="648a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48040" y="321300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b0f319"/>
                </a:gs>
                <a:gs pos="100000">
                  <a:srgbClr val="e7fab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29480" y="2451240"/>
            <a:ext cx="1728720" cy="532800"/>
            <a:chOff x="6729480" y="2451240"/>
            <a:chExt cx="1728720" cy="532800"/>
          </a:xfrm>
        </p:grpSpPr>
        <p:sp>
          <p:nvSpPr>
            <p:cNvPr id="430" name=""/>
            <p:cNvSpPr/>
            <p:nvPr/>
          </p:nvSpPr>
          <p:spPr>
            <a:xfrm>
              <a:off x="6734160" y="249372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8c670c"/>
                </a:gs>
                <a:gs pos="50000">
                  <a:srgbClr val="f6b616"/>
                </a:gs>
                <a:gs pos="100000">
                  <a:srgbClr val="8c670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729480" y="2451240"/>
              <a:ext cx="1724040" cy="490320"/>
            </a:xfrm>
            <a:prstGeom prst="ellipse">
              <a:avLst/>
            </a:prstGeom>
            <a:gradFill rotWithShape="0">
              <a:gsLst>
                <a:gs pos="0">
                  <a:srgbClr val="f6b616"/>
                </a:gs>
                <a:gs pos="100000">
                  <a:srgbClr val="fbe9b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" y="4584600"/>
            <a:ext cx="1728720" cy="533520"/>
            <a:chOff x="781200" y="4584600"/>
            <a:chExt cx="1728720" cy="533520"/>
          </a:xfrm>
        </p:grpSpPr>
        <p:sp>
          <p:nvSpPr>
            <p:cNvPr id="433" name=""/>
            <p:cNvSpPr/>
            <p:nvPr/>
          </p:nvSpPr>
          <p:spPr>
            <a:xfrm>
              <a:off x="785880" y="462744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912d2d"/>
                </a:gs>
                <a:gs pos="50000">
                  <a:srgbClr val="ff5050"/>
                </a:gs>
                <a:gs pos="100000">
                  <a:srgbClr val="9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1200" y="458460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ec6c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766960" y="3975120"/>
            <a:ext cx="1728720" cy="533520"/>
            <a:chOff x="2766960" y="3975120"/>
            <a:chExt cx="1728720" cy="533520"/>
          </a:xfrm>
        </p:grpSpPr>
        <p:sp>
          <p:nvSpPr>
            <p:cNvPr id="436" name=""/>
            <p:cNvSpPr/>
            <p:nvPr/>
          </p:nvSpPr>
          <p:spPr>
            <a:xfrm>
              <a:off x="2771640" y="401796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0f4989"/>
                </a:gs>
                <a:gs pos="50000">
                  <a:srgbClr val="1b81f1"/>
                </a:gs>
                <a:gs pos="100000">
                  <a:srgbClr val="0f498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6960" y="3975120"/>
              <a:ext cx="1724040" cy="490680"/>
            </a:xfrm>
            <a:prstGeom prst="ellipse">
              <a:avLst/>
            </a:prstGeom>
            <a:gradFill rotWithShape="0">
              <a:gsLst>
                <a:gs pos="0">
                  <a:srgbClr val="1b81f1"/>
                </a:gs>
                <a:gs pos="100000">
                  <a:srgbClr val="b5d6f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5105520" y="2209680"/>
            <a:ext cx="8683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6934320" y="1523880"/>
            <a:ext cx="1245960" cy="1295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2971800" y="3124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1143000" y="3657600"/>
            <a:ext cx="1098720" cy="1295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62120" y="5257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759040" y="525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65680" y="5257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51800" y="5257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15920" y="167652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5410080"/>
            <a:ext cx="5790960" cy="82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e3e3"/>
              </a:gs>
              <a:gs pos="50000">
                <a:srgbClr val="f8f8f8"/>
              </a:gs>
              <a:gs pos="100000">
                <a:srgbClr val="e3e3e3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12600" dir="54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9600" y="2036880"/>
            <a:ext cx="1560240" cy="265248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18">
                <a:moveTo>
                  <a:pt x="2057" y="0"/>
                </a:moveTo>
                <a:arcTo wR="2057" hR="2057" stAng="16200000" swAng="-5400000"/>
                <a:lnTo>
                  <a:pt x="0" y="34661"/>
                </a:lnTo>
                <a:arcTo wR="2057" hR="2057" stAng="10800000" swAng="-5400000"/>
                <a:lnTo>
                  <a:pt x="19543" y="36718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3bb1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4500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25b7e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3364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8aae5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9040" y="2036880"/>
            <a:ext cx="1560600" cy="265248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480"/>
              <a:gd name="textAreaBottom" fmla="*/ 2609280 h 2652480"/>
            </a:gdLst>
            <a:ahLst/>
            <a:rect l="textAreaLeft" t="textAreaTop" r="textAreaRight" b="textAreaBottom"/>
            <a:pathLst>
              <a:path w="21600" h="36709">
                <a:moveTo>
                  <a:pt x="2057" y="0"/>
                </a:moveTo>
                <a:arcTo wR="2057" hR="2057" stAng="16200000" swAng="-5400000"/>
                <a:lnTo>
                  <a:pt x="0" y="34652"/>
                </a:lnTo>
                <a:arcTo wR="2057" hR="2057" stAng="10800000" swAng="-5400000"/>
                <a:lnTo>
                  <a:pt x="19543" y="36709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2c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5638680"/>
            <a:ext cx="46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1640" y="2038320"/>
            <a:ext cx="98136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2040" y="20574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95720" y="2039760"/>
            <a:ext cx="981000" cy="1214640"/>
          </a:xfrm>
          <a:prstGeom prst="downArrow">
            <a:avLst>
              <a:gd name="adj1" fmla="val 77269"/>
              <a:gd name="adj2" fmla="val 2884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11760" y="2039760"/>
            <a:ext cx="981000" cy="1582920"/>
          </a:xfrm>
          <a:prstGeom prst="downArrow">
            <a:avLst>
              <a:gd name="adj1" fmla="val 77269"/>
              <a:gd name="adj2" fmla="val 375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4280" y="2039760"/>
            <a:ext cx="981000" cy="1787760"/>
          </a:xfrm>
          <a:prstGeom prst="downArrow">
            <a:avLst>
              <a:gd name="adj1" fmla="val 77269"/>
              <a:gd name="adj2" fmla="val 3623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78080" y="2073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81520" y="2073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04040" y="20653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324080" y="4384800"/>
            <a:ext cx="1553760" cy="704880"/>
            <a:chOff x="1324080" y="4384800"/>
            <a:chExt cx="1553760" cy="704880"/>
          </a:xfrm>
        </p:grpSpPr>
        <p:sp>
          <p:nvSpPr>
            <p:cNvPr id="463" name=""/>
            <p:cNvSpPr/>
            <p:nvPr/>
          </p:nvSpPr>
          <p:spPr>
            <a:xfrm>
              <a:off x="1324080" y="43848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25160" y="43858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943360" y="4384800"/>
            <a:ext cx="1553760" cy="704880"/>
            <a:chOff x="2943360" y="4384800"/>
            <a:chExt cx="1553760" cy="704880"/>
          </a:xfrm>
        </p:grpSpPr>
        <p:sp>
          <p:nvSpPr>
            <p:cNvPr id="466" name=""/>
            <p:cNvSpPr/>
            <p:nvPr/>
          </p:nvSpPr>
          <p:spPr>
            <a:xfrm>
              <a:off x="2943360" y="43848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6a53b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44440" y="43858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b8da9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560840" y="4384800"/>
            <a:ext cx="1553760" cy="704880"/>
            <a:chOff x="4560840" y="4384800"/>
            <a:chExt cx="1553760" cy="704880"/>
          </a:xfrm>
        </p:grpSpPr>
        <p:sp>
          <p:nvSpPr>
            <p:cNvPr id="469" name=""/>
            <p:cNvSpPr/>
            <p:nvPr/>
          </p:nvSpPr>
          <p:spPr>
            <a:xfrm>
              <a:off x="4560840" y="43848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cab1c"/>
                </a:gs>
                <a:gs pos="100000">
                  <a:srgbClr val="efc8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61920" y="43858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4dd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6880" y="4384800"/>
            <a:ext cx="1553760" cy="704880"/>
            <a:chOff x="6176880" y="4384800"/>
            <a:chExt cx="1553760" cy="704880"/>
          </a:xfrm>
        </p:grpSpPr>
        <p:sp>
          <p:nvSpPr>
            <p:cNvPr id="472" name=""/>
            <p:cNvSpPr/>
            <p:nvPr/>
          </p:nvSpPr>
          <p:spPr>
            <a:xfrm>
              <a:off x="6176880" y="438480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270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7960" y="438588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8b0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39068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0528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26000" y="471168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27640" y="4711680"/>
            <a:ext cx="142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Arial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4136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95920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81360" y="4387680"/>
            <a:ext cx="363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80120" y="438768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27320" y="4191120"/>
            <a:ext cx="1550520" cy="153720"/>
            <a:chOff x="1327320" y="4191120"/>
            <a:chExt cx="1550520" cy="153720"/>
          </a:xfrm>
        </p:grpSpPr>
        <p:sp>
          <p:nvSpPr>
            <p:cNvPr id="483" name=""/>
            <p:cNvSpPr/>
            <p:nvPr/>
          </p:nvSpPr>
          <p:spPr>
            <a:xfrm>
              <a:off x="1327320" y="41911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28400" y="4191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327320" y="4037040"/>
            <a:ext cx="1550520" cy="152280"/>
            <a:chOff x="1327320" y="4037040"/>
            <a:chExt cx="1550520" cy="152280"/>
          </a:xfrm>
        </p:grpSpPr>
        <p:sp>
          <p:nvSpPr>
            <p:cNvPr id="486" name=""/>
            <p:cNvSpPr/>
            <p:nvPr/>
          </p:nvSpPr>
          <p:spPr>
            <a:xfrm>
              <a:off x="1327320" y="40370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28400" y="40370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327320" y="3849840"/>
            <a:ext cx="1550520" cy="153720"/>
            <a:chOff x="1327320" y="3849840"/>
            <a:chExt cx="1550520" cy="153720"/>
          </a:xfrm>
        </p:grpSpPr>
        <p:sp>
          <p:nvSpPr>
            <p:cNvPr id="489" name=""/>
            <p:cNvSpPr/>
            <p:nvPr/>
          </p:nvSpPr>
          <p:spPr>
            <a:xfrm>
              <a:off x="1327320" y="38498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28400" y="38498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327320" y="3662280"/>
            <a:ext cx="1550520" cy="154080"/>
            <a:chOff x="1327320" y="3662280"/>
            <a:chExt cx="1550520" cy="154080"/>
          </a:xfrm>
        </p:grpSpPr>
        <p:sp>
          <p:nvSpPr>
            <p:cNvPr id="492" name=""/>
            <p:cNvSpPr/>
            <p:nvPr/>
          </p:nvSpPr>
          <p:spPr>
            <a:xfrm>
              <a:off x="1327320" y="3662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400" y="3662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327320" y="3479760"/>
            <a:ext cx="1550520" cy="154080"/>
            <a:chOff x="1327320" y="3479760"/>
            <a:chExt cx="1550520" cy="154080"/>
          </a:xfrm>
        </p:grpSpPr>
        <p:sp>
          <p:nvSpPr>
            <p:cNvPr id="495" name=""/>
            <p:cNvSpPr/>
            <p:nvPr/>
          </p:nvSpPr>
          <p:spPr>
            <a:xfrm>
              <a:off x="1327320" y="3479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400" y="3479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327320" y="3292560"/>
            <a:ext cx="1550520" cy="154080"/>
            <a:chOff x="1327320" y="3292560"/>
            <a:chExt cx="1550520" cy="154080"/>
          </a:xfrm>
        </p:grpSpPr>
        <p:sp>
          <p:nvSpPr>
            <p:cNvPr id="498" name=""/>
            <p:cNvSpPr/>
            <p:nvPr/>
          </p:nvSpPr>
          <p:spPr>
            <a:xfrm>
              <a:off x="1327320" y="3292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400" y="3292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327320" y="3105000"/>
            <a:ext cx="1550520" cy="154080"/>
            <a:chOff x="1327320" y="3105000"/>
            <a:chExt cx="1550520" cy="154080"/>
          </a:xfrm>
        </p:grpSpPr>
        <p:sp>
          <p:nvSpPr>
            <p:cNvPr id="501" name=""/>
            <p:cNvSpPr/>
            <p:nvPr/>
          </p:nvSpPr>
          <p:spPr>
            <a:xfrm>
              <a:off x="1327320" y="3105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400" y="3105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27320" y="2919240"/>
            <a:ext cx="1550520" cy="154080"/>
            <a:chOff x="1327320" y="2919240"/>
            <a:chExt cx="1550520" cy="154080"/>
          </a:xfrm>
        </p:grpSpPr>
        <p:sp>
          <p:nvSpPr>
            <p:cNvPr id="504" name=""/>
            <p:cNvSpPr/>
            <p:nvPr/>
          </p:nvSpPr>
          <p:spPr>
            <a:xfrm>
              <a:off x="1327320" y="2919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ba5"/>
                </a:gs>
                <a:gs pos="100000">
                  <a:srgbClr val="5a90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28400" y="2919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90c2"/>
                </a:gs>
                <a:gs pos="100000">
                  <a:srgbClr val="8bb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951280" y="4191120"/>
            <a:ext cx="1550520" cy="153720"/>
            <a:chOff x="2951280" y="4191120"/>
            <a:chExt cx="1550520" cy="153720"/>
          </a:xfrm>
        </p:grpSpPr>
        <p:sp>
          <p:nvSpPr>
            <p:cNvPr id="507" name=""/>
            <p:cNvSpPr/>
            <p:nvPr/>
          </p:nvSpPr>
          <p:spPr>
            <a:xfrm>
              <a:off x="2951280" y="41911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rgbClr val="8ac246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52360" y="4191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dd3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951280" y="4037040"/>
            <a:ext cx="1550520" cy="152280"/>
            <a:chOff x="2951280" y="4037040"/>
            <a:chExt cx="1550520" cy="152280"/>
          </a:xfrm>
        </p:grpSpPr>
        <p:sp>
          <p:nvSpPr>
            <p:cNvPr id="510" name=""/>
            <p:cNvSpPr/>
            <p:nvPr/>
          </p:nvSpPr>
          <p:spPr>
            <a:xfrm>
              <a:off x="2951280" y="40370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6a53b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2360" y="40370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dd3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52920" y="4191120"/>
            <a:ext cx="1549080" cy="153720"/>
            <a:chOff x="4552920" y="4191120"/>
            <a:chExt cx="1549080" cy="153720"/>
          </a:xfrm>
        </p:grpSpPr>
        <p:sp>
          <p:nvSpPr>
            <p:cNvPr id="513" name=""/>
            <p:cNvSpPr/>
            <p:nvPr/>
          </p:nvSpPr>
          <p:spPr>
            <a:xfrm>
              <a:off x="4552920" y="41911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4000" y="41911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2d7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173640" y="4191120"/>
            <a:ext cx="1549080" cy="153720"/>
            <a:chOff x="6173640" y="4191120"/>
            <a:chExt cx="1549080" cy="153720"/>
          </a:xfrm>
        </p:grpSpPr>
        <p:sp>
          <p:nvSpPr>
            <p:cNvPr id="516" name=""/>
            <p:cNvSpPr/>
            <p:nvPr/>
          </p:nvSpPr>
          <p:spPr>
            <a:xfrm>
              <a:off x="6173640" y="41911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270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74720" y="419112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7a8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951280" y="3851280"/>
            <a:ext cx="1550520" cy="152280"/>
            <a:chOff x="2951280" y="3851280"/>
            <a:chExt cx="1550520" cy="152280"/>
          </a:xfrm>
        </p:grpSpPr>
        <p:sp>
          <p:nvSpPr>
            <p:cNvPr id="519" name=""/>
            <p:cNvSpPr/>
            <p:nvPr/>
          </p:nvSpPr>
          <p:spPr>
            <a:xfrm>
              <a:off x="2951280" y="38512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6a53b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52360" y="38512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dd3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951280" y="3673440"/>
            <a:ext cx="1550520" cy="152280"/>
            <a:chOff x="2951280" y="3673440"/>
            <a:chExt cx="1550520" cy="152280"/>
          </a:xfrm>
        </p:grpSpPr>
        <p:sp>
          <p:nvSpPr>
            <p:cNvPr id="522" name=""/>
            <p:cNvSpPr/>
            <p:nvPr/>
          </p:nvSpPr>
          <p:spPr>
            <a:xfrm>
              <a:off x="2951280" y="36734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6a53b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52360" y="36734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dd3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951280" y="3487680"/>
            <a:ext cx="1550520" cy="152280"/>
            <a:chOff x="2951280" y="3487680"/>
            <a:chExt cx="1550520" cy="152280"/>
          </a:xfrm>
        </p:grpSpPr>
        <p:sp>
          <p:nvSpPr>
            <p:cNvPr id="525" name=""/>
            <p:cNvSpPr/>
            <p:nvPr/>
          </p:nvSpPr>
          <p:spPr>
            <a:xfrm>
              <a:off x="2951280" y="348768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6a53b"/>
                </a:gs>
                <a:gs pos="100000">
                  <a:srgbClr val="8ac2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2360" y="34876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246"/>
                </a:gs>
                <a:gs pos="100000">
                  <a:srgbClr val="add3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552920" y="4035600"/>
            <a:ext cx="1549080" cy="153720"/>
            <a:chOff x="4552920" y="4035600"/>
            <a:chExt cx="1549080" cy="153720"/>
          </a:xfrm>
        </p:grpSpPr>
        <p:sp>
          <p:nvSpPr>
            <p:cNvPr id="528" name=""/>
            <p:cNvSpPr/>
            <p:nvPr/>
          </p:nvSpPr>
          <p:spPr>
            <a:xfrm>
              <a:off x="4552920" y="40356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54000" y="403560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2d7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52920" y="3849840"/>
            <a:ext cx="1549080" cy="153720"/>
            <a:chOff x="4552920" y="3849840"/>
            <a:chExt cx="1549080" cy="153720"/>
          </a:xfrm>
        </p:grpSpPr>
        <p:sp>
          <p:nvSpPr>
            <p:cNvPr id="531" name=""/>
            <p:cNvSpPr/>
            <p:nvPr/>
          </p:nvSpPr>
          <p:spPr>
            <a:xfrm>
              <a:off x="4552920" y="38498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54000" y="3849840"/>
              <a:ext cx="154800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c821"/>
                </a:gs>
                <a:gs pos="100000">
                  <a:srgbClr val="f2d7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173640" y="4027320"/>
            <a:ext cx="1549080" cy="154080"/>
            <a:chOff x="6173640" y="4027320"/>
            <a:chExt cx="1549080" cy="154080"/>
          </a:xfrm>
        </p:grpSpPr>
        <p:sp>
          <p:nvSpPr>
            <p:cNvPr id="534" name=""/>
            <p:cNvSpPr/>
            <p:nvPr/>
          </p:nvSpPr>
          <p:spPr>
            <a:xfrm>
              <a:off x="6173640" y="40273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27016"/>
                </a:gs>
                <a:gs pos="100000">
                  <a:srgbClr val="f6831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4720" y="40273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831a"/>
                </a:gs>
                <a:gs pos="100000">
                  <a:srgbClr val="f7a8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943600" y="31510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73640" y="3189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3676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831a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未知"/>
          <p:cNvSpPr/>
          <p:nvPr/>
        </p:nvSpPr>
        <p:spPr>
          <a:xfrm>
            <a:off x="2127240" y="2890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c246"/>
              </a:gs>
              <a:gs pos="100000">
                <a:srgbClr val="3f592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76240" y="2889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e6486"/>
              </a:gs>
              <a:gs pos="100000">
                <a:srgbClr val="5a90c2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14480" y="3552840"/>
            <a:ext cx="182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14480" y="29368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29280" y="3773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6880" y="3770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Calibri"/>
                <a:ea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99120" y="2065320"/>
            <a:ext cx="2971800" cy="2971800"/>
          </a:xfrm>
          <a:prstGeom prst="ellipse">
            <a:avLst/>
          </a:prstGeom>
          <a:noFill/>
          <a:ln w="38160">
            <a:solidFill>
              <a:srgbClr val="efc821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2065320"/>
            <a:ext cx="2971800" cy="2971800"/>
          </a:xfrm>
          <a:prstGeom prst="ellipse">
            <a:avLst/>
          </a:prstGeom>
          <a:noFill/>
          <a:ln w="38160">
            <a:solidFill>
              <a:srgbClr val="8ac246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34316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263600" y="1676520"/>
            <a:ext cx="1000080" cy="977760"/>
            <a:chOff x="1263600" y="1676520"/>
            <a:chExt cx="1000080" cy="977760"/>
          </a:xfrm>
        </p:grpSpPr>
        <p:grpSp>
          <p:nvGrpSpPr>
            <p:cNvPr id="551" name=""/>
            <p:cNvGrpSpPr/>
            <p:nvPr/>
          </p:nvGrpSpPr>
          <p:grpSpPr>
            <a:xfrm>
              <a:off x="1263600" y="1676520"/>
              <a:ext cx="1000080" cy="977760"/>
              <a:chOff x="1263600" y="1676520"/>
              <a:chExt cx="1000080" cy="977760"/>
            </a:xfrm>
          </p:grpSpPr>
          <p:pic>
            <p:nvPicPr>
              <p:cNvPr id="55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3600" y="167652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Oval 18"/>
              <p:cNvSpPr/>
              <p:nvPr/>
            </p:nvSpPr>
            <p:spPr>
              <a:xfrm>
                <a:off x="1263600" y="167652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3f5920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63320" y="16858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Text Box 30"/>
          <p:cNvSpPr/>
          <p:nvPr/>
        </p:nvSpPr>
        <p:spPr>
          <a:xfrm>
            <a:off x="1292400" y="18860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6049800" y="30877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777000" y="1706400"/>
            <a:ext cx="1000080" cy="978120"/>
            <a:chOff x="6777000" y="1706400"/>
            <a:chExt cx="1000080" cy="978120"/>
          </a:xfrm>
        </p:grpSpPr>
        <p:grpSp>
          <p:nvGrpSpPr>
            <p:cNvPr id="558" name=""/>
            <p:cNvGrpSpPr/>
            <p:nvPr/>
          </p:nvGrpSpPr>
          <p:grpSpPr>
            <a:xfrm>
              <a:off x="6777000" y="1706400"/>
              <a:ext cx="1000080" cy="978120"/>
              <a:chOff x="6777000" y="1706400"/>
              <a:chExt cx="1000080" cy="978120"/>
            </a:xfrm>
          </p:grpSpPr>
          <p:pic>
            <p:nvPicPr>
              <p:cNvPr id="55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77000" y="17064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Oval 48"/>
              <p:cNvSpPr/>
              <p:nvPr/>
            </p:nvSpPr>
            <p:spPr>
              <a:xfrm>
                <a:off x="6777000" y="17064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06b11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76720" y="171576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50"/>
          <p:cNvSpPr/>
          <p:nvPr/>
        </p:nvSpPr>
        <p:spPr>
          <a:xfrm>
            <a:off x="6743880" y="1916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63600" y="4429080"/>
            <a:ext cx="1000080" cy="978120"/>
            <a:chOff x="1263600" y="4429080"/>
            <a:chExt cx="1000080" cy="978120"/>
          </a:xfrm>
        </p:grpSpPr>
        <p:grpSp>
          <p:nvGrpSpPr>
            <p:cNvPr id="564" name=""/>
            <p:cNvGrpSpPr/>
            <p:nvPr/>
          </p:nvGrpSpPr>
          <p:grpSpPr>
            <a:xfrm>
              <a:off x="1263600" y="4429080"/>
              <a:ext cx="1000080" cy="978120"/>
              <a:chOff x="1263600" y="4429080"/>
              <a:chExt cx="1000080" cy="978120"/>
            </a:xfrm>
          </p:grpSpPr>
          <p:pic>
            <p:nvPicPr>
              <p:cNvPr id="565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63600" y="44290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Oval 18"/>
              <p:cNvSpPr/>
              <p:nvPr/>
            </p:nvSpPr>
            <p:spPr>
              <a:xfrm>
                <a:off x="1263600" y="4429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4d6c27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7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63320" y="443844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Text Box 30"/>
          <p:cNvSpPr/>
          <p:nvPr/>
        </p:nvSpPr>
        <p:spPr>
          <a:xfrm>
            <a:off x="1292400" y="463860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58920" y="3133800"/>
            <a:ext cx="1000080" cy="977760"/>
            <a:chOff x="358920" y="3133800"/>
            <a:chExt cx="1000080" cy="977760"/>
          </a:xfrm>
        </p:grpSpPr>
        <p:grpSp>
          <p:nvGrpSpPr>
            <p:cNvPr id="570" name=""/>
            <p:cNvGrpSpPr/>
            <p:nvPr/>
          </p:nvGrpSpPr>
          <p:grpSpPr>
            <a:xfrm>
              <a:off x="358920" y="3133800"/>
              <a:ext cx="1000080" cy="977760"/>
              <a:chOff x="358920" y="3133800"/>
              <a:chExt cx="1000080" cy="977760"/>
            </a:xfrm>
          </p:grpSpPr>
          <p:pic>
            <p:nvPicPr>
              <p:cNvPr id="571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58920" y="3133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Oval 18"/>
              <p:cNvSpPr/>
              <p:nvPr/>
            </p:nvSpPr>
            <p:spPr>
              <a:xfrm>
                <a:off x="358920" y="3133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8ac246"/>
                  </a:gs>
                  <a:gs pos="50000">
                    <a:srgbClr val="4d6c27"/>
                  </a:gs>
                  <a:gs pos="100000">
                    <a:srgbClr val="8ac2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3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58640" y="3143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Text Box 30"/>
          <p:cNvSpPr/>
          <p:nvPr/>
        </p:nvSpPr>
        <p:spPr>
          <a:xfrm>
            <a:off x="387360" y="334332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777000" y="4316400"/>
            <a:ext cx="1000080" cy="977760"/>
            <a:chOff x="6777000" y="4316400"/>
            <a:chExt cx="1000080" cy="977760"/>
          </a:xfrm>
        </p:grpSpPr>
        <p:grpSp>
          <p:nvGrpSpPr>
            <p:cNvPr id="576" name=""/>
            <p:cNvGrpSpPr/>
            <p:nvPr/>
          </p:nvGrpSpPr>
          <p:grpSpPr>
            <a:xfrm>
              <a:off x="6777000" y="4316400"/>
              <a:ext cx="1000080" cy="977760"/>
              <a:chOff x="6777000" y="4316400"/>
              <a:chExt cx="1000080" cy="977760"/>
            </a:xfrm>
          </p:grpSpPr>
          <p:pic>
            <p:nvPicPr>
              <p:cNvPr id="577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77000" y="431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Oval 48"/>
              <p:cNvSpPr/>
              <p:nvPr/>
            </p:nvSpPr>
            <p:spPr>
              <a:xfrm>
                <a:off x="6777000" y="431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06b11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9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76720" y="432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 Box 50"/>
          <p:cNvSpPr/>
          <p:nvPr/>
        </p:nvSpPr>
        <p:spPr>
          <a:xfrm>
            <a:off x="6743880" y="45259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624800" y="3078000"/>
            <a:ext cx="1000080" cy="978120"/>
            <a:chOff x="7624800" y="3078000"/>
            <a:chExt cx="1000080" cy="978120"/>
          </a:xfrm>
        </p:grpSpPr>
        <p:grpSp>
          <p:nvGrpSpPr>
            <p:cNvPr id="582" name=""/>
            <p:cNvGrpSpPr/>
            <p:nvPr/>
          </p:nvGrpSpPr>
          <p:grpSpPr>
            <a:xfrm>
              <a:off x="7624800" y="3078000"/>
              <a:ext cx="1000080" cy="978120"/>
              <a:chOff x="7624800" y="3078000"/>
              <a:chExt cx="1000080" cy="978120"/>
            </a:xfrm>
          </p:grpSpPr>
          <p:pic>
            <p:nvPicPr>
              <p:cNvPr id="583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24800" y="30780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Oval 48"/>
              <p:cNvSpPr/>
              <p:nvPr/>
            </p:nvSpPr>
            <p:spPr>
              <a:xfrm>
                <a:off x="7624800" y="307800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efc821"/>
                  </a:gs>
                  <a:gs pos="50000">
                    <a:srgbClr val="806b11"/>
                  </a:gs>
                  <a:gs pos="100000">
                    <a:srgbClr val="efc8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5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24520" y="308736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Text Box 50"/>
          <p:cNvSpPr/>
          <p:nvPr/>
        </p:nvSpPr>
        <p:spPr>
          <a:xfrm>
            <a:off x="7591320" y="32878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9880" y="214164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5a90c2">
                  <a:alpha val="80000"/>
                </a:srgbClr>
              </a:gs>
              <a:gs pos="100000">
                <a:srgbClr val="95b7d7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543560" y="2847960"/>
            <a:ext cx="1676160" cy="1403280"/>
            <a:chOff x="4543560" y="2847960"/>
            <a:chExt cx="1676160" cy="1403280"/>
          </a:xfrm>
        </p:grpSpPr>
        <p:sp>
          <p:nvSpPr>
            <p:cNvPr id="589" name=""/>
            <p:cNvSpPr/>
            <p:nvPr/>
          </p:nvSpPr>
          <p:spPr>
            <a:xfrm>
              <a:off x="4543560" y="2847960"/>
              <a:ext cx="1676160" cy="14032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fc821"/>
                </a:gs>
                <a:gs pos="100000">
                  <a:srgbClr val="f7e7a2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98640" y="2903400"/>
              <a:ext cx="1550880" cy="128772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fc821"/>
                </a:gs>
                <a:gs pos="100000">
                  <a:srgbClr val="a68b16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819520" y="2865600"/>
            <a:ext cx="1676160" cy="1403280"/>
            <a:chOff x="2819520" y="2865600"/>
            <a:chExt cx="1676160" cy="1403280"/>
          </a:xfrm>
        </p:grpSpPr>
        <p:sp>
          <p:nvSpPr>
            <p:cNvPr id="592" name=""/>
            <p:cNvSpPr/>
            <p:nvPr/>
          </p:nvSpPr>
          <p:spPr>
            <a:xfrm flipH="1">
              <a:off x="2819520" y="2865600"/>
              <a:ext cx="1676160" cy="1403280"/>
            </a:xfrm>
            <a:custGeom>
              <a:avLst/>
              <a:gdLst>
                <a:gd name="textAreaLeft" fmla="*/ 360 w 1676160"/>
                <a:gd name="textAreaRight" fmla="*/ 1676880 w 167616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2dfa0"/>
                </a:gs>
                <a:gs pos="100000">
                  <a:srgbClr val="8ac246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889720" y="2921040"/>
              <a:ext cx="1550880" cy="1287720"/>
            </a:xfrm>
            <a:custGeom>
              <a:avLst/>
              <a:gdLst>
                <a:gd name="textAreaLeft" fmla="*/ 360 w 1550880"/>
                <a:gd name="textAreaRight" fmla="*/ 1551600 w 155088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b802e"/>
                </a:gs>
                <a:gs pos="100000">
                  <a:srgbClr val="8ac246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Text Box 8"/>
          <p:cNvSpPr/>
          <p:nvPr/>
        </p:nvSpPr>
        <p:spPr>
          <a:xfrm>
            <a:off x="30844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670280" y="31431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3581280" y="176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3581280" y="4991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3809880" y="379872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efc821">
                  <a:alpha val="80000"/>
                </a:srgbClr>
              </a:gs>
              <a:gs pos="100000">
                <a:srgbClr val="f3db71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2e507a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2e507a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company  slogan in he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831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181-DEF4-4860-880A-642F27E9F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209680"/>
            <a:ext cx="27417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28960" y="554364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4760" y="51624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27432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23623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62480" y="34290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0481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15440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7735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62480" y="4876920"/>
            <a:ext cx="4800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4495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777040" y="2311560"/>
            <a:ext cx="467280" cy="468360"/>
            <a:chOff x="2777040" y="2311560"/>
            <a:chExt cx="467280" cy="468360"/>
          </a:xfrm>
        </p:grpSpPr>
        <p:sp>
          <p:nvSpPr>
            <p:cNvPr id="191" name=""/>
            <p:cNvSpPr/>
            <p:nvPr/>
          </p:nvSpPr>
          <p:spPr>
            <a:xfrm>
              <a:off x="2813040" y="23511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777040" y="2311560"/>
              <a:ext cx="467280" cy="468360"/>
              <a:chOff x="2777040" y="2311560"/>
              <a:chExt cx="467280" cy="468360"/>
            </a:xfrm>
          </p:grpSpPr>
          <p:pic>
            <p:nvPicPr>
              <p:cNvPr id="193" name="" descr="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845440" y="23778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19311000">
                <a:off x="2845800" y="23770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1f3243">
                      <a:alpha val="90196"/>
                    </a:srgbClr>
                  </a:gs>
                  <a:gs pos="50000">
                    <a:srgbClr val="5a90c2">
                      <a:alpha val="75294"/>
                    </a:srgbClr>
                  </a:gs>
                  <a:gs pos="100000">
                    <a:srgbClr val="1f3243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813400" y="24033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4"/>
            <a:srcRect l="12029" t="9307" r="12418" b="12612"/>
            <a:stretch/>
          </p:blipFill>
          <p:spPr>
            <a:xfrm>
              <a:off x="2838600" y="23641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3289680" y="3009960"/>
            <a:ext cx="467280" cy="468360"/>
            <a:chOff x="3289680" y="3009960"/>
            <a:chExt cx="467280" cy="468360"/>
          </a:xfrm>
        </p:grpSpPr>
        <p:sp>
          <p:nvSpPr>
            <p:cNvPr id="198" name=""/>
            <p:cNvSpPr/>
            <p:nvPr/>
          </p:nvSpPr>
          <p:spPr>
            <a:xfrm>
              <a:off x="3325680" y="30495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89680" y="3009960"/>
              <a:ext cx="467280" cy="468360"/>
              <a:chOff x="3289680" y="3009960"/>
              <a:chExt cx="467280" cy="4683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358080" y="30762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9311000">
                <a:off x="3358440" y="30754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2f4318">
                      <a:alpha val="90196"/>
                    </a:srgbClr>
                  </a:gs>
                  <a:gs pos="50000">
                    <a:srgbClr val="8ac246">
                      <a:alpha val="75294"/>
                    </a:srgbClr>
                  </a:gs>
                  <a:gs pos="100000">
                    <a:srgbClr val="2f4318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326040" y="31017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3" name="" descr=""/>
            <p:cNvPicPr/>
            <p:nvPr/>
          </p:nvPicPr>
          <p:blipFill>
            <a:blip r:embed="rId7"/>
            <a:srcRect l="12029" t="9307" r="12418" b="12612"/>
            <a:stretch/>
          </p:blipFill>
          <p:spPr>
            <a:xfrm>
              <a:off x="3351240" y="30625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458160" y="3732480"/>
            <a:ext cx="467280" cy="468360"/>
            <a:chOff x="3458160" y="3732480"/>
            <a:chExt cx="467280" cy="468360"/>
          </a:xfrm>
        </p:grpSpPr>
        <p:sp>
          <p:nvSpPr>
            <p:cNvPr id="205" name=""/>
            <p:cNvSpPr/>
            <p:nvPr/>
          </p:nvSpPr>
          <p:spPr>
            <a:xfrm>
              <a:off x="3494160" y="37720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458160" y="3732480"/>
              <a:ext cx="467280" cy="468360"/>
              <a:chOff x="3458160" y="3732480"/>
              <a:chExt cx="467280" cy="4683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526560" y="37987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19311000">
                <a:off x="3526920" y="37980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552d09">
                      <a:alpha val="90196"/>
                    </a:srgbClr>
                  </a:gs>
                  <a:gs pos="50000">
                    <a:srgbClr val="f6831a">
                      <a:alpha val="75294"/>
                    </a:srgbClr>
                  </a:gs>
                  <a:gs pos="100000">
                    <a:srgbClr val="552d09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494520" y="38242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0" name="" descr=""/>
            <p:cNvPicPr/>
            <p:nvPr/>
          </p:nvPicPr>
          <p:blipFill>
            <a:blip r:embed="rId10"/>
            <a:srcRect l="12029" t="9307" r="12418" b="12612"/>
            <a:stretch/>
          </p:blipFill>
          <p:spPr>
            <a:xfrm>
              <a:off x="3521520" y="37850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273840" y="4444920"/>
            <a:ext cx="467280" cy="468360"/>
            <a:chOff x="3273840" y="4444920"/>
            <a:chExt cx="467280" cy="468360"/>
          </a:xfrm>
        </p:grpSpPr>
        <p:sp>
          <p:nvSpPr>
            <p:cNvPr id="212" name=""/>
            <p:cNvSpPr/>
            <p:nvPr/>
          </p:nvSpPr>
          <p:spPr>
            <a:xfrm>
              <a:off x="3309840" y="448452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3840" y="4444920"/>
              <a:ext cx="467280" cy="468360"/>
              <a:chOff x="3273840" y="4444920"/>
              <a:chExt cx="467280" cy="46836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342240" y="451116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 rot="19311000">
                <a:off x="3342600" y="451044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53450b">
                      <a:alpha val="90196"/>
                    </a:srgbClr>
                  </a:gs>
                  <a:gs pos="50000">
                    <a:srgbClr val="efc821">
                      <a:alpha val="75294"/>
                    </a:srgbClr>
                  </a:gs>
                  <a:gs pos="100000">
                    <a:srgbClr val="53450b">
                      <a:alpha val="9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310200" y="453672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" descr=""/>
            <p:cNvPicPr/>
            <p:nvPr/>
          </p:nvPicPr>
          <p:blipFill>
            <a:blip r:embed="rId13"/>
            <a:srcRect l="12029" t="9307" r="12418" b="12612"/>
            <a:stretch/>
          </p:blipFill>
          <p:spPr>
            <a:xfrm>
              <a:off x="3335400" y="449748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2696040" y="5108760"/>
            <a:ext cx="467280" cy="468360"/>
            <a:chOff x="2696040" y="5108760"/>
            <a:chExt cx="467280" cy="468360"/>
          </a:xfrm>
        </p:grpSpPr>
        <p:sp>
          <p:nvSpPr>
            <p:cNvPr id="219" name=""/>
            <p:cNvSpPr/>
            <p:nvPr/>
          </p:nvSpPr>
          <p:spPr>
            <a:xfrm>
              <a:off x="2732040" y="514836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81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96040" y="5108760"/>
              <a:ext cx="467280" cy="468360"/>
              <a:chOff x="2696040" y="5108760"/>
              <a:chExt cx="467280" cy="468360"/>
            </a:xfrm>
          </p:grpSpPr>
          <p:pic>
            <p:nvPicPr>
              <p:cNvPr id="221" name="" descr="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764440" y="51750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19311000">
                <a:off x="2764800" y="517428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" descr="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732400" y="52005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4" name="" descr=""/>
            <p:cNvPicPr/>
            <p:nvPr/>
          </p:nvPicPr>
          <p:blipFill>
            <a:blip r:embed="rId16"/>
            <a:srcRect l="12029" t="9307" r="12418" b="12612"/>
            <a:stretch/>
          </p:blipFill>
          <p:spPr>
            <a:xfrm>
              <a:off x="2757600" y="516132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191120" y="2133720"/>
            <a:ext cx="480060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e507a"/>
                </a:solidFill>
                <a:latin typeface="Calibri"/>
                <a:ea typeface="Arial"/>
              </a:rPr>
              <a:t>1. Describe contents for a Ch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3354480"/>
            <a:ext cx="4419720" cy="0"/>
          </a:xfrm>
          <a:prstGeom prst="line">
            <a:avLst/>
          </a:prstGeom>
          <a:ln w="9360">
            <a:solidFill>
              <a:srgbClr val="2e50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6865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4320" y="57340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未知"/>
          <p:cNvSpPr/>
          <p:nvPr/>
        </p:nvSpPr>
        <p:spPr>
          <a:xfrm rot="10800000">
            <a:off x="563400" y="178416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90bbd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475920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6200000">
            <a:off x="532080" y="428364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6831a"/>
              </a:gs>
              <a:gs pos="100000">
                <a:srgbClr val="a055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 rot="16200000">
            <a:off x="1080360" y="401724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a90c2"/>
              </a:gs>
              <a:gs pos="100000">
                <a:srgbClr val="3a5d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16200000">
            <a:off x="1623240" y="378864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fc821"/>
              </a:gs>
              <a:gs pos="100000">
                <a:srgbClr val="9b82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 rot="16200000">
            <a:off x="1880280" y="321480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ac246"/>
              </a:gs>
              <a:gs pos="100000">
                <a:srgbClr val="5a7e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68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5224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3344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0600" y="5075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560" y="413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54840" y="362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26320" y="315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82320" y="2168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460680"/>
            <a:ext cx="480060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e507a"/>
                </a:solidFill>
                <a:latin typeface="Calibri"/>
                <a:ea typeface="Arial"/>
              </a:rPr>
              <a:t>2. Describe contents for a Ch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6240" y="472428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5a9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6240" y="319248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efc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6240" y="1670040"/>
            <a:ext cx="685476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8ac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22640" y="2971800"/>
            <a:ext cx="4686120" cy="463680"/>
            <a:chOff x="2222640" y="2971800"/>
            <a:chExt cx="4686120" cy="463680"/>
          </a:xfrm>
        </p:grpSpPr>
        <p:sp>
          <p:nvSpPr>
            <p:cNvPr id="250" name=""/>
            <p:cNvSpPr/>
            <p:nvPr/>
          </p:nvSpPr>
          <p:spPr>
            <a:xfrm>
              <a:off x="2222640" y="297180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efc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234160" y="2986200"/>
              <a:ext cx="4668840" cy="428400"/>
              <a:chOff x="2234160" y="2986200"/>
              <a:chExt cx="4668840" cy="4284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34160" y="330372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c821">
                      <a:alpha val="0"/>
                    </a:srgbClr>
                  </a:gs>
                  <a:gs pos="100000">
                    <a:srgbClr val="f8ea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34160" y="298620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e9a9"/>
                  </a:gs>
                  <a:gs pos="100000">
                    <a:srgbClr val="efc8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2195640" y="4489560"/>
            <a:ext cx="4686120" cy="463320"/>
            <a:chOff x="2195640" y="4489560"/>
            <a:chExt cx="4686120" cy="463320"/>
          </a:xfrm>
        </p:grpSpPr>
        <p:sp>
          <p:nvSpPr>
            <p:cNvPr id="255" name=""/>
            <p:cNvSpPr/>
            <p:nvPr/>
          </p:nvSpPr>
          <p:spPr>
            <a:xfrm>
              <a:off x="2195640" y="44895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5a9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207160" y="4503960"/>
              <a:ext cx="4668840" cy="428400"/>
              <a:chOff x="2207160" y="4503960"/>
              <a:chExt cx="4668840" cy="428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207160" y="4821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90c2">
                      <a:alpha val="0"/>
                    </a:srgbClr>
                  </a:gs>
                  <a:gs pos="100000">
                    <a:srgbClr val="bfd3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07160" y="45039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4d7e8"/>
                  </a:gs>
                  <a:gs pos="100000">
                    <a:srgbClr val="5a90c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2225520" y="1447920"/>
            <a:ext cx="4686480" cy="463320"/>
            <a:chOff x="2225520" y="1447920"/>
            <a:chExt cx="4686480" cy="463320"/>
          </a:xfrm>
        </p:grpSpPr>
        <p:sp>
          <p:nvSpPr>
            <p:cNvPr id="260" name=""/>
            <p:cNvSpPr/>
            <p:nvPr/>
          </p:nvSpPr>
          <p:spPr>
            <a:xfrm>
              <a:off x="2225520" y="1447920"/>
              <a:ext cx="4686480" cy="463320"/>
            </a:xfrm>
            <a:prstGeom prst="roundRect">
              <a:avLst>
                <a:gd name="adj" fmla="val 17509"/>
              </a:avLst>
            </a:prstGeom>
            <a:solidFill>
              <a:srgbClr val="8ac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237040" y="1462320"/>
              <a:ext cx="4669200" cy="428400"/>
              <a:chOff x="2237040" y="1462320"/>
              <a:chExt cx="4669200" cy="428400"/>
            </a:xfrm>
          </p:grpSpPr>
          <p:sp>
            <p:nvSpPr>
              <p:cNvPr id="262" name=""/>
              <p:cNvSpPr/>
              <p:nvPr/>
            </p:nvSpPr>
            <p:spPr>
              <a:xfrm>
                <a:off x="2237040" y="177984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246">
                      <a:alpha val="0"/>
                    </a:srgbClr>
                  </a:gs>
                  <a:gs pos="100000">
                    <a:srgbClr val="d5e8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37040" y="146232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8eac3"/>
                  </a:gs>
                  <a:gs pos="100000">
                    <a:srgbClr val="8ac24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3438720" y="147636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8720" y="301464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38720" y="4529160"/>
            <a:ext cx="225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52600" y="194472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22683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52600" y="501480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53085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2600" y="348300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776760"/>
            <a:ext cx="6734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054160" y="2908440"/>
            <a:ext cx="5184720" cy="3190680"/>
          </a:xfrm>
          <a:prstGeom prst="rect">
            <a:avLst/>
          </a:prstGeom>
          <a:ln w="0">
            <a:noFill/>
          </a:ln>
        </p:spPr>
      </p:pic>
      <p:sp>
        <p:nvSpPr>
          <p:cNvPr id="274" name="未知"/>
          <p:cNvSpPr/>
          <p:nvPr/>
        </p:nvSpPr>
        <p:spPr>
          <a:xfrm flipH="1" flipV="1" rot="10800000">
            <a:off x="2742120" y="2252520"/>
            <a:ext cx="671400" cy="144792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8ac2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6767640" y="3548160"/>
            <a:ext cx="2880" cy="734760"/>
          </a:xfrm>
          <a:custGeom>
            <a:avLst/>
            <a:gdLst/>
            <a:ahLst/>
            <a:rect l="l" t="t" r="r" b="b"/>
            <a:pathLst>
              <a:path w="2" h="463">
                <a:moveTo>
                  <a:pt x="0" y="463"/>
                </a:moveTo>
                <a:lnTo>
                  <a:pt x="2" y="0"/>
                </a:lnTo>
              </a:path>
            </a:pathLst>
          </a:custGeom>
          <a:noFill/>
          <a:ln w="38160">
            <a:solidFill>
              <a:srgbClr val="f683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2351160" y="3664080"/>
            <a:ext cx="181080" cy="744480"/>
          </a:xfrm>
          <a:custGeom>
            <a:avLst/>
            <a:gdLst/>
            <a:ahLst/>
            <a:rect l="l" t="t" r="r" b="b"/>
            <a:pathLst>
              <a:path w="423" h="537">
                <a:moveTo>
                  <a:pt x="421" y="537"/>
                </a:moveTo>
                <a:lnTo>
                  <a:pt x="423" y="0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5a90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 flipH="1" rot="5400000">
            <a:off x="4716360" y="2320920"/>
            <a:ext cx="1440000" cy="861840"/>
          </a:xfrm>
          <a:custGeom>
            <a:avLst/>
            <a:gdLst/>
            <a:ahLst/>
            <a:rect l="l" t="t" r="r" b="b"/>
            <a:pathLst>
              <a:path w="723" h="650">
                <a:moveTo>
                  <a:pt x="720" y="0"/>
                </a:moveTo>
                <a:lnTo>
                  <a:pt x="723" y="643"/>
                </a:lnTo>
                <a:lnTo>
                  <a:pt x="0" y="650"/>
                </a:lnTo>
              </a:path>
            </a:pathLst>
          </a:custGeom>
          <a:noFill/>
          <a:ln w="38160">
            <a:solidFill>
              <a:srgbClr val="efc8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14400" y="2011320"/>
            <a:ext cx="1905120" cy="523800"/>
            <a:chOff x="914400" y="2011320"/>
            <a:chExt cx="1905120" cy="523800"/>
          </a:xfrm>
        </p:grpSpPr>
        <p:sp>
          <p:nvSpPr>
            <p:cNvPr id="280" name=""/>
            <p:cNvSpPr/>
            <p:nvPr/>
          </p:nvSpPr>
          <p:spPr>
            <a:xfrm>
              <a:off x="914400" y="201132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8ac246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9080" y="201456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ac246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55600" y="20829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47840" y="3416400"/>
            <a:ext cx="1904760" cy="523800"/>
            <a:chOff x="447840" y="3416400"/>
            <a:chExt cx="1904760" cy="523800"/>
          </a:xfrm>
        </p:grpSpPr>
        <p:sp>
          <p:nvSpPr>
            <p:cNvPr id="284" name=""/>
            <p:cNvSpPr/>
            <p:nvPr/>
          </p:nvSpPr>
          <p:spPr>
            <a:xfrm>
              <a:off x="447840" y="3416400"/>
              <a:ext cx="1904760" cy="523800"/>
            </a:xfrm>
            <a:prstGeom prst="roundRect">
              <a:avLst>
                <a:gd name="adj" fmla="val 16667"/>
              </a:avLst>
            </a:prstGeom>
            <a:solidFill>
              <a:srgbClr val="5a90c2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160" y="3419640"/>
              <a:ext cx="189216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a90c2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9040" y="34876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486400" y="1752480"/>
            <a:ext cx="1905120" cy="523800"/>
            <a:chOff x="5486400" y="1752480"/>
            <a:chExt cx="1905120" cy="523800"/>
          </a:xfrm>
        </p:grpSpPr>
        <p:sp>
          <p:nvSpPr>
            <p:cNvPr id="288" name=""/>
            <p:cNvSpPr/>
            <p:nvPr/>
          </p:nvSpPr>
          <p:spPr>
            <a:xfrm>
              <a:off x="5486400" y="175248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efc821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91080" y="175572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82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727600" y="18241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738840" y="3187800"/>
            <a:ext cx="1905120" cy="523800"/>
            <a:chOff x="6738840" y="3187800"/>
            <a:chExt cx="1905120" cy="523800"/>
          </a:xfrm>
        </p:grpSpPr>
        <p:sp>
          <p:nvSpPr>
            <p:cNvPr id="292" name=""/>
            <p:cNvSpPr/>
            <p:nvPr/>
          </p:nvSpPr>
          <p:spPr>
            <a:xfrm>
              <a:off x="6738840" y="3187800"/>
              <a:ext cx="1905120" cy="523800"/>
            </a:xfrm>
            <a:prstGeom prst="roundRect">
              <a:avLst>
                <a:gd name="adj" fmla="val 16667"/>
              </a:avLst>
            </a:prstGeom>
            <a:solidFill>
              <a:srgbClr val="f6831a"/>
            </a:solidFill>
            <a:ln w="0">
              <a:noFill/>
            </a:ln>
            <a:effectLst>
              <a:outerShdw dist="17819" dir="2700000" blurRad="0" rotWithShape="0">
                <a:srgbClr val="2e507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43520" y="3191040"/>
              <a:ext cx="1892520" cy="166680"/>
            </a:xfrm>
            <a:prstGeom prst="roundRect">
              <a:avLst>
                <a:gd name="adj" fmla="val 445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683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977160" y="32558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未知"/>
          <p:cNvSpPr/>
          <p:nvPr/>
        </p:nvSpPr>
        <p:spPr>
          <a:xfrm rot="21175800">
            <a:off x="822240" y="3332160"/>
            <a:ext cx="1812960" cy="2336760"/>
          </a:xfrm>
          <a:custGeom>
            <a:avLst/>
            <a:gdLst/>
            <a:ahLst/>
            <a:rect l="l" t="t" r="r" b="b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139840" y="283824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100240" y="5722200"/>
            <a:ext cx="216000" cy="219600"/>
            <a:chOff x="2100240" y="5722200"/>
            <a:chExt cx="216000" cy="21960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2122920" y="574200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122920" y="574200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152438"/>
                </a:gs>
                <a:gs pos="50000">
                  <a:srgbClr val="2e507a">
                    <a:alpha val="50196"/>
                  </a:srgbClr>
                </a:gs>
                <a:gs pos="100000">
                  <a:srgbClr val="1524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135880" y="5873400"/>
              <a:ext cx="170280" cy="68400"/>
              <a:chOff x="2135880" y="5873400"/>
              <a:chExt cx="170280" cy="6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166120" y="5873400"/>
                <a:ext cx="140040" cy="64080"/>
                <a:chOff x="2166120" y="5873400"/>
                <a:chExt cx="140040" cy="64080"/>
              </a:xfrm>
            </p:grpSpPr>
            <p:sp>
              <p:nvSpPr>
                <p:cNvPr id="303" name=""/>
                <p:cNvSpPr/>
                <p:nvPr/>
              </p:nvSpPr>
              <p:spPr>
                <a:xfrm flipH="1" flipV="1" rot="3964800">
                  <a:off x="2241720" y="58543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 rot="4780200">
                  <a:off x="2226240" y="58608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5076000">
                  <a:off x="2216520" y="586224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5608200">
                  <a:off x="2205360" y="586332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135880" y="5874120"/>
                <a:ext cx="140760" cy="67680"/>
                <a:chOff x="2135880" y="5874120"/>
                <a:chExt cx="140760" cy="67680"/>
              </a:xfrm>
            </p:grpSpPr>
            <p:sp>
              <p:nvSpPr>
                <p:cNvPr id="308" name=""/>
                <p:cNvSpPr/>
                <p:nvPr/>
              </p:nvSpPr>
              <p:spPr>
                <a:xfrm flipH="1" flipV="1" rot="5317800">
                  <a:off x="2212200" y="58629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 rot="6133800">
                  <a:off x="2195280" y="586332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 flipV="1" rot="6429000">
                  <a:off x="2185920" y="5860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 flipV="1" rot="6961200">
                  <a:off x="2174040" y="58568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12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19029600">
              <a:off x="2112480" y="5758560"/>
              <a:ext cx="14328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3783240" y="4626720"/>
            <a:ext cx="215280" cy="219600"/>
            <a:chOff x="3783240" y="4626720"/>
            <a:chExt cx="215280" cy="219600"/>
          </a:xfrm>
        </p:grpSpPr>
        <p:pic>
          <p:nvPicPr>
            <p:cNvPr id="314" name="" descr=""/>
            <p:cNvPicPr/>
            <p:nvPr/>
          </p:nvPicPr>
          <p:blipFill>
            <a:blip r:embed="rId3"/>
            <a:stretch/>
          </p:blipFill>
          <p:spPr>
            <a:xfrm>
              <a:off x="3805560" y="46465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805560" y="46465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52438"/>
                </a:gs>
                <a:gs pos="50000">
                  <a:srgbClr val="2e507a">
                    <a:alpha val="50196"/>
                  </a:srgbClr>
                </a:gs>
                <a:gs pos="100000">
                  <a:srgbClr val="1524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818520" y="4778280"/>
              <a:ext cx="169920" cy="68040"/>
              <a:chOff x="3818520" y="4778280"/>
              <a:chExt cx="169920" cy="680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3848760" y="4778280"/>
                <a:ext cx="139680" cy="64080"/>
                <a:chOff x="3848760" y="4778280"/>
                <a:chExt cx="139680" cy="64080"/>
              </a:xfrm>
            </p:grpSpPr>
            <p:sp>
              <p:nvSpPr>
                <p:cNvPr id="318" name=""/>
                <p:cNvSpPr/>
                <p:nvPr/>
              </p:nvSpPr>
              <p:spPr>
                <a:xfrm flipH="1" flipV="1" rot="3964800">
                  <a:off x="3924000" y="47592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4780200">
                  <a:off x="3908520" y="47653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5076000">
                  <a:off x="3898800" y="47667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5608200">
                  <a:off x="3888000" y="47678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818520" y="4778640"/>
                <a:ext cx="140400" cy="67680"/>
                <a:chOff x="3818520" y="4778640"/>
                <a:chExt cx="140400" cy="676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 rot="5317800">
                  <a:off x="3894480" y="47674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6133800">
                  <a:off x="3877200" y="47674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6429000">
                  <a:off x="3868200" y="47646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6961200">
                  <a:off x="3856680" y="47613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7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19029600">
              <a:off x="3795840" y="46627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5391360" y="3628440"/>
            <a:ext cx="215280" cy="219600"/>
            <a:chOff x="5391360" y="3628440"/>
            <a:chExt cx="215280" cy="219600"/>
          </a:xfrm>
        </p:grpSpPr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5413680" y="364824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413680" y="364824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152438"/>
                </a:gs>
                <a:gs pos="50000">
                  <a:srgbClr val="2e507a">
                    <a:alpha val="50196"/>
                  </a:srgbClr>
                </a:gs>
                <a:gs pos="100000">
                  <a:srgbClr val="1524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426640" y="3780000"/>
              <a:ext cx="169920" cy="68040"/>
              <a:chOff x="5426640" y="3780000"/>
              <a:chExt cx="169920" cy="6804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456880" y="3780000"/>
                <a:ext cx="139680" cy="64080"/>
                <a:chOff x="5456880" y="3780000"/>
                <a:chExt cx="139680" cy="64080"/>
              </a:xfrm>
            </p:grpSpPr>
            <p:sp>
              <p:nvSpPr>
                <p:cNvPr id="333" name=""/>
                <p:cNvSpPr/>
                <p:nvPr/>
              </p:nvSpPr>
              <p:spPr>
                <a:xfrm flipH="1" flipV="1" rot="3964800">
                  <a:off x="5532120" y="37609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 rot="4780200">
                  <a:off x="5516640" y="37670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 rot="5076000">
                  <a:off x="5506920" y="37684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 rot="5608200">
                  <a:off x="5496120" y="37695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426640" y="3780360"/>
                <a:ext cx="140400" cy="67680"/>
                <a:chOff x="5426640" y="3780360"/>
                <a:chExt cx="140400" cy="67680"/>
              </a:xfrm>
            </p:grpSpPr>
            <p:sp>
              <p:nvSpPr>
                <p:cNvPr id="338" name=""/>
                <p:cNvSpPr/>
                <p:nvPr/>
              </p:nvSpPr>
              <p:spPr>
                <a:xfrm flipH="1" flipV="1" rot="5317800">
                  <a:off x="5502600" y="37692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 flipV="1" rot="6133800">
                  <a:off x="5485320" y="376920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 rot="6429000">
                  <a:off x="5476320" y="37663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6961200">
                  <a:off x="5464800" y="37630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2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19029600">
              <a:off x="5403960" y="366444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6747120" y="2743920"/>
            <a:ext cx="215280" cy="219600"/>
            <a:chOff x="6747120" y="2743920"/>
            <a:chExt cx="215280" cy="219600"/>
          </a:xfrm>
        </p:grpSpPr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6769440" y="27637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769440" y="27637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05675"/>
                </a:gs>
                <a:gs pos="50000">
                  <a:srgbClr val="01bcff">
                    <a:alpha val="50196"/>
                  </a:srgbClr>
                </a:gs>
                <a:gs pos="100000">
                  <a:srgbClr val="005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782400" y="2895480"/>
              <a:ext cx="169920" cy="68040"/>
              <a:chOff x="6782400" y="2895480"/>
              <a:chExt cx="169920" cy="680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6812640" y="2895480"/>
                <a:ext cx="139680" cy="64080"/>
                <a:chOff x="6812640" y="2895480"/>
                <a:chExt cx="139680" cy="64080"/>
              </a:xfrm>
            </p:grpSpPr>
            <p:sp>
              <p:nvSpPr>
                <p:cNvPr id="348" name=""/>
                <p:cNvSpPr/>
                <p:nvPr/>
              </p:nvSpPr>
              <p:spPr>
                <a:xfrm flipH="1" flipV="1" rot="3964800">
                  <a:off x="6887880" y="28764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4780200">
                  <a:off x="6872400" y="28825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 rot="5076000">
                  <a:off x="6862680" y="28839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 rot="5608200">
                  <a:off x="6851880" y="28850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782400" y="2895840"/>
                <a:ext cx="140400" cy="67680"/>
                <a:chOff x="6782400" y="2895840"/>
                <a:chExt cx="140400" cy="67680"/>
              </a:xfrm>
            </p:grpSpPr>
            <p:sp>
              <p:nvSpPr>
                <p:cNvPr id="353" name=""/>
                <p:cNvSpPr/>
                <p:nvPr/>
              </p:nvSpPr>
              <p:spPr>
                <a:xfrm flipH="1" flipV="1" rot="5317800">
                  <a:off x="6858360" y="28846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6133800">
                  <a:off x="6841080" y="28846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 flipV="1" rot="6429000">
                  <a:off x="6832080" y="28818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 flipV="1" rot="6961200">
                  <a:off x="6820560" y="28785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57" name="" descr=""/>
            <p:cNvPicPr/>
            <p:nvPr/>
          </p:nvPicPr>
          <p:blipFill>
            <a:blip r:embed="rId8"/>
            <a:srcRect l="0" t="23740" r="0" b="0"/>
            <a:stretch/>
          </p:blipFill>
          <p:spPr>
            <a:xfrm rot="19029600">
              <a:off x="6759720" y="2779920"/>
              <a:ext cx="142920" cy="9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"/>
          <p:cNvSpPr/>
          <p:nvPr/>
        </p:nvSpPr>
        <p:spPr>
          <a:xfrm>
            <a:off x="741240" y="541512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55920" y="43196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8880" y="33210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f6831a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4480" y="5396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81280" y="43070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84720" y="330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919920" y="160164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219400" y="58514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38760" y="475632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51560" y="379080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2e50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507a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6477120"/>
            <a:ext cx="6972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831a"/>
                </a:solidFill>
                <a:uFillTx/>
                <a:latin typeface="Arial"/>
                <a:hlinkClick r:id="rId10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rcRect l="0" t="0" r="0" b="26335"/>
          <a:stretch/>
        </p:blipFill>
        <p:spPr>
          <a:xfrm>
            <a:off x="1436760" y="4191120"/>
            <a:ext cx="6205320" cy="2666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3430440" y="2801160"/>
            <a:ext cx="2262240" cy="130500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7120" y="28558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6831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97280" y="2151000"/>
            <a:ext cx="337968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09880" y="217188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2142000" y="248364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6165000" y="252900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90520" y="219384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507a"/>
                </a:solidFill>
                <a:latin typeface="Calibri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56400" y="276696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51280" y="261792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7120" y="190512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6831a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16680" y="284472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8ac246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21360" y="1913040"/>
            <a:ext cx="1659240" cy="761760"/>
          </a:xfrm>
          <a:prstGeom prst="roundRect">
            <a:avLst>
              <a:gd name="adj" fmla="val 16667"/>
            </a:avLst>
          </a:prstGeom>
          <a:solidFill>
            <a:srgbClr val="8ac246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50240" y="210024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50240" y="3030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2400" y="21099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2400" y="30495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990720" y="5409720"/>
            <a:ext cx="7089480" cy="403200"/>
          </a:xfrm>
          <a:custGeom>
            <a:avLst/>
            <a:gdLst>
              <a:gd name="textAreaLeft" fmla="*/ 1247760 w 7089480"/>
              <a:gd name="textAreaRight" fmla="*/ 5841720 w 7089480"/>
              <a:gd name="textAreaTop" fmla="*/ 70920 h 403200"/>
              <a:gd name="textAreaBottom" fmla="*/ 33228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906" y="21600"/>
                </a:lnTo>
                <a:lnTo>
                  <a:pt x="3694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676520" y="1752480"/>
            <a:ext cx="2819160" cy="175572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4f4f4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5a90c2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1752480"/>
            <a:ext cx="2819160" cy="175572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4f4f4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8ac24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3654360"/>
            <a:ext cx="2819160" cy="183204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4f4f4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6831a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3654360"/>
            <a:ext cx="2819160" cy="1832040"/>
          </a:xfrm>
          <a:prstGeom prst="roundRect">
            <a:avLst>
              <a:gd name="adj" fmla="val 9616"/>
            </a:avLst>
          </a:prstGeom>
          <a:gradFill rotWithShape="0">
            <a:gsLst>
              <a:gs pos="0">
                <a:srgbClr val="f4f4f4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fc821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44640" y="2743200"/>
            <a:ext cx="1752840" cy="76680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5a90c2"/>
              </a:gs>
              <a:gs pos="100000">
                <a:srgbClr val="3b5f80"/>
              </a:gs>
            </a:gsLst>
            <a:lin ang="5400000"/>
          </a:gradFill>
          <a:ln w="19080">
            <a:solidFill>
              <a:srgbClr val="5a90c2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38600" y="2743200"/>
            <a:ext cx="1752840" cy="76680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8ac246"/>
              </a:gs>
              <a:gs pos="100000">
                <a:srgbClr val="5b802e"/>
              </a:gs>
            </a:gsLst>
            <a:lin ang="5400000"/>
          </a:gradFill>
          <a:ln w="19080">
            <a:solidFill>
              <a:srgbClr val="8ac246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4640" y="3645000"/>
            <a:ext cx="1752840" cy="74592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f6831a"/>
              </a:gs>
              <a:gs pos="100000">
                <a:srgbClr val="a35611"/>
              </a:gs>
            </a:gsLst>
            <a:lin ang="5400000"/>
          </a:gradFill>
          <a:ln w="19080">
            <a:solidFill>
              <a:srgbClr val="f6831a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38600" y="3645000"/>
            <a:ext cx="1752840" cy="74592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efc821"/>
              </a:gs>
              <a:gs pos="100000">
                <a:srgbClr val="9e8415"/>
              </a:gs>
            </a:gsLst>
            <a:lin ang="5400000"/>
          </a:gradFill>
          <a:ln w="19080">
            <a:solidFill>
              <a:srgbClr val="efc821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38600" y="294336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0240" y="294336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38600" y="382104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0240" y="380988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18288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52480" y="47070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05520" y="18288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470700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71640" y="2046240"/>
            <a:ext cx="499140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a9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81360" y="34196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8ac2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09880" y="152388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5a90c2"/>
              </a:gs>
              <a:gs pos="100000">
                <a:srgbClr val="3b5f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290520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8ac246"/>
              </a:gs>
              <a:gs pos="100000">
                <a:srgbClr val="4d6c2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00240" y="4815000"/>
            <a:ext cx="567072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fc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8720" y="427500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efc821"/>
              </a:gs>
              <a:gs pos="100000">
                <a:srgbClr val="88721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 rot="5400000">
            <a:off x="1754280" y="36464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3" name=""/>
          <p:cNvSpPr txBox="1"/>
          <p:nvPr/>
        </p:nvSpPr>
        <p:spPr>
          <a:xfrm rot="5400000">
            <a:off x="1278360" y="52362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 rot="5400000">
            <a:off x="2387520" y="2261880"/>
            <a:ext cx="78876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5" name=""/>
          <p:cNvSpPr/>
          <p:nvPr/>
        </p:nvSpPr>
        <p:spPr>
          <a:xfrm>
            <a:off x="3076560" y="2085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76440" y="33764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86040" y="48531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33800" y="4884840"/>
            <a:ext cx="35859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1640" y="209232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94240" y="347508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2:32:25Z</dcterms:created>
  <dc:creator>http://www.eeppt.com</dc:creator>
  <dc:description>ppt模板下载网站 http://www.eeppt.com</dc:description>
  <dc:language>en-US</dc:language>
  <cp:lastModifiedBy/>
  <dcterms:modified xsi:type="dcterms:W3CDTF">2015-06-14T02:39:15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