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jpeg" ContentType="image/jpeg"/>
  <Override PartName="/ppt/media/image14.gif" ContentType="image/gif"/>
  <Override PartName="/ppt/media/image1.png" ContentType="image/png"/>
  <Override PartName="/ppt/media/image2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4A3-C576-4BB1-8FDB-F682E1D9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937-5D14-401A-B576-00ECB11B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AA2-EC2E-4C3D-84C6-F282C0AB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21C-8B3A-4B81-90C7-DDC13CE1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B6A-BE34-41E2-9ACA-5F674BDD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A59D-BC12-494F-887D-9B085A5B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CE1-3980-4822-AD70-5E6D78AD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49B-90DA-416B-B2CC-823A4922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10D-ED57-4DD7-9007-969B782C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8A1-4557-4925-A2AF-7D91F956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99C-DBA6-45CE-B8FA-635B16EF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80C-98A2-439F-BD03-DBFF2C2C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5FA8-4761-4E02-A0FF-4D26D03238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C455-8248-4167-9318-7FA790908B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9120" y="806040"/>
            <a:ext cx="820584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卡通动物类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PPT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素材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2129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153280" y="4724280"/>
            <a:ext cx="73836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66880" y="4572000"/>
            <a:ext cx="158616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58000" y="304920"/>
            <a:ext cx="1405080" cy="188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86400" y="3808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28600" y="2590920"/>
            <a:ext cx="2432160" cy="1627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 rot="21240600">
            <a:off x="152280" y="4723920"/>
            <a:ext cx="1819440" cy="166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352680" y="259092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238880" y="2514600"/>
            <a:ext cx="1613160" cy="1887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048120" y="304920"/>
            <a:ext cx="1709640" cy="153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762120" y="457200"/>
            <a:ext cx="1523880" cy="1473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4952880" y="480060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5334120" y="2743200"/>
            <a:ext cx="1657080" cy="1596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6781680" y="5105520"/>
            <a:ext cx="9572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F60-320F-4E52-9D66-C80A082FB9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15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