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9AD-B82A-4F58-8FD2-B83D22AD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CED-1722-4038-AD41-62FC6D1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36E-9863-45C8-97B8-3A31B770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EC4-5A0F-436E-9CB9-44B9FA43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6A8-FDEB-447E-9AA7-1FC1A252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34F-1CBC-4AB6-8064-C852EF67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26E-BB1E-485C-95B1-E9FF2F8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FC6-0174-4958-AB1A-AC496705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325-0434-4DAB-8CD8-8A31DA1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FBD-8801-45D0-9D88-4E314968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C97-720B-4FA0-8F37-727E4F9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B9C-FFDC-4254-9B28-9ADC647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B59D-9C0F-4F7E-8DC8-6344A8FECB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09F-2D33-4279-B75F-C79707995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12 [转换].png"/>
          <p:cNvPicPr/>
          <p:nvPr/>
        </p:nvPicPr>
        <p:blipFill>
          <a:blip r:embed="rId1"/>
          <a:stretch/>
        </p:blipFill>
        <p:spPr>
          <a:xfrm>
            <a:off x="3446640" y="4395960"/>
            <a:ext cx="1596960" cy="1749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13 [转换].png"/>
          <p:cNvPicPr/>
          <p:nvPr/>
        </p:nvPicPr>
        <p:blipFill>
          <a:blip r:embed="rId2"/>
          <a:stretch/>
        </p:blipFill>
        <p:spPr>
          <a:xfrm>
            <a:off x="501480" y="4076640"/>
            <a:ext cx="1941840" cy="204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C:\Documents and Settings\Administrator\桌面\13 [转换].png"/>
          <p:cNvPicPr/>
          <p:nvPr/>
        </p:nvPicPr>
        <p:blipFill>
          <a:blip r:embed="rId3"/>
          <a:stretch/>
        </p:blipFill>
        <p:spPr>
          <a:xfrm>
            <a:off x="1368360" y="4076640"/>
            <a:ext cx="1514520" cy="175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C:\Documents and Settings\Administrator\桌面\12 [转换].png"/>
          <p:cNvPicPr/>
          <p:nvPr/>
        </p:nvPicPr>
        <p:blipFill>
          <a:blip r:embed="rId4"/>
          <a:stretch/>
        </p:blipFill>
        <p:spPr>
          <a:xfrm>
            <a:off x="5708520" y="4592520"/>
            <a:ext cx="1847880" cy="164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C:\Documents and Settings\Administrator\桌面\12 [转换].png"/>
          <p:cNvPicPr/>
          <p:nvPr/>
        </p:nvPicPr>
        <p:blipFill>
          <a:blip r:embed="rId5"/>
          <a:stretch/>
        </p:blipFill>
        <p:spPr>
          <a:xfrm>
            <a:off x="4162320" y="4176720"/>
            <a:ext cx="1673280" cy="128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Documents and Settings\Administrator\桌面\12 [转换].png"/>
          <p:cNvPicPr/>
          <p:nvPr/>
        </p:nvPicPr>
        <p:blipFill>
          <a:blip r:embed="rId6"/>
          <a:stretch/>
        </p:blipFill>
        <p:spPr>
          <a:xfrm rot="2673000">
            <a:off x="6813720" y="4037040"/>
            <a:ext cx="220644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7"/>
          <a:stretch/>
        </p:blipFill>
        <p:spPr>
          <a:xfrm>
            <a:off x="4532400" y="6310440"/>
            <a:ext cx="2825640" cy="10936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49" name="Picture 2" descr=""/>
            <p:cNvPicPr/>
            <p:nvPr/>
          </p:nvPicPr>
          <p:blipFill>
            <a:blip r:embed="rId8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"/>
            <p:cNvPicPr/>
            <p:nvPr/>
          </p:nvPicPr>
          <p:blipFill>
            <a:blip r:embed="rId9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" descr=""/>
            <p:cNvPicPr/>
            <p:nvPr/>
          </p:nvPicPr>
          <p:blipFill>
            <a:blip r:embed="rId10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" descr=""/>
            <p:cNvPicPr/>
            <p:nvPr/>
          </p:nvPicPr>
          <p:blipFill>
            <a:blip r:embed="rId11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12" descr="C:\Documents and Settings\Administrator\桌面\12 [转换].png"/>
          <p:cNvPicPr/>
          <p:nvPr/>
        </p:nvPicPr>
        <p:blipFill>
          <a:blip r:embed="rId12"/>
          <a:stretch/>
        </p:blipFill>
        <p:spPr>
          <a:xfrm>
            <a:off x="4532400" y="741240"/>
            <a:ext cx="409392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C:\Documents and Settings\Administrator\桌面\12 [转换].png"/>
          <p:cNvPicPr/>
          <p:nvPr/>
        </p:nvPicPr>
        <p:blipFill>
          <a:blip r:embed="rId13"/>
          <a:stretch/>
        </p:blipFill>
        <p:spPr>
          <a:xfrm>
            <a:off x="587520" y="787320"/>
            <a:ext cx="376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32400" y="6310440"/>
            <a:ext cx="2825640" cy="10936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57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17" descr="C:\Documents and Settings\Administrator\桌面\15 [转换].png"/>
          <p:cNvPicPr/>
          <p:nvPr/>
        </p:nvPicPr>
        <p:blipFill>
          <a:blip r:embed="rId6"/>
          <a:srcRect l="25205" t="0" r="0" b="0"/>
          <a:stretch/>
        </p:blipFill>
        <p:spPr>
          <a:xfrm>
            <a:off x="4871880" y="1030320"/>
            <a:ext cx="3930840" cy="477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C:\Documents and Settings\Administrator\桌面\14 [转换].png"/>
          <p:cNvPicPr/>
          <p:nvPr/>
        </p:nvPicPr>
        <p:blipFill>
          <a:blip r:embed="rId7"/>
          <a:stretch/>
        </p:blipFill>
        <p:spPr>
          <a:xfrm>
            <a:off x="395280" y="898560"/>
            <a:ext cx="4521240" cy="490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C:\Documents and Settings\Administrator\桌面\15 [转换].png"/>
          <p:cNvPicPr/>
          <p:nvPr/>
        </p:nvPicPr>
        <p:blipFill>
          <a:blip r:embed="rId8"/>
          <a:stretch/>
        </p:blipFill>
        <p:spPr>
          <a:xfrm>
            <a:off x="3879720" y="3227400"/>
            <a:ext cx="1479600" cy="257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36720" y="5805360"/>
            <a:ext cx="72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457-B9FF-468C-A290-5F81F8113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0:35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