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B218-85F8-4E48-B6CE-636E5F4D3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AB34-A95E-4D89-8931-297CADBA9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5AFC8-4726-4A5E-AAC5-65C67E176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EE9E3-E529-4B64-BB3C-B4A5A0E98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160" y="304560"/>
            <a:ext cx="8305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719A-ACE6-4A72-AAE1-B82ACAB5D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DE2A-0E25-44C1-802D-0E1936467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4319-6E3E-456C-BCFB-2E00F6F2B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EA23-25D9-466D-B7DA-072644B0D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304560"/>
            <a:ext cx="8305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F33E-88FD-45A9-AE0A-B1425CBDA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6223-2BE3-40B8-9C87-EA58B8908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4C84-709E-4DEB-B38D-C6122B178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B7A6-90B2-40AF-B115-C191F1262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7086600" y="6551280"/>
            <a:ext cx="17524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4495320" y="6544800"/>
            <a:ext cx="83844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3E16-75EA-4381-AA07-7689CE2AA3A4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3240" y="963720"/>
            <a:ext cx="9140760" cy="461880"/>
          </a:xfrm>
          <a:custGeom>
            <a:avLst/>
            <a:gdLst/>
            <a:ahLst/>
            <a:rect l="l" t="t" r="r" b="b"/>
            <a:pathLst>
              <a:path w="5764" h="291">
                <a:moveTo>
                  <a:pt x="0" y="290"/>
                </a:moveTo>
                <a:lnTo>
                  <a:pt x="1" y="193"/>
                </a:lnTo>
                <a:cubicBezTo>
                  <a:pt x="305" y="150"/>
                  <a:pt x="1172" y="50"/>
                  <a:pt x="1833" y="25"/>
                </a:cubicBezTo>
                <a:cubicBezTo>
                  <a:pt x="2494" y="0"/>
                  <a:pt x="3312" y="15"/>
                  <a:pt x="3966" y="41"/>
                </a:cubicBezTo>
                <a:cubicBezTo>
                  <a:pt x="4620" y="68"/>
                  <a:pt x="5460" y="142"/>
                  <a:pt x="5760" y="184"/>
                </a:cubicBezTo>
                <a:lnTo>
                  <a:pt x="5764" y="291"/>
                </a:lnTo>
                <a:lnTo>
                  <a:pt x="0" y="2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c71e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534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c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-7920" y="2060640"/>
            <a:ext cx="9151920" cy="2765520"/>
          </a:xfrm>
          <a:custGeom>
            <a:avLst/>
            <a:gdLst/>
            <a:ahLst/>
            <a:rect l="l" t="t" r="r" b="b"/>
            <a:pathLst>
              <a:path w="5767" h="1644">
                <a:moveTo>
                  <a:pt x="0" y="569"/>
                </a:moveTo>
                <a:cubicBezTo>
                  <a:pt x="722" y="332"/>
                  <a:pt x="1460" y="42"/>
                  <a:pt x="2818" y="21"/>
                </a:cubicBezTo>
                <a:cubicBezTo>
                  <a:pt x="4176" y="0"/>
                  <a:pt x="5346" y="355"/>
                  <a:pt x="5767" y="583"/>
                </a:cubicBezTo>
                <a:lnTo>
                  <a:pt x="5764" y="1644"/>
                </a:lnTo>
                <a:lnTo>
                  <a:pt x="4" y="1644"/>
                </a:lnTo>
                <a:lnTo>
                  <a:pt x="0" y="56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6160" y="274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c71e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c71e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c71e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0000" y="1270080"/>
            <a:ext cx="6324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绿色家园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演示模板下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54864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90" name="未知"/>
          <p:cNvSpPr/>
          <p:nvPr/>
        </p:nvSpPr>
        <p:spPr>
          <a:xfrm flipH="1" flipV="1" rot="621000">
            <a:off x="7234920" y="1197000"/>
            <a:ext cx="1017360" cy="12232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8bc91b"/>
              </a:gs>
            </a:gsLst>
            <a:lin ang="47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4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66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66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b366d"/>
                </a:gs>
                <a:gs pos="50000">
                  <a:srgbClr val="3366cc"/>
                </a:gs>
                <a:gs pos="100000">
                  <a:srgbClr val="1b36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366cc">
                    <a:alpha val="0"/>
                  </a:srgbClr>
                </a:gs>
                <a:gs pos="100000">
                  <a:srgbClr val="204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0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c91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05c0c"/>
                </a:gs>
                <a:gs pos="100000">
                  <a:srgbClr val="8bc91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a6c0e"/>
                </a:gs>
                <a:gs pos="50000">
                  <a:srgbClr val="8bc91b"/>
                </a:gs>
                <a:gs pos="100000">
                  <a:srgbClr val="4a6c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bc91b">
                    <a:alpha val="0"/>
                  </a:srgbClr>
                </a:gs>
                <a:gs pos="100000">
                  <a:srgbClr val="577f1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0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5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752480" y="1447920"/>
            <a:ext cx="5181480" cy="4495680"/>
            <a:chOff x="1752480" y="1447920"/>
            <a:chExt cx="5181480" cy="4495680"/>
          </a:xfrm>
        </p:grpSpPr>
        <p:sp>
          <p:nvSpPr>
            <p:cNvPr id="304" name=""/>
            <p:cNvSpPr/>
            <p:nvPr/>
          </p:nvSpPr>
          <p:spPr>
            <a:xfrm rot="13770000">
              <a:off x="4804920" y="3620520"/>
              <a:ext cx="856800" cy="177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56000">
              <a:off x="2938680" y="3223440"/>
              <a:ext cx="938520" cy="153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8394200">
              <a:off x="4915080" y="2239920"/>
              <a:ext cx="532440" cy="123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812760" y="2276280"/>
              <a:ext cx="1498320" cy="1420200"/>
              <a:chOff x="3812760" y="2276280"/>
              <a:chExt cx="1498320" cy="1420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3812760" y="2276280"/>
                <a:ext cx="1498320" cy="1420200"/>
                <a:chOff x="3812760" y="2276280"/>
                <a:chExt cx="1498320" cy="1420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812760" y="2276280"/>
                  <a:ext cx="149832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0c18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310" name="未知"/>
                <p:cNvSpPr/>
                <p:nvPr/>
              </p:nvSpPr>
              <p:spPr>
                <a:xfrm>
                  <a:off x="3983760" y="229968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3844800" y="28936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097240" y="1447920"/>
              <a:ext cx="909360" cy="769320"/>
              <a:chOff x="5097240" y="1447920"/>
              <a:chExt cx="909360" cy="7693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123520" y="1447920"/>
                <a:ext cx="811440" cy="769320"/>
                <a:chOff x="5123520" y="1447920"/>
                <a:chExt cx="811440" cy="7693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123520" y="1447920"/>
                  <a:ext cx="811440" cy="76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91b"/>
                    </a:gs>
                    <a:gs pos="100000">
                      <a:srgbClr val="21300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315" name="未知"/>
                <p:cNvSpPr/>
                <p:nvPr/>
              </p:nvSpPr>
              <p:spPr>
                <a:xfrm>
                  <a:off x="5216040" y="1460520"/>
                  <a:ext cx="626040" cy="290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c91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5097240" y="17449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752480" y="2572200"/>
              <a:ext cx="1622880" cy="1597680"/>
              <a:chOff x="1752480" y="2572200"/>
              <a:chExt cx="1622880" cy="159768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1752480" y="2572200"/>
                <a:ext cx="1622880" cy="1597680"/>
                <a:chOff x="1752480" y="2572200"/>
                <a:chExt cx="1622880" cy="15976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752480" y="2572200"/>
                  <a:ext cx="162288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6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320" name="未知"/>
                <p:cNvSpPr/>
                <p:nvPr/>
              </p:nvSpPr>
              <p:spPr>
                <a:xfrm>
                  <a:off x="1937880" y="2598480"/>
                  <a:ext cx="125208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1785960" y="3283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061240" y="3755880"/>
              <a:ext cx="1872720" cy="1775520"/>
              <a:chOff x="5061240" y="3755880"/>
              <a:chExt cx="1872720" cy="177552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5061240" y="3755880"/>
                <a:ext cx="1872720" cy="1775520"/>
                <a:chOff x="5061240" y="3755880"/>
                <a:chExt cx="1872720" cy="17755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061240" y="375588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>
                  <a:off x="5275080" y="3785040"/>
                  <a:ext cx="1444680" cy="66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5274720" y="45252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939680" y="422928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37320" y="369936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73720" y="553176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48440" y="2276280"/>
              <a:ext cx="604800" cy="205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33" name="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5428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8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366" name="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373" name="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381" name="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395" name="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400" name="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411" name="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412" name="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61760" y="2685960"/>
              <a:ext cx="1932120" cy="3264840"/>
              <a:chOff x="761760" y="2685960"/>
              <a:chExt cx="1932120" cy="326484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1167120" y="3525120"/>
                <a:ext cx="1526760" cy="2425680"/>
                <a:chOff x="1167120" y="3525120"/>
                <a:chExt cx="1526760" cy="242568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1167120" y="3683160"/>
                  <a:ext cx="1420920" cy="2267640"/>
                  <a:chOff x="1167120" y="3683160"/>
                  <a:chExt cx="1420920" cy="2267640"/>
                </a:xfrm>
              </p:grpSpPr>
              <p:sp>
                <p:nvSpPr>
                  <p:cNvPr id="417" name="未知"/>
                  <p:cNvSpPr/>
                  <p:nvPr/>
                </p:nvSpPr>
                <p:spPr>
                  <a:xfrm rot="3876600">
                    <a:off x="73944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未知"/>
                  <p:cNvSpPr/>
                  <p:nvPr/>
                </p:nvSpPr>
                <p:spPr>
                  <a:xfrm rot="3876600">
                    <a:off x="210708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1603440" y="3525120"/>
                  <a:ext cx="1090440" cy="1740240"/>
                  <a:chOff x="1603440" y="3525120"/>
                  <a:chExt cx="1090440" cy="1740240"/>
                </a:xfrm>
              </p:grpSpPr>
              <p:sp>
                <p:nvSpPr>
                  <p:cNvPr id="420" name="未知"/>
                  <p:cNvSpPr/>
                  <p:nvPr/>
                </p:nvSpPr>
                <p:spPr>
                  <a:xfrm flipV="1" rot="3876600">
                    <a:off x="127512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未知"/>
                  <p:cNvSpPr/>
                  <p:nvPr/>
                </p:nvSpPr>
                <p:spPr>
                  <a:xfrm flipV="1" rot="3876600">
                    <a:off x="230868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761760" y="2685960"/>
                <a:ext cx="1271520" cy="1310040"/>
                <a:chOff x="761760" y="2685960"/>
                <a:chExt cx="1271520" cy="1310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76176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6176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4600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4600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90036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915840" y="2844720"/>
                  <a:ext cx="963000" cy="993600"/>
                  <a:chOff x="915840" y="2844720"/>
                  <a:chExt cx="963000" cy="9936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91584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92808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93816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99036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" name=""/>
              <p:cNvSpPr/>
              <p:nvPr/>
            </p:nvSpPr>
            <p:spPr>
              <a:xfrm rot="3925800">
                <a:off x="11293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925800">
                <a:off x="158940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c71e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509560" y="2685960"/>
              <a:ext cx="1930680" cy="3264840"/>
              <a:chOff x="2509560" y="2685960"/>
              <a:chExt cx="1930680" cy="326484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2913480" y="3525120"/>
                <a:ext cx="1526760" cy="2425680"/>
                <a:chOff x="2913480" y="3525120"/>
                <a:chExt cx="1526760" cy="242568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2913480" y="3683160"/>
                  <a:ext cx="1420920" cy="2267640"/>
                  <a:chOff x="2913480" y="3683160"/>
                  <a:chExt cx="1420920" cy="2267640"/>
                </a:xfrm>
              </p:grpSpPr>
              <p:sp>
                <p:nvSpPr>
                  <p:cNvPr id="438" name="未知"/>
                  <p:cNvSpPr/>
                  <p:nvPr/>
                </p:nvSpPr>
                <p:spPr>
                  <a:xfrm rot="3876600">
                    <a:off x="248580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未知"/>
                  <p:cNvSpPr/>
                  <p:nvPr/>
                </p:nvSpPr>
                <p:spPr>
                  <a:xfrm rot="3876600">
                    <a:off x="385344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3349800" y="3525120"/>
                  <a:ext cx="1090440" cy="1740240"/>
                  <a:chOff x="3349800" y="3525120"/>
                  <a:chExt cx="1090440" cy="1740240"/>
                </a:xfrm>
              </p:grpSpPr>
              <p:sp>
                <p:nvSpPr>
                  <p:cNvPr id="441" name="未知"/>
                  <p:cNvSpPr/>
                  <p:nvPr/>
                </p:nvSpPr>
                <p:spPr>
                  <a:xfrm flipV="1" rot="3876600">
                    <a:off x="302148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未知"/>
                  <p:cNvSpPr/>
                  <p:nvPr/>
                </p:nvSpPr>
                <p:spPr>
                  <a:xfrm flipV="1" rot="3876600">
                    <a:off x="405504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2509560" y="2685960"/>
                <a:ext cx="1271880" cy="1310040"/>
                <a:chOff x="2509560" y="2685960"/>
                <a:chExt cx="1271880" cy="13100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509560" y="2685960"/>
                  <a:ext cx="127188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509560" y="2685960"/>
                  <a:ext cx="127188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9380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59380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648160" y="2828880"/>
                  <a:ext cx="99396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2663640" y="2844720"/>
                  <a:ext cx="963360" cy="993600"/>
                  <a:chOff x="2663640" y="2844720"/>
                  <a:chExt cx="963360" cy="9936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2663640" y="2844720"/>
                    <a:ext cx="96336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675880" y="2850120"/>
                    <a:ext cx="94032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685960" y="2859840"/>
                    <a:ext cx="89424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738160" y="2885040"/>
                    <a:ext cx="79488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"/>
              <p:cNvSpPr/>
              <p:nvPr/>
            </p:nvSpPr>
            <p:spPr>
              <a:xfrm rot="3925800">
                <a:off x="28713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3925800">
                <a:off x="333144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c71e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313160" y="2685960"/>
              <a:ext cx="1932120" cy="3264840"/>
              <a:chOff x="4313160" y="2685960"/>
              <a:chExt cx="1932120" cy="326484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4718520" y="3525120"/>
                <a:ext cx="1526760" cy="2425680"/>
                <a:chOff x="4718520" y="3525120"/>
                <a:chExt cx="1526760" cy="2425680"/>
              </a:xfrm>
            </p:grpSpPr>
            <p:grpSp>
              <p:nvGrpSpPr>
                <p:cNvPr id="458" name=""/>
                <p:cNvGrpSpPr/>
                <p:nvPr/>
              </p:nvGrpSpPr>
              <p:grpSpPr>
                <a:xfrm>
                  <a:off x="4718520" y="3683160"/>
                  <a:ext cx="1420920" cy="2267640"/>
                  <a:chOff x="4718520" y="3683160"/>
                  <a:chExt cx="1420920" cy="2267640"/>
                </a:xfrm>
              </p:grpSpPr>
              <p:sp>
                <p:nvSpPr>
                  <p:cNvPr id="459" name="未知"/>
                  <p:cNvSpPr/>
                  <p:nvPr/>
                </p:nvSpPr>
                <p:spPr>
                  <a:xfrm rot="3876600">
                    <a:off x="429084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未知"/>
                  <p:cNvSpPr/>
                  <p:nvPr/>
                </p:nvSpPr>
                <p:spPr>
                  <a:xfrm rot="3876600">
                    <a:off x="565848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154840" y="3525120"/>
                  <a:ext cx="1090440" cy="1740240"/>
                  <a:chOff x="5154840" y="3525120"/>
                  <a:chExt cx="1090440" cy="1740240"/>
                </a:xfrm>
              </p:grpSpPr>
              <p:sp>
                <p:nvSpPr>
                  <p:cNvPr id="462" name="未知"/>
                  <p:cNvSpPr/>
                  <p:nvPr/>
                </p:nvSpPr>
                <p:spPr>
                  <a:xfrm flipV="1" rot="3876600">
                    <a:off x="482652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未知"/>
                  <p:cNvSpPr/>
                  <p:nvPr/>
                </p:nvSpPr>
                <p:spPr>
                  <a:xfrm flipV="1" rot="3876600">
                    <a:off x="586008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4" name="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925800">
                <a:off x="514404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c71e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6089400" y="2541600"/>
              <a:ext cx="2122920" cy="3476160"/>
              <a:chOff x="6089400" y="2541600"/>
              <a:chExt cx="2122920" cy="347616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6685560" y="3592080"/>
                <a:ext cx="1526760" cy="2425680"/>
                <a:chOff x="6685560" y="3592080"/>
                <a:chExt cx="1526760" cy="242568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480" name="未知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未知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7121880" y="3592080"/>
                  <a:ext cx="1090440" cy="1740240"/>
                  <a:chOff x="7121880" y="3592080"/>
                  <a:chExt cx="1090440" cy="1740240"/>
                </a:xfrm>
              </p:grpSpPr>
              <p:sp>
                <p:nvSpPr>
                  <p:cNvPr id="483" name="未知"/>
                  <p:cNvSpPr/>
                  <p:nvPr/>
                </p:nvSpPr>
                <p:spPr>
                  <a:xfrm flipV="1" rot="3876600">
                    <a:off x="6793560" y="42728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未知"/>
                  <p:cNvSpPr/>
                  <p:nvPr/>
                </p:nvSpPr>
                <p:spPr>
                  <a:xfrm flipV="1" rot="3876600">
                    <a:off x="7827120" y="49546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089400" y="2541600"/>
                <a:ext cx="1527840" cy="1570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089400" y="2541600"/>
                <a:ext cx="152784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19092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9272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5644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6275520" y="2732040"/>
                <a:ext cx="1158480" cy="1190520"/>
                <a:chOff x="6275520" y="2732040"/>
                <a:chExt cx="1158480" cy="11905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275520" y="2732040"/>
                  <a:ext cx="115848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290280" y="2738520"/>
                  <a:ext cx="113040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30216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365160" y="2780280"/>
                  <a:ext cx="95580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 rot="3925800">
                <a:off x="663660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3925800">
                <a:off x="709560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c71e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498" name="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c71e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c71e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c71e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71e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cxnSp>
            <p:nvCxnSpPr>
              <p:cNvPr id="502" name=""/>
              <p:cNvCxnSpPr>
                <a:stCxn id="498" idx="3"/>
                <a:endCxn id="499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</p:cxnSp>
          <p:cxnSp>
            <p:nvCxnSpPr>
              <p:cNvPr id="503" name=""/>
              <p:cNvCxnSpPr>
                <a:stCxn id="499" idx="3"/>
                <a:endCxn id="500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</p:cxnSp>
          <p:cxnSp>
            <p:nvCxnSpPr>
              <p:cNvPr id="504" name="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07" name="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08" name="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1f1f1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bc91b"/>
                    </a:gs>
                    <a:gs pos="100000">
                      <a:srgbClr val="608b12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11" name="未知"/>
                <p:cNvSpPr/>
                <p:nvPr/>
              </p:nvSpPr>
              <p:spPr>
                <a:xfrm>
                  <a:off x="1869840" y="1703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e082"/>
                    </a:gs>
                    <a:gs pos="50000">
                      <a:srgbClr val="8bc91b">
                        <a:alpha val="0"/>
                      </a:srgbClr>
                    </a:gs>
                    <a:gs pos="100000">
                      <a:srgbClr val="bfe08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1376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515" name="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0f0f0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4b4fe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18" name="未知"/>
                <p:cNvSpPr/>
                <p:nvPr/>
              </p:nvSpPr>
              <p:spPr>
                <a:xfrm>
                  <a:off x="1869840" y="3170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99ff">
                        <a:alpha val="0"/>
                      </a:srgbClr>
                    </a:gs>
                    <a:gs pos="100000">
                      <a:srgbClr val="d2d2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913760" y="3384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3052080" y="3161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c71e0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22" name="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deded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c9ddd"/>
                    </a:gs>
                    <a:gs pos="100000">
                      <a:srgbClr val="3366cc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25" name="未知"/>
                <p:cNvSpPr/>
                <p:nvPr/>
              </p:nvSpPr>
              <p:spPr>
                <a:xfrm>
                  <a:off x="1869840" y="4646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66cc">
                        <a:alpha val="0"/>
                      </a:srgbClr>
                    </a:gs>
                    <a:gs pos="100000">
                      <a:srgbClr val="9bb3e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91376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4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6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8bc91b"/>
            </a:solidFill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2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8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8bc91b"/>
            </a:solidFill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306520"/>
          <a:ext cx="7315200" cy="2944800"/>
        </p:xfrm>
        <a:graphic>
          <a:graphicData uri="http://schemas.openxmlformats.org/drawingml/2006/table">
            <a:tbl>
              <a:tblPr/>
              <a:tblGrid>
                <a:gridCol w="1649520"/>
                <a:gridCol w="1150920"/>
                <a:gridCol w="1130040"/>
                <a:gridCol w="1125720"/>
                <a:gridCol w="1133640"/>
                <a:gridCol w="112536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c71e0"/>
                      </a:solidFill>
                    </a:lnR>
                    <a:lnT>
                      <a:noFill/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33333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33333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24760" y="732960"/>
            <a:ext cx="7379640" cy="5581800"/>
            <a:chOff x="824760" y="732960"/>
            <a:chExt cx="7379640" cy="5581800"/>
          </a:xfrm>
        </p:grpSpPr>
        <p:sp>
          <p:nvSpPr>
            <p:cNvPr id="565" name="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1609560" y="2230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abafe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rot="20602200">
              <a:off x="1658520" y="2229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805a2c"/>
                </a:gs>
                <a:gs pos="100000">
                  <a:srgbClr val="d4964a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541880" y="2251080"/>
              <a:ext cx="5773680" cy="283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20602200">
              <a:off x="1626480" y="22230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005353"/>
                </a:gs>
                <a:gs pos="100000">
                  <a:srgbClr val="00999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824760" y="732960"/>
              <a:ext cx="7379640" cy="5581800"/>
              <a:chOff x="824760" y="732960"/>
              <a:chExt cx="7379640" cy="5581800"/>
            </a:xfrm>
          </p:grpSpPr>
          <p:sp>
            <p:nvSpPr>
              <p:cNvPr id="577" name="未知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1e3d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539200">
                <a:off x="1243080" y="16369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72f5e"/>
                  </a:gs>
                  <a:gs pos="100000">
                    <a:srgbClr val="3366cc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79" name="未知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2f5e"/>
                  </a:gs>
                  <a:gs pos="100000">
                    <a:srgbClr val="3366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587" name=""/>
            <p:cNvSpPr/>
            <p:nvPr/>
          </p:nvSpPr>
          <p:spPr>
            <a:xfrm>
              <a:off x="2127960" y="2440800"/>
              <a:ext cx="5074200" cy="247788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18440" y="175248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bcbc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1219320" y="4132800"/>
              <a:ext cx="1363320" cy="1796400"/>
              <a:chOff x="1219320" y="4132800"/>
              <a:chExt cx="1363320" cy="1796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1219320" y="4132800"/>
                <a:ext cx="1363320" cy="1368000"/>
                <a:chOff x="1219320" y="4132800"/>
                <a:chExt cx="1363320" cy="136800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1219320" y="4132800"/>
                  <a:ext cx="1363320" cy="1368000"/>
                  <a:chOff x="1219320" y="4132800"/>
                  <a:chExt cx="1363320" cy="136800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1219320" y="41328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606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未知"/>
                  <p:cNvSpPr/>
                  <p:nvPr/>
                </p:nvSpPr>
                <p:spPr>
                  <a:xfrm>
                    <a:off x="1375200" y="415548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" name=""/>
                <p:cNvSpPr/>
                <p:nvPr/>
              </p:nvSpPr>
              <p:spPr>
                <a:xfrm>
                  <a:off x="1316160" y="48283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1359000" y="557820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6602400" y="4092840"/>
              <a:ext cx="1398240" cy="1866240"/>
              <a:chOff x="6602400" y="4092840"/>
              <a:chExt cx="1398240" cy="186624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6602400" y="4092840"/>
                <a:ext cx="1398240" cy="1383120"/>
                <a:chOff x="6602400" y="4092840"/>
                <a:chExt cx="1398240" cy="1383120"/>
              </a:xfrm>
            </p:grpSpPr>
            <p:grpSp>
              <p:nvGrpSpPr>
                <p:cNvPr id="599" name=""/>
                <p:cNvGrpSpPr/>
                <p:nvPr/>
              </p:nvGrpSpPr>
              <p:grpSpPr>
                <a:xfrm>
                  <a:off x="6602400" y="4092840"/>
                  <a:ext cx="1398240" cy="1383120"/>
                  <a:chOff x="6602400" y="4092840"/>
                  <a:chExt cx="1398240" cy="138312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6602400" y="40928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66cc"/>
                      </a:gs>
                      <a:gs pos="100000">
                        <a:srgbClr val="0c183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未知"/>
                  <p:cNvSpPr/>
                  <p:nvPr/>
                </p:nvSpPr>
                <p:spPr>
                  <a:xfrm>
                    <a:off x="6762240" y="411552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66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>
                  <a:off x="6684120" y="47365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6641640" y="55195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2967120" y="4132800"/>
              <a:ext cx="1397880" cy="1886400"/>
              <a:chOff x="2967120" y="4132800"/>
              <a:chExt cx="1397880" cy="18864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2967120" y="4132800"/>
                <a:ext cx="1397880" cy="1373400"/>
                <a:chOff x="2967120" y="4132800"/>
                <a:chExt cx="1397880" cy="137340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2967120" y="41328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607" name="未知"/>
                <p:cNvSpPr/>
                <p:nvPr/>
              </p:nvSpPr>
              <p:spPr>
                <a:xfrm>
                  <a:off x="3126960" y="41554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"/>
              <p:cNvSpPr/>
              <p:nvPr/>
            </p:nvSpPr>
            <p:spPr>
              <a:xfrm>
                <a:off x="3036960" y="47919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967120" y="55778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854600" y="4092840"/>
              <a:ext cx="1397880" cy="1886400"/>
              <a:chOff x="4854600" y="4092840"/>
              <a:chExt cx="1397880" cy="188640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4854600" y="4092840"/>
                <a:ext cx="1397880" cy="1373400"/>
                <a:chOff x="4854600" y="4092840"/>
                <a:chExt cx="1397880" cy="13734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854600" y="40928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91b"/>
                    </a:gs>
                    <a:gs pos="100000">
                      <a:srgbClr val="4766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613" name="未知"/>
                <p:cNvSpPr/>
                <p:nvPr/>
              </p:nvSpPr>
              <p:spPr>
                <a:xfrm>
                  <a:off x="5014440" y="41155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bc91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4924440" y="475200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54600" y="553788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4" name="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95" name="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9960" y="1828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2" name="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bc91b"/>
                  </a:gs>
                  <a:gs pos="100000">
                    <a:srgbClr val="405c0c"/>
                  </a:gs>
                </a:gsLst>
                <a:lin ang="135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9960" y="2743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10" name="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11" name="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9960" y="3635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18" name="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bc91b"/>
                  </a:gs>
                  <a:gs pos="100000">
                    <a:srgbClr val="405c0c"/>
                  </a:gs>
                </a:gsLst>
                <a:lin ang="135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9960" y="4549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2438280" y="25909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bc91b"/>
                    </a:gs>
                    <a:gs pos="100000">
                      <a:srgbClr val="0c71e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c71e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bc91b"/>
                  </a:gs>
                  <a:gs pos="100000">
                    <a:srgbClr val="0c71e0"/>
                  </a:gs>
                </a:gsLst>
                <a:lin ang="10800000"/>
              </a:gradFill>
              <a:effectLst>
                <a:outerShdw dist="53966" dir="2700000" blurRad="0" rotWithShape="0">
                  <a:srgbClr val="0c71e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2141640" y="5257800"/>
            <a:ext cx="4944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71e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A28D-45CC-40F0-8EFE-F01DFAE680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582560"/>
            <a:ext cx="806472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3366cc"/>
                </a:solidFill>
                <a:latin typeface="Verdana"/>
                <a:ea typeface="宋体"/>
              </a:rPr>
              <a:t> </a:t>
            </a:r>
            <a:endParaRPr b="1" lang="en-US" sz="4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c71e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33"/>
                </a:solidFill>
                <a:latin typeface="Arial"/>
                <a:ea typeface="宋体"/>
              </a:rPr>
              <a:t>On the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View]</a:t>
            </a:r>
            <a:r>
              <a:rPr b="1" lang="en-US" sz="2900" spc="-1" strike="noStrike">
                <a:solidFill>
                  <a:srgbClr val="333333"/>
                </a:solidFill>
                <a:latin typeface="Arial"/>
                <a:ea typeface="宋体"/>
              </a:rPr>
              <a:t> menu, point to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Master],</a:t>
            </a:r>
            <a:r>
              <a:rPr b="1" lang="en-US" sz="2900" spc="-1" strike="noStrike">
                <a:solidFill>
                  <a:srgbClr val="333333"/>
                </a:solidFill>
                <a:latin typeface="Arial"/>
                <a:ea typeface="宋体"/>
              </a:rPr>
              <a:t> and then click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Slide Master]</a:t>
            </a:r>
            <a:r>
              <a:rPr b="1" lang="en-US" sz="2900" spc="-1" strike="noStrike">
                <a:solidFill>
                  <a:srgbClr val="333333"/>
                </a:solidFill>
                <a:latin typeface="Arial"/>
                <a:ea typeface="宋体"/>
              </a:rPr>
              <a:t> or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Notes Master].</a:t>
            </a:r>
            <a:r>
              <a:rPr b="1" lang="en-US" sz="2900" spc="-1" strike="noStrike">
                <a:solidFill>
                  <a:srgbClr val="333333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43000" y="3075120"/>
            <a:ext cx="2982960" cy="2763720"/>
            <a:chOff x="1143000" y="3075120"/>
            <a:chExt cx="2982960" cy="2763720"/>
          </a:xfrm>
        </p:grpSpPr>
        <p:sp>
          <p:nvSpPr>
            <p:cNvPr id="129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3222720" y="3075120"/>
              <a:ext cx="90324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bdbd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3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b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0d0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bc91b"/>
                  </a:gs>
                  <a:gs pos="100000">
                    <a:srgbClr val="405c0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5ebae"/>
                  </a:gs>
                  <a:gs pos="100000">
                    <a:srgbClr val="8bc91b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bc91b">
                      <a:alpha val="48235"/>
                    </a:srgbClr>
                  </a:gs>
                  <a:gs pos="100000">
                    <a:srgbClr val="6d9e1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bc91b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3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sp>
        <p:nvSpPr>
          <p:cNvPr id="145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1569960"/>
            <a:ext cx="6956640" cy="4583520"/>
            <a:chOff x="762120" y="1569960"/>
            <a:chExt cx="6956640" cy="4583520"/>
          </a:xfrm>
        </p:grpSpPr>
        <p:sp>
          <p:nvSpPr>
            <p:cNvPr id="148" name="未知"/>
            <p:cNvSpPr/>
            <p:nvPr/>
          </p:nvSpPr>
          <p:spPr>
            <a:xfrm rot="20241600">
              <a:off x="1392120" y="264960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21400" y="190512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86160" y="32227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bc91b"/>
                </a:gs>
                <a:gs pos="100000">
                  <a:srgbClr val="2b3e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70240" y="46897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38760" y="414504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64520" y="210204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123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66160" y="3589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69800" y="227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79440" y="2511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87160" y="4511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7600" y="5050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350532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02080" y="2300400"/>
              <a:ext cx="1627200" cy="1251000"/>
            </a:xfrm>
            <a:prstGeom prst="line">
              <a:avLst/>
            </a:prstGeom>
            <a:ln w="9360">
              <a:solidFill>
                <a:srgbClr val="0c71e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cxnSp>
          <p:nvCxnSpPr>
            <p:cNvPr id="161" name=""/>
            <p:cNvCxnSpPr/>
            <p:nvPr/>
          </p:nvCxnSpPr>
          <p:spPr>
            <a:xfrm flipH="1">
              <a:off x="887040" y="2300040"/>
              <a:ext cx="1726560" cy="1080"/>
            </a:xfrm>
            <a:prstGeom prst="straightConnector1">
              <a:avLst/>
            </a:prstGeom>
            <a:ln w="9360">
              <a:solidFill>
                <a:srgbClr val="0c71e0"/>
              </a:solidFill>
              <a:miter/>
            </a:ln>
          </p:spPr>
        </p:cxnSp>
        <p:sp>
          <p:nvSpPr>
            <p:cNvPr id="162" name=""/>
            <p:cNvSpPr/>
            <p:nvPr/>
          </p:nvSpPr>
          <p:spPr>
            <a:xfrm>
              <a:off x="762120" y="190512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5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05c0c"/>
                </a:gs>
                <a:gs pos="50000">
                  <a:srgbClr val="8bc91b"/>
                </a:gs>
                <a:gs pos="100000">
                  <a:srgbClr val="405c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5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6" name="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aeae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aeae"/>
                  </a:gs>
                  <a:gs pos="100000">
                    <a:srgbClr val="33333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aeae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c0c"/>
                </a:gs>
                <a:gs pos="50000">
                  <a:srgbClr val="8bc91b"/>
                </a:gs>
                <a:gs pos="100000">
                  <a:srgbClr val="405c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c0c"/>
                </a:gs>
                <a:gs pos="50000">
                  <a:srgbClr val="8bc91b"/>
                </a:gs>
                <a:gs pos="100000">
                  <a:srgbClr val="405c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c0c"/>
                </a:gs>
                <a:gs pos="50000">
                  <a:srgbClr val="8bc91b"/>
                </a:gs>
                <a:gs pos="100000">
                  <a:srgbClr val="405c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2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c71e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c71e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c71e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c71e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26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2f5e"/>
                  </a:gs>
                  <a:gs pos="50000">
                    <a:srgbClr val="3366cc"/>
                  </a:gs>
                  <a:gs pos="100000">
                    <a:srgbClr val="172f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5c0c"/>
                  </a:gs>
                  <a:gs pos="50000">
                    <a:srgbClr val="8bc91b"/>
                  </a:gs>
                  <a:gs pos="100000">
                    <a:srgbClr val="405c0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8bc9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e6e"/>
                  </a:gs>
                  <a:gs pos="50000">
                    <a:srgbClr val="009999"/>
                  </a:gs>
                  <a:gs pos="100000">
                    <a:srgbClr val="006e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e6eb8"/>
                  </a:gs>
                  <a:gs pos="50000">
                    <a:srgbClr val="9999ff"/>
                  </a:gs>
                  <a:gs pos="100000">
                    <a:srgbClr val="6e6e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244993"/>
                  </a:gs>
                  <a:gs pos="50000">
                    <a:srgbClr val="3366cc"/>
                  </a:gs>
                  <a:gs pos="100000">
                    <a:srgbClr val="2449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649113"/>
                  </a:gs>
                  <a:gs pos="50000">
                    <a:srgbClr val="8bc91b"/>
                  </a:gs>
                  <a:gs pos="100000">
                    <a:srgbClr val="64911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241" name="未知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a1a1f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88a6e0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254" name="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3274e"/>
                  </a:gs>
                  <a:gs pos="50000">
                    <a:srgbClr val="3366cc"/>
                  </a:gs>
                  <a:gs pos="100000">
                    <a:srgbClr val="13274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912600" y="3374280"/>
                <a:ext cx="2089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3704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7:39:38Z</dcterms:created>
  <dc:creator>http://www.eeppt.com</dc:creator>
  <dc:description>ppt模板下载网站 http://www.eeppt.com</dc:description>
  <dc:language>en-US</dc:language>
  <cp:lastModifiedBy/>
  <dcterms:modified xsi:type="dcterms:W3CDTF">2015-06-14T06:49:5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