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956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956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40158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9560"/>
            <a:ext cx="40158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9560"/>
            <a:ext cx="40158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40158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9560"/>
            <a:ext cx="4015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 algn="r">
              <a:spcAft>
                <a:spcPts val="10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444600" indent="-262080" algn="r">
              <a:spcAft>
                <a:spcPts val="1001"/>
              </a:spcAft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720720" indent="-274680" algn="r">
              <a:spcAft>
                <a:spcPts val="1001"/>
              </a:spcAft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987480" indent="-265320" algn="r">
              <a:spcAft>
                <a:spcPts val="1001"/>
              </a:spcAft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1254240" indent="-265320" algn="r">
              <a:spcAft>
                <a:spcPts val="1001"/>
              </a:spcAft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1254240" indent="-265320" algn="r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1254240" indent="-265320" algn="r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276720" y="5013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algn="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单击添加署名或公司信息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"/>
          <p:cNvSpPr/>
          <p:nvPr/>
        </p:nvSpPr>
        <p:spPr>
          <a:xfrm>
            <a:off x="6595200" y="63943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978280" y="3917880"/>
            <a:ext cx="59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绿色礼盒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8229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r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 algn="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http://www.eeppt.com</dc:creator>
  <dc:description>ppt模板下载网站 http://www.eeppt.com</dc:description>
  <dc:language>en-US</dc:language>
  <cp:lastModifiedBy/>
  <dcterms:modified xsi:type="dcterms:W3CDTF">2015-06-14T06:26:29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