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982F9-9614-4880-8AF6-2270F27DBF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80720" y="311040"/>
            <a:ext cx="6782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7E263-E960-480A-8BDF-945448EFE1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80720" y="311040"/>
            <a:ext cx="6782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1A520-1339-43D9-981F-89F227BCE5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80720" y="311040"/>
            <a:ext cx="6782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743DF-B615-4BCA-8842-ED56290A48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0720" y="311040"/>
            <a:ext cx="6782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0720" y="311040"/>
            <a:ext cx="6782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80720" y="311040"/>
            <a:ext cx="6782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80720" y="311040"/>
            <a:ext cx="6782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980720" y="350640"/>
            <a:ext cx="6782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80720" y="311040"/>
            <a:ext cx="6782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80720" y="311040"/>
            <a:ext cx="6782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14FDF-2600-46BB-A6C8-BF71B0803F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0720" y="311040"/>
            <a:ext cx="6782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80720" y="311040"/>
            <a:ext cx="6782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80720" y="311040"/>
            <a:ext cx="6782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0720" y="311040"/>
            <a:ext cx="6782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80720" y="311040"/>
            <a:ext cx="6782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0720" y="311040"/>
            <a:ext cx="6782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ACAF4-DA26-4C0F-BDED-C1F3003C6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80720" y="311040"/>
            <a:ext cx="6782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65F54-5C3C-4DC3-9C81-7FE3E11C72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80720" y="311040"/>
            <a:ext cx="6782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A56E5-5956-4E26-B4F2-813A04038B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980720" y="350640"/>
            <a:ext cx="6782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CF8AF-FD10-47F7-A5D0-028CADC66C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80720" y="311040"/>
            <a:ext cx="6782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2E3B6-7E0A-4FD5-BAF3-3C06CB3B26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0720" y="311040"/>
            <a:ext cx="6782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C4A20-094B-4240-81DB-9F2CABDCC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80720" y="311040"/>
            <a:ext cx="6782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EA380-CC86-42D7-B02B-EC5BFBE275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68400" y="12600"/>
          <a:ext cx="9063000" cy="118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00" y="12600"/>
                    <a:ext cx="90630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" name=""/>
          <p:cNvGrpSpPr/>
          <p:nvPr/>
        </p:nvGrpSpPr>
        <p:grpSpPr>
          <a:xfrm>
            <a:off x="31680" y="1197000"/>
            <a:ext cx="9112320" cy="5661000"/>
            <a:chOff x="31680" y="1197000"/>
            <a:chExt cx="9112320" cy="5661000"/>
          </a:xfrm>
        </p:grpSpPr>
        <p:sp>
          <p:nvSpPr>
            <p:cNvPr id="3" name=""/>
            <p:cNvSpPr/>
            <p:nvPr/>
          </p:nvSpPr>
          <p:spPr>
            <a:xfrm>
              <a:off x="31680" y="1197000"/>
              <a:ext cx="250920" cy="5661000"/>
            </a:xfrm>
            <a:prstGeom prst="rect">
              <a:avLst/>
            </a:prstGeom>
            <a:solidFill>
              <a:srgbClr val="3aa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893080" y="1197000"/>
              <a:ext cx="250920" cy="5661000"/>
            </a:xfrm>
            <a:prstGeom prst="rect">
              <a:avLst/>
            </a:prstGeom>
            <a:solidFill>
              <a:srgbClr val="3aa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0" y="6453360"/>
            <a:ext cx="9109080" cy="404640"/>
          </a:xfrm>
          <a:prstGeom prst="rect">
            <a:avLst/>
          </a:prstGeom>
          <a:solidFill>
            <a:srgbClr val="3aa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9150480" cy="6859440"/>
            <a:chOff x="0" y="0"/>
            <a:chExt cx="9150480" cy="6859440"/>
          </a:xfrm>
        </p:grpSpPr>
        <p:sp>
          <p:nvSpPr>
            <p:cNvPr id="7" name=""/>
            <p:cNvSpPr/>
            <p:nvPr/>
          </p:nvSpPr>
          <p:spPr>
            <a:xfrm>
              <a:off x="42840" y="38160"/>
              <a:ext cx="906768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0" y="0"/>
              <a:ext cx="45720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7920" y="6326280"/>
              <a:ext cx="38736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8748720" y="6396120"/>
              <a:ext cx="40176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959a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a959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ftr" idx="1"/>
          </p:nvPr>
        </p:nvSpPr>
        <p:spPr>
          <a:xfrm>
            <a:off x="5790960" y="648612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sldNum" idx="2"/>
          </p:nvPr>
        </p:nvSpPr>
        <p:spPr>
          <a:xfrm>
            <a:off x="456840" y="6480000"/>
            <a:ext cx="7621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092C-19F6-4BF7-8844-D626F1598977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980720" y="35064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3aabc6"/>
              </a:gs>
              <a:gs pos="100000">
                <a:srgbClr val="1a4e5b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9840" y="2205000"/>
          <a:ext cx="9010800" cy="28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840" y="2205000"/>
                    <a:ext cx="901080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"/>
          <p:cNvGrpSpPr/>
          <p:nvPr/>
        </p:nvGrpSpPr>
        <p:grpSpPr>
          <a:xfrm>
            <a:off x="84240" y="5084640"/>
            <a:ext cx="9059760" cy="1773360"/>
            <a:chOff x="84240" y="5084640"/>
            <a:chExt cx="9059760" cy="1773360"/>
          </a:xfrm>
        </p:grpSpPr>
        <p:sp>
          <p:nvSpPr>
            <p:cNvPr id="56" name=""/>
            <p:cNvSpPr/>
            <p:nvPr/>
          </p:nvSpPr>
          <p:spPr>
            <a:xfrm>
              <a:off x="84240" y="5084640"/>
              <a:ext cx="8994600" cy="1773360"/>
            </a:xfrm>
            <a:prstGeom prst="rect">
              <a:avLst/>
            </a:prstGeom>
            <a:solidFill>
              <a:srgbClr val="6d7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6840" y="5084640"/>
              <a:ext cx="9047160" cy="299880"/>
            </a:xfrm>
            <a:prstGeom prst="rect">
              <a:avLst/>
            </a:prstGeom>
            <a:gradFill rotWithShape="0">
              <a:gsLst>
                <a:gs pos="0">
                  <a:srgbClr val="4b5284"/>
                </a:gs>
                <a:gs pos="100000">
                  <a:srgbClr val="6d77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0"/>
            <a:ext cx="9150480" cy="6859440"/>
            <a:chOff x="0" y="0"/>
            <a:chExt cx="9150480" cy="6859440"/>
          </a:xfrm>
        </p:grpSpPr>
        <p:sp>
          <p:nvSpPr>
            <p:cNvPr id="59" name=""/>
            <p:cNvSpPr/>
            <p:nvPr/>
          </p:nvSpPr>
          <p:spPr>
            <a:xfrm>
              <a:off x="42840" y="38160"/>
              <a:ext cx="906768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0" y="0"/>
              <a:ext cx="45720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7920" y="6326280"/>
              <a:ext cx="38736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8748720" y="6396120"/>
              <a:ext cx="40176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7956720" y="1773360"/>
            <a:ext cx="215640" cy="215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17080" y="1773360"/>
            <a:ext cx="215640" cy="215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7440" y="1773360"/>
            <a:ext cx="215640" cy="215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7651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e7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32640" y="4491000"/>
            <a:ext cx="22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mpany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d77b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66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e7"/>
                </a:solidFill>
                <a:latin typeface="Arial"/>
                <a:ea typeface="宋体"/>
              </a:rPr>
              <a:t>蓝</a:t>
            </a:r>
            <a:r>
              <a:rPr b="1" lang="en-US" sz="3600" spc="-1" strike="noStrike">
                <a:solidFill>
                  <a:srgbClr val="ffffe7"/>
                </a:solidFill>
                <a:latin typeface="Arial"/>
              </a:rPr>
              <a:t>色培训</a:t>
            </a:r>
            <a:r>
              <a:rPr b="1" lang="zh-CN" sz="3600" spc="-1" strike="noStrike">
                <a:solidFill>
                  <a:srgbClr val="ffffe7"/>
                </a:solidFill>
                <a:latin typeface="Arial"/>
                <a:ea typeface="宋体"/>
              </a:rPr>
              <a:t>PPT</a:t>
            </a:r>
            <a:r>
              <a:rPr b="1" lang="en-US" sz="3600" spc="-1" strike="noStrike">
                <a:solidFill>
                  <a:srgbClr val="ffffe7"/>
                </a:solidFill>
                <a:latin typeface="Arial"/>
              </a:rPr>
              <a:t>模板下载</a:t>
            </a:r>
            <a:endParaRPr b="1" lang="en-US" sz="36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50160" y="623736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80720" y="35064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68" name="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6d7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a95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a959a1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a959a1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5b2f56"/>
                </a:gs>
                <a:gs pos="50000">
                  <a:srgbClr val="a959a1"/>
                </a:gs>
                <a:gs pos="100000">
                  <a:srgbClr val="5b2f5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a959a1">
                    <a:alpha val="0"/>
                  </a:srgbClr>
                </a:gs>
                <a:gs pos="100000">
                  <a:srgbClr val="6a386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aabc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aabc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1f5c6a"/>
                </a:gs>
                <a:gs pos="50000">
                  <a:srgbClr val="3aabc6"/>
                </a:gs>
                <a:gs pos="100000">
                  <a:srgbClr val="1f5c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3aabc6">
                    <a:alpha val="0"/>
                  </a:srgbClr>
                </a:gs>
                <a:gs pos="100000">
                  <a:srgbClr val="246c7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84" name="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d77b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323658"/>
                </a:gs>
                <a:gs pos="100000">
                  <a:srgbClr val="6d77b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3a4066"/>
                </a:gs>
                <a:gs pos="50000">
                  <a:srgbClr val="6d77bf"/>
                </a:gs>
                <a:gs pos="100000">
                  <a:srgbClr val="3a4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6d77bf">
                    <a:alpha val="0"/>
                  </a:srgbClr>
                </a:gs>
                <a:gs pos="100000">
                  <a:srgbClr val="444b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294" name="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299" name="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1768320" y="1371600"/>
            <a:ext cx="5241600" cy="4889160"/>
            <a:chOff x="1768320" y="1371600"/>
            <a:chExt cx="5241600" cy="4889160"/>
          </a:xfrm>
        </p:grpSpPr>
        <p:sp>
          <p:nvSpPr>
            <p:cNvPr id="307" name=""/>
            <p:cNvSpPr/>
            <p:nvPr/>
          </p:nvSpPr>
          <p:spPr>
            <a:xfrm rot="13770000">
              <a:off x="4824720" y="3742560"/>
              <a:ext cx="931680" cy="1800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6d6d6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20856000">
              <a:off x="2968200" y="3302640"/>
              <a:ext cx="949680" cy="1674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8d8d8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8394200">
              <a:off x="4948920" y="2239200"/>
              <a:ext cx="579240" cy="1249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3852360" y="2272680"/>
              <a:ext cx="1515600" cy="1544760"/>
              <a:chOff x="3852360" y="2272680"/>
              <a:chExt cx="1515600" cy="1544760"/>
            </a:xfrm>
          </p:grpSpPr>
          <p:grpSp>
            <p:nvGrpSpPr>
              <p:cNvPr id="311" name=""/>
              <p:cNvGrpSpPr/>
              <p:nvPr/>
            </p:nvGrpSpPr>
            <p:grpSpPr>
              <a:xfrm>
                <a:off x="3852360" y="2272680"/>
                <a:ext cx="1515600" cy="1544760"/>
                <a:chOff x="3852360" y="2272680"/>
                <a:chExt cx="1515600" cy="154476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3852360" y="2272680"/>
                  <a:ext cx="1515600" cy="1544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aabc6"/>
                    </a:gs>
                    <a:gs pos="100000">
                      <a:srgbClr val="0e292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13" name="未知"/>
                <p:cNvSpPr/>
                <p:nvPr/>
              </p:nvSpPr>
              <p:spPr>
                <a:xfrm>
                  <a:off x="4025520" y="2298240"/>
                  <a:ext cx="1169280" cy="582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aabc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" name=""/>
              <p:cNvSpPr/>
              <p:nvPr/>
            </p:nvSpPr>
            <p:spPr>
              <a:xfrm>
                <a:off x="3892680" y="294408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5155200" y="1371600"/>
              <a:ext cx="909360" cy="836640"/>
              <a:chOff x="5155200" y="1371600"/>
              <a:chExt cx="909360" cy="83664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5178240" y="1371600"/>
                <a:ext cx="820440" cy="836640"/>
                <a:chOff x="5178240" y="1371600"/>
                <a:chExt cx="820440" cy="83664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5178240" y="1371600"/>
                  <a:ext cx="820440" cy="83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d77bf"/>
                    </a:gs>
                    <a:gs pos="100000">
                      <a:srgbClr val="1a1c2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18" name="未知"/>
                <p:cNvSpPr/>
                <p:nvPr/>
              </p:nvSpPr>
              <p:spPr>
                <a:xfrm>
                  <a:off x="5271840" y="1385280"/>
                  <a:ext cx="632880" cy="31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d77b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" name=""/>
              <p:cNvSpPr/>
              <p:nvPr/>
            </p:nvSpPr>
            <p:spPr>
              <a:xfrm>
                <a:off x="5155200" y="169308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1768320" y="2594520"/>
              <a:ext cx="1641960" cy="1737720"/>
              <a:chOff x="1768320" y="2594520"/>
              <a:chExt cx="1641960" cy="173772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1768320" y="2594520"/>
                <a:ext cx="1641960" cy="1737720"/>
                <a:chOff x="1768320" y="2594520"/>
                <a:chExt cx="1641960" cy="17377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1768320" y="2594520"/>
                  <a:ext cx="1641960" cy="173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66"/>
                    </a:gs>
                    <a:gs pos="100000">
                      <a:srgbClr val="a1604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23" name="未知"/>
                <p:cNvSpPr/>
                <p:nvPr/>
              </p:nvSpPr>
              <p:spPr>
                <a:xfrm>
                  <a:off x="1955880" y="2623320"/>
                  <a:ext cx="1266480" cy="6555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99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1811520" y="33656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5115240" y="3881880"/>
              <a:ext cx="1894680" cy="1931040"/>
              <a:chOff x="5115240" y="3881880"/>
              <a:chExt cx="1894680" cy="193104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5115240" y="3881880"/>
                <a:ext cx="1894680" cy="1931040"/>
                <a:chOff x="5115240" y="3881880"/>
                <a:chExt cx="1894680" cy="193104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5115240" y="3881880"/>
                  <a:ext cx="1894680" cy="1931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59a1"/>
                    </a:gs>
                    <a:gs pos="100000">
                      <a:srgbClr val="562d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28" name="未知"/>
                <p:cNvSpPr/>
                <p:nvPr/>
              </p:nvSpPr>
              <p:spPr>
                <a:xfrm>
                  <a:off x="5331600" y="3913920"/>
                  <a:ext cx="1461600" cy="728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a959a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9" name=""/>
              <p:cNvSpPr/>
              <p:nvPr/>
            </p:nvSpPr>
            <p:spPr>
              <a:xfrm>
                <a:off x="5339520" y="471852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1957680" y="4396680"/>
              <a:ext cx="1333800" cy="447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978720" y="3820320"/>
              <a:ext cx="1335240" cy="447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31320" y="5812920"/>
              <a:ext cx="1333800" cy="447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04960" y="2272680"/>
              <a:ext cx="611640" cy="223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80720" y="35064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80720" y="35064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943560" y="1828800"/>
            <a:ext cx="7282440" cy="3770280"/>
            <a:chOff x="943560" y="1828800"/>
            <a:chExt cx="7282440" cy="3770280"/>
          </a:xfrm>
        </p:grpSpPr>
        <p:sp>
          <p:nvSpPr>
            <p:cNvPr id="337" name=""/>
            <p:cNvSpPr/>
            <p:nvPr/>
          </p:nvSpPr>
          <p:spPr>
            <a:xfrm rot="17973000">
              <a:off x="47523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6d77b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3465600">
              <a:off x="48027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6d77b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4368800">
              <a:off x="35838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6d77b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7534800">
              <a:off x="35456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6d77b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3848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6d77b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10800000">
              <a:off x="29746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6d77b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956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7470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579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6614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470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435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7816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527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eccb3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671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eccb3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722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eccb3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3912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eccb3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722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eccb3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2866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eccb3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357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a959a1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4040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a959a1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8466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5b2f56"/>
                </a:gs>
                <a:gs pos="50000">
                  <a:srgbClr val="a959a1"/>
                </a:gs>
                <a:gs pos="100000">
                  <a:srgbClr val="5b2f5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43360" y="299736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a959a1">
                    <a:alpha val="0"/>
                  </a:srgbClr>
                </a:gs>
                <a:gs pos="100000">
                  <a:srgbClr val="6a386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211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3942000" y="3087720"/>
              <a:ext cx="1290600" cy="1278000"/>
              <a:chOff x="3942000" y="3087720"/>
              <a:chExt cx="1290600" cy="1278000"/>
            </a:xfrm>
          </p:grpSpPr>
          <p:sp>
            <p:nvSpPr>
              <p:cNvPr id="362" name=""/>
              <p:cNvSpPr/>
              <p:nvPr/>
            </p:nvSpPr>
            <p:spPr>
              <a:xfrm>
                <a:off x="39420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9585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9718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0417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42051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858000" y="6019920"/>
            <a:ext cx="19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980720" y="35064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70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77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85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99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404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980720" y="35064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415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16" name="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762120" y="2685960"/>
              <a:ext cx="1931760" cy="3265200"/>
              <a:chOff x="762120" y="2685960"/>
              <a:chExt cx="1931760" cy="3265200"/>
            </a:xfrm>
          </p:grpSpPr>
          <p:grpSp>
            <p:nvGrpSpPr>
              <p:cNvPr id="419" name=""/>
              <p:cNvGrpSpPr/>
              <p:nvPr/>
            </p:nvGrpSpPr>
            <p:grpSpPr>
              <a:xfrm>
                <a:off x="1167840" y="3526560"/>
                <a:ext cx="1526040" cy="2424600"/>
                <a:chOff x="1167840" y="3526560"/>
                <a:chExt cx="1526040" cy="2424600"/>
              </a:xfrm>
            </p:grpSpPr>
            <p:grpSp>
              <p:nvGrpSpPr>
                <p:cNvPr id="420" name=""/>
                <p:cNvGrpSpPr/>
                <p:nvPr/>
              </p:nvGrpSpPr>
              <p:grpSpPr>
                <a:xfrm>
                  <a:off x="1167840" y="3684240"/>
                  <a:ext cx="1420200" cy="2266920"/>
                  <a:chOff x="1167840" y="3684240"/>
                  <a:chExt cx="1420200" cy="2266920"/>
                </a:xfrm>
              </p:grpSpPr>
              <p:sp>
                <p:nvSpPr>
                  <p:cNvPr id="421" name="未知"/>
                  <p:cNvSpPr/>
                  <p:nvPr/>
                </p:nvSpPr>
                <p:spPr>
                  <a:xfrm rot="3876600">
                    <a:off x="7401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未知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1604160" y="3526560"/>
                  <a:ext cx="1089720" cy="1739520"/>
                  <a:chOff x="1604160" y="3526560"/>
                  <a:chExt cx="1089720" cy="1739520"/>
                </a:xfrm>
              </p:grpSpPr>
              <p:sp>
                <p:nvSpPr>
                  <p:cNvPr id="424" name="未知"/>
                  <p:cNvSpPr/>
                  <p:nvPr/>
                </p:nvSpPr>
                <p:spPr>
                  <a:xfrm flipV="1" rot="3876600">
                    <a:off x="127548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未知"/>
                  <p:cNvSpPr/>
                  <p:nvPr/>
                </p:nvSpPr>
                <p:spPr>
                  <a:xfrm flipV="1" rot="3876600">
                    <a:off x="230940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6" name="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84600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84600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90072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432" name=""/>
                <p:cNvGrpSpPr/>
                <p:nvPr/>
              </p:nvGrpSpPr>
              <p:grpSpPr>
                <a:xfrm>
                  <a:off x="915840" y="2844360"/>
                  <a:ext cx="962280" cy="992880"/>
                  <a:chOff x="915840" y="2844360"/>
                  <a:chExt cx="962280" cy="99288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91584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92808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93780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99036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7" name="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3925800">
                <a:off x="159048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440" name=""/>
              <p:cNvGrpSpPr/>
              <p:nvPr/>
            </p:nvGrpSpPr>
            <p:grpSpPr>
              <a:xfrm>
                <a:off x="2914200" y="3526560"/>
                <a:ext cx="1526400" cy="2424600"/>
                <a:chOff x="2914200" y="3526560"/>
                <a:chExt cx="1526400" cy="2424600"/>
              </a:xfrm>
            </p:grpSpPr>
            <p:grpSp>
              <p:nvGrpSpPr>
                <p:cNvPr id="441" name=""/>
                <p:cNvGrpSpPr/>
                <p:nvPr/>
              </p:nvGrpSpPr>
              <p:grpSpPr>
                <a:xfrm>
                  <a:off x="2914200" y="3684240"/>
                  <a:ext cx="1420200" cy="2266920"/>
                  <a:chOff x="2914200" y="3684240"/>
                  <a:chExt cx="1420200" cy="2266920"/>
                </a:xfrm>
              </p:grpSpPr>
              <p:sp>
                <p:nvSpPr>
                  <p:cNvPr id="442" name="未知"/>
                  <p:cNvSpPr/>
                  <p:nvPr/>
                </p:nvSpPr>
                <p:spPr>
                  <a:xfrm rot="3876600">
                    <a:off x="2486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未知"/>
                  <p:cNvSpPr/>
                  <p:nvPr/>
                </p:nvSpPr>
                <p:spPr>
                  <a:xfrm rot="3876600">
                    <a:off x="3853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4" name="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445" name="未知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未知"/>
                  <p:cNvSpPr/>
                  <p:nvPr/>
                </p:nvSpPr>
                <p:spPr>
                  <a:xfrm flipV="1" rot="3876600">
                    <a:off x="4056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7" name="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2593800" y="277092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593800" y="277380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2648520" y="2828880"/>
                  <a:ext cx="99252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453" name=""/>
                <p:cNvGrpSpPr/>
                <p:nvPr/>
              </p:nvGrpSpPr>
              <p:grpSpPr>
                <a:xfrm>
                  <a:off x="2663640" y="2844360"/>
                  <a:ext cx="961920" cy="992880"/>
                  <a:chOff x="2663640" y="2844360"/>
                  <a:chExt cx="961920" cy="99288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2663640" y="2844360"/>
                    <a:ext cx="9619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2675880" y="2849760"/>
                    <a:ext cx="9388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2685600" y="2859120"/>
                    <a:ext cx="89280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2738160" y="288468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8" name="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3925800">
                <a:off x="33321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4313160" y="2685960"/>
              <a:ext cx="1931760" cy="3265200"/>
              <a:chOff x="4313160" y="2685960"/>
              <a:chExt cx="1931760" cy="326520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4718880" y="3526560"/>
                <a:ext cx="1526040" cy="2424600"/>
                <a:chOff x="4718880" y="3526560"/>
                <a:chExt cx="1526040" cy="2424600"/>
              </a:xfrm>
            </p:grpSpPr>
            <p:grpSp>
              <p:nvGrpSpPr>
                <p:cNvPr id="462" name=""/>
                <p:cNvGrpSpPr/>
                <p:nvPr/>
              </p:nvGrpSpPr>
              <p:grpSpPr>
                <a:xfrm>
                  <a:off x="4718880" y="3684240"/>
                  <a:ext cx="1420200" cy="2266920"/>
                  <a:chOff x="4718880" y="3684240"/>
                  <a:chExt cx="1420200" cy="2266920"/>
                </a:xfrm>
              </p:grpSpPr>
              <p:sp>
                <p:nvSpPr>
                  <p:cNvPr id="463" name="未知"/>
                  <p:cNvSpPr/>
                  <p:nvPr/>
                </p:nvSpPr>
                <p:spPr>
                  <a:xfrm rot="3876600">
                    <a:off x="429120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未知"/>
                  <p:cNvSpPr/>
                  <p:nvPr/>
                </p:nvSpPr>
                <p:spPr>
                  <a:xfrm rot="3876600">
                    <a:off x="565848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" name=""/>
                <p:cNvGrpSpPr/>
                <p:nvPr/>
              </p:nvGrpSpPr>
              <p:grpSpPr>
                <a:xfrm>
                  <a:off x="5155200" y="3526560"/>
                  <a:ext cx="1089720" cy="1739520"/>
                  <a:chOff x="5155200" y="3526560"/>
                  <a:chExt cx="1089720" cy="1739520"/>
                </a:xfrm>
              </p:grpSpPr>
              <p:sp>
                <p:nvSpPr>
                  <p:cNvPr id="466" name="未知"/>
                  <p:cNvSpPr/>
                  <p:nvPr/>
                </p:nvSpPr>
                <p:spPr>
                  <a:xfrm flipV="1" rot="3876600">
                    <a:off x="482652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未知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8" name="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474" name="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475" name="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9" name="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3925800">
                <a:off x="5145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482" name="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483" name="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484" name="未知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未知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487" name="未知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未知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9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19308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256440" y="271296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494" name="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290280" y="273852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9" name="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502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Verdana"/>
                  </a:rPr>
                  <a:t>2001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Verdana"/>
                  </a:rPr>
                  <a:t>2002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Verdana"/>
                  </a:rPr>
                  <a:t>2003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Verdana"/>
                  </a:rPr>
                  <a:t>2004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cxnSp>
            <p:nvCxnSpPr>
              <p:cNvPr id="506" name=""/>
              <p:cNvCxnSpPr>
                <a:stCxn id="502" idx="3"/>
                <a:endCxn id="503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507" name=""/>
              <p:cNvCxnSpPr>
                <a:stCxn id="503" idx="3"/>
                <a:endCxn id="504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508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80720" y="35064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11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513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6d77bf"/>
                  </a:gs>
                  <a:gs pos="100000">
                    <a:srgbClr val="4b5284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4" name="未知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b4db"/>
                  </a:gs>
                  <a:gs pos="50000">
                    <a:srgbClr val="6d77bf">
                      <a:alpha val="0"/>
                    </a:srgbClr>
                  </a:gs>
                  <a:gs pos="100000">
                    <a:srgbClr val="aeb4d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18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20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f86ba"/>
                  </a:gs>
                  <a:gs pos="100000">
                    <a:srgbClr val="a959a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1" name="未知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959a1">
                      <a:alpha val="0"/>
                    </a:srgbClr>
                  </a:gs>
                  <a:gs pos="100000">
                    <a:srgbClr val="d9b7d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23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25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27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1c8d9"/>
                  </a:gs>
                  <a:gs pos="100000">
                    <a:srgbClr val="3aabc6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8" name="未知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aabc6">
                      <a:alpha val="0"/>
                    </a:srgbClr>
                  </a:gs>
                  <a:gs pos="100000">
                    <a:srgbClr val="9ed5e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980720" y="35064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37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a959a1"/>
                </a:gs>
                <a:gs pos="100000">
                  <a:srgbClr val="4d294a"/>
                </a:gs>
              </a:gsLst>
              <a:lin ang="198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39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6d77b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45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a959a1"/>
                </a:gs>
                <a:gs pos="100000">
                  <a:srgbClr val="4d294a"/>
                </a:gs>
              </a:gsLst>
              <a:lin ang="198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51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6d77b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980720" y="35064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838080" y="2376360"/>
          <a:ext cx="7467480" cy="319896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66"/>
                      </a:solidFill>
                    </a:lnR>
                    <a:lnT>
                      <a:noFill/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6d77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6d77bf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6d77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6d77bf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6d77bf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80720" y="35064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604080" y="504360"/>
            <a:ext cx="7379640" cy="5581800"/>
            <a:chOff x="604080" y="504360"/>
            <a:chExt cx="7379640" cy="5581800"/>
          </a:xfrm>
        </p:grpSpPr>
        <p:sp>
          <p:nvSpPr>
            <p:cNvPr id="568" name=""/>
            <p:cNvSpPr/>
            <p:nvPr/>
          </p:nvSpPr>
          <p:spPr>
            <a:xfrm>
              <a:off x="214164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bfbfb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b2b2b2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20601600">
              <a:off x="1388880" y="20016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c48fbf"/>
                </a:gs>
                <a:gs pos="100000">
                  <a:srgbClr val="a959a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 rot="20602200">
              <a:off x="1437840" y="20012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414873"/>
                </a:gs>
                <a:gs pos="100000">
                  <a:srgbClr val="6d77bf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20601600">
              <a:off x="1395720" y="20138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306069"/>
                </a:gs>
                <a:gs pos="100000">
                  <a:srgbClr val="5cb8ca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rot="20602200">
              <a:off x="1405800" y="19944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8a5337"/>
                </a:gs>
                <a:gs pos="100000">
                  <a:srgbClr val="ff9966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bebeb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604080" y="504360"/>
              <a:ext cx="7379640" cy="5581800"/>
              <a:chOff x="604080" y="504360"/>
              <a:chExt cx="7379640" cy="5581800"/>
            </a:xfrm>
          </p:grpSpPr>
          <p:sp>
            <p:nvSpPr>
              <p:cNvPr id="580" name="未知"/>
              <p:cNvSpPr/>
              <p:nvPr/>
            </p:nvSpPr>
            <p:spPr>
              <a:xfrm>
                <a:off x="544824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aabc6"/>
                  </a:gs>
                  <a:gs pos="100000">
                    <a:srgbClr val="23677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20539200">
                <a:off x="1022400" y="140832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1a4e5b"/>
                  </a:gs>
                  <a:gs pos="100000">
                    <a:srgbClr val="3aabc6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2" name="未知"/>
              <p:cNvSpPr/>
              <p:nvPr/>
            </p:nvSpPr>
            <p:spPr>
              <a:xfrm>
                <a:off x="458280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a4e5b"/>
                  </a:gs>
                  <a:gs pos="100000">
                    <a:srgbClr val="3aabc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5" name="未知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66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6934320" y="60958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80720" y="35064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914400" y="1447920"/>
            <a:ext cx="7391160" cy="4724280"/>
            <a:chOff x="914400" y="1447920"/>
            <a:chExt cx="7391160" cy="4724280"/>
          </a:xfrm>
        </p:grpSpPr>
        <p:sp>
          <p:nvSpPr>
            <p:cNvPr id="590" name=""/>
            <p:cNvSpPr/>
            <p:nvPr/>
          </p:nvSpPr>
          <p:spPr>
            <a:xfrm>
              <a:off x="1905120" y="2210040"/>
              <a:ext cx="553068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438280" y="14479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d77bf"/>
                </a:gs>
                <a:gs pos="50000">
                  <a:srgbClr val="daddee"/>
                </a:gs>
                <a:gs pos="100000">
                  <a:srgbClr val="6d77b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656160" y="28195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914400" y="4083120"/>
              <a:ext cx="1486080" cy="1989000"/>
              <a:chOff x="914400" y="4083120"/>
              <a:chExt cx="1486080" cy="1989000"/>
            </a:xfrm>
          </p:grpSpPr>
          <p:grpSp>
            <p:nvGrpSpPr>
              <p:cNvPr id="594" name=""/>
              <p:cNvGrpSpPr/>
              <p:nvPr/>
            </p:nvGrpSpPr>
            <p:grpSpPr>
              <a:xfrm>
                <a:off x="914400" y="4083120"/>
                <a:ext cx="1486080" cy="1514520"/>
                <a:chOff x="914400" y="4083120"/>
                <a:chExt cx="1486080" cy="1514520"/>
              </a:xfrm>
            </p:grpSpPr>
            <p:grpSp>
              <p:nvGrpSpPr>
                <p:cNvPr id="595" name=""/>
                <p:cNvGrpSpPr/>
                <p:nvPr/>
              </p:nvGrpSpPr>
              <p:grpSpPr>
                <a:xfrm>
                  <a:off x="914400" y="4083120"/>
                  <a:ext cx="1486080" cy="1514520"/>
                  <a:chOff x="914400" y="4083120"/>
                  <a:chExt cx="1486080" cy="1514520"/>
                </a:xfrm>
              </p:grpSpPr>
              <p:sp>
                <p:nvSpPr>
                  <p:cNvPr id="596" name=""/>
                  <p:cNvSpPr/>
                  <p:nvPr/>
                </p:nvSpPr>
                <p:spPr>
                  <a:xfrm>
                    <a:off x="914400" y="408312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a160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未知"/>
                  <p:cNvSpPr/>
                  <p:nvPr/>
                </p:nvSpPr>
                <p:spPr>
                  <a:xfrm>
                    <a:off x="1084320" y="410796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>
                  <a:off x="1072440" y="48542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9" name=""/>
              <p:cNvSpPr/>
              <p:nvPr/>
            </p:nvSpPr>
            <p:spPr>
              <a:xfrm>
                <a:off x="1066680" y="5683320"/>
                <a:ext cx="1206720" cy="3888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6781680" y="4038840"/>
              <a:ext cx="1523880" cy="2066760"/>
              <a:chOff x="6781680" y="4038840"/>
              <a:chExt cx="1523880" cy="2066760"/>
            </a:xfrm>
          </p:grpSpPr>
          <p:grpSp>
            <p:nvGrpSpPr>
              <p:cNvPr id="601" name=""/>
              <p:cNvGrpSpPr/>
              <p:nvPr/>
            </p:nvGrpSpPr>
            <p:grpSpPr>
              <a:xfrm>
                <a:off x="6781680" y="4038840"/>
                <a:ext cx="1523880" cy="1531800"/>
                <a:chOff x="6781680" y="4038840"/>
                <a:chExt cx="1523880" cy="1531800"/>
              </a:xfrm>
            </p:grpSpPr>
            <p:grpSp>
              <p:nvGrpSpPr>
                <p:cNvPr id="602" name=""/>
                <p:cNvGrpSpPr/>
                <p:nvPr/>
              </p:nvGrpSpPr>
              <p:grpSpPr>
                <a:xfrm>
                  <a:off x="6781680" y="4038840"/>
                  <a:ext cx="1523880" cy="1531800"/>
                  <a:chOff x="6781680" y="4038840"/>
                  <a:chExt cx="1523880" cy="153180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>
                    <a:off x="6781680" y="4038840"/>
                    <a:ext cx="152388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aabc6"/>
                      </a:gs>
                      <a:gs pos="100000">
                        <a:srgbClr val="0e292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未知"/>
                  <p:cNvSpPr/>
                  <p:nvPr/>
                </p:nvSpPr>
                <p:spPr>
                  <a:xfrm>
                    <a:off x="6955920" y="4064040"/>
                    <a:ext cx="117540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3aabc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5" name=""/>
                <p:cNvSpPr/>
                <p:nvPr/>
              </p:nvSpPr>
              <p:spPr>
                <a:xfrm>
                  <a:off x="6924600" y="47527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6" name=""/>
              <p:cNvSpPr/>
              <p:nvPr/>
            </p:nvSpPr>
            <p:spPr>
              <a:xfrm>
                <a:off x="6824520" y="5618520"/>
                <a:ext cx="1455840" cy="4870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2819520" y="4083120"/>
              <a:ext cx="1523880" cy="2089080"/>
              <a:chOff x="2819520" y="4083120"/>
              <a:chExt cx="1523880" cy="2089080"/>
            </a:xfrm>
          </p:grpSpPr>
          <p:grpSp>
            <p:nvGrpSpPr>
              <p:cNvPr id="608" name=""/>
              <p:cNvGrpSpPr/>
              <p:nvPr/>
            </p:nvGrpSpPr>
            <p:grpSpPr>
              <a:xfrm>
                <a:off x="2819520" y="4083120"/>
                <a:ext cx="1523880" cy="1521000"/>
                <a:chOff x="2819520" y="4083120"/>
                <a:chExt cx="1523880" cy="152100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2819520" y="408312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59a1"/>
                    </a:gs>
                    <a:gs pos="100000">
                      <a:srgbClr val="562d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10" name="未知"/>
                <p:cNvSpPr/>
                <p:nvPr/>
              </p:nvSpPr>
              <p:spPr>
                <a:xfrm>
                  <a:off x="2993760" y="410832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a959a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"/>
              <p:cNvSpPr/>
              <p:nvPr/>
            </p:nvSpPr>
            <p:spPr>
              <a:xfrm>
                <a:off x="2895840" y="4813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819520" y="568332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4876920" y="4038840"/>
              <a:ext cx="1523880" cy="2089080"/>
              <a:chOff x="4876920" y="4038840"/>
              <a:chExt cx="1523880" cy="2089080"/>
            </a:xfrm>
          </p:grpSpPr>
          <p:grpSp>
            <p:nvGrpSpPr>
              <p:cNvPr id="614" name=""/>
              <p:cNvGrpSpPr/>
              <p:nvPr/>
            </p:nvGrpSpPr>
            <p:grpSpPr>
              <a:xfrm>
                <a:off x="4876920" y="4038840"/>
                <a:ext cx="1523880" cy="1521000"/>
                <a:chOff x="4876920" y="4038840"/>
                <a:chExt cx="1523880" cy="1521000"/>
              </a:xfrm>
            </p:grpSpPr>
            <p:grpSp>
              <p:nvGrpSpPr>
                <p:cNvPr id="615" name=""/>
                <p:cNvGrpSpPr/>
                <p:nvPr/>
              </p:nvGrpSpPr>
              <p:grpSpPr>
                <a:xfrm>
                  <a:off x="4876920" y="4038840"/>
                  <a:ext cx="1523880" cy="1521000"/>
                  <a:chOff x="4876920" y="4038840"/>
                  <a:chExt cx="1523880" cy="1521000"/>
                </a:xfrm>
              </p:grpSpPr>
              <p:sp>
                <p:nvSpPr>
                  <p:cNvPr id="616" name=""/>
                  <p:cNvSpPr/>
                  <p:nvPr/>
                </p:nvSpPr>
                <p:spPr>
                  <a:xfrm>
                    <a:off x="4876920" y="4038840"/>
                    <a:ext cx="152388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d77bf"/>
                      </a:gs>
                      <a:gs pos="100000">
                        <a:srgbClr val="373c61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未知"/>
                  <p:cNvSpPr/>
                  <p:nvPr/>
                </p:nvSpPr>
                <p:spPr>
                  <a:xfrm>
                    <a:off x="5051160" y="4064040"/>
                    <a:ext cx="1175400" cy="57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6d77b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8" name=""/>
                <p:cNvSpPr/>
                <p:nvPr/>
              </p:nvSpPr>
              <p:spPr>
                <a:xfrm>
                  <a:off x="4953240" y="4768920"/>
                  <a:ext cx="137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9" name=""/>
              <p:cNvSpPr/>
              <p:nvPr/>
            </p:nvSpPr>
            <p:spPr>
              <a:xfrm>
                <a:off x="4876920" y="563904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80720" y="35064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11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66"/>
                </a:gs>
                <a:gs pos="100000">
                  <a:srgbClr val="fee8dd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ff996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16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77bf"/>
                </a:gs>
                <a:gs pos="100000">
                  <a:srgbClr val="dfe1f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6d77b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21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59a1"/>
                </a:gs>
                <a:gs pos="100000">
                  <a:srgbClr val="ebdaea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a959a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26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aabc6"/>
                </a:gs>
                <a:gs pos="100000">
                  <a:srgbClr val="d4ecf1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3aabc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1752480" y="3048120"/>
            <a:ext cx="588168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d77bf"/>
                    </a:gs>
                    <a:gs pos="100000">
                      <a:srgbClr val="a959a1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b2b2b2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d77bf"/>
                  </a:gs>
                  <a:gs pos="100000">
                    <a:srgbClr val="a959a1"/>
                  </a:gs>
                </a:gsLst>
                <a:lin ang="10800000"/>
              </a:gradFill>
              <a:effectLst>
                <a:outerShdw dist="53966" dir="2700000" blurRad="0" rotWithShape="0">
                  <a:srgbClr val="b2b2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a959a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a959a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a959a1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a959a1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en-US" sz="1600" spc="-1" strike="noStrike" u="sng">
                <a:solidFill>
                  <a:srgbClr val="a959a1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a959a1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en-US" sz="1600" spc="-1" strike="noStrike" u="sng">
                <a:solidFill>
                  <a:srgbClr val="a959a1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a959a1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a959a1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a959a1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a959a1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a959a1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a959a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a959a1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a959a1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F05CD-2B93-4C41-B62C-CEAB77DB0F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80720" y="35064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8880" y="1596600"/>
            <a:ext cx="75470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959a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a959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n the [View] menu, point to [Master], and then click 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[Slide Master]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[Notes Master]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hange images to the one you like, then it will apply to all the other slides.</a:t>
            </a:r>
            <a:r>
              <a:rPr b="1" lang="en-US" sz="2400" spc="-1" strike="noStrike">
                <a:solidFill>
                  <a:srgbClr val="ffffe7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e7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80720" y="35064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34" name="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36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ebd9d"/>
              </a:gs>
              <a:gs pos="100000">
                <a:srgbClr val="ff99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38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2b4d"/>
                    </a:gs>
                    <a:gs pos="100000">
                      <a:srgbClr val="a959a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59a1"/>
                    </a:gs>
                    <a:gs pos="100000">
                      <a:srgbClr val="d8b4d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d77bf"/>
                  </a:gs>
                  <a:gs pos="100000">
                    <a:srgbClr val="32365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cbcee7"/>
                  </a:gs>
                  <a:gs pos="100000">
                    <a:srgbClr val="6d77bf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6d77bf">
                      <a:alpha val="48235"/>
                    </a:srgbClr>
                  </a:gs>
                  <a:gs pos="100000">
                    <a:srgbClr val="565d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6d77bf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48" name="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0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2c9e0"/>
              </a:gs>
              <a:gs pos="100000">
                <a:srgbClr val="a959a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80720" y="35064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53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e6e6e6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a959a1"/>
                </a:gs>
                <a:gs pos="100000">
                  <a:srgbClr val="3a1e3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6d77bf"/>
                </a:gs>
                <a:gs pos="100000">
                  <a:srgbClr val="22253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5a36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3f3f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3aabc6"/>
                </a:gs>
                <a:gs pos="100000">
                  <a:srgbClr val="133a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66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167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80720" y="35064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0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4e5b"/>
                </a:gs>
                <a:gs pos="50000">
                  <a:srgbClr val="3aabc6"/>
                </a:gs>
                <a:gs pos="100000">
                  <a:srgbClr val="1a4e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4e5b"/>
                </a:gs>
                <a:gs pos="50000">
                  <a:srgbClr val="3aabc6"/>
                </a:gs>
                <a:gs pos="100000">
                  <a:srgbClr val="1a4e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4e5b"/>
                </a:gs>
                <a:gs pos="50000">
                  <a:srgbClr val="3aabc6"/>
                </a:gs>
                <a:gs pos="100000">
                  <a:srgbClr val="1a4e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23658"/>
                </a:gs>
                <a:gs pos="50000">
                  <a:srgbClr val="6d77bf"/>
                </a:gs>
                <a:gs pos="100000">
                  <a:srgbClr val="3236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dcdcd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d294a"/>
                </a:gs>
                <a:gs pos="50000">
                  <a:srgbClr val="a959a1"/>
                </a:gs>
                <a:gs pos="100000">
                  <a:srgbClr val="4d294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dcdcd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934320" y="60958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80720" y="35064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sp>
          <p:nvSpPr>
            <p:cNvPr id="191" name=""/>
            <p:cNvSpPr/>
            <p:nvPr/>
          </p:nvSpPr>
          <p:spPr>
            <a:xfrm flipH="1" rot="16200000">
              <a:off x="2923920" y="3256560"/>
              <a:ext cx="460440" cy="2970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dfdfd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400000">
              <a:off x="5528520" y="3206160"/>
              <a:ext cx="459000" cy="2970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dfdfdf"/>
                </a:gs>
                <a:gs pos="100000">
                  <a:srgbClr val="b2b2b2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0800000">
              <a:off x="4238640" y="4609800"/>
              <a:ext cx="442800" cy="30636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dfdfdf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06600" y="2209680"/>
              <a:ext cx="2325960" cy="24004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38360" y="2344680"/>
              <a:ext cx="2060640" cy="212544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60760" y="2471760"/>
              <a:ext cx="1816200" cy="18777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a959a1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60760" y="2471760"/>
              <a:ext cx="1816200" cy="18777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79920" y="2595600"/>
              <a:ext cx="1577880" cy="1631880"/>
            </a:xfrm>
            <a:prstGeom prst="ellipse">
              <a:avLst/>
            </a:prstGeom>
            <a:gradFill rotWithShape="0">
              <a:gsLst>
                <a:gs pos="0">
                  <a:srgbClr val="5b2f56"/>
                </a:gs>
                <a:gs pos="50000">
                  <a:srgbClr val="a959a1"/>
                </a:gs>
                <a:gs pos="100000">
                  <a:srgbClr val="5b2f5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79920" y="2595600"/>
              <a:ext cx="1577880" cy="163188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43000" y="3708360"/>
              <a:ext cx="165888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4e5b"/>
                </a:gs>
                <a:gs pos="50000">
                  <a:srgbClr val="3aabc6"/>
                </a:gs>
                <a:gs pos="100000">
                  <a:srgbClr val="1a4e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43000" y="3208320"/>
              <a:ext cx="1658880" cy="571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4e5b"/>
                </a:gs>
                <a:gs pos="50000">
                  <a:srgbClr val="3aabc6"/>
                </a:gs>
                <a:gs pos="100000">
                  <a:srgbClr val="1a4e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43000" y="2709720"/>
              <a:ext cx="165888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4e5b"/>
                </a:gs>
                <a:gs pos="50000">
                  <a:srgbClr val="3aabc6"/>
                </a:gs>
                <a:gs pos="100000">
                  <a:srgbClr val="1a4e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19640" y="3708360"/>
              <a:ext cx="172908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658"/>
                </a:gs>
                <a:gs pos="50000">
                  <a:srgbClr val="6d77bf"/>
                </a:gs>
                <a:gs pos="100000">
                  <a:srgbClr val="3236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19640" y="3208320"/>
              <a:ext cx="1729080" cy="571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658"/>
                </a:gs>
                <a:gs pos="50000">
                  <a:srgbClr val="6d77bf"/>
                </a:gs>
                <a:gs pos="100000">
                  <a:srgbClr val="3236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19640" y="2709720"/>
              <a:ext cx="172908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658"/>
                </a:gs>
                <a:gs pos="50000">
                  <a:srgbClr val="6d77bf"/>
                </a:gs>
                <a:gs pos="100000">
                  <a:srgbClr val="3236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7604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3600" y="5062320"/>
              <a:ext cx="3524040" cy="500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876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87600" y="3355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87600" y="3854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85200" y="3355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85200" y="3854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80720" y="35064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216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30" name="未知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5462f"/>
                  </a:gs>
                  <a:gs pos="50000">
                    <a:srgbClr val="ff9966"/>
                  </a:gs>
                  <a:gs pos="100000">
                    <a:srgbClr val="75462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1" name="未知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2" name="未知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294a"/>
                  </a:gs>
                  <a:gs pos="50000">
                    <a:srgbClr val="a959a1"/>
                  </a:gs>
                  <a:gs pos="100000">
                    <a:srgbClr val="4d294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3" name="未知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a95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a4e5b"/>
                  </a:gs>
                  <a:gs pos="50000">
                    <a:srgbClr val="3aabc6"/>
                  </a:gs>
                  <a:gs pos="100000">
                    <a:srgbClr val="1a4e5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3658"/>
                  </a:gs>
                  <a:gs pos="50000">
                    <a:srgbClr val="6d77bf"/>
                  </a:gs>
                  <a:gs pos="100000">
                    <a:srgbClr val="32365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6d77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b86e49"/>
                  </a:gs>
                  <a:gs pos="50000">
                    <a:srgbClr val="ff9966"/>
                  </a:gs>
                  <a:gs pos="100000">
                    <a:srgbClr val="b86e4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7a4074"/>
                  </a:gs>
                  <a:gs pos="50000">
                    <a:srgbClr val="a959a1"/>
                  </a:gs>
                  <a:gs pos="100000">
                    <a:srgbClr val="7a407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3aa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297b8f"/>
                  </a:gs>
                  <a:gs pos="50000">
                    <a:srgbClr val="3aabc6"/>
                  </a:gs>
                  <a:gs pos="100000">
                    <a:srgbClr val="297b8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4e558a"/>
                  </a:gs>
                  <a:gs pos="50000">
                    <a:srgbClr val="6d77bf"/>
                  </a:gs>
                  <a:gs pos="100000">
                    <a:srgbClr val="4e55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80720" y="35064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45" name="未知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a959a1"/>
                </a:gs>
                <a:gs pos="100000">
                  <a:srgbClr val="b067a8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5462f"/>
                </a:gs>
                <a:gs pos="50000">
                  <a:srgbClr val="ff9966"/>
                </a:gs>
                <a:gs pos="100000">
                  <a:srgbClr val="7546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a959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d294a"/>
                </a:gs>
                <a:gs pos="50000">
                  <a:srgbClr val="a959a1"/>
                </a:gs>
                <a:gs pos="100000">
                  <a:srgbClr val="4d29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3aabc6"/>
                </a:gs>
                <a:gs pos="100000">
                  <a:srgbClr val="8ccddd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258" name="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3aab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6424c"/>
                  </a:gs>
                  <a:gs pos="50000">
                    <a:srgbClr val="3aabc6"/>
                  </a:gs>
                  <a:gs pos="100000">
                    <a:srgbClr val="16424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d Your Title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http://www.eeppt.com</dc:creator>
  <dc:description>ppt模板下载网站 http://www.eeppt.com</dc:description>
  <dc:language>en-US</dc:language>
  <cp:lastModifiedBy/>
  <dcterms:modified xsi:type="dcterms:W3CDTF">2015-06-14T07:02:50Z</dcterms:modified>
  <cp:revision>5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