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59D5-52C1-4641-B5D7-817C758D1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75F6-1299-4194-BA27-734ED3411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8DDC-B46D-4575-84EA-8A52BD7A0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0E7D-F87F-4F6A-B489-BEBE11E8F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FB89-E204-41E6-A91F-9727857EB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8341-BCB2-45A5-86CF-D70733A88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CF51-1040-4B3A-94B6-5CDB99BDD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4BA2-3CDC-486D-88D6-5A3AFFFA9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5490-FA08-48E7-8A7B-D52E0F40E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B333-8E29-44D1-A0BA-D6A8B69C6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740E-5EF3-4D9E-A1CB-D0AAD2637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8894-8285-43CE-88A9-38F21F9F6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113f71"/>
              </a:gs>
              <a:gs pos="100000">
                <a:srgbClr val="a3b5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e6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4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01164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344400" y="6551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113f71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97A-3813-4CDE-8E00-C3C061FB07D2}" type="slidenum">
              <a:rPr b="1" lang="ko-KR" sz="1000" spc="-1" strike="noStrike">
                <a:solidFill>
                  <a:srgbClr val="113f71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未知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26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未知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294e5e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26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蓝色培训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演示模板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2635200" y="29401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 rot="7200000">
            <a:off x="4326480" y="18597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1966b3"/>
              </a:gs>
              <a:gs pos="100000">
                <a:srgbClr val="0b2f5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63280" y="1603080"/>
            <a:ext cx="2482920" cy="2629800"/>
            <a:chOff x="2663280" y="1603080"/>
            <a:chExt cx="2482920" cy="2629800"/>
          </a:xfrm>
        </p:grpSpPr>
        <p:sp>
          <p:nvSpPr>
            <p:cNvPr id="228" name=""/>
            <p:cNvSpPr/>
            <p:nvPr/>
          </p:nvSpPr>
          <p:spPr>
            <a:xfrm rot="12600000">
              <a:off x="2717280" y="330984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7200000">
              <a:off x="3112560" y="251460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 rot="7200000">
              <a:off x="4185720" y="158760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31" name="未知"/>
          <p:cNvSpPr/>
          <p:nvPr/>
        </p:nvSpPr>
        <p:spPr>
          <a:xfrm rot="14400000">
            <a:off x="4440600" y="37134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2e404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76240" y="2490840"/>
            <a:ext cx="2172960" cy="2759400"/>
            <a:chOff x="4476240" y="2490840"/>
            <a:chExt cx="2172960" cy="2759400"/>
          </a:xfrm>
        </p:grpSpPr>
        <p:sp>
          <p:nvSpPr>
            <p:cNvPr id="233" name=""/>
            <p:cNvSpPr/>
            <p:nvPr/>
          </p:nvSpPr>
          <p:spPr>
            <a:xfrm rot="19800000">
              <a:off x="4530600" y="280944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 rot="14400000">
              <a:off x="4920480" y="3402720"/>
              <a:ext cx="150480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 rot="14400000">
              <a:off x="5743440" y="41572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627280" y="4145040"/>
            <a:ext cx="2493360" cy="1395000"/>
            <a:chOff x="2627280" y="4145040"/>
            <a:chExt cx="2493360" cy="1395000"/>
          </a:xfrm>
        </p:grpSpPr>
        <p:sp>
          <p:nvSpPr>
            <p:cNvPr id="237" name="未知"/>
            <p:cNvSpPr/>
            <p:nvPr/>
          </p:nvSpPr>
          <p:spPr>
            <a:xfrm>
              <a:off x="2627280" y="4145040"/>
              <a:ext cx="581760" cy="110124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4106880" y="4526280"/>
              <a:ext cx="1387080" cy="640440"/>
            </a:xfrm>
            <a:prstGeom prst="triangle">
              <a:avLst>
                <a:gd name="adj" fmla="val 50000"/>
              </a:avLst>
            </a:pr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151440" y="4467960"/>
              <a:ext cx="1597320" cy="77832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5640" y="4654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00720" y="4654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1341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未知"/>
          <p:cNvSpPr/>
          <p:nvPr/>
        </p:nvSpPr>
        <p:spPr>
          <a:xfrm flipH="1">
            <a:off x="4788000" y="2422440"/>
            <a:ext cx="3168720" cy="2895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c1d0d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28680" y="1557000"/>
            <a:ext cx="4062240" cy="3858840"/>
            <a:chOff x="1228680" y="1557000"/>
            <a:chExt cx="4062240" cy="3858840"/>
          </a:xfrm>
        </p:grpSpPr>
        <p:sp>
          <p:nvSpPr>
            <p:cNvPr id="246" name=""/>
            <p:cNvSpPr/>
            <p:nvPr/>
          </p:nvSpPr>
          <p:spPr>
            <a:xfrm rot="16200000">
              <a:off x="3834720" y="2825640"/>
              <a:ext cx="1559880" cy="1352520"/>
            </a:xfrm>
            <a:prstGeom prst="hexagon">
              <a:avLst>
                <a:gd name="adj" fmla="val 28833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3147840" y="1658880"/>
              <a:ext cx="1557720" cy="1353600"/>
            </a:xfrm>
            <a:prstGeom prst="hexagon">
              <a:avLst>
                <a:gd name="adj" fmla="val 28770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193200" y="3960720"/>
              <a:ext cx="1557720" cy="1352520"/>
            </a:xfrm>
            <a:prstGeom prst="hexagon">
              <a:avLst>
                <a:gd name="adj" fmla="val 28793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475720" y="2826000"/>
              <a:ext cx="1557720" cy="1353960"/>
            </a:xfrm>
            <a:prstGeom prst="hexagon">
              <a:avLst>
                <a:gd name="adj" fmla="val 28762"/>
                <a:gd name="vf" fmla="val 11547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162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794960" y="1659600"/>
              <a:ext cx="1557720" cy="1352520"/>
            </a:xfrm>
            <a:prstGeom prst="hexagon">
              <a:avLst>
                <a:gd name="adj" fmla="val 28793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1793160" y="3960720"/>
              <a:ext cx="1557720" cy="1352160"/>
            </a:xfrm>
            <a:prstGeom prst="hexagon">
              <a:avLst>
                <a:gd name="adj" fmla="val 28801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1124640" y="2825640"/>
              <a:ext cx="1559880" cy="1352160"/>
            </a:xfrm>
            <a:prstGeom prst="hexagon">
              <a:avLst>
                <a:gd name="adj" fmla="val 28841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6200000">
            <a:off x="6042600" y="5914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 rot="16200000">
            <a:off x="2257200" y="288756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5400000">
            <a:off x="6047640" y="28159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rot="10800000">
            <a:off x="4151880" y="47988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797200" y="14130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87720" y="170172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516480" y="2131920"/>
            <a:ext cx="1946160" cy="1949400"/>
            <a:chOff x="3516480" y="2131920"/>
            <a:chExt cx="1946160" cy="1949400"/>
          </a:xfrm>
        </p:grpSpPr>
        <p:sp>
          <p:nvSpPr>
            <p:cNvPr id="261" name=""/>
            <p:cNvSpPr/>
            <p:nvPr/>
          </p:nvSpPr>
          <p:spPr>
            <a:xfrm>
              <a:off x="3516480" y="213192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16480" y="213192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3920" y="22593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43920" y="22593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28520" y="234432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11280" y="33577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27082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20606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49120" y="285264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32720" y="33656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27162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20685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68360" y="537516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113f71"/>
          </a:solidFill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4448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3673440" y="374508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73440" y="309564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73440" y="244800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44960" y="1125360"/>
            <a:ext cx="280800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376"/>
              </a:gs>
              <a:gs pos="50000">
                <a:srgbClr val="1966b3"/>
              </a:gs>
              <a:gs pos="100000">
                <a:srgbClr val="104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508644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087640" y="296244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5002920" y="299880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4284360" y="443880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09920" y="188424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06208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efefe">
                  <a:alpha val="40000"/>
                </a:srgbClr>
              </a:gs>
              <a:gs pos="100000">
                <a:srgbClr val="c1d1d3"/>
              </a:gs>
            </a:gsLst>
            <a:lin ang="5400000"/>
          </a:gradFill>
          <a:ln w="2844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6160" y="235116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199080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efefe">
                  <a:alpha val="40000"/>
                </a:srgbClr>
              </a:gs>
              <a:gs pos="100000">
                <a:srgbClr val="c1d1d3"/>
              </a:gs>
            </a:gsLst>
            <a:lin ang="5400000"/>
          </a:gradFill>
          <a:ln w="2844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80160" y="227952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rot="20239200">
            <a:off x="1218960" y="2106360"/>
            <a:ext cx="651960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20240400">
            <a:off x="1358640" y="2315880"/>
            <a:ext cx="5925960" cy="268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397160" y="26398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12682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648b8c"/>
              </a:gs>
              <a:gs pos="100000">
                <a:srgbClr val="222f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02320" y="172548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5aabcc"/>
              </a:gs>
              <a:gs pos="100000">
                <a:srgbClr val="1e3a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45450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26160" y="40878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4848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06840" y="317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84428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040"/>
              </a:gs>
              <a:gs pos="100000">
                <a:srgbClr val="648b8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184428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4856"/>
              </a:gs>
              <a:gs pos="100000">
                <a:srgbClr val="5aab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184428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b2f52"/>
              </a:gs>
              <a:gs pos="100000">
                <a:srgbClr val="1966b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592360"/>
            <a:ext cx="2819520" cy="26668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966b3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592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ab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592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48b8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311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648b8c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1966b3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319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648b8c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325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1966b3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09480" y="1773360"/>
          <a:ext cx="7853400" cy="3417840"/>
        </p:xfrm>
        <a:graphic>
          <a:graphicData uri="http://schemas.openxmlformats.org/drawingml/2006/table">
            <a:tbl>
              <a:tblPr/>
              <a:tblGrid>
                <a:gridCol w="1774800"/>
                <a:gridCol w="1230480"/>
                <a:gridCol w="1195200"/>
                <a:gridCol w="1219320"/>
                <a:gridCol w="1220760"/>
                <a:gridCol w="1212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6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553176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97120" y="1374840"/>
            <a:ext cx="56433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41608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1d1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20601600">
            <a:off x="1636560" y="20476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113f71"/>
              </a:gs>
              <a:gs pos="50000">
                <a:srgbClr val="c4cfdb"/>
              </a:gs>
              <a:gs pos="100000">
                <a:srgbClr val="113f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601600">
            <a:off x="1699920" y="189396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5aabcc"/>
              </a:gs>
              <a:gs pos="100000">
                <a:srgbClr val="386c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601600">
            <a:off x="1557000" y="19033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20601600">
            <a:off x="1609560" y="18712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20602200">
            <a:off x="1586160" y="19029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0601600">
            <a:off x="1630440" y="189144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rot="20602200">
            <a:off x="1614240" y="18903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20601600">
            <a:off x="4681080" y="320688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20601600">
            <a:off x="4574880" y="29538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13f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4160" y="1205280"/>
            <a:ext cx="6918480" cy="4356720"/>
            <a:chOff x="704160" y="1205280"/>
            <a:chExt cx="6918480" cy="4356720"/>
          </a:xfrm>
        </p:grpSpPr>
        <p:sp>
          <p:nvSpPr>
            <p:cNvPr id="351" name=""/>
            <p:cNvSpPr/>
            <p:nvPr/>
          </p:nvSpPr>
          <p:spPr>
            <a:xfrm rot="20712600">
              <a:off x="956880" y="197676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 rot="20712600">
              <a:off x="4360680" y="317484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 rot="20712600">
              <a:off x="5736600" y="334296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54" name="未知"/>
          <p:cNvSpPr/>
          <p:nvPr/>
        </p:nvSpPr>
        <p:spPr>
          <a:xfrm rot="20601600">
            <a:off x="6248160" y="324612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0539200">
            <a:off x="1498320" y="179424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 rot="20601600">
            <a:off x="4933440" y="315720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601600">
            <a:off x="3154320" y="25999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d1d3"/>
              </a:gs>
              <a:gs pos="50000">
                <a:srgbClr val="eef2f3"/>
              </a:gs>
              <a:gs pos="100000">
                <a:srgbClr val="c1d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20601600">
            <a:off x="3254400" y="285264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2693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18558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3130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0372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39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4141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893960" y="198900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abcc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tion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73672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3960" y="351648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66b3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424980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223200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295272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745080"/>
            <a:ext cx="180036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52840" y="4489560"/>
            <a:ext cx="288000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76360" y="270828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66b3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66b3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6D74-2791-43F8-BDF9-5753AB682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1120" y="1473120"/>
            <a:ext cx="76406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未知"/>
          <p:cNvSpPr/>
          <p:nvPr/>
        </p:nvSpPr>
        <p:spPr>
          <a:xfrm>
            <a:off x="2987640" y="1204920"/>
            <a:ext cx="3960720" cy="94140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8eb3d9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2920" y="234792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27484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2 Part Concep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3419640" y="249408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cde5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 flipH="1">
            <a:off x="4948200" y="249408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1197000"/>
            <a:ext cx="2257560" cy="1012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Part Concep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6227640" y="1917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7b7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349236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92adae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75564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710520" y="27082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5080" y="2709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5800" y="2774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450864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未知"/>
          <p:cNvSpPr/>
          <p:nvPr/>
        </p:nvSpPr>
        <p:spPr>
          <a:xfrm>
            <a:off x="974880" y="141300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1966b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03640" y="3429000"/>
            <a:ext cx="2181240" cy="2376000"/>
            <a:chOff x="3203640" y="3429000"/>
            <a:chExt cx="2181240" cy="2376000"/>
          </a:xfrm>
        </p:grpSpPr>
        <p:sp>
          <p:nvSpPr>
            <p:cNvPr id="120" name=""/>
            <p:cNvSpPr/>
            <p:nvPr/>
          </p:nvSpPr>
          <p:spPr>
            <a:xfrm>
              <a:off x="3203640" y="488268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00480" y="342900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26400" y="3439440"/>
              <a:ext cx="1938600" cy="193896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6560" y="3458520"/>
              <a:ext cx="1844640" cy="181188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3480" y="3510000"/>
              <a:ext cx="1640520" cy="146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3934080" y="398664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87440" y="2852640"/>
            <a:ext cx="1744560" cy="1900080"/>
            <a:chOff x="1387440" y="2852640"/>
            <a:chExt cx="1744560" cy="1900080"/>
          </a:xfrm>
        </p:grpSpPr>
        <p:sp>
          <p:nvSpPr>
            <p:cNvPr id="127" name=""/>
            <p:cNvSpPr/>
            <p:nvPr/>
          </p:nvSpPr>
          <p:spPr>
            <a:xfrm>
              <a:off x="1387440" y="401508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4840" y="2852640"/>
              <a:ext cx="1589040" cy="15894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85720" y="286092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01920" y="2876400"/>
              <a:ext cx="1475280" cy="144900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7240" y="291744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90680" y="1413000"/>
            <a:ext cx="1309680" cy="1425240"/>
            <a:chOff x="1390680" y="1413000"/>
            <a:chExt cx="1309680" cy="1425240"/>
          </a:xfrm>
        </p:grpSpPr>
        <p:sp>
          <p:nvSpPr>
            <p:cNvPr id="133" name=""/>
            <p:cNvSpPr/>
            <p:nvPr/>
          </p:nvSpPr>
          <p:spPr>
            <a:xfrm>
              <a:off x="1390680" y="228492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9000" y="141300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4120" y="141912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143064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0800" y="146160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01800" y="907920"/>
            <a:ext cx="871560" cy="949320"/>
            <a:chOff x="2701800" y="907920"/>
            <a:chExt cx="871560" cy="949320"/>
          </a:xfrm>
        </p:grpSpPr>
        <p:sp>
          <p:nvSpPr>
            <p:cNvPr id="139" name=""/>
            <p:cNvSpPr/>
            <p:nvPr/>
          </p:nvSpPr>
          <p:spPr>
            <a:xfrm>
              <a:off x="2701800" y="148860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0320" y="90792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0760" y="91188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9040" y="91980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01520" y="94032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rot="16200000">
            <a:off x="1933560" y="323532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787040" y="170028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934360" y="109152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853320" y="194004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740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9254000">
            <a:off x="4932000" y="2349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851200">
            <a:off x="4932720" y="4220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3646400">
            <a:off x="3456720" y="23846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7687200">
            <a:off x="3528000" y="4328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3284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987280" y="33195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557360"/>
            <a:ext cx="3743280" cy="3744720"/>
          </a:xfrm>
          <a:prstGeom prst="ellipse">
            <a:avLst/>
          </a:pr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92440" y="2484360"/>
            <a:ext cx="1946520" cy="1949400"/>
            <a:chOff x="3592440" y="2484360"/>
            <a:chExt cx="1946520" cy="1949400"/>
          </a:xfrm>
        </p:grpSpPr>
        <p:sp>
          <p:nvSpPr>
            <p:cNvPr id="158" name=""/>
            <p:cNvSpPr/>
            <p:nvPr/>
          </p:nvSpPr>
          <p:spPr>
            <a:xfrm>
              <a:off x="3592440" y="248436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2440" y="248436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9880" y="261180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9880" y="261180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4480" y="269676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4040" y="32846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79120" y="50846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0" y="501336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480" y="3268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50760" y="14130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38400" y="148428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8000" y="321300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3294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773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844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321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65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4797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92360" y="213192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1413000"/>
            <a:ext cx="504036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d1d3"/>
              </a:gs>
              <a:gs pos="50000">
                <a:srgbClr val="fefefe"/>
              </a:gs>
              <a:gs pos="100000">
                <a:srgbClr val="c1d1d3"/>
              </a:gs>
            </a:gsLst>
            <a:lin ang="10800000"/>
          </a:gradFill>
          <a:ln w="2844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f71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14920" y="4005360"/>
            <a:ext cx="1512720" cy="1511280"/>
            <a:chOff x="4714920" y="4005360"/>
            <a:chExt cx="1512720" cy="1511280"/>
          </a:xfrm>
        </p:grpSpPr>
        <p:sp>
          <p:nvSpPr>
            <p:cNvPr id="180" name=""/>
            <p:cNvSpPr/>
            <p:nvPr/>
          </p:nvSpPr>
          <p:spPr>
            <a:xfrm>
              <a:off x="471492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492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1392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1392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9800" y="41698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116000" y="4005360"/>
            <a:ext cx="1513080" cy="1511280"/>
            <a:chOff x="1116000" y="4005360"/>
            <a:chExt cx="1513080" cy="1511280"/>
          </a:xfrm>
        </p:grpSpPr>
        <p:sp>
          <p:nvSpPr>
            <p:cNvPr id="186" name=""/>
            <p:cNvSpPr/>
            <p:nvPr/>
          </p:nvSpPr>
          <p:spPr>
            <a:xfrm>
              <a:off x="1116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6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5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5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26200"/>
                </a:gs>
                <a:gs pos="100000">
                  <a:srgbClr val="cc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0880" y="41698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588000" y="4005360"/>
            <a:ext cx="1513080" cy="1511280"/>
            <a:chOff x="6588000" y="4005360"/>
            <a:chExt cx="1513080" cy="1511280"/>
          </a:xfrm>
        </p:grpSpPr>
        <p:sp>
          <p:nvSpPr>
            <p:cNvPr id="192" name=""/>
            <p:cNvSpPr/>
            <p:nvPr/>
          </p:nvSpPr>
          <p:spPr>
            <a:xfrm>
              <a:off x="6588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966b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1966b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7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0d3660"/>
                </a:gs>
                <a:gs pos="50000">
                  <a:srgbClr val="1966b3"/>
                </a:gs>
                <a:gs pos="100000">
                  <a:srgbClr val="0d36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7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0c3156"/>
                </a:gs>
                <a:gs pos="100000">
                  <a:srgbClr val="1966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52880" y="41698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0b2f52"/>
                </a:gs>
                <a:gs pos="100000">
                  <a:srgbClr val="1966b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916360" y="4005360"/>
            <a:ext cx="1512720" cy="1511280"/>
            <a:chOff x="2916360" y="4005360"/>
            <a:chExt cx="1512720" cy="1511280"/>
          </a:xfrm>
        </p:grpSpPr>
        <p:sp>
          <p:nvSpPr>
            <p:cNvPr id="198" name=""/>
            <p:cNvSpPr/>
            <p:nvPr/>
          </p:nvSpPr>
          <p:spPr>
            <a:xfrm>
              <a:off x="291636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1636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1536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536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1240" y="41698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47780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816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972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980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943600" y="216684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1966b3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20500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37920" y="1483920"/>
            <a:ext cx="3979440" cy="3652920"/>
            <a:chOff x="2437920" y="1483920"/>
            <a:chExt cx="3979440" cy="3652920"/>
          </a:xfrm>
        </p:grpSpPr>
        <p:sp>
          <p:nvSpPr>
            <p:cNvPr id="211" name=""/>
            <p:cNvSpPr/>
            <p:nvPr/>
          </p:nvSpPr>
          <p:spPr>
            <a:xfrm>
              <a:off x="2999520" y="1784880"/>
              <a:ext cx="292068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113f71"/>
                </a:gs>
                <a:gs pos="50000">
                  <a:srgbClr val="e7ecf0"/>
                </a:gs>
                <a:gs pos="100000">
                  <a:srgbClr val="113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 rot="5400000">
              <a:off x="4437360" y="1709640"/>
              <a:ext cx="1436760" cy="1460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 rot="7200000">
              <a:off x="4707000" y="2168280"/>
              <a:ext cx="1436760" cy="1460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00000">
              <a:off x="4766400" y="3249360"/>
              <a:ext cx="1233000" cy="781560"/>
            </a:xfrm>
            <a:prstGeom prst="triangle">
              <a:avLst>
                <a:gd name="adj" fmla="val 50000"/>
              </a:avLst>
            </a:pr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164400" y="3160440"/>
              <a:ext cx="2516040" cy="1976400"/>
              <a:chOff x="3164400" y="3160440"/>
              <a:chExt cx="2516040" cy="1976400"/>
            </a:xfrm>
          </p:grpSpPr>
          <p:sp>
            <p:nvSpPr>
              <p:cNvPr id="216" name="未知"/>
              <p:cNvSpPr/>
              <p:nvPr/>
            </p:nvSpPr>
            <p:spPr>
              <a:xfrm rot="12600000">
                <a:off x="3960360" y="3428640"/>
                <a:ext cx="145764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5aa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14400000">
                <a:off x="3437280" y="3417120"/>
                <a:ext cx="1436760" cy="14608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4e5e"/>
                  </a:gs>
                  <a:gs pos="100000">
                    <a:srgbClr val="5aabcc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rot="9000000">
              <a:off x="2928240" y="3429000"/>
              <a:ext cx="123300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7920" y="1721880"/>
              <a:ext cx="1986120" cy="2166120"/>
              <a:chOff x="2437920" y="1721880"/>
              <a:chExt cx="1986120" cy="2166120"/>
            </a:xfrm>
          </p:grpSpPr>
          <p:sp>
            <p:nvSpPr>
              <p:cNvPr id="220" name="未知"/>
              <p:cNvSpPr/>
              <p:nvPr/>
            </p:nvSpPr>
            <p:spPr>
              <a:xfrm rot="19800000">
                <a:off x="2700360" y="2178720"/>
                <a:ext cx="145728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966400" y="1721880"/>
                <a:ext cx="14576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rot="16200000">
              <a:off x="3639960" y="1694160"/>
              <a:ext cx="1215720" cy="794880"/>
            </a:xfrm>
            <a:prstGeom prst="triangle">
              <a:avLst>
                <a:gd name="adj" fmla="val 5000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46560" y="501336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113f71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8:01:14Z</dcterms:created>
  <dc:creator>http://www.eeppt.com</dc:creator>
  <dc:description>ppt模板下载网站 http://www.eeppt.com</dc:description>
  <dc:language>en-US</dc:language>
  <cp:lastModifiedBy/>
  <dcterms:modified xsi:type="dcterms:W3CDTF">2015-06-14T06:06:42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