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3156-37AA-48B0-B51D-BCE4E9280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D74F-E7D5-45D0-BFB5-04E514626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0AF8-D408-4506-B62E-FBC339BB5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6B6E-97ED-47BA-977B-B22A20719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2676-CC1E-4CE6-B80E-1F615E8C8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408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0600" y="39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FBDF-F7D2-483D-8E88-633A2ACEA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F949-07CF-49DE-9032-3D4E23207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7FD0-6BA8-4E97-80FD-9728F6397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9D2E-CAF5-47FA-BA8D-A924FCB08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0732-227D-4A4B-8E67-392E025F4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9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6230-8E6C-45D4-866B-D3F74E3AF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8271-3923-4754-9EC5-19B342C06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1064880"/>
            <a:ext cx="9144000" cy="87120"/>
          </a:xfrm>
          <a:prstGeom prst="rect">
            <a:avLst/>
          </a:prstGeom>
          <a:solidFill>
            <a:srgbClr val="8aa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1096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a3b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480-5B5A-4E2A-B725-FB5FBD0B8EC0}" type="slidenum">
              <a:rPr b="1" lang="en-US" sz="14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885080" y="620640"/>
            <a:ext cx="958680" cy="976320"/>
            <a:chOff x="7885080" y="620640"/>
            <a:chExt cx="958680" cy="976320"/>
          </a:xfrm>
        </p:grpSpPr>
        <p:sp>
          <p:nvSpPr>
            <p:cNvPr id="9" name=""/>
            <p:cNvSpPr/>
            <p:nvPr/>
          </p:nvSpPr>
          <p:spPr>
            <a:xfrm>
              <a:off x="7885080" y="62064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7924680" y="684000"/>
              <a:ext cx="86688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86364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61680"/>
            <a:ext cx="8001000" cy="68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60080" y="5789520"/>
            <a:ext cx="122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812000" y="1012680"/>
            <a:ext cx="958680" cy="976320"/>
            <a:chOff x="7812000" y="1012680"/>
            <a:chExt cx="958680" cy="976320"/>
          </a:xfrm>
        </p:grpSpPr>
        <p:sp>
          <p:nvSpPr>
            <p:cNvPr id="51" name=""/>
            <p:cNvSpPr/>
            <p:nvPr/>
          </p:nvSpPr>
          <p:spPr>
            <a:xfrm>
              <a:off x="7812000" y="1012680"/>
              <a:ext cx="958680" cy="9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858080" y="1066680"/>
              <a:ext cx="86688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6960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Verdana"/>
              </a:rPr>
              <a:t>蓝色商务</a:t>
            </a:r>
            <a:r>
              <a:rPr b="1" lang="zh-CN" sz="4400" spc="-1" strike="noStrike">
                <a:solidFill>
                  <a:srgbClr val="dddddd"/>
                </a:solidFill>
                <a:latin typeface="Verdana"/>
                <a:ea typeface="宋体"/>
              </a:rPr>
              <a:t>PPT</a:t>
            </a:r>
            <a:r>
              <a:rPr b="1" lang="en-US" sz="4400" spc="-1" strike="noStrike">
                <a:solidFill>
                  <a:srgbClr val="dddddd"/>
                </a:solidFill>
                <a:latin typeface="Verdana"/>
              </a:rPr>
              <a:t>模板完整版下载</a:t>
            </a:r>
            <a:endParaRPr b="1" lang="en-US" sz="4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4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aa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a3b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a3b1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a3b1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c1f10"/>
                </a:gs>
                <a:gs pos="50000">
                  <a:srgbClr val="ca3b1e"/>
                </a:gs>
                <a:gs pos="100000">
                  <a:srgbClr val="6c1f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ca3b1e">
                    <a:alpha val="0"/>
                  </a:srgbClr>
                </a:gs>
                <a:gs pos="100000">
                  <a:srgbClr val="7f25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33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33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1b52"/>
                </a:gs>
                <a:gs pos="50000">
                  <a:srgbClr val="003399"/>
                </a:gs>
                <a:gs pos="100000">
                  <a:srgbClr val="001b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3399">
                    <a:alpha val="0"/>
                  </a:srgbClr>
                </a:gs>
                <a:gs pos="100000">
                  <a:srgbClr val="002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0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aec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f505e"/>
                </a:gs>
                <a:gs pos="100000">
                  <a:srgbClr val="8aaec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5d6f"/>
                </a:gs>
                <a:gs pos="50000">
                  <a:srgbClr val="8aaece"/>
                </a:gs>
                <a:gs pos="100000">
                  <a:srgbClr val="4a5d6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aaece">
                    <a:alpha val="0"/>
                  </a:srgbClr>
                </a:gs>
                <a:gs pos="100000">
                  <a:srgbClr val="576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0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1371600" y="1222200"/>
            <a:ext cx="5715000" cy="5330880"/>
            <a:chOff x="1371600" y="1222200"/>
            <a:chExt cx="5715000" cy="5330880"/>
          </a:xfrm>
        </p:grpSpPr>
        <p:sp>
          <p:nvSpPr>
            <p:cNvPr id="293" name=""/>
            <p:cNvSpPr/>
            <p:nvPr/>
          </p:nvSpPr>
          <p:spPr>
            <a:xfrm rot="13770000">
              <a:off x="4707000" y="38095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0856000">
              <a:off x="2679480" y="33267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394200">
              <a:off x="4842000" y="21711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643200" y="2205000"/>
              <a:ext cx="1652760" cy="1684080"/>
              <a:chOff x="3643200" y="2205000"/>
              <a:chExt cx="1652760" cy="168408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643200" y="2205000"/>
                <a:ext cx="1652760" cy="1684080"/>
                <a:chOff x="3643200" y="2205000"/>
                <a:chExt cx="1652760" cy="16840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643200" y="22050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99"/>
                    </a:gs>
                    <a:gs pos="100000">
                      <a:srgbClr val="000c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3831840" y="22327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750120" y="29372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089680" y="1222200"/>
              <a:ext cx="925200" cy="912960"/>
              <a:chOff x="5089680" y="1222200"/>
              <a:chExt cx="925200" cy="9129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5089680" y="1222200"/>
                <a:ext cx="894600" cy="912960"/>
                <a:chOff x="5089680" y="1222200"/>
                <a:chExt cx="894600" cy="912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089680" y="12222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aece"/>
                    </a:gs>
                    <a:gs pos="100000">
                      <a:srgbClr val="212a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5191920" y="12373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ae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105520" y="15728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371600" y="2555640"/>
              <a:ext cx="1790640" cy="1895400"/>
              <a:chOff x="1371600" y="2555640"/>
              <a:chExt cx="1790640" cy="1895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371600" y="2555640"/>
                <a:ext cx="1790640" cy="1895400"/>
                <a:chOff x="1371600" y="2555640"/>
                <a:chExt cx="1790640" cy="1895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371600" y="25556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6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1576080" y="25869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1487880" y="3398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021280" y="3958920"/>
              <a:ext cx="2065320" cy="2105280"/>
              <a:chOff x="5021280" y="3958920"/>
              <a:chExt cx="2065320" cy="210528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5021280" y="3958920"/>
                <a:ext cx="2065320" cy="2105280"/>
                <a:chOff x="5021280" y="3958920"/>
                <a:chExt cx="2065320" cy="2105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021280" y="39589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671e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5257080" y="39938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a3b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5336280" y="48711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577880" y="45208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81440" y="38923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65800" y="60642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27560" y="22050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6400800"/>
            <a:ext cx="6037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a3b1e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943560" y="1828800"/>
            <a:ext cx="7282440" cy="3770280"/>
            <a:chOff x="943560" y="1828800"/>
            <a:chExt cx="7282440" cy="3770280"/>
          </a:xfrm>
        </p:grpSpPr>
        <p:sp>
          <p:nvSpPr>
            <p:cNvPr id="324" name=""/>
            <p:cNvSpPr/>
            <p:nvPr/>
          </p:nvSpPr>
          <p:spPr>
            <a:xfrm rot="17973000">
              <a:off x="47523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3465600">
              <a:off x="48027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4368800">
              <a:off x="35838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7534800">
              <a:off x="35456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48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29746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aa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56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470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579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4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470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435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6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527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671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22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12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722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866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cc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57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a3b1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404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ca3b1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466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c1f10"/>
                </a:gs>
                <a:gs pos="50000">
                  <a:srgbClr val="ca3b1e"/>
                </a:gs>
                <a:gs pos="100000">
                  <a:srgbClr val="6c1f1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433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ca3b1e">
                    <a:alpha val="0"/>
                  </a:srgbClr>
                </a:gs>
                <a:gs pos="100000">
                  <a:srgbClr val="7f25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11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2000" y="3087720"/>
              <a:ext cx="1290600" cy="1278000"/>
              <a:chOff x="3942000" y="3087720"/>
              <a:chExt cx="1290600" cy="1278000"/>
            </a:xfrm>
          </p:grpSpPr>
          <p:sp>
            <p:nvSpPr>
              <p:cNvPr id="349" name=""/>
              <p:cNvSpPr/>
              <p:nvPr/>
            </p:nvSpPr>
            <p:spPr>
              <a:xfrm>
                <a:off x="39420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585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718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417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42051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6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3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1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5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0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0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7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10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3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8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31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4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8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492" name=""/>
              <p:cNvCxnSpPr>
                <a:stCxn id="488" idx="3"/>
                <a:endCxn id="489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"/>
              <p:cNvCxnSpPr>
                <a:stCxn id="489" idx="3"/>
                <a:endCxn id="490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7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aaece"/>
                  </a:gs>
                  <a:gs pos="100000">
                    <a:srgbClr val="5f788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d2e3"/>
                  </a:gs>
                  <a:gs pos="50000">
                    <a:srgbClr val="8aaece">
                      <a:alpha val="0"/>
                    </a:srgbClr>
                  </a:gs>
                  <a:gs pos="100000">
                    <a:srgbClr val="bed2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4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6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7705b"/>
                  </a:gs>
                  <a:gs pos="100000">
                    <a:srgbClr val="ca3b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3b1e">
                      <a:alpha val="0"/>
                    </a:srgbClr>
                  </a:gs>
                  <a:gs pos="100000">
                    <a:srgbClr val="e7ab9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11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3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c7cbd"/>
                  </a:gs>
                  <a:gs pos="100000">
                    <a:srgbClr val="00339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>
                      <a:alpha val="0"/>
                    </a:srgbClr>
                  </a:gs>
                  <a:gs pos="100000">
                    <a:srgbClr val="829b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5d1b0d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aaece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5d1b0d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aaece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5200" y="2392200"/>
          <a:ext cx="7397640" cy="319896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9760"/>
                <a:gridCol w="1146240"/>
                <a:gridCol w="113796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8aaec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4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da7b68"/>
                </a:gs>
                <a:gs pos="100000">
                  <a:srgbClr val="ca3b1e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53697c"/>
                </a:gs>
                <a:gs pos="100000">
                  <a:srgbClr val="8aaec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53"/>
                </a:gs>
                <a:gs pos="100000">
                  <a:srgbClr val="00999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66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1e5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0858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914400" y="1600200"/>
            <a:ext cx="7391160" cy="4724280"/>
            <a:chOff x="914400" y="1600200"/>
            <a:chExt cx="7391160" cy="4724280"/>
          </a:xfrm>
        </p:grpSpPr>
        <p:sp>
          <p:nvSpPr>
            <p:cNvPr id="576" name=""/>
            <p:cNvSpPr/>
            <p:nvPr/>
          </p:nvSpPr>
          <p:spPr>
            <a:xfrm>
              <a:off x="1905120" y="236232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38280" y="160020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5c5c"/>
                </a:gs>
                <a:gs pos="50000">
                  <a:srgbClr val="009999"/>
                </a:gs>
                <a:gs pos="100000">
                  <a:srgbClr val="005c5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18440" y="29718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914400" y="4235400"/>
              <a:ext cx="1486080" cy="1989000"/>
              <a:chOff x="914400" y="4235400"/>
              <a:chExt cx="1486080" cy="19890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914400" y="4235400"/>
                  <a:ext cx="1486080" cy="1514520"/>
                  <a:chOff x="914400" y="4235400"/>
                  <a:chExt cx="1486080" cy="151452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914400" y="423540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99"/>
                      </a:gs>
                      <a:gs pos="100000">
                        <a:srgbClr val="006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未知"/>
                  <p:cNvSpPr/>
                  <p:nvPr/>
                </p:nvSpPr>
                <p:spPr>
                  <a:xfrm>
                    <a:off x="1084320" y="426024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1072440" y="50065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1066680" y="583560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781680" y="4191120"/>
              <a:ext cx="1523880" cy="2066760"/>
              <a:chOff x="6781680" y="4191120"/>
              <a:chExt cx="1523880" cy="2066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781680" y="4191120"/>
                <a:ext cx="1523880" cy="1531800"/>
                <a:chOff x="6781680" y="4191120"/>
                <a:chExt cx="1523880" cy="153180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6781680" y="4191120"/>
                  <a:ext cx="1523880" cy="1531800"/>
                  <a:chOff x="6781680" y="4191120"/>
                  <a:chExt cx="1523880" cy="153180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6781680" y="419112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99"/>
                      </a:gs>
                      <a:gs pos="100000">
                        <a:srgbClr val="000c2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未知"/>
                  <p:cNvSpPr/>
                  <p:nvPr/>
                </p:nvSpPr>
                <p:spPr>
                  <a:xfrm>
                    <a:off x="6955920" y="421632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6924600" y="49050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6824520" y="577080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819520" y="4235400"/>
              <a:ext cx="1523880" cy="2089080"/>
              <a:chOff x="2819520" y="4235400"/>
              <a:chExt cx="1523880" cy="208908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2819520" y="4235400"/>
                <a:ext cx="1523880" cy="1521000"/>
                <a:chOff x="2819520" y="4235400"/>
                <a:chExt cx="1523880" cy="15210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819520" y="4235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671e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6" name="未知"/>
                <p:cNvSpPr/>
                <p:nvPr/>
              </p:nvSpPr>
              <p:spPr>
                <a:xfrm>
                  <a:off x="2993760" y="4260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a3b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895840" y="4965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19520" y="5835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876920" y="4191120"/>
              <a:ext cx="1523880" cy="2089080"/>
              <a:chOff x="4876920" y="4191120"/>
              <a:chExt cx="1523880" cy="208908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4876920" y="4191120"/>
                <a:ext cx="1523880" cy="1521000"/>
                <a:chOff x="4876920" y="4191120"/>
                <a:chExt cx="1523880" cy="1521000"/>
              </a:xfrm>
            </p:grpSpPr>
            <p:grpSp>
              <p:nvGrpSpPr>
                <p:cNvPr id="601" name=""/>
                <p:cNvGrpSpPr/>
                <p:nvPr/>
              </p:nvGrpSpPr>
              <p:grpSpPr>
                <a:xfrm>
                  <a:off x="4876920" y="4191120"/>
                  <a:ext cx="1523880" cy="1521000"/>
                  <a:chOff x="4876920" y="4191120"/>
                  <a:chExt cx="1523880" cy="152100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4876920" y="419112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aece"/>
                      </a:gs>
                      <a:gs pos="100000">
                        <a:srgbClr val="4659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未知"/>
                  <p:cNvSpPr/>
                  <p:nvPr/>
                </p:nvSpPr>
                <p:spPr>
                  <a:xfrm>
                    <a:off x="5051160" y="421632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8aaec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"/>
                <p:cNvSpPr/>
                <p:nvPr/>
              </p:nvSpPr>
              <p:spPr>
                <a:xfrm>
                  <a:off x="4953240" y="492120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876920" y="5791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680" y="165240"/>
            <a:ext cx="9004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c8e8e8"/>
                </a:gs>
                <a:gs pos="100000">
                  <a:srgbClr val="0099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aece"/>
                </a:gs>
                <a:gs pos="50000">
                  <a:srgbClr val="e5ecf3"/>
                </a:gs>
                <a:gs pos="100000">
                  <a:srgbClr val="8aaec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aaec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3b1e"/>
                </a:gs>
                <a:gs pos="50000">
                  <a:srgbClr val="f2d4ce"/>
                </a:gs>
                <a:gs pos="100000">
                  <a:srgbClr val="ca3b1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ca3b1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c8d2e8"/>
                </a:gs>
                <a:gs pos="100000">
                  <a:srgbClr val="00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33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1600200" y="1600200"/>
            <a:ext cx="5506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aaece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aaece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2285640" y="2666520"/>
            <a:ext cx="4071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a3b1e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F056-4E01-483E-9FFD-325AF050CD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a3b1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a3b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 the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View]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enu, point to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Master],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d then click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Slide Master]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[Notes Master].</a:t>
            </a:r>
            <a:r>
              <a:rPr b="1" lang="en-US" sz="29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hange images to the one you like, then it will apply to all the other slid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9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1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b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3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1c0e"/>
                    </a:gs>
                    <a:gs pos="100000">
                      <a:srgbClr val="ca3b1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3b1e"/>
                    </a:gs>
                    <a:gs pos="100000">
                      <a:srgbClr val="e6a79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aaece"/>
                  </a:gs>
                  <a:gs pos="100000">
                    <a:srgbClr val="3f50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1ec"/>
                  </a:gs>
                  <a:gs pos="100000">
                    <a:srgbClr val="8aaec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aaece">
                      <a:alpha val="48235"/>
                    </a:srgbClr>
                  </a:gs>
                  <a:gs pos="100000">
                    <a:srgbClr val="6c89a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aaec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3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dbfb6"/>
              </a:gs>
              <a:gs pos="100000">
                <a:srgbClr val="ca3b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8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ca3b1e"/>
                </a:gs>
                <a:gs pos="100000">
                  <a:srgbClr val="4514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aaece"/>
                </a:gs>
                <a:gs pos="100000">
                  <a:srgbClr val="2b36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11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5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5d1b0d"/>
                </a:gs>
                <a:gs pos="50000">
                  <a:srgbClr val="ca3b1e"/>
                </a:gs>
                <a:gs pos="100000">
                  <a:srgbClr val="5d1b0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5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6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ca3b1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6c1f10"/>
                  </a:gs>
                  <a:gs pos="50000">
                    <a:srgbClr val="ca3b1e"/>
                  </a:gs>
                  <a:gs pos="100000">
                    <a:srgbClr val="6c1f1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05e"/>
                </a:gs>
                <a:gs pos="50000">
                  <a:srgbClr val="8aaece"/>
                </a:gs>
                <a:gs pos="100000">
                  <a:srgbClr val="3f50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15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1b0d"/>
                  </a:gs>
                  <a:gs pos="50000">
                    <a:srgbClr val="ca3b1e"/>
                  </a:gs>
                  <a:gs pos="100000">
                    <a:srgbClr val="5d1b0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ca3b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505e"/>
                  </a:gs>
                  <a:gs pos="50000">
                    <a:srgbClr val="8aaece"/>
                  </a:gs>
                  <a:gs pos="100000">
                    <a:srgbClr val="3f50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aa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6e"/>
                  </a:gs>
                  <a:gs pos="50000">
                    <a:srgbClr val="009999"/>
                  </a:gs>
                  <a:gs pos="100000">
                    <a:srgbClr val="006e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912a15"/>
                  </a:gs>
                  <a:gs pos="50000">
                    <a:srgbClr val="ca3b1e"/>
                  </a:gs>
                  <a:gs pos="100000">
                    <a:srgbClr val="912a1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00246e"/>
                  </a:gs>
                  <a:gs pos="50000">
                    <a:srgbClr val="003399"/>
                  </a:gs>
                  <a:gs pos="100000">
                    <a:srgbClr val="00246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37d94"/>
                  </a:gs>
                  <a:gs pos="50000">
                    <a:srgbClr val="8aaece"/>
                  </a:gs>
                  <a:gs pos="100000">
                    <a:srgbClr val="637d9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0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a3b1e"/>
                </a:gs>
                <a:gs pos="100000">
                  <a:srgbClr val="cd4c3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a3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1b0d"/>
                </a:gs>
                <a:gs pos="50000">
                  <a:srgbClr val="ca3b1e"/>
                </a:gs>
                <a:gs pos="100000">
                  <a:srgbClr val="5d1b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b88c3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3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133b"/>
                  </a:gs>
                  <a:gs pos="50000">
                    <a:srgbClr val="003399"/>
                  </a:gs>
                  <a:gs pos="100000">
                    <a:srgbClr val="0013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08588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6:09:12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