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E4C87-40A0-4E61-B713-13A1C1CE49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1835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6D9D-67AB-48BA-8129-D028B9C1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076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DA79-EA13-45A2-A235-A8A0D762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300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284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300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284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839F-FD0E-4797-B339-42326A5DF3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4B0CE-83B5-486F-A56B-44A34620B6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A2C0D-D604-4DD2-8131-7C4470A0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DBC2E-92E6-43F1-A18E-8A28C6A7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38085-4C76-41CD-8962-F0AD3334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D0006-B4EF-4CF8-82AE-9BFE6FD0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45720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489FF-6175-477A-B3A2-B5AF060A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FD0BB-826A-41A2-8BB3-5C8A4A93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71B6-0D76-4402-AB89-7DC4D7D6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076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2C1EA-27F0-43AE-82EC-5DB9E864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58C0D-9484-4F49-A387-39E273B0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1835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30740-E6F7-4F36-82BC-9F8EDA16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3076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8C8A0-F2EF-42B6-ADB4-A96DD860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300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284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300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284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CD2DD-94BD-4120-8AC3-C93E7A4913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25BA-8E70-466D-BF78-C59A81F4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54192-E2E6-48D4-AD51-F357F40F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D818-450C-436A-8D67-E14DBB99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45720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CEDE-0D17-440D-AF95-68AA8F5C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52598-C618-4092-B8A7-128509B9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076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0650-37EB-4B92-A602-0CEBAFA8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4F20-4F34-426A-8287-1DD728AC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191120" y="653400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6809-4E40-443C-AF51-2B28C37691B7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1" descr="arrow"/>
          <p:cNvPicPr/>
          <p:nvPr/>
        </p:nvPicPr>
        <p:blipFill>
          <a:blip r:embed="rId3"/>
          <a:stretch/>
        </p:blipFill>
        <p:spPr>
          <a:xfrm>
            <a:off x="8238960" y="4478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228600" y="15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c0c0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3505320" y="640044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954A-F3BB-4853-A1A5-63944B422C3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77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蓝色手影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6" descr="arrow"/>
          <p:cNvPicPr/>
          <p:nvPr/>
        </p:nvPicPr>
        <p:blipFill>
          <a:blip r:embed="rId2"/>
          <a:stretch/>
        </p:blipFill>
        <p:spPr>
          <a:xfrm>
            <a:off x="2362320" y="9525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c1c1ff">
                  <a:alpha val="12156"/>
                </a:srgbClr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c2db9d"/>
              </a:gs>
              <a:gs pos="100000">
                <a:srgbClr val="93c05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afe"/>
              </a:gs>
              <a:gs pos="100000">
                <a:srgbClr val="4ea7ea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fd"/>
              </a:gs>
              <a:gs pos="100000">
                <a:srgbClr val="855ada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afe"/>
              </a:gs>
              <a:gs pos="100000">
                <a:srgbClr val="4ea7ea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fd"/>
              </a:gs>
              <a:gs pos="100000">
                <a:srgbClr val="855ada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afe"/>
              </a:gs>
              <a:gs pos="100000">
                <a:srgbClr val="4ea7ea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114300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ea7ea"/>
              </a:gs>
              <a:gs pos="100000">
                <a:srgbClr val="9999f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2"/>
          <p:cNvSpPr/>
          <p:nvPr/>
        </p:nvSpPr>
        <p:spPr>
          <a:xfrm>
            <a:off x="6095880" y="3595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4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5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6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7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38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9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40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75" name="Oval 42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43"/>
            <p:cNvSpPr/>
            <p:nvPr/>
          </p:nvSpPr>
          <p:spPr>
            <a:xfrm>
              <a:off x="1415160" y="33800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44"/>
            <p:cNvSpPr/>
            <p:nvPr/>
          </p:nvSpPr>
          <p:spPr>
            <a:xfrm>
              <a:off x="1428120" y="33933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45"/>
            <p:cNvSpPr/>
            <p:nvPr/>
          </p:nvSpPr>
          <p:spPr>
            <a:xfrm>
              <a:off x="1499760" y="34300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46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Oval 47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48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49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50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51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2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53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54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5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56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57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8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Freeform 3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d7d7d7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75520" y="2018880"/>
            <a:ext cx="4125960" cy="3931560"/>
            <a:chOff x="875520" y="2018880"/>
            <a:chExt cx="4125960" cy="3931560"/>
          </a:xfrm>
        </p:grpSpPr>
        <p:sp>
          <p:nvSpPr>
            <p:cNvPr id="295" name="AutoShape 5"/>
            <p:cNvSpPr/>
            <p:nvPr/>
          </p:nvSpPr>
          <p:spPr>
            <a:xfrm rot="5433000">
              <a:off x="351000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474776"/>
                </a:gs>
                <a:gs pos="100000">
                  <a:srgbClr val="9999ff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6"/>
            <p:cNvSpPr/>
            <p:nvPr/>
          </p:nvSpPr>
          <p:spPr>
            <a:xfrm rot="5433000">
              <a:off x="2799000" y="2068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93c052"/>
                </a:gs>
                <a:gs pos="50000">
                  <a:srgbClr val="445926"/>
                </a:gs>
                <a:gs pos="100000">
                  <a:srgbClr val="93c052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7"/>
            <p:cNvSpPr/>
            <p:nvPr/>
          </p:nvSpPr>
          <p:spPr>
            <a:xfrm rot="5433000">
              <a:off x="2874960" y="44020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93c052"/>
                </a:gs>
                <a:gs pos="50000">
                  <a:srgbClr val="445926"/>
                </a:gs>
                <a:gs pos="100000">
                  <a:srgbClr val="93c052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8"/>
            <p:cNvSpPr/>
            <p:nvPr/>
          </p:nvSpPr>
          <p:spPr>
            <a:xfrm rot="5400000">
              <a:off x="2167200" y="325440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855ada"/>
                </a:gs>
                <a:gs pos="50000">
                  <a:srgbClr val="3e2a65"/>
                </a:gs>
                <a:gs pos="100000">
                  <a:srgbClr val="855ad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9"/>
            <p:cNvSpPr/>
            <p:nvPr/>
          </p:nvSpPr>
          <p:spPr>
            <a:xfrm rot="5433000">
              <a:off x="1484280" y="21304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474776"/>
                </a:gs>
                <a:gs pos="100000">
                  <a:srgbClr val="9999ff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0"/>
            <p:cNvSpPr/>
            <p:nvPr/>
          </p:nvSpPr>
          <p:spPr>
            <a:xfrm rot="5433000">
              <a:off x="1536840" y="44593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474776"/>
                </a:gs>
                <a:gs pos="100000">
                  <a:srgbClr val="9999ff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11"/>
            <p:cNvSpPr/>
            <p:nvPr/>
          </p:nvSpPr>
          <p:spPr>
            <a:xfrm rot="5433000">
              <a:off x="839880" y="3319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93c052"/>
                </a:gs>
                <a:gs pos="50000">
                  <a:srgbClr val="445926"/>
                </a:gs>
                <a:gs pos="100000">
                  <a:srgbClr val="93c052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12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3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306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d8755a"/>
                </a:gs>
                <a:gs pos="50000">
                  <a:srgbClr val="ffffff"/>
                </a:gs>
                <a:gs pos="100000">
                  <a:srgbClr val="d875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8755a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d8755a"/>
                </a:gs>
                <a:gs pos="50000">
                  <a:srgbClr val="753f31"/>
                </a:gs>
                <a:gs pos="100000">
                  <a:srgbClr val="d875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0"/>
                  </a:srgbClr>
                </a:gs>
                <a:gs pos="100000">
                  <a:srgbClr val="894a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312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Oval 11"/>
              <p:cNvSpPr/>
              <p:nvPr/>
            </p:nvSpPr>
            <p:spPr>
              <a:xfrm>
                <a:off x="3800520" y="2055960"/>
                <a:ext cx="174312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2895480" y="2743200"/>
            <a:ext cx="3580920" cy="1904040"/>
            <a:chOff x="2895480" y="2743200"/>
            <a:chExt cx="3580920" cy="1904040"/>
          </a:xfrm>
        </p:grpSpPr>
        <p:sp>
          <p:nvSpPr>
            <p:cNvPr id="317" name="AutoShape 15"/>
            <p:cNvSpPr/>
            <p:nvPr/>
          </p:nvSpPr>
          <p:spPr>
            <a:xfrm rot="10800000">
              <a:off x="5866920" y="274320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ebed4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ebed4"/>
                </a:gs>
                <a:gs pos="100000">
                  <a:srgbClr val="666699"/>
                </a:gs>
              </a:gsLst>
              <a:lin ang="144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17"/>
            <p:cNvSpPr/>
            <p:nvPr/>
          </p:nvSpPr>
          <p:spPr>
            <a:xfrm>
              <a:off x="2895480" y="274320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ebed4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ebed4"/>
                </a:gs>
                <a:gs pos="100000">
                  <a:srgbClr val="666699"/>
                </a:gs>
              </a:gsLst>
              <a:lin ang="18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lic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637320" y="2286000"/>
            <a:ext cx="1440000" cy="1440000"/>
            <a:chOff x="6637320" y="2286000"/>
            <a:chExt cx="1440000" cy="1440000"/>
          </a:xfrm>
        </p:grpSpPr>
        <p:sp>
          <p:nvSpPr>
            <p:cNvPr id="323" name="Oval 21"/>
            <p:cNvSpPr/>
            <p:nvPr/>
          </p:nvSpPr>
          <p:spPr>
            <a:xfrm>
              <a:off x="6637320" y="22860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22"/>
            <p:cNvSpPr/>
            <p:nvPr/>
          </p:nvSpPr>
          <p:spPr>
            <a:xfrm>
              <a:off x="6637320" y="22860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23"/>
            <p:cNvSpPr/>
            <p:nvPr/>
          </p:nvSpPr>
          <p:spPr>
            <a:xfrm>
              <a:off x="6732720" y="23796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24"/>
            <p:cNvSpPr/>
            <p:nvPr/>
          </p:nvSpPr>
          <p:spPr>
            <a:xfrm>
              <a:off x="6732720" y="23828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25"/>
            <p:cNvSpPr/>
            <p:nvPr/>
          </p:nvSpPr>
          <p:spPr>
            <a:xfrm>
              <a:off x="6794640" y="24433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6811920" y="2460600"/>
              <a:ext cx="1090800" cy="1092240"/>
              <a:chOff x="6811920" y="2460600"/>
              <a:chExt cx="1090800" cy="1092240"/>
            </a:xfrm>
          </p:grpSpPr>
          <p:sp>
            <p:nvSpPr>
              <p:cNvPr id="329" name="Oval 27"/>
              <p:cNvSpPr/>
              <p:nvPr/>
            </p:nvSpPr>
            <p:spPr>
              <a:xfrm>
                <a:off x="6811920" y="24606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29"/>
              <p:cNvSpPr/>
              <p:nvPr/>
            </p:nvSpPr>
            <p:spPr>
              <a:xfrm>
                <a:off x="6837120" y="24771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Oval 30"/>
              <p:cNvSpPr/>
              <p:nvPr/>
            </p:nvSpPr>
            <p:spPr>
              <a:xfrm>
                <a:off x="6896160" y="25048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Text Box 31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257800" y="4495680"/>
            <a:ext cx="1444680" cy="1523880"/>
            <a:chOff x="5257800" y="4495680"/>
            <a:chExt cx="1444680" cy="1523880"/>
          </a:xfrm>
        </p:grpSpPr>
        <p:sp>
          <p:nvSpPr>
            <p:cNvPr id="335" name="Oval 33"/>
            <p:cNvSpPr/>
            <p:nvPr/>
          </p:nvSpPr>
          <p:spPr>
            <a:xfrm>
              <a:off x="5257800" y="4495680"/>
              <a:ext cx="1444680" cy="152388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ffffff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34"/>
            <p:cNvSpPr/>
            <p:nvPr/>
          </p:nvSpPr>
          <p:spPr>
            <a:xfrm>
              <a:off x="5257800" y="4495680"/>
              <a:ext cx="1444680" cy="1523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6699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5"/>
            <p:cNvSpPr/>
            <p:nvPr/>
          </p:nvSpPr>
          <p:spPr>
            <a:xfrm>
              <a:off x="5351400" y="4593960"/>
              <a:ext cx="1257480" cy="132732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8a3753"/>
                </a:gs>
                <a:gs pos="100000">
                  <a:srgbClr val="ff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6"/>
            <p:cNvSpPr/>
            <p:nvPr/>
          </p:nvSpPr>
          <p:spPr>
            <a:xfrm>
              <a:off x="5334120" y="4572000"/>
              <a:ext cx="1255680" cy="132696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0"/>
                  </a:srgbClr>
                </a:gs>
                <a:gs pos="100000">
                  <a:srgbClr val="a241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7"/>
            <p:cNvSpPr/>
            <p:nvPr/>
          </p:nvSpPr>
          <p:spPr>
            <a:xfrm>
              <a:off x="5419800" y="4662360"/>
              <a:ext cx="1130400" cy="119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8"/>
            <p:cNvSpPr/>
            <p:nvPr/>
          </p:nvSpPr>
          <p:spPr>
            <a:xfrm>
              <a:off x="5410080" y="464796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0"/>
            <p:cNvSpPr/>
            <p:nvPr/>
          </p:nvSpPr>
          <p:spPr>
            <a:xfrm>
              <a:off x="5464080" y="4698720"/>
              <a:ext cx="1015920" cy="105264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41"/>
            <p:cNvSpPr/>
            <p:nvPr/>
          </p:nvSpPr>
          <p:spPr>
            <a:xfrm>
              <a:off x="5522760" y="4728960"/>
              <a:ext cx="903600" cy="85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42"/>
            <p:cNvSpPr/>
            <p:nvPr/>
          </p:nvSpPr>
          <p:spPr>
            <a:xfrm>
              <a:off x="5639400" y="50893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346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ffffff"/>
                </a:gs>
                <a:gs pos="100000">
                  <a:srgbClr val="00cc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006e37"/>
                </a:gs>
                <a:gs pos="100000">
                  <a:srgbClr val="00cc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47"/>
            <p:cNvSpPr/>
            <p:nvPr/>
          </p:nvSpPr>
          <p:spPr>
            <a:xfrm>
              <a:off x="1390680" y="2385000"/>
              <a:ext cx="1256760" cy="1325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24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8"/>
            <p:cNvSpPr/>
            <p:nvPr/>
          </p:nvSpPr>
          <p:spPr>
            <a:xfrm>
              <a:off x="1458000" y="245232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49"/>
            <p:cNvSpPr/>
            <p:nvPr/>
          </p:nvSpPr>
          <p:spPr>
            <a:xfrm>
              <a:off x="1476360" y="2471400"/>
              <a:ext cx="1095840" cy="11545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0"/>
            <p:cNvSpPr/>
            <p:nvPr/>
          </p:nvSpPr>
          <p:spPr>
            <a:xfrm>
              <a:off x="1490040" y="2478600"/>
              <a:ext cx="1068840" cy="112392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51"/>
            <p:cNvSpPr/>
            <p:nvPr/>
          </p:nvSpPr>
          <p:spPr>
            <a:xfrm>
              <a:off x="1501200" y="2489040"/>
              <a:ext cx="101700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53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357" name="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358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50000">
                    <a:srgbClr val="ffffff"/>
                  </a:gs>
                  <a:gs pos="100000">
                    <a:srgbClr val="3965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965e1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58"/>
              <p:cNvSpPr/>
              <p:nvPr/>
            </p:nvSpPr>
            <p:spPr>
              <a:xfrm>
                <a:off x="2688840" y="4591080"/>
                <a:ext cx="1249200" cy="125064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50000">
                    <a:srgbClr val="1f377a"/>
                  </a:gs>
                  <a:gs pos="100000">
                    <a:srgbClr val="3965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Oval 59"/>
              <p:cNvSpPr/>
              <p:nvPr/>
            </p:nvSpPr>
            <p:spPr>
              <a:xfrm>
                <a:off x="2688840" y="4600440"/>
                <a:ext cx="1249200" cy="1251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0"/>
                    </a:srgbClr>
                  </a:gs>
                  <a:gs pos="100000">
                    <a:srgbClr val="2643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Oval 60"/>
              <p:cNvSpPr/>
              <p:nvPr/>
            </p:nvSpPr>
            <p:spPr>
              <a:xfrm>
                <a:off x="2750760" y="4662360"/>
                <a:ext cx="112536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" name=""/>
              <p:cNvGrpSpPr/>
              <p:nvPr/>
            </p:nvGrpSpPr>
            <p:grpSpPr>
              <a:xfrm>
                <a:off x="2779560" y="4676760"/>
                <a:ext cx="1090080" cy="1092240"/>
                <a:chOff x="2779560" y="4676760"/>
                <a:chExt cx="1090080" cy="1092240"/>
              </a:xfrm>
            </p:grpSpPr>
            <p:sp>
              <p:nvSpPr>
                <p:cNvPr id="364" name="Oval 62"/>
                <p:cNvSpPr/>
                <p:nvPr/>
              </p:nvSpPr>
              <p:spPr>
                <a:xfrm>
                  <a:off x="2779560" y="4676760"/>
                  <a:ext cx="109008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63"/>
                <p:cNvSpPr/>
                <p:nvPr/>
              </p:nvSpPr>
              <p:spPr>
                <a:xfrm>
                  <a:off x="2793240" y="4682880"/>
                  <a:ext cx="106380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Oval 64"/>
                <p:cNvSpPr/>
                <p:nvPr/>
              </p:nvSpPr>
              <p:spPr>
                <a:xfrm>
                  <a:off x="2804760" y="4693320"/>
                  <a:ext cx="101160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Oval 65"/>
                <p:cNvSpPr/>
                <p:nvPr/>
              </p:nvSpPr>
              <p:spPr>
                <a:xfrm>
                  <a:off x="2863800" y="4721040"/>
                  <a:ext cx="89928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8" name="Text Box 66"/>
            <p:cNvSpPr/>
            <p:nvPr/>
          </p:nvSpPr>
          <p:spPr>
            <a:xfrm>
              <a:off x="295128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72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375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376" name="Freeform 8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9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379" name="Freeform 11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82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6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7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8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388" name="Oval 20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Oval 21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22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Oval 23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2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393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394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27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397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30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1c538a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1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05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38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10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11" name="Freeform 43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44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14" name="Freeform 46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47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6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17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51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52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53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23" name="Oval 55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56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57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58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28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29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62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32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65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35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69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70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71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41" name="Oval 73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Oval 74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Oval 75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Oval 76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5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454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88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9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8" name="AutoShape 90"/>
            <p:cNvCxnSpPr>
              <a:stCxn id="454" idx="3"/>
              <a:endCxn id="455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  <p:cxnSp>
          <p:nvCxnSpPr>
            <p:cNvPr id="459" name="AutoShape 91"/>
            <p:cNvCxnSpPr>
              <a:stCxn id="455" idx="3"/>
              <a:endCxn id="456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  <p:cxnSp>
          <p:nvCxnSpPr>
            <p:cNvPr id="460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774880" y="2158560"/>
            <a:ext cx="4013640" cy="4249440"/>
            <a:chOff x="2774880" y="2158560"/>
            <a:chExt cx="4013640" cy="4249440"/>
          </a:xfrm>
        </p:grpSpPr>
        <p:sp>
          <p:nvSpPr>
            <p:cNvPr id="463" name="Freeform 35"/>
            <p:cNvSpPr/>
            <p:nvPr/>
          </p:nvSpPr>
          <p:spPr>
            <a:xfrm>
              <a:off x="2782800" y="3495600"/>
              <a:ext cx="1447920" cy="1954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6"/>
            <p:cNvSpPr/>
            <p:nvPr/>
          </p:nvSpPr>
          <p:spPr>
            <a:xfrm rot="7200000">
              <a:off x="4467960" y="240912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4ea7ea"/>
                </a:gs>
                <a:gs pos="100000">
                  <a:srgbClr val="244d6c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2810880" y="2158560"/>
              <a:ext cx="2482920" cy="2629800"/>
              <a:chOff x="2810880" y="2158560"/>
              <a:chExt cx="2482920" cy="2629800"/>
            </a:xfrm>
          </p:grpSpPr>
          <p:sp>
            <p:nvSpPr>
              <p:cNvPr id="466" name="AutoShape 38"/>
              <p:cNvSpPr/>
              <p:nvPr/>
            </p:nvSpPr>
            <p:spPr>
              <a:xfrm rot="12600000">
                <a:off x="2864880" y="386532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4ea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39"/>
              <p:cNvSpPr/>
              <p:nvPr/>
            </p:nvSpPr>
            <p:spPr>
              <a:xfrm rot="7200000">
                <a:off x="3260160" y="3070080"/>
                <a:ext cx="150516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4ea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0"/>
              <p:cNvSpPr/>
              <p:nvPr/>
            </p:nvSpPr>
            <p:spPr>
              <a:xfrm rot="7200000">
                <a:off x="4333320" y="2143080"/>
                <a:ext cx="62244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4ea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Freeform 41"/>
            <p:cNvSpPr/>
            <p:nvPr/>
          </p:nvSpPr>
          <p:spPr>
            <a:xfrm rot="14400000">
              <a:off x="4581720" y="426276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855ada"/>
                </a:gs>
                <a:gs pos="100000">
                  <a:srgbClr val="3e2a65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4615920" y="3038760"/>
              <a:ext cx="2172600" cy="2758320"/>
              <a:chOff x="4615920" y="3038760"/>
              <a:chExt cx="2172600" cy="2758320"/>
            </a:xfrm>
          </p:grpSpPr>
          <p:sp>
            <p:nvSpPr>
              <p:cNvPr id="471" name="AutoShape 43"/>
              <p:cNvSpPr/>
              <p:nvPr/>
            </p:nvSpPr>
            <p:spPr>
              <a:xfrm rot="19800000">
                <a:off x="4670280" y="3357720"/>
                <a:ext cx="1438200" cy="603000"/>
              </a:xfrm>
              <a:prstGeom prst="triangle">
                <a:avLst>
                  <a:gd name="adj" fmla="val 50000"/>
                </a:avLst>
              </a:prstGeom>
              <a:solidFill>
                <a:srgbClr val="855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44"/>
              <p:cNvSpPr/>
              <p:nvPr/>
            </p:nvSpPr>
            <p:spPr>
              <a:xfrm rot="14400000">
                <a:off x="5056560" y="3946320"/>
                <a:ext cx="150444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855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45"/>
              <p:cNvSpPr/>
              <p:nvPr/>
            </p:nvSpPr>
            <p:spPr>
              <a:xfrm rot="14400000">
                <a:off x="5883120" y="4704480"/>
                <a:ext cx="54900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855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2774880" y="4700520"/>
              <a:ext cx="2493360" cy="1395000"/>
              <a:chOff x="2774880" y="4700520"/>
              <a:chExt cx="2493360" cy="1395000"/>
            </a:xfrm>
          </p:grpSpPr>
          <p:sp>
            <p:nvSpPr>
              <p:cNvPr id="475" name="Freeform 47"/>
              <p:cNvSpPr/>
              <p:nvPr/>
            </p:nvSpPr>
            <p:spPr>
              <a:xfrm>
                <a:off x="2774880" y="4700520"/>
                <a:ext cx="582480" cy="110340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AutoShape 48"/>
              <p:cNvSpPr/>
              <p:nvPr/>
            </p:nvSpPr>
            <p:spPr>
              <a:xfrm rot="5400000">
                <a:off x="4252320" y="5079600"/>
                <a:ext cx="1390320" cy="6411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49"/>
              <p:cNvSpPr/>
              <p:nvPr/>
            </p:nvSpPr>
            <p:spPr>
              <a:xfrm>
                <a:off x="3299760" y="5023800"/>
                <a:ext cx="1599480" cy="7797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Text Box 50"/>
          <p:cNvSpPr/>
          <p:nvPr/>
        </p:nvSpPr>
        <p:spPr>
          <a:xfrm>
            <a:off x="533520" y="517356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1"/>
          <p:cNvSpPr/>
          <p:nvPr/>
        </p:nvSpPr>
        <p:spPr>
          <a:xfrm>
            <a:off x="6629400" y="5097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2"/>
          <p:cNvSpPr/>
          <p:nvPr/>
        </p:nvSpPr>
        <p:spPr>
          <a:xfrm>
            <a:off x="3048120" y="1973160"/>
            <a:ext cx="32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AutoShape 3"/>
          <p:cNvSpPr/>
          <p:nvPr/>
        </p:nvSpPr>
        <p:spPr>
          <a:xfrm>
            <a:off x="6303960" y="35863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4"/>
          <p:cNvSpPr/>
          <p:nvPr/>
        </p:nvSpPr>
        <p:spPr>
          <a:xfrm>
            <a:off x="4608360" y="35863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9" y="0"/>
                </a:moveTo>
                <a:arcTo wR="2969" hR="2969" stAng="16200000" swAng="-5400000"/>
                <a:lnTo>
                  <a:pt x="0" y="33732"/>
                </a:lnTo>
                <a:arcTo wR="2969" hR="2969" stAng="10800000" swAng="-5400000"/>
                <a:lnTo>
                  <a:pt x="18631" y="367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5"/>
          <p:cNvSpPr/>
          <p:nvPr/>
        </p:nvSpPr>
        <p:spPr>
          <a:xfrm>
            <a:off x="2925720" y="3586320"/>
            <a:ext cx="1563840" cy="273816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16">
                <a:moveTo>
                  <a:pt x="2969" y="0"/>
                </a:moveTo>
                <a:arcTo wR="2969" hR="2969" stAng="16200000" swAng="-5400000"/>
                <a:lnTo>
                  <a:pt x="0" y="34847"/>
                </a:lnTo>
                <a:arcTo wR="2969" hR="2969" stAng="10800000" swAng="-5400000"/>
                <a:lnTo>
                  <a:pt x="18631" y="378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6"/>
          <p:cNvSpPr/>
          <p:nvPr/>
        </p:nvSpPr>
        <p:spPr>
          <a:xfrm>
            <a:off x="1219320" y="35863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80160" y="2016000"/>
            <a:ext cx="6214680" cy="1324440"/>
            <a:chOff x="1280160" y="2016000"/>
            <a:chExt cx="6214680" cy="1324440"/>
          </a:xfrm>
        </p:grpSpPr>
        <p:sp>
          <p:nvSpPr>
            <p:cNvPr id="487" name="Rectangle 8"/>
            <p:cNvSpPr/>
            <p:nvPr/>
          </p:nvSpPr>
          <p:spPr>
            <a:xfrm rot="3418800">
              <a:off x="1487880" y="22237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2410920" y="2396880"/>
              <a:ext cx="901080" cy="124200"/>
              <a:chOff x="2410920" y="2396880"/>
              <a:chExt cx="901080" cy="124200"/>
            </a:xfrm>
          </p:grpSpPr>
          <p:sp>
            <p:nvSpPr>
              <p:cNvPr id="489" name="Oval 10"/>
              <p:cNvSpPr/>
              <p:nvPr/>
            </p:nvSpPr>
            <p:spPr>
              <a:xfrm>
                <a:off x="2410920" y="23968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11"/>
              <p:cNvSpPr/>
              <p:nvPr/>
            </p:nvSpPr>
            <p:spPr>
              <a:xfrm>
                <a:off x="2497320" y="23976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12"/>
              <p:cNvSpPr/>
              <p:nvPr/>
            </p:nvSpPr>
            <p:spPr>
              <a:xfrm>
                <a:off x="3175560" y="23986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3"/>
              <p:cNvSpPr/>
              <p:nvPr/>
            </p:nvSpPr>
            <p:spPr>
              <a:xfrm>
                <a:off x="3248280" y="24375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Rectangle 14"/>
            <p:cNvSpPr/>
            <p:nvPr/>
          </p:nvSpPr>
          <p:spPr>
            <a:xfrm rot="3418800">
              <a:off x="3152520" y="2161440"/>
              <a:ext cx="874080" cy="970920"/>
            </a:xfrm>
            <a:prstGeom prst="rect">
              <a:avLst/>
            </a:prstGeom>
            <a:solidFill>
              <a:srgbClr val="4ea7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4075560" y="2396880"/>
              <a:ext cx="901080" cy="124200"/>
              <a:chOff x="4075560" y="2396880"/>
              <a:chExt cx="901080" cy="124200"/>
            </a:xfrm>
          </p:grpSpPr>
          <p:sp>
            <p:nvSpPr>
              <p:cNvPr id="495" name="Oval 16"/>
              <p:cNvSpPr/>
              <p:nvPr/>
            </p:nvSpPr>
            <p:spPr>
              <a:xfrm>
                <a:off x="4075560" y="23968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17"/>
              <p:cNvSpPr/>
              <p:nvPr/>
            </p:nvSpPr>
            <p:spPr>
              <a:xfrm>
                <a:off x="4161960" y="23976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8"/>
              <p:cNvSpPr/>
              <p:nvPr/>
            </p:nvSpPr>
            <p:spPr>
              <a:xfrm>
                <a:off x="4840200" y="23986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19"/>
              <p:cNvSpPr/>
              <p:nvPr/>
            </p:nvSpPr>
            <p:spPr>
              <a:xfrm>
                <a:off x="4912920" y="24375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Rectangle 20"/>
            <p:cNvSpPr/>
            <p:nvPr/>
          </p:nvSpPr>
          <p:spPr>
            <a:xfrm rot="3418800">
              <a:off x="4747680" y="216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740200" y="2396880"/>
              <a:ext cx="1178280" cy="124200"/>
              <a:chOff x="5740200" y="2396880"/>
              <a:chExt cx="1178280" cy="124200"/>
            </a:xfrm>
          </p:grpSpPr>
          <p:sp>
            <p:nvSpPr>
              <p:cNvPr id="501" name="Oval 22"/>
              <p:cNvSpPr/>
              <p:nvPr/>
            </p:nvSpPr>
            <p:spPr>
              <a:xfrm>
                <a:off x="5740200" y="23968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23"/>
              <p:cNvSpPr/>
              <p:nvPr/>
            </p:nvSpPr>
            <p:spPr>
              <a:xfrm>
                <a:off x="5853240" y="2397600"/>
                <a:ext cx="97704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24"/>
              <p:cNvSpPr/>
              <p:nvPr/>
            </p:nvSpPr>
            <p:spPr>
              <a:xfrm>
                <a:off x="6739920" y="239868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25"/>
              <p:cNvSpPr/>
              <p:nvPr/>
            </p:nvSpPr>
            <p:spPr>
              <a:xfrm>
                <a:off x="6835320" y="243756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Rectangle 26"/>
            <p:cNvSpPr/>
            <p:nvPr/>
          </p:nvSpPr>
          <p:spPr>
            <a:xfrm rot="3418800">
              <a:off x="6412320" y="2161440"/>
              <a:ext cx="874080" cy="970920"/>
            </a:xfrm>
            <a:prstGeom prst="rect">
              <a:avLst/>
            </a:prstGeom>
            <a:solidFill>
              <a:srgbClr val="4ea7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Rectangle 27"/>
          <p:cNvSpPr/>
          <p:nvPr/>
        </p:nvSpPr>
        <p:spPr>
          <a:xfrm>
            <a:off x="1594800" y="251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8"/>
          <p:cNvSpPr/>
          <p:nvPr/>
        </p:nvSpPr>
        <p:spPr>
          <a:xfrm>
            <a:off x="3290400" y="251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9"/>
          <p:cNvSpPr/>
          <p:nvPr/>
        </p:nvSpPr>
        <p:spPr>
          <a:xfrm>
            <a:off x="4836600" y="251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0"/>
          <p:cNvSpPr/>
          <p:nvPr/>
        </p:nvSpPr>
        <p:spPr>
          <a:xfrm>
            <a:off x="6532200" y="2511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1"/>
          <p:cNvSpPr/>
          <p:nvPr/>
        </p:nvSpPr>
        <p:spPr>
          <a:xfrm>
            <a:off x="1601280" y="3803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2"/>
          <p:cNvSpPr/>
          <p:nvPr/>
        </p:nvSpPr>
        <p:spPr>
          <a:xfrm>
            <a:off x="3295080" y="3803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3"/>
          <p:cNvSpPr/>
          <p:nvPr/>
        </p:nvSpPr>
        <p:spPr>
          <a:xfrm>
            <a:off x="4990680" y="3803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4"/>
          <p:cNvSpPr/>
          <p:nvPr/>
        </p:nvSpPr>
        <p:spPr>
          <a:xfrm>
            <a:off x="6685920" y="3803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219320" y="6400800"/>
            <a:ext cx="3889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1063800" y="2403360"/>
          <a:ext cx="7281720" cy="3200400"/>
        </p:xfrm>
        <a:graphic>
          <a:graphicData uri="http://schemas.openxmlformats.org/drawingml/2006/table">
            <a:tbl>
              <a:tblPr/>
              <a:tblGrid>
                <a:gridCol w="1820880"/>
                <a:gridCol w="1820880"/>
                <a:gridCol w="1819080"/>
                <a:gridCol w="1820880"/>
              </a:tblGrid>
              <a:tr h="515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5ad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05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853640" y="1403640"/>
            <a:ext cx="5481000" cy="5149080"/>
            <a:chOff x="1853640" y="1403640"/>
            <a:chExt cx="5481000" cy="5149080"/>
          </a:xfrm>
        </p:grpSpPr>
        <p:sp>
          <p:nvSpPr>
            <p:cNvPr id="519" name="Freeform 19"/>
            <p:cNvSpPr/>
            <p:nvPr/>
          </p:nvSpPr>
          <p:spPr>
            <a:xfrm rot="20805000">
              <a:off x="4821120" y="313704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1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0"/>
            <p:cNvSpPr/>
            <p:nvPr/>
          </p:nvSpPr>
          <p:spPr>
            <a:xfrm rot="5461200">
              <a:off x="3027240" y="268272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ffffff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1"/>
            <p:cNvSpPr/>
            <p:nvPr/>
          </p:nvSpPr>
          <p:spPr>
            <a:xfrm rot="14128200">
              <a:off x="4871160" y="115920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326ac"/>
                </a:gs>
                <a:gs pos="100000">
                  <a:srgbClr val="ffffff"/>
                </a:gs>
              </a:gsLst>
              <a:lin ang="182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1853640" y="1908720"/>
              <a:ext cx="5481000" cy="4644000"/>
              <a:chOff x="1853640" y="1908720"/>
              <a:chExt cx="5481000" cy="4644000"/>
            </a:xfrm>
          </p:grpSpPr>
          <p:sp>
            <p:nvSpPr>
              <p:cNvPr id="523" name="Freeform 23"/>
              <p:cNvSpPr/>
              <p:nvPr/>
            </p:nvSpPr>
            <p:spPr>
              <a:xfrm>
                <a:off x="4623480" y="323676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24"/>
              <p:cNvSpPr/>
              <p:nvPr/>
            </p:nvSpPr>
            <p:spPr>
              <a:xfrm rot="6256200">
                <a:off x="3027240" y="253620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4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25"/>
              <p:cNvSpPr/>
              <p:nvPr/>
            </p:nvSpPr>
            <p:spPr>
              <a:xfrm rot="14922600">
                <a:off x="5005080" y="138816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174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4113360" y="3200400"/>
              <a:ext cx="1339560" cy="1338120"/>
              <a:chOff x="4113360" y="3200400"/>
              <a:chExt cx="1339560" cy="1338120"/>
            </a:xfrm>
          </p:grpSpPr>
          <p:sp>
            <p:nvSpPr>
              <p:cNvPr id="527" name="Oval 27"/>
              <p:cNvSpPr/>
              <p:nvPr/>
            </p:nvSpPr>
            <p:spPr>
              <a:xfrm>
                <a:off x="4113360" y="3200400"/>
                <a:ext cx="133956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28"/>
              <p:cNvSpPr/>
              <p:nvPr/>
            </p:nvSpPr>
            <p:spPr>
              <a:xfrm>
                <a:off x="4266360" y="3222360"/>
                <a:ext cx="103320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Text Box 29"/>
            <p:cNvSpPr/>
            <p:nvPr/>
          </p:nvSpPr>
          <p:spPr>
            <a:xfrm>
              <a:off x="4308840" y="369108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30"/>
            <p:cNvSpPr/>
            <p:nvPr/>
          </p:nvSpPr>
          <p:spPr>
            <a:xfrm>
              <a:off x="2193840" y="33908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31"/>
            <p:cNvSpPr/>
            <p:nvPr/>
          </p:nvSpPr>
          <p:spPr>
            <a:xfrm>
              <a:off x="5389560" y="25621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32"/>
            <p:cNvSpPr/>
            <p:nvPr/>
          </p:nvSpPr>
          <p:spPr>
            <a:xfrm>
              <a:off x="3724200" y="51134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066680" y="1981080"/>
            <a:ext cx="6781680" cy="4006440"/>
            <a:chOff x="1066680" y="1981080"/>
            <a:chExt cx="6781680" cy="4006440"/>
          </a:xfrm>
        </p:grpSpPr>
        <p:sp>
          <p:nvSpPr>
            <p:cNvPr id="535" name="AutoShape 4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855ada">
                    <a:alpha val="64313"/>
                  </a:srgbClr>
                </a:gs>
                <a:gs pos="100000">
                  <a:srgbClr val="f0ebfb"/>
                </a:gs>
              </a:gsLst>
              <a:lin ang="5400000"/>
            </a:gradFill>
            <a:ln w="25560">
              <a:solidFill>
                <a:srgbClr val="855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Object 5" descr=""/>
            <p:cNvPicPr/>
            <p:nvPr/>
          </p:nvPicPr>
          <p:blipFill>
            <a:blip r:embed="rId2"/>
            <a:stretch/>
          </p:blipFill>
          <p:spPr>
            <a:xfrm>
              <a:off x="125136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AutoShape 6"/>
            <p:cNvSpPr/>
            <p:nvPr/>
          </p:nvSpPr>
          <p:spPr>
            <a:xfrm>
              <a:off x="1374840" y="1981080"/>
              <a:ext cx="271296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8"/>
            <p:cNvSpPr/>
            <p:nvPr/>
          </p:nvSpPr>
          <p:spPr>
            <a:xfrm>
              <a:off x="38412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9"/>
            <p:cNvSpPr/>
            <p:nvPr/>
          </p:nvSpPr>
          <p:spPr>
            <a:xfrm>
              <a:off x="45190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4ea7ea">
                    <a:alpha val="60000"/>
                  </a:srgbClr>
                </a:gs>
                <a:gs pos="100000">
                  <a:srgbClr val="cee7f9"/>
                </a:gs>
              </a:gsLst>
              <a:lin ang="5400000"/>
            </a:gradFill>
            <a:ln w="25560">
              <a:solidFill>
                <a:srgbClr val="4ea7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1" name="Object 10" descr=""/>
            <p:cNvPicPr/>
            <p:nvPr/>
          </p:nvPicPr>
          <p:blipFill>
            <a:blip r:embed="rId3"/>
            <a:stretch/>
          </p:blipFill>
          <p:spPr>
            <a:xfrm>
              <a:off x="470412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44d6c"/>
                </a:gs>
                <a:gs pos="50000">
                  <a:srgbClr val="4ea7ea"/>
                </a:gs>
                <a:gs pos="100000">
                  <a:srgbClr val="244d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12"/>
            <p:cNvSpPr/>
            <p:nvPr/>
          </p:nvSpPr>
          <p:spPr>
            <a:xfrm>
              <a:off x="49507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13"/>
            <p:cNvSpPr/>
            <p:nvPr/>
          </p:nvSpPr>
          <p:spPr>
            <a:xfrm>
              <a:off x="729360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8"/>
          <p:cNvSpPr/>
          <p:nvPr/>
        </p:nvSpPr>
        <p:spPr>
          <a:xfrm>
            <a:off x="2476440" y="5207040"/>
            <a:ext cx="441972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9"/>
          <p:cNvSpPr/>
          <p:nvPr/>
        </p:nvSpPr>
        <p:spPr>
          <a:xfrm>
            <a:off x="2514600" y="4444920"/>
            <a:ext cx="441972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0"/>
          <p:cNvSpPr/>
          <p:nvPr/>
        </p:nvSpPr>
        <p:spPr>
          <a:xfrm>
            <a:off x="2482920" y="3683160"/>
            <a:ext cx="441936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1"/>
          <p:cNvSpPr/>
          <p:nvPr/>
        </p:nvSpPr>
        <p:spPr>
          <a:xfrm>
            <a:off x="2482920" y="2921040"/>
            <a:ext cx="441936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2"/>
          <p:cNvSpPr/>
          <p:nvPr/>
        </p:nvSpPr>
        <p:spPr>
          <a:xfrm>
            <a:off x="2495520" y="2151000"/>
            <a:ext cx="441972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178000" y="2239920"/>
            <a:ext cx="380880" cy="380880"/>
            <a:chOff x="2178000" y="2239920"/>
            <a:chExt cx="380880" cy="380880"/>
          </a:xfrm>
        </p:grpSpPr>
        <p:sp>
          <p:nvSpPr>
            <p:cNvPr id="93" name="Oval 44"/>
            <p:cNvSpPr/>
            <p:nvPr/>
          </p:nvSpPr>
          <p:spPr>
            <a:xfrm>
              <a:off x="2178000" y="22399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45"/>
            <p:cNvSpPr/>
            <p:nvPr/>
          </p:nvSpPr>
          <p:spPr>
            <a:xfrm>
              <a:off x="2199600" y="22611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46"/>
            <p:cNvSpPr/>
            <p:nvPr/>
          </p:nvSpPr>
          <p:spPr>
            <a:xfrm>
              <a:off x="2219400" y="2281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47"/>
            <p:cNvSpPr/>
            <p:nvPr/>
          </p:nvSpPr>
          <p:spPr>
            <a:xfrm>
              <a:off x="2219400" y="2281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8"/>
            <p:cNvSpPr/>
            <p:nvPr/>
          </p:nvSpPr>
          <p:spPr>
            <a:xfrm>
              <a:off x="2238840" y="2300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49"/>
            <p:cNvSpPr/>
            <p:nvPr/>
          </p:nvSpPr>
          <p:spPr>
            <a:xfrm>
              <a:off x="2238840" y="2300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7c63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178000" y="3027240"/>
            <a:ext cx="380880" cy="381240"/>
            <a:chOff x="2178000" y="3027240"/>
            <a:chExt cx="380880" cy="381240"/>
          </a:xfrm>
        </p:grpSpPr>
        <p:sp>
          <p:nvSpPr>
            <p:cNvPr id="100" name="Oval 51"/>
            <p:cNvSpPr/>
            <p:nvPr/>
          </p:nvSpPr>
          <p:spPr>
            <a:xfrm>
              <a:off x="2178000" y="302724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52"/>
            <p:cNvSpPr/>
            <p:nvPr/>
          </p:nvSpPr>
          <p:spPr>
            <a:xfrm>
              <a:off x="2199600" y="304848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53"/>
            <p:cNvSpPr/>
            <p:nvPr/>
          </p:nvSpPr>
          <p:spPr>
            <a:xfrm>
              <a:off x="2219400" y="306864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54"/>
            <p:cNvSpPr/>
            <p:nvPr/>
          </p:nvSpPr>
          <p:spPr>
            <a:xfrm>
              <a:off x="2219400" y="306864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55"/>
            <p:cNvSpPr/>
            <p:nvPr/>
          </p:nvSpPr>
          <p:spPr>
            <a:xfrm>
              <a:off x="2238840" y="308808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56"/>
            <p:cNvSpPr/>
            <p:nvPr/>
          </p:nvSpPr>
          <p:spPr>
            <a:xfrm>
              <a:off x="2238840" y="308808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35c32"/>
                </a:gs>
                <a:gs pos="100000">
                  <a:srgbClr val="48be6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78000" y="3759120"/>
            <a:ext cx="380880" cy="381240"/>
            <a:chOff x="2178000" y="3759120"/>
            <a:chExt cx="380880" cy="381240"/>
          </a:xfrm>
        </p:grpSpPr>
        <p:sp>
          <p:nvSpPr>
            <p:cNvPr id="107" name="Oval 58"/>
            <p:cNvSpPr/>
            <p:nvPr/>
          </p:nvSpPr>
          <p:spPr>
            <a:xfrm>
              <a:off x="2178000" y="375912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59"/>
            <p:cNvSpPr/>
            <p:nvPr/>
          </p:nvSpPr>
          <p:spPr>
            <a:xfrm>
              <a:off x="2199600" y="378036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0"/>
            <p:cNvSpPr/>
            <p:nvPr/>
          </p:nvSpPr>
          <p:spPr>
            <a:xfrm>
              <a:off x="2219400" y="380052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1"/>
            <p:cNvSpPr/>
            <p:nvPr/>
          </p:nvSpPr>
          <p:spPr>
            <a:xfrm>
              <a:off x="2219400" y="380052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62"/>
            <p:cNvSpPr/>
            <p:nvPr/>
          </p:nvSpPr>
          <p:spPr>
            <a:xfrm>
              <a:off x="2238840" y="381996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3"/>
            <p:cNvSpPr/>
            <p:nvPr/>
          </p:nvSpPr>
          <p:spPr>
            <a:xfrm>
              <a:off x="2238840" y="381996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10576d"/>
                </a:gs>
                <a:gs pos="100000">
                  <a:srgbClr val="21b3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178000" y="4546440"/>
            <a:ext cx="380880" cy="381240"/>
            <a:chOff x="2178000" y="4546440"/>
            <a:chExt cx="380880" cy="381240"/>
          </a:xfrm>
        </p:grpSpPr>
        <p:sp>
          <p:nvSpPr>
            <p:cNvPr id="114" name="Oval 65"/>
            <p:cNvSpPr/>
            <p:nvPr/>
          </p:nvSpPr>
          <p:spPr>
            <a:xfrm>
              <a:off x="2178000" y="454644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6"/>
            <p:cNvSpPr/>
            <p:nvPr/>
          </p:nvSpPr>
          <p:spPr>
            <a:xfrm>
              <a:off x="2199600" y="456768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67"/>
            <p:cNvSpPr/>
            <p:nvPr/>
          </p:nvSpPr>
          <p:spPr>
            <a:xfrm>
              <a:off x="2219400" y="458784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8"/>
            <p:cNvSpPr/>
            <p:nvPr/>
          </p:nvSpPr>
          <p:spPr>
            <a:xfrm>
              <a:off x="2219400" y="458784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69"/>
            <p:cNvSpPr/>
            <p:nvPr/>
          </p:nvSpPr>
          <p:spPr>
            <a:xfrm>
              <a:off x="2238840" y="460728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70"/>
            <p:cNvSpPr/>
            <p:nvPr/>
          </p:nvSpPr>
          <p:spPr>
            <a:xfrm>
              <a:off x="2238840" y="460728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5326d"/>
                </a:gs>
                <a:gs pos="100000">
                  <a:srgbClr val="8d67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178000" y="5256360"/>
            <a:ext cx="355680" cy="380880"/>
            <a:chOff x="2178000" y="5256360"/>
            <a:chExt cx="355680" cy="380880"/>
          </a:xfrm>
        </p:grpSpPr>
        <p:sp>
          <p:nvSpPr>
            <p:cNvPr id="121" name="Oval 72"/>
            <p:cNvSpPr/>
            <p:nvPr/>
          </p:nvSpPr>
          <p:spPr>
            <a:xfrm>
              <a:off x="2178000" y="5256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73"/>
            <p:cNvSpPr/>
            <p:nvPr/>
          </p:nvSpPr>
          <p:spPr>
            <a:xfrm>
              <a:off x="2198160" y="5277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74"/>
            <p:cNvSpPr/>
            <p:nvPr/>
          </p:nvSpPr>
          <p:spPr>
            <a:xfrm>
              <a:off x="2216520" y="5297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75"/>
            <p:cNvSpPr/>
            <p:nvPr/>
          </p:nvSpPr>
          <p:spPr>
            <a:xfrm>
              <a:off x="2216520" y="5297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76"/>
            <p:cNvSpPr/>
            <p:nvPr/>
          </p:nvSpPr>
          <p:spPr>
            <a:xfrm>
              <a:off x="2234880" y="5317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77"/>
            <p:cNvSpPr/>
            <p:nvPr/>
          </p:nvSpPr>
          <p:spPr>
            <a:xfrm>
              <a:off x="2234880" y="5317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e2e11"/>
                </a:gs>
                <a:gs pos="100000">
                  <a:srgbClr val="e35e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2133360" y="44197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WordArt 3"/>
          <p:cNvSpPr txBox="1"/>
          <p:nvPr/>
        </p:nvSpPr>
        <p:spPr>
          <a:xfrm>
            <a:off x="3581280" y="838080"/>
            <a:ext cx="4953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ea7ea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ea7ea"/>
                  </a:gs>
                  <a:gs pos="100000">
                    <a:srgbClr val="000000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1228F-DB49-47AA-8E75-4FBAD38604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95160" y="1965240"/>
            <a:ext cx="776304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4ea7ea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4ea7ea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4ea7ea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4ea7ea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5562720" y="35053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143000" y="35053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238400" y="37051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8"/>
          <p:cNvSpPr/>
          <p:nvPr/>
        </p:nvSpPr>
        <p:spPr>
          <a:xfrm>
            <a:off x="322272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ad791"/>
              </a:gs>
              <a:gs pos="100000">
                <a:srgbClr val="93c0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 flipH="1">
            <a:off x="4869000" y="34052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0"/>
          <p:cNvSpPr/>
          <p:nvPr/>
        </p:nvSpPr>
        <p:spPr>
          <a:xfrm flipH="1">
            <a:off x="487440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fd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048120" y="1781280"/>
            <a:ext cx="2998440" cy="1601280"/>
            <a:chOff x="3048120" y="1781280"/>
            <a:chExt cx="2998440" cy="1601280"/>
          </a:xfrm>
        </p:grpSpPr>
        <p:grpSp>
          <p:nvGrpSpPr>
            <p:cNvPr id="137" name=""/>
            <p:cNvGrpSpPr/>
            <p:nvPr/>
          </p:nvGrpSpPr>
          <p:grpSpPr>
            <a:xfrm>
              <a:off x="3048120" y="1924200"/>
              <a:ext cx="2998440" cy="1458360"/>
              <a:chOff x="3048120" y="1924200"/>
              <a:chExt cx="2998440" cy="1458360"/>
            </a:xfrm>
          </p:grpSpPr>
          <p:sp>
            <p:nvSpPr>
              <p:cNvPr id="138" name="Oval 13"/>
              <p:cNvSpPr/>
              <p:nvPr/>
            </p:nvSpPr>
            <p:spPr>
              <a:xfrm>
                <a:off x="3080880" y="19706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a4a7c"/>
                  </a:gs>
                  <a:gs pos="100000">
                    <a:srgbClr val="99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14"/>
              <p:cNvSpPr/>
              <p:nvPr/>
            </p:nvSpPr>
            <p:spPr>
              <a:xfrm>
                <a:off x="3048120" y="19242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d2d2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Oval 15"/>
            <p:cNvSpPr/>
            <p:nvPr/>
          </p:nvSpPr>
          <p:spPr>
            <a:xfrm>
              <a:off x="3189240" y="17812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4ea7ea"/>
                </a:gs>
                <a:gs pos="100000">
                  <a:srgbClr val="244d6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6"/>
            <p:cNvSpPr/>
            <p:nvPr/>
          </p:nvSpPr>
          <p:spPr>
            <a:xfrm>
              <a:off x="3224160" y="17892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1e0f8"/>
                </a:gs>
                <a:gs pos="100000">
                  <a:srgbClr val="4ea7ea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7"/>
            <p:cNvSpPr/>
            <p:nvPr/>
          </p:nvSpPr>
          <p:spPr>
            <a:xfrm>
              <a:off x="3251160" y="18018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4ea7ea">
                    <a:alpha val="48235"/>
                  </a:srgbClr>
                </a:gs>
                <a:gs pos="100000">
                  <a:srgbClr val="3e84b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8"/>
            <p:cNvSpPr/>
            <p:nvPr/>
          </p:nvSpPr>
          <p:spPr>
            <a:xfrm>
              <a:off x="3382920" y="18288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4ea7ea">
                    <a:alpha val="38039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19"/>
          <p:cNvSpPr/>
          <p:nvPr/>
        </p:nvSpPr>
        <p:spPr>
          <a:xfrm>
            <a:off x="3882960" y="19810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5715000" y="37339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523880" y="1752480"/>
            <a:ext cx="1752480" cy="4267080"/>
            <a:chOff x="1523880" y="1752480"/>
            <a:chExt cx="1752480" cy="4267080"/>
          </a:xfrm>
        </p:grpSpPr>
        <p:sp>
          <p:nvSpPr>
            <p:cNvPr id="148" name="AutoShape 4"/>
            <p:cNvSpPr/>
            <p:nvPr/>
          </p:nvSpPr>
          <p:spPr>
            <a:xfrm>
              <a:off x="1600200" y="335268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556f2f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5"/>
            <p:cNvSpPr/>
            <p:nvPr/>
          </p:nvSpPr>
          <p:spPr>
            <a:xfrm>
              <a:off x="181764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6"/>
            <p:cNvSpPr/>
            <p:nvPr/>
          </p:nvSpPr>
          <p:spPr>
            <a:xfrm>
              <a:off x="1523880" y="1752480"/>
              <a:ext cx="1752480" cy="2057400"/>
            </a:xfrm>
            <a:custGeom>
              <a:avLst/>
              <a:gdLst>
                <a:gd name="textAreaLeft" fmla="*/ 89640 w 1752480"/>
                <a:gd name="textAreaRight" fmla="*/ 1662840 w 175248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7">
                  <a:moveTo>
                    <a:pt x="3782" y="0"/>
                  </a:moveTo>
                  <a:arcTo wR="3782" hR="3782" stAng="16200000" swAng="-5400000"/>
                  <a:lnTo>
                    <a:pt x="0" y="21575"/>
                  </a:lnTo>
                  <a:arcTo wR="3782" hR="3782" stAng="10800000" swAng="-5400000"/>
                  <a:lnTo>
                    <a:pt x="17818" y="2535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93c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7"/>
            <p:cNvSpPr/>
            <p:nvPr/>
          </p:nvSpPr>
          <p:spPr>
            <a:xfrm>
              <a:off x="1565280" y="3244680"/>
              <a:ext cx="167616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c9e0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8"/>
            <p:cNvSpPr/>
            <p:nvPr/>
          </p:nvSpPr>
          <p:spPr>
            <a:xfrm>
              <a:off x="1565280" y="1774800"/>
              <a:ext cx="167616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9e0a8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9"/>
            <p:cNvSpPr/>
            <p:nvPr/>
          </p:nvSpPr>
          <p:spPr>
            <a:xfrm>
              <a:off x="1982880" y="20872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0"/>
            <p:cNvSpPr/>
            <p:nvPr/>
          </p:nvSpPr>
          <p:spPr>
            <a:xfrm flipV="1">
              <a:off x="1709640" y="56854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c9e0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059520" y="2438280"/>
            <a:ext cx="1712880" cy="3581280"/>
            <a:chOff x="6059520" y="2438280"/>
            <a:chExt cx="1712880" cy="3581280"/>
          </a:xfrm>
        </p:grpSpPr>
        <p:sp>
          <p:nvSpPr>
            <p:cNvPr id="156" name="AutoShape 12"/>
            <p:cNvSpPr/>
            <p:nvPr/>
          </p:nvSpPr>
          <p:spPr>
            <a:xfrm>
              <a:off x="6121440" y="380988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e2a65"/>
                </a:gs>
                <a:gs pos="100000">
                  <a:srgbClr val="855ada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3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059520" y="2438280"/>
              <a:ext cx="1712880" cy="1901880"/>
              <a:chOff x="6059520" y="2438280"/>
              <a:chExt cx="1712880" cy="1901880"/>
            </a:xfrm>
          </p:grpSpPr>
          <p:sp>
            <p:nvSpPr>
              <p:cNvPr id="159" name="AutoShape 15"/>
              <p:cNvSpPr/>
              <p:nvPr/>
            </p:nvSpPr>
            <p:spPr>
              <a:xfrm>
                <a:off x="6059520" y="2438280"/>
                <a:ext cx="1712880" cy="1901880"/>
              </a:xfrm>
              <a:custGeom>
                <a:avLst/>
                <a:gdLst>
                  <a:gd name="textAreaLeft" fmla="*/ 87840 w 1712880"/>
                  <a:gd name="textAreaRight" fmla="*/ 1625040 w 1712880"/>
                  <a:gd name="textAreaTop" fmla="*/ 87840 h 1901880"/>
                  <a:gd name="textAreaBottom" fmla="*/ 1814040 h 1901880"/>
                </a:gdLst>
                <a:ahLst/>
                <a:rect l="textAreaLeft" t="textAreaTop" r="textAreaRight" b="textAreaBottom"/>
                <a:pathLst>
                  <a:path w="21600" h="23983">
                    <a:moveTo>
                      <a:pt x="3782" y="0"/>
                    </a:moveTo>
                    <a:arcTo wR="3782" hR="3782" stAng="16200000" swAng="-5400000"/>
                    <a:lnTo>
                      <a:pt x="0" y="20201"/>
                    </a:lnTo>
                    <a:arcTo wR="3782" hR="3782" stAng="10800000" swAng="-5400000"/>
                    <a:lnTo>
                      <a:pt x="17818" y="2398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855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16"/>
              <p:cNvSpPr/>
              <p:nvPr/>
            </p:nvSpPr>
            <p:spPr>
              <a:xfrm>
                <a:off x="6099480" y="3817080"/>
                <a:ext cx="1638720" cy="471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55ada"/>
                  </a:gs>
                  <a:gs pos="100000">
                    <a:srgbClr val="ccb9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17"/>
              <p:cNvSpPr/>
              <p:nvPr/>
            </p:nvSpPr>
            <p:spPr>
              <a:xfrm>
                <a:off x="6099480" y="2458080"/>
                <a:ext cx="163872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b9f0"/>
                  </a:gs>
                  <a:gs pos="100000">
                    <a:srgbClr val="855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 Box 18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9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55ada"/>
                </a:gs>
                <a:gs pos="100000">
                  <a:srgbClr val="c9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165" name="AutoShape 21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5d5d9b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3835440" y="2057400"/>
              <a:ext cx="1727280" cy="1981080"/>
              <a:chOff x="3835440" y="2057400"/>
              <a:chExt cx="1727280" cy="1981080"/>
            </a:xfrm>
          </p:grpSpPr>
          <p:sp>
            <p:nvSpPr>
              <p:cNvPr id="167" name="AutoShape 23"/>
              <p:cNvSpPr/>
              <p:nvPr/>
            </p:nvSpPr>
            <p:spPr>
              <a:xfrm>
                <a:off x="3835440" y="2057400"/>
                <a:ext cx="1727280" cy="1981080"/>
              </a:xfrm>
              <a:custGeom>
                <a:avLst/>
                <a:gdLst>
                  <a:gd name="textAreaLeft" fmla="*/ 88560 w 1727280"/>
                  <a:gd name="textAreaRight" fmla="*/ 1638720 w 1727280"/>
                  <a:gd name="textAreaTop" fmla="*/ 88560 h 1981080"/>
                  <a:gd name="textAreaBottom" fmla="*/ 1892520 h 1981080"/>
                </a:gdLst>
                <a:ahLst/>
                <a:rect l="textAreaLeft" t="textAreaTop" r="textAreaRight" b="textAreaBottom"/>
                <a:pathLst>
                  <a:path w="21600" h="24773">
                    <a:moveTo>
                      <a:pt x="3782" y="0"/>
                    </a:moveTo>
                    <a:arcTo wR="3782" hR="3782" stAng="16200000" swAng="-5400000"/>
                    <a:lnTo>
                      <a:pt x="0" y="20991"/>
                    </a:lnTo>
                    <a:arcTo wR="3782" hR="3782" stAng="10800000" swAng="-5400000"/>
                    <a:lnTo>
                      <a:pt x="17818" y="2477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24"/>
              <p:cNvSpPr/>
              <p:nvPr/>
            </p:nvSpPr>
            <p:spPr>
              <a:xfrm>
                <a:off x="3875760" y="3495960"/>
                <a:ext cx="1652400" cy="49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c9c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25"/>
              <p:cNvSpPr/>
              <p:nvPr/>
            </p:nvSpPr>
            <p:spPr>
              <a:xfrm>
                <a:off x="3875760" y="2080440"/>
                <a:ext cx="1652400" cy="49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9c9ff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Text Box 26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7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28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c9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75" name="Freeform 4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cecec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5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6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7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8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9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0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1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ea7ea"/>
                </a:gs>
                <a:gs pos="100000">
                  <a:srgbClr val="18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2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3c052"/>
                </a:gs>
                <a:gs pos="100000">
                  <a:srgbClr val="3445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3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4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2e1f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3" name="AutoShape 22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4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295280" y="2048040"/>
            <a:ext cx="6477120" cy="4125960"/>
            <a:chOff x="1295280" y="2048040"/>
            <a:chExt cx="6477120" cy="4125960"/>
          </a:xfrm>
        </p:grpSpPr>
        <p:sp>
          <p:nvSpPr>
            <p:cNvPr id="197" name="AutoShape 4"/>
            <p:cNvSpPr/>
            <p:nvPr/>
          </p:nvSpPr>
          <p:spPr>
            <a:xfrm>
              <a:off x="3759120" y="4353120"/>
              <a:ext cx="154944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55ada"/>
                </a:gs>
                <a:gs pos="50000">
                  <a:srgbClr val="3e2a65"/>
                </a:gs>
                <a:gs pos="100000">
                  <a:srgbClr val="855ad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3759120" y="3846600"/>
              <a:ext cx="1549440" cy="579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55ada"/>
                </a:gs>
                <a:gs pos="50000">
                  <a:srgbClr val="3e2a65"/>
                </a:gs>
                <a:gs pos="100000">
                  <a:srgbClr val="855ad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6"/>
            <p:cNvSpPr/>
            <p:nvPr/>
          </p:nvSpPr>
          <p:spPr>
            <a:xfrm>
              <a:off x="3759120" y="3340440"/>
              <a:ext cx="154944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55ada"/>
                </a:gs>
                <a:gs pos="50000">
                  <a:srgbClr val="3e2a65"/>
                </a:gs>
                <a:gs pos="100000">
                  <a:srgbClr val="855ad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7"/>
            <p:cNvSpPr/>
            <p:nvPr/>
          </p:nvSpPr>
          <p:spPr>
            <a:xfrm>
              <a:off x="4235040" y="3559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8"/>
            <p:cNvSpPr/>
            <p:nvPr/>
          </p:nvSpPr>
          <p:spPr>
            <a:xfrm>
              <a:off x="4235040" y="4065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4235040" y="457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0"/>
            <p:cNvSpPr/>
            <p:nvPr/>
          </p:nvSpPr>
          <p:spPr>
            <a:xfrm>
              <a:off x="3125520" y="3122640"/>
              <a:ext cx="492120" cy="195444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1"/>
            <p:cNvSpPr/>
            <p:nvPr/>
          </p:nvSpPr>
          <p:spPr>
            <a:xfrm>
              <a:off x="1295280" y="2616480"/>
              <a:ext cx="1689120" cy="2968560"/>
            </a:xfrm>
            <a:custGeom>
              <a:avLst/>
              <a:gdLst>
                <a:gd name="textAreaLeft" fmla="*/ 82440 w 1689120"/>
                <a:gd name="textAreaRight" fmla="*/ 1606680 w 1689120"/>
                <a:gd name="textAreaTop" fmla="*/ 82440 h 2968560"/>
                <a:gd name="textAreaBottom" fmla="*/ 2886120 h 2968560"/>
              </a:gdLst>
              <a:ahLst/>
              <a:rect l="textAreaLeft" t="textAreaTop" r="textAreaRight" b="textAreaBottom"/>
              <a:pathLst>
                <a:path w="21600" h="37958">
                  <a:moveTo>
                    <a:pt x="3600" y="0"/>
                  </a:moveTo>
                  <a:arcTo wR="3600" hR="3600" stAng="16200000" swAng="-5400000"/>
                  <a:lnTo>
                    <a:pt x="0" y="34358"/>
                  </a:lnTo>
                  <a:arcTo wR="3600" hR="3600" stAng="10800000" swAng="-5400000"/>
                  <a:lnTo>
                    <a:pt x="18000" y="379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1365120" y="2833920"/>
              <a:ext cx="154944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6083280" y="2616480"/>
              <a:ext cx="1689120" cy="2968560"/>
            </a:xfrm>
            <a:custGeom>
              <a:avLst/>
              <a:gdLst>
                <a:gd name="textAreaLeft" fmla="*/ 82440 w 1689120"/>
                <a:gd name="textAreaRight" fmla="*/ 1606680 w 1689120"/>
                <a:gd name="textAreaTop" fmla="*/ 82440 h 2968560"/>
                <a:gd name="textAreaBottom" fmla="*/ 2886120 h 2968560"/>
              </a:gdLst>
              <a:ahLst/>
              <a:rect l="textAreaLeft" t="textAreaTop" r="textAreaRight" b="textAreaBottom"/>
              <a:pathLst>
                <a:path w="21600" h="37958">
                  <a:moveTo>
                    <a:pt x="3600" y="0"/>
                  </a:moveTo>
                  <a:arcTo wR="3600" hR="3600" stAng="16200000" swAng="-5400000"/>
                  <a:lnTo>
                    <a:pt x="0" y="34358"/>
                  </a:lnTo>
                  <a:arcTo wR="3600" hR="3600" stAng="10800000" swAng="-5400000"/>
                  <a:lnTo>
                    <a:pt x="18000" y="379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4"/>
            <p:cNvSpPr/>
            <p:nvPr/>
          </p:nvSpPr>
          <p:spPr>
            <a:xfrm>
              <a:off x="6153120" y="2833920"/>
              <a:ext cx="154944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5"/>
            <p:cNvSpPr/>
            <p:nvPr/>
          </p:nvSpPr>
          <p:spPr>
            <a:xfrm>
              <a:off x="5451480" y="3122640"/>
              <a:ext cx="490320" cy="195444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6"/>
            <p:cNvSpPr/>
            <p:nvPr/>
          </p:nvSpPr>
          <p:spPr>
            <a:xfrm>
              <a:off x="3055680" y="2048040"/>
              <a:ext cx="2816280" cy="57960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ea7ea"/>
                </a:gs>
                <a:gs pos="50000">
                  <a:srgbClr val="244d6c"/>
                </a:gs>
                <a:gs pos="100000">
                  <a:srgbClr val="4ea7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7"/>
            <p:cNvSpPr/>
            <p:nvPr/>
          </p:nvSpPr>
          <p:spPr>
            <a:xfrm>
              <a:off x="3728880" y="27608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4213080" y="2259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9"/>
            <p:cNvSpPr/>
            <p:nvPr/>
          </p:nvSpPr>
          <p:spPr>
            <a:xfrm>
              <a:off x="3125520" y="5585040"/>
              <a:ext cx="2816280" cy="5778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474776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0"/>
            <p:cNvSpPr/>
            <p:nvPr/>
          </p:nvSpPr>
          <p:spPr>
            <a:xfrm>
              <a:off x="4213080" y="5805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21"/>
            <p:cNvSpPr/>
            <p:nvPr/>
          </p:nvSpPr>
          <p:spPr>
            <a:xfrm>
              <a:off x="3708360" y="5005440"/>
              <a:ext cx="162252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1905120"/>
            <a:ext cx="7383960" cy="4420800"/>
            <a:chOff x="838080" y="1905120"/>
            <a:chExt cx="7383960" cy="4420800"/>
          </a:xfrm>
        </p:grpSpPr>
        <p:grpSp>
          <p:nvGrpSpPr>
            <p:cNvPr id="218" name=""/>
            <p:cNvGrpSpPr/>
            <p:nvPr/>
          </p:nvGrpSpPr>
          <p:grpSpPr>
            <a:xfrm>
              <a:off x="2361960" y="1905120"/>
              <a:ext cx="4419360" cy="4376160"/>
              <a:chOff x="2361960" y="1905120"/>
              <a:chExt cx="4419360" cy="4376160"/>
            </a:xfrm>
          </p:grpSpPr>
          <p:sp>
            <p:nvSpPr>
              <p:cNvPr id="219" name="Puzzle3"/>
              <p:cNvSpPr/>
              <p:nvPr/>
            </p:nvSpPr>
            <p:spPr>
              <a:xfrm>
                <a:off x="4513680" y="1905120"/>
                <a:ext cx="1737360" cy="2325600"/>
              </a:xfrm>
              <a:custGeom>
                <a:avLst/>
                <a:gdLst>
                  <a:gd name="textAreaLeft" fmla="*/ 182520 w 1737360"/>
                  <a:gd name="textAreaRight" fmla="*/ 1541160 w 173736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6a95"/>
                  </a:gs>
                  <a:gs pos="100000">
                    <a:srgbClr val="4ea7ea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Puzzle2"/>
              <p:cNvSpPr/>
              <p:nvPr/>
            </p:nvSpPr>
            <p:spPr>
              <a:xfrm>
                <a:off x="4008960" y="3599280"/>
                <a:ext cx="2772360" cy="211824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0240 h 2118240"/>
                  <a:gd name="textAreaBottom" fmla="*/ 2004840 h 211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e2b0"/>
                  </a:gs>
                  <a:gs pos="100000">
                    <a:srgbClr val="93c052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Puzzle4"/>
              <p:cNvSpPr/>
              <p:nvPr/>
            </p:nvSpPr>
            <p:spPr>
              <a:xfrm>
                <a:off x="2935800" y="3573360"/>
                <a:ext cx="1671480" cy="270792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7920"/>
                  <a:gd name="textAreaBottom" fmla="*/ 2003040 h 2707920"/>
                </a:gdLst>
                <a:ahLst/>
                <a:rect l="textAreaLeft" t="textAreaTop" r="textAreaRight" b="textAreaBottom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bff"/>
                  </a:gs>
                  <a:gs pos="100000">
                    <a:srgbClr val="9999ff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Puzzle1"/>
              <p:cNvSpPr/>
              <p:nvPr/>
            </p:nvSpPr>
            <p:spPr>
              <a:xfrm>
                <a:off x="2361960" y="2608560"/>
                <a:ext cx="2807280" cy="1614240"/>
              </a:xfrm>
              <a:custGeom>
                <a:avLst/>
                <a:gdLst>
                  <a:gd name="textAreaLeft" fmla="*/ 790560 w 2807280"/>
                  <a:gd name="textAreaRight" fmla="*/ 2096280 w 280728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2a65"/>
                  </a:gs>
                  <a:gs pos="100000">
                    <a:srgbClr val="855ada"/>
                  </a:gs>
                </a:gsLst>
                <a:lin ang="81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Text Box 8"/>
            <p:cNvSpPr/>
            <p:nvPr/>
          </p:nvSpPr>
          <p:spPr>
            <a:xfrm>
              <a:off x="6477840" y="42811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9"/>
            <p:cNvSpPr/>
            <p:nvPr/>
          </p:nvSpPr>
          <p:spPr>
            <a:xfrm>
              <a:off x="838080" y="36716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0"/>
            <p:cNvSpPr/>
            <p:nvPr/>
          </p:nvSpPr>
          <p:spPr>
            <a:xfrm>
              <a:off x="2590560" y="19810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1"/>
            <p:cNvSpPr/>
            <p:nvPr/>
          </p:nvSpPr>
          <p:spPr>
            <a:xfrm>
              <a:off x="4267080" y="59576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7834320" y="2286000"/>
            <a:ext cx="576360" cy="846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4"/>
          <p:cNvSpPr/>
          <p:nvPr/>
        </p:nvSpPr>
        <p:spPr>
          <a:xfrm>
            <a:off x="5073480" y="2286000"/>
            <a:ext cx="3343320" cy="54144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5"/>
          <p:cNvSpPr/>
          <p:nvPr/>
        </p:nvSpPr>
        <p:spPr>
          <a:xfrm>
            <a:off x="7254720" y="3117960"/>
            <a:ext cx="576360" cy="8413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4ea7ea"/>
              </a:gs>
              <a:gs pos="100000">
                <a:srgbClr val="244d6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6"/>
          <p:cNvSpPr/>
          <p:nvPr/>
        </p:nvSpPr>
        <p:spPr>
          <a:xfrm>
            <a:off x="4243320" y="3117960"/>
            <a:ext cx="3594240" cy="53964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7"/>
          <p:cNvSpPr/>
          <p:nvPr/>
        </p:nvSpPr>
        <p:spPr>
          <a:xfrm>
            <a:off x="6673680" y="3949560"/>
            <a:ext cx="573120" cy="84456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855ada"/>
              </a:gs>
              <a:gs pos="100000">
                <a:srgbClr val="3e2a6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>
            <a:off x="6095880" y="4772160"/>
            <a:ext cx="577800" cy="846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93c052"/>
              </a:gs>
              <a:gs pos="100000">
                <a:srgbClr val="4459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9"/>
          <p:cNvSpPr/>
          <p:nvPr/>
        </p:nvSpPr>
        <p:spPr>
          <a:xfrm>
            <a:off x="2592360" y="4776840"/>
            <a:ext cx="4081320" cy="53964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72640" y="2276640"/>
            <a:ext cx="5033880" cy="3324240"/>
            <a:chOff x="872640" y="2276640"/>
            <a:chExt cx="5033880" cy="3324240"/>
          </a:xfrm>
        </p:grpSpPr>
        <p:sp>
          <p:nvSpPr>
            <p:cNvPr id="236" name="Line 11"/>
            <p:cNvSpPr/>
            <p:nvPr/>
          </p:nvSpPr>
          <p:spPr>
            <a:xfrm flipH="1">
              <a:off x="873000" y="559944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2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3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5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6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7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8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9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0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1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22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3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4"/>
            <p:cNvSpPr/>
            <p:nvPr/>
          </p:nvSpPr>
          <p:spPr>
            <a:xfrm>
              <a:off x="3184560" y="2440080"/>
              <a:ext cx="183816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4ea7ea"/>
                </a:gs>
                <a:gs pos="100000">
                  <a:srgbClr val="244d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25"/>
          <p:cNvSpPr/>
          <p:nvPr/>
        </p:nvSpPr>
        <p:spPr>
          <a:xfrm>
            <a:off x="5079960" y="2827440"/>
            <a:ext cx="2766960" cy="304560"/>
          </a:xfrm>
          <a:prstGeom prst="rect">
            <a:avLst/>
          </a:prstGeom>
          <a:gradFill rotWithShape="0">
            <a:gsLst>
              <a:gs pos="0">
                <a:srgbClr val="6161a2"/>
              </a:gs>
              <a:gs pos="50000">
                <a:srgbClr val="9999ff"/>
              </a:gs>
              <a:gs pos="100000">
                <a:srgbClr val="6161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4245120" y="3657600"/>
            <a:ext cx="3016080" cy="298440"/>
          </a:xfrm>
          <a:prstGeom prst="rect">
            <a:avLst/>
          </a:prstGeom>
          <a:gradFill rotWithShape="0">
            <a:gsLst>
              <a:gs pos="0">
                <a:srgbClr val="346f9c"/>
              </a:gs>
              <a:gs pos="50000">
                <a:srgbClr val="4ea7ea"/>
              </a:gs>
              <a:gs pos="100000">
                <a:srgbClr val="346f9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7"/>
          <p:cNvSpPr/>
          <p:nvPr/>
        </p:nvSpPr>
        <p:spPr>
          <a:xfrm>
            <a:off x="3419640" y="3949560"/>
            <a:ext cx="3833640" cy="54468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855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8"/>
          <p:cNvSpPr/>
          <p:nvPr/>
        </p:nvSpPr>
        <p:spPr>
          <a:xfrm>
            <a:off x="3422520" y="4492800"/>
            <a:ext cx="3264120" cy="298440"/>
          </a:xfrm>
          <a:prstGeom prst="rect">
            <a:avLst/>
          </a:prstGeom>
          <a:gradFill rotWithShape="0">
            <a:gsLst>
              <a:gs pos="0">
                <a:srgbClr val="60419e"/>
              </a:gs>
              <a:gs pos="50000">
                <a:srgbClr val="855ada"/>
              </a:gs>
              <a:gs pos="100000">
                <a:srgbClr val="60419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9"/>
          <p:cNvSpPr/>
          <p:nvPr/>
        </p:nvSpPr>
        <p:spPr>
          <a:xfrm>
            <a:off x="2590920" y="5318280"/>
            <a:ext cx="3512880" cy="296640"/>
          </a:xfrm>
          <a:prstGeom prst="rect">
            <a:avLst/>
          </a:prstGeom>
          <a:gradFill rotWithShape="0">
            <a:gsLst>
              <a:gs pos="0">
                <a:srgbClr val="3e5123"/>
              </a:gs>
              <a:gs pos="50000">
                <a:srgbClr val="93c052"/>
              </a:gs>
              <a:gs pos="100000">
                <a:srgbClr val="3e51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http://www.eeppt.com</dc:creator>
  <dc:description>ppt模板下载网站 http://www.eeppt.com</dc:description>
  <dc:language>en-US</dc:language>
  <cp:lastModifiedBy/>
  <dcterms:modified xsi:type="dcterms:W3CDTF">2015-06-14T06:21:30Z</dcterms:modified>
  <cp:revision>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