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F857-3A17-49D3-A162-6B30B9F92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0909-F177-4A02-AA83-2DB953E3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6A01-7B02-4263-B730-CEB75CE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3C36-EF7E-45A4-8C34-CFBBE28DA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180F8-2425-422A-B5E7-F03E9B78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A9518-BB6C-4C0E-8FF0-71C2B454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C6C7A-4160-4071-B32B-C0191003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D2D02-CAD4-48DB-9CA7-DE9812D4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58724-0A71-482A-8D0A-E5401E0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70A74-5795-4AAF-AAE2-2872D8B3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C0303-842F-4281-8395-808C27C5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D741A-A563-4336-A274-B3E59A4A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4AB48-4BB8-4135-BD06-785657B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6077F-AF2E-4FA7-AB09-CAE85D39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48B9-2B00-4DBA-BF64-233C4E45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DD2B1-DBD7-42A4-962C-BD60C8D6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96116-55B2-41C5-AACC-6C35CEFC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D916-26C4-4E4A-8086-CC483246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20B5-E507-4954-9FB9-5282654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CB7F-D74D-442E-B622-D1FC4A80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7936-E171-4A21-B799-5538014F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4777-561C-493D-A205-6ADD6EDD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B433-64DB-459D-9843-7E21C2B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99CE-11DF-4DE5-9280-283B6285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AC9B-F449-4B21-981A-C3CBF92BE0E0}" type="slidenum"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E4CC-C5C5-4730-90A8-8A94441AA0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aoyu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蓝色天空培训</a:t>
            </a:r>
            <a:r>
              <a:rPr b="1" lang="zh-CN" sz="4000" spc="-1" strike="noStrike">
                <a:solidFill>
                  <a:srgbClr val="364eb6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62485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6a1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cc76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cc76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46b38"/>
              </a:gs>
              <a:gs pos="50000">
                <a:srgbClr val="9cc769"/>
              </a:gs>
              <a:gs pos="100000">
                <a:srgbClr val="546b3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cc769">
                  <a:alpha val="0"/>
                </a:srgbClr>
              </a:gs>
              <a:gs pos="100000">
                <a:srgbClr val="627d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41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98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3e68"/>
              </a:gs>
              <a:gs pos="100000">
                <a:srgbClr val="498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7487a"/>
              </a:gs>
              <a:gs pos="50000">
                <a:srgbClr val="4987e3"/>
              </a:gs>
              <a:gs pos="100000">
                <a:srgbClr val="2748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987e3">
                  <a:alpha val="0"/>
                </a:srgbClr>
              </a:gs>
              <a:gs pos="100000">
                <a:srgbClr val="2e55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51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56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447920" y="1527120"/>
            <a:ext cx="5715000" cy="5330520"/>
            <a:chOff x="1447920" y="1527120"/>
            <a:chExt cx="5715000" cy="5330520"/>
          </a:xfrm>
        </p:grpSpPr>
        <p:sp>
          <p:nvSpPr>
            <p:cNvPr id="266" name=""/>
            <p:cNvSpPr/>
            <p:nvPr/>
          </p:nvSpPr>
          <p:spPr>
            <a:xfrm rot="13770000">
              <a:off x="4780440" y="411156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ddddd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856000">
              <a:off x="2755800" y="363240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394200">
              <a:off x="4915440" y="247356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bebeb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719880" y="2509200"/>
              <a:ext cx="1652400" cy="1684080"/>
              <a:chOff x="3719880" y="2509200"/>
              <a:chExt cx="1652400" cy="16840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3719880" y="2509200"/>
                <a:ext cx="1652400" cy="1684080"/>
                <a:chOff x="3719880" y="2509200"/>
                <a:chExt cx="1652400" cy="16840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719880" y="25092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未知"/>
                <p:cNvSpPr/>
                <p:nvPr/>
              </p:nvSpPr>
              <p:spPr>
                <a:xfrm>
                  <a:off x="3908520" y="253692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3826440" y="32414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165640" y="1527120"/>
              <a:ext cx="925200" cy="912240"/>
              <a:chOff x="5165640" y="1527120"/>
              <a:chExt cx="925200" cy="9122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5165640" y="1527120"/>
                <a:ext cx="894960" cy="912240"/>
                <a:chOff x="5165640" y="1527120"/>
                <a:chExt cx="894960" cy="9122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165640" y="152712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1120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未知"/>
                <p:cNvSpPr/>
                <p:nvPr/>
              </p:nvSpPr>
              <p:spPr>
                <a:xfrm>
                  <a:off x="5267880" y="154224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5181480" y="18777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447920" y="2860560"/>
              <a:ext cx="1789920" cy="1894680"/>
              <a:chOff x="1447920" y="2860560"/>
              <a:chExt cx="1789920" cy="189468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1447920" y="2860560"/>
                <a:ext cx="1789920" cy="1894680"/>
                <a:chOff x="1447920" y="2860560"/>
                <a:chExt cx="1789920" cy="18946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447920" y="286056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未知"/>
                <p:cNvSpPr/>
                <p:nvPr/>
              </p:nvSpPr>
              <p:spPr>
                <a:xfrm>
                  <a:off x="1652400" y="289188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1563840" y="37026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097240" y="4263840"/>
              <a:ext cx="2065680" cy="2105280"/>
              <a:chOff x="5097240" y="4263840"/>
              <a:chExt cx="2065680" cy="210528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5097240" y="4263840"/>
                <a:ext cx="2065680" cy="2105280"/>
                <a:chOff x="5097240" y="4263840"/>
                <a:chExt cx="2065680" cy="21052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97240" y="426384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b52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未知"/>
                <p:cNvSpPr/>
                <p:nvPr/>
              </p:nvSpPr>
              <p:spPr>
                <a:xfrm>
                  <a:off x="5333400" y="42987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6a1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5412600" y="517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654200" y="48254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57760" y="41968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41400" y="636948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03520" y="250920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7973000">
            <a:off x="488232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3465600">
            <a:off x="488160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4368800">
            <a:off x="366264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7534800">
            <a:off x="362484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6084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30506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71640" y="2046240"/>
            <a:ext cx="3743640" cy="374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533760" y="2093760"/>
            <a:ext cx="360360" cy="360360"/>
            <a:chOff x="3533760" y="2093760"/>
            <a:chExt cx="360360" cy="360360"/>
          </a:xfrm>
        </p:grpSpPr>
        <p:sp>
          <p:nvSpPr>
            <p:cNvPr id="302" name=""/>
            <p:cNvSpPr/>
            <p:nvPr/>
          </p:nvSpPr>
          <p:spPr>
            <a:xfrm>
              <a:off x="353376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4960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89120" y="3749760"/>
            <a:ext cx="360360" cy="360360"/>
            <a:chOff x="2589120" y="3749760"/>
            <a:chExt cx="360360" cy="360360"/>
          </a:xfrm>
        </p:grpSpPr>
        <p:sp>
          <p:nvSpPr>
            <p:cNvPr id="305" name=""/>
            <p:cNvSpPr/>
            <p:nvPr/>
          </p:nvSpPr>
          <p:spPr>
            <a:xfrm>
              <a:off x="258912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0496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452760" y="5292720"/>
            <a:ext cx="360360" cy="360360"/>
            <a:chOff x="3452760" y="5292720"/>
            <a:chExt cx="360360" cy="360360"/>
          </a:xfrm>
        </p:grpSpPr>
        <p:sp>
          <p:nvSpPr>
            <p:cNvPr id="308" name=""/>
            <p:cNvSpPr/>
            <p:nvPr/>
          </p:nvSpPr>
          <p:spPr>
            <a:xfrm>
              <a:off x="345276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860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383080" y="2073240"/>
            <a:ext cx="360360" cy="360360"/>
            <a:chOff x="5383080" y="2073240"/>
            <a:chExt cx="360360" cy="360360"/>
          </a:xfrm>
        </p:grpSpPr>
        <p:sp>
          <p:nvSpPr>
            <p:cNvPr id="311" name=""/>
            <p:cNvSpPr/>
            <p:nvPr/>
          </p:nvSpPr>
          <p:spPr>
            <a:xfrm>
              <a:off x="53830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989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332400" y="3749760"/>
            <a:ext cx="360360" cy="360360"/>
            <a:chOff x="6332400" y="3749760"/>
            <a:chExt cx="360360" cy="360360"/>
          </a:xfrm>
        </p:grpSpPr>
        <p:sp>
          <p:nvSpPr>
            <p:cNvPr id="314" name=""/>
            <p:cNvSpPr/>
            <p:nvPr/>
          </p:nvSpPr>
          <p:spPr>
            <a:xfrm>
              <a:off x="63324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482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438880" y="5349960"/>
            <a:ext cx="360360" cy="360360"/>
            <a:chOff x="5438880" y="5349960"/>
            <a:chExt cx="360360" cy="360360"/>
          </a:xfrm>
        </p:grpSpPr>
        <p:sp>
          <p:nvSpPr>
            <p:cNvPr id="317" name=""/>
            <p:cNvSpPr/>
            <p:nvPr/>
          </p:nvSpPr>
          <p:spPr>
            <a:xfrm>
              <a:off x="543888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5472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7288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2276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4a53"/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5596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3868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4020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321804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7980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564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7664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692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233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3392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7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2336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1952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5760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371600" y="1981080"/>
            <a:ext cx="6436440" cy="3729960"/>
            <a:chOff x="1371600" y="1981080"/>
            <a:chExt cx="6436440" cy="3729960"/>
          </a:xfrm>
        </p:grpSpPr>
        <p:grpSp>
          <p:nvGrpSpPr>
            <p:cNvPr id="337" name=""/>
            <p:cNvGrpSpPr/>
            <p:nvPr/>
          </p:nvGrpSpPr>
          <p:grpSpPr>
            <a:xfrm>
              <a:off x="1371600" y="1981080"/>
              <a:ext cx="2025720" cy="3729960"/>
              <a:chOff x="1371600" y="1981080"/>
              <a:chExt cx="2025720" cy="37299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1371600" y="2265120"/>
                <a:ext cx="2025720" cy="3445920"/>
                <a:chOff x="1371600" y="2265120"/>
                <a:chExt cx="2025720" cy="34459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37160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477a4"/>
                    </a:gs>
                    <a:gs pos="100000">
                      <a:srgbClr val="4e91d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02560" y="2272320"/>
                  <a:ext cx="1959120" cy="259164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640"/>
                    <a:gd name="textAreaBottom" fmla="*/ 2496240 h 2591640"/>
                  </a:gdLst>
                  <a:ahLst/>
                  <a:rect l="textAreaLeft" t="textAreaTop" r="textAreaRight" b="textAreaBottom"/>
                  <a:pathLst>
                    <a:path w="21600" h="28572">
                      <a:moveTo>
                        <a:pt x="3600" y="0"/>
                      </a:moveTo>
                      <a:arcTo wR="3600" hR="3600" stAng="16200000" swAng="-5400000"/>
                      <a:lnTo>
                        <a:pt x="0" y="24972"/>
                      </a:lnTo>
                      <a:arcTo wR="3600" hR="3600" stAng="10800000" swAng="-5400000"/>
                      <a:lnTo>
                        <a:pt x="18000" y="2857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d4f2"/>
                    </a:gs>
                    <a:gs pos="100000">
                      <a:srgbClr val="3ca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1876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d4f2">
                        <a:alpha val="0"/>
                      </a:srgbClr>
                    </a:gs>
                    <a:gs pos="100000">
                      <a:srgbClr val="8ed8f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18760" y="2292840"/>
                  <a:ext cx="1932120" cy="65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/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37772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41876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>
                        <a:alpha val="50196"/>
                      </a:srgbClr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066040" y="1981080"/>
                <a:ext cx="600480" cy="594360"/>
                <a:chOff x="2066040" y="1981080"/>
                <a:chExt cx="600480" cy="5943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066040" y="1981080"/>
                  <a:ext cx="600480" cy="594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072160" y="1985400"/>
                  <a:ext cx="58068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79360" y="1989000"/>
                  <a:ext cx="567360" cy="56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085480" y="1994040"/>
                  <a:ext cx="539280" cy="52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17160" y="2008440"/>
                  <a:ext cx="479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218556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4252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576960" y="1981080"/>
              <a:ext cx="2025720" cy="3729960"/>
              <a:chOff x="3576960" y="1981080"/>
              <a:chExt cx="2025720" cy="372996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3576960" y="2265120"/>
                <a:ext cx="2025720" cy="3445920"/>
                <a:chOff x="3576960" y="2265120"/>
                <a:chExt cx="2025720" cy="34459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57696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f8b4a"/>
                    </a:gs>
                    <a:gs pos="100000">
                      <a:srgbClr val="34b03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607920" y="2272320"/>
                  <a:ext cx="1959120" cy="259164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640"/>
                    <a:gd name="textAreaBottom" fmla="*/ 2496240 h 2591640"/>
                  </a:gdLst>
                  <a:ahLst/>
                  <a:rect l="textAreaLeft" t="textAreaTop" r="textAreaRight" b="textAreaBottom"/>
                  <a:pathLst>
                    <a:path w="21600" h="28572">
                      <a:moveTo>
                        <a:pt x="3600" y="0"/>
                      </a:moveTo>
                      <a:arcTo wR="3600" hR="3600" stAng="16200000" swAng="-5400000"/>
                      <a:lnTo>
                        <a:pt x="0" y="24972"/>
                      </a:lnTo>
                      <a:arcTo wR="3600" hR="3600" stAng="10800000" swAng="-5400000"/>
                      <a:lnTo>
                        <a:pt x="18000" y="2857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8ea91"/>
                    </a:gs>
                    <a:gs pos="100000">
                      <a:srgbClr val="21d3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62412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8ea91">
                        <a:alpha val="0"/>
                      </a:srgbClr>
                    </a:gs>
                    <a:gs pos="100000">
                      <a:srgbClr val="95eb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624120" y="2292840"/>
                  <a:ext cx="1932120" cy="65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6f7d9"/>
                    </a:gs>
                    <a:gs pos="100000">
                      <a:srgbClr val="88ea9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58308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62412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4efc0">
                        <a:alpha val="50196"/>
                      </a:srgbClr>
                    </a:gs>
                    <a:gs pos="100000">
                      <a:srgbClr val="21d34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271400" y="1981080"/>
                <a:ext cx="600480" cy="594360"/>
                <a:chOff x="4271400" y="1981080"/>
                <a:chExt cx="600480" cy="5943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271400" y="1981080"/>
                  <a:ext cx="600480" cy="594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277520" y="1985400"/>
                  <a:ext cx="58068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284720" y="1989000"/>
                  <a:ext cx="567360" cy="56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90840" y="1994040"/>
                  <a:ext cx="539280" cy="52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322520" y="2008440"/>
                  <a:ext cx="479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>
              <a:off x="439128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4788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782320" y="1981080"/>
              <a:ext cx="2025720" cy="3729960"/>
              <a:chOff x="5782320" y="1981080"/>
              <a:chExt cx="2025720" cy="3729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5782320" y="2265120"/>
                <a:ext cx="2025720" cy="3445920"/>
                <a:chOff x="5782320" y="2265120"/>
                <a:chExt cx="2025720" cy="3445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78232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f8849"/>
                    </a:gs>
                    <a:gs pos="100000">
                      <a:srgbClr val="b59f4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813280" y="2272320"/>
                  <a:ext cx="1959120" cy="259164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640"/>
                    <a:gd name="textAreaBottom" fmla="*/ 2496240 h 2591640"/>
                  </a:gdLst>
                  <a:ahLst/>
                  <a:rect l="textAreaLeft" t="textAreaTop" r="textAreaRight" b="textAreaBottom"/>
                  <a:pathLst>
                    <a:path w="21600" h="28572">
                      <a:moveTo>
                        <a:pt x="3600" y="0"/>
                      </a:moveTo>
                      <a:arcTo wR="3600" hR="3600" stAng="16200000" swAng="-5400000"/>
                      <a:lnTo>
                        <a:pt x="0" y="24972"/>
                      </a:lnTo>
                      <a:arcTo wR="3600" hR="3600" stAng="10800000" swAng="-5400000"/>
                      <a:lnTo>
                        <a:pt x="18000" y="2857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eaec86"/>
                    </a:gs>
                    <a:gs pos="100000">
                      <a:srgbClr val="dcce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aec86">
                        <a:alpha val="0"/>
                      </a:srgbClr>
                    </a:gs>
                    <a:gs pos="100000">
                      <a:srgbClr val="ebed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829480" y="2292840"/>
                  <a:ext cx="1932120" cy="65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/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78844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82948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>
                        <a:alpha val="50196"/>
                      </a:srgbClr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6476760" y="1981080"/>
                <a:ext cx="600480" cy="594360"/>
                <a:chOff x="6476760" y="1981080"/>
                <a:chExt cx="600480" cy="5943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6476760" y="1981080"/>
                  <a:ext cx="600480" cy="594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82880" y="1985400"/>
                  <a:ext cx="58068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90080" y="1989000"/>
                  <a:ext cx="567360" cy="56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96200" y="1994040"/>
                  <a:ext cx="539280" cy="52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527880" y="2008440"/>
                  <a:ext cx="479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3" name=""/>
            <p:cNvSpPr/>
            <p:nvPr/>
          </p:nvSpPr>
          <p:spPr>
            <a:xfrm>
              <a:off x="659844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52160" y="2685600"/>
              <a:ext cx="1923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87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90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91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94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9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08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9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12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20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25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26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29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3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38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3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44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47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5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56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101600" y="2031840"/>
            <a:ext cx="6056640" cy="407880"/>
            <a:chOff x="1101600" y="2031840"/>
            <a:chExt cx="6056640" cy="407880"/>
          </a:xfrm>
        </p:grpSpPr>
        <p:sp>
          <p:nvSpPr>
            <p:cNvPr id="469" name=""/>
            <p:cNvSpPr/>
            <p:nvPr/>
          </p:nvSpPr>
          <p:spPr>
            <a:xfrm>
              <a:off x="110160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55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01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9216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69" idx="3"/>
              <a:endCxn id="470" idx="1"/>
            </p:cNvCxnSpPr>
            <p:nvPr/>
          </p:nvCxnSpPr>
          <p:spPr>
            <a:xfrm>
              <a:off x="1837800" y="2255400"/>
              <a:ext cx="98676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70" idx="3"/>
              <a:endCxn id="471" idx="1"/>
            </p:cNvCxnSpPr>
            <p:nvPr/>
          </p:nvCxnSpPr>
          <p:spPr>
            <a:xfrm>
              <a:off x="3592440" y="225540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5" name=""/>
            <p:cNvCxnSpPr/>
            <p:nvPr/>
          </p:nvCxnSpPr>
          <p:spPr>
            <a:xfrm>
              <a:off x="5338800" y="226008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676520" y="1793880"/>
            <a:ext cx="5867280" cy="1301760"/>
            <a:chOff x="1676520" y="1793880"/>
            <a:chExt cx="5867280" cy="1301760"/>
          </a:xfrm>
        </p:grpSpPr>
        <p:sp>
          <p:nvSpPr>
            <p:cNvPr id="478" name=""/>
            <p:cNvSpPr/>
            <p:nvPr/>
          </p:nvSpPr>
          <p:spPr>
            <a:xfrm>
              <a:off x="1676520" y="179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804680" y="1913400"/>
              <a:ext cx="1130760" cy="1064520"/>
              <a:chOff x="1804680" y="1913400"/>
              <a:chExt cx="1130760" cy="1064520"/>
            </a:xfrm>
          </p:grpSpPr>
          <p:sp>
            <p:nvSpPr>
              <p:cNvPr id="480" name=""/>
              <p:cNvSpPr/>
              <p:nvPr/>
            </p:nvSpPr>
            <p:spPr>
              <a:xfrm>
                <a:off x="1804680" y="191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325d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>
                <a:off x="1875240" y="198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bcee"/>
                  </a:gs>
                  <a:gs pos="50000">
                    <a:srgbClr val="4987e3">
                      <a:alpha val="0"/>
                    </a:srgbClr>
                  </a:gs>
                  <a:gs pos="100000">
                    <a:srgbClr val="9bbc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930680" y="220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090240" y="199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676520" y="3241800"/>
            <a:ext cx="5867280" cy="1301760"/>
            <a:chOff x="1676520" y="3241800"/>
            <a:chExt cx="5867280" cy="1301760"/>
          </a:xfrm>
        </p:grpSpPr>
        <p:sp>
          <p:nvSpPr>
            <p:cNvPr id="485" name=""/>
            <p:cNvSpPr/>
            <p:nvPr/>
          </p:nvSpPr>
          <p:spPr>
            <a:xfrm>
              <a:off x="1676520" y="32418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804680" y="3361320"/>
              <a:ext cx="1130760" cy="1064520"/>
              <a:chOff x="1804680" y="3361320"/>
              <a:chExt cx="1130760" cy="1064520"/>
            </a:xfrm>
          </p:grpSpPr>
          <p:sp>
            <p:nvSpPr>
              <p:cNvPr id="487" name=""/>
              <p:cNvSpPr/>
              <p:nvPr/>
            </p:nvSpPr>
            <p:spPr>
              <a:xfrm>
                <a:off x="1804680" y="33613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cbac9"/>
                  </a:gs>
                  <a:gs pos="100000">
                    <a:srgbClr val="36a1b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>
                <a:off x="1875240" y="34297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a1b6">
                      <a:alpha val="0"/>
                    </a:srgbClr>
                  </a:gs>
                  <a:gs pos="100000">
                    <a:srgbClr val="a9d6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30680" y="3652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3090240" y="34200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676520" y="4718160"/>
            <a:ext cx="5867280" cy="1301760"/>
            <a:chOff x="1676520" y="4718160"/>
            <a:chExt cx="5867280" cy="1301760"/>
          </a:xfrm>
        </p:grpSpPr>
        <p:sp>
          <p:nvSpPr>
            <p:cNvPr id="492" name=""/>
            <p:cNvSpPr/>
            <p:nvPr/>
          </p:nvSpPr>
          <p:spPr>
            <a:xfrm>
              <a:off x="1676520" y="47181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1804680" y="4837680"/>
              <a:ext cx="1130760" cy="1064520"/>
              <a:chOff x="1804680" y="4837680"/>
              <a:chExt cx="1130760" cy="1064520"/>
            </a:xfrm>
          </p:grpSpPr>
          <p:sp>
            <p:nvSpPr>
              <p:cNvPr id="494" name=""/>
              <p:cNvSpPr/>
              <p:nvPr/>
            </p:nvSpPr>
            <p:spPr>
              <a:xfrm>
                <a:off x="1804680" y="48376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da9f"/>
                  </a:gs>
                  <a:gs pos="100000">
                    <a:srgbClr val="9cc76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>
                <a:off x="1875240" y="490608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c769">
                      <a:alpha val="0"/>
                    </a:srgbClr>
                  </a:gs>
                  <a:gs pos="100000">
                    <a:srgbClr val="cee2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930680" y="512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3090240" y="48963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0" y="617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cc769"/>
              </a:gs>
              <a:gs pos="100000">
                <a:srgbClr val="475b3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d9520f"/>
              </a:gs>
              <a:gs pos="100000">
                <a:srgbClr val="64250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100000">
                <a:srgbClr val="184a5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049400" y="2438280"/>
          <a:ext cx="7121520" cy="2911320"/>
        </p:xfrm>
        <a:graphic>
          <a:graphicData uri="http://schemas.openxmlformats.org/drawingml/2006/table">
            <a:tbl>
              <a:tblPr/>
              <a:tblGrid>
                <a:gridCol w="1606680"/>
                <a:gridCol w="1120680"/>
                <a:gridCol w="1098360"/>
                <a:gridCol w="1095480"/>
                <a:gridCol w="1104840"/>
                <a:gridCol w="109548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24760" y="732960"/>
            <a:ext cx="7379640" cy="5581800"/>
            <a:chOff x="824760" y="732960"/>
            <a:chExt cx="7379640" cy="5581800"/>
          </a:xfrm>
        </p:grpSpPr>
        <p:sp>
          <p:nvSpPr>
            <p:cNvPr id="520" name="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121212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601600">
              <a:off x="1609560" y="2230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78bfcd"/>
                </a:gs>
                <a:gs pos="100000">
                  <a:srgbClr val="36a1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c5189"/>
                </a:gs>
                <a:gs pos="100000">
                  <a:srgbClr val="4987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01600">
              <a:off x="1616400" y="22424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1c285f"/>
                </a:gs>
                <a:gs pos="100000">
                  <a:srgbClr val="364e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752c08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824760" y="732960"/>
              <a:ext cx="7379640" cy="5581800"/>
              <a:chOff x="824760" y="732960"/>
              <a:chExt cx="7379640" cy="5581800"/>
            </a:xfrm>
          </p:grpSpPr>
          <p:sp>
            <p:nvSpPr>
              <p:cNvPr id="532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cc769"/>
                  </a:gs>
                  <a:gs pos="100000">
                    <a:srgbClr val="5e783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539200">
                <a:off x="1243080" y="16369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6a1b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678168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05120" y="25146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4987e3"/>
              </a:gs>
              <a:gs pos="100000">
                <a:srgbClr val="b6cff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62320" y="1828800"/>
            <a:ext cx="4572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4eb6"/>
              </a:gs>
              <a:gs pos="50000">
                <a:srgbClr val="7d8ccf"/>
              </a:gs>
              <a:gs pos="100000">
                <a:srgbClr val="364e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56160" y="31240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914400" y="4387680"/>
            <a:ext cx="1486080" cy="1989000"/>
            <a:chOff x="914400" y="4387680"/>
            <a:chExt cx="1486080" cy="1989000"/>
          </a:xfrm>
        </p:grpSpPr>
        <p:grpSp>
          <p:nvGrpSpPr>
            <p:cNvPr id="545" name=""/>
            <p:cNvGrpSpPr/>
            <p:nvPr/>
          </p:nvGrpSpPr>
          <p:grpSpPr>
            <a:xfrm>
              <a:off x="914400" y="4387680"/>
              <a:ext cx="1486080" cy="1514520"/>
              <a:chOff x="914400" y="4387680"/>
              <a:chExt cx="1486080" cy="151452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914400" y="4387680"/>
                <a:ext cx="1486080" cy="1514520"/>
                <a:chOff x="914400" y="4387680"/>
                <a:chExt cx="1486080" cy="15145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914400" y="43876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未知"/>
                <p:cNvSpPr/>
                <p:nvPr/>
              </p:nvSpPr>
              <p:spPr>
                <a:xfrm>
                  <a:off x="1084320" y="44125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1072440" y="51588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1066680" y="5987880"/>
              <a:ext cx="1206720" cy="3888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781680" y="4343400"/>
            <a:ext cx="1523880" cy="2066760"/>
            <a:chOff x="6781680" y="4343400"/>
            <a:chExt cx="1523880" cy="2066760"/>
          </a:xfrm>
        </p:grpSpPr>
        <p:grpSp>
          <p:nvGrpSpPr>
            <p:cNvPr id="552" name=""/>
            <p:cNvGrpSpPr/>
            <p:nvPr/>
          </p:nvGrpSpPr>
          <p:grpSpPr>
            <a:xfrm>
              <a:off x="6781680" y="4343400"/>
              <a:ext cx="1523880" cy="1531800"/>
              <a:chOff x="6781680" y="4343400"/>
              <a:chExt cx="1523880" cy="15318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6781680" y="4343400"/>
                <a:ext cx="1523880" cy="1531800"/>
                <a:chOff x="6781680" y="4343400"/>
                <a:chExt cx="1523880" cy="15318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6781680" y="434340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未知"/>
                <p:cNvSpPr/>
                <p:nvPr/>
              </p:nvSpPr>
              <p:spPr>
                <a:xfrm>
                  <a:off x="6955920" y="436860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6924600" y="50572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6824520" y="5923080"/>
              <a:ext cx="1455840" cy="487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819520" y="4387680"/>
            <a:ext cx="1523880" cy="2089080"/>
            <a:chOff x="2819520" y="4387680"/>
            <a:chExt cx="1523880" cy="2089080"/>
          </a:xfrm>
        </p:grpSpPr>
        <p:grpSp>
          <p:nvGrpSpPr>
            <p:cNvPr id="559" name=""/>
            <p:cNvGrpSpPr/>
            <p:nvPr/>
          </p:nvGrpSpPr>
          <p:grpSpPr>
            <a:xfrm>
              <a:off x="2819520" y="4387680"/>
              <a:ext cx="1523880" cy="1521000"/>
              <a:chOff x="2819520" y="4387680"/>
              <a:chExt cx="1523880" cy="1521000"/>
            </a:xfrm>
          </p:grpSpPr>
          <p:sp>
            <p:nvSpPr>
              <p:cNvPr id="560" name=""/>
              <p:cNvSpPr/>
              <p:nvPr/>
            </p:nvSpPr>
            <p:spPr>
              <a:xfrm>
                <a:off x="2819520" y="43876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b52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>
                <a:off x="2993760" y="44128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2895840" y="51177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19520" y="598788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76920" y="4343400"/>
            <a:ext cx="1523880" cy="2089080"/>
            <a:chOff x="4876920" y="4343400"/>
            <a:chExt cx="1523880" cy="2089080"/>
          </a:xfrm>
        </p:grpSpPr>
        <p:grpSp>
          <p:nvGrpSpPr>
            <p:cNvPr id="565" name=""/>
            <p:cNvGrpSpPr/>
            <p:nvPr/>
          </p:nvGrpSpPr>
          <p:grpSpPr>
            <a:xfrm>
              <a:off x="4876920" y="4343400"/>
              <a:ext cx="1523880" cy="1521000"/>
              <a:chOff x="4876920" y="4343400"/>
              <a:chExt cx="1523880" cy="1521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876920" y="43434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545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5051160" y="4368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987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4953240" y="50734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594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8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5d9cb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3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7e4f8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3d8ee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9f2de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609480" y="148104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4eb6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4eb6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642A-D87C-4D60-B5EA-2D96025957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3080" y="1889280"/>
            <a:ext cx="734544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336708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9066"/>
              </a:gs>
              <a:gs pos="100000">
                <a:srgbClr val="d952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e0e6"/>
              </a:gs>
              <a:gs pos="100000">
                <a:srgbClr val="36a1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7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a4d58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a5d4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ed4f4"/>
                </a:gs>
                <a:gs pos="100000">
                  <a:srgbClr val="4987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48235"/>
                  </a:srgbClr>
                </a:gs>
                <a:gs pos="100000">
                  <a:srgbClr val="396a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27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54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781680" y="617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5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66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6a1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662"/>
                  </a:gs>
                  <a:gs pos="50000">
                    <a:srgbClr val="36a1b6"/>
                  </a:gs>
                  <a:gs pos="100000">
                    <a:srgbClr val="1d56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7632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6a1b6"/>
                </a:solidFill>
                <a:uFillTx/>
                <a:latin typeface="Arial"/>
                <a:hlinkClick r:id="rId2"/>
              </a:rPr>
              <a:t>教学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05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42506"/>
                </a:gs>
                <a:gs pos="50000">
                  <a:srgbClr val="d9520f"/>
                </a:gs>
                <a:gs pos="100000">
                  <a:srgbClr val="6425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9c3b0a"/>
                </a:gs>
                <a:gs pos="50000">
                  <a:srgbClr val="d9520f"/>
                </a:gs>
                <a:gs pos="100000">
                  <a:srgbClr val="9c3b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277483"/>
                </a:gs>
                <a:gs pos="50000">
                  <a:srgbClr val="36a1b6"/>
                </a:gs>
                <a:gs pos="100000">
                  <a:srgbClr val="2774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c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08f4b"/>
                </a:gs>
                <a:gs pos="50000">
                  <a:srgbClr val="9cc769"/>
                </a:gs>
                <a:gs pos="100000">
                  <a:srgbClr val="708f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461a4"/>
                </a:gs>
                <a:gs pos="50000">
                  <a:srgbClr val="4987e3"/>
                </a:gs>
                <a:gs pos="100000">
                  <a:srgbClr val="3461a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4987e3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e3855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100000">
                <a:srgbClr val="72bcc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http://www.eeppt.com</dc:creator>
  <dc:description>ppt模板下载网站 http://www.eeppt.com</dc:description>
  <dc:language>en-US</dc:language>
  <cp:lastModifiedBy/>
  <dcterms:modified xsi:type="dcterms:W3CDTF">2015-06-14T01:11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