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8402-4DD0-47BD-855F-221566A5C7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560" y="381276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8A85-8F4D-4181-B7AE-84665377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048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4D8A-73A8-4C80-8995-18C76DE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1256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2092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56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1256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2092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D9D7-3DF6-4AFA-9F1F-AA5AC2EE4A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131E4-2FB2-4708-BEFC-AB404676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A65A0-4784-419F-B95D-1E0AC9A6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1BEA2-C206-4746-930D-E50AF26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A98FF-55C5-4906-BCC1-928E93DA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2F1A8-A971-4CCB-B059-72DB5C50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3000" y="380880"/>
            <a:ext cx="6781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BA391-6A66-45D7-A9BE-DED8FEAA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5C00E-1317-4A3A-9BFF-2D44FFF0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3148-0E68-44A0-BA23-4B480609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048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BA07B-7534-492E-9869-37FAF95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8A2A8-D2F8-47AB-968A-F9C40CB5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560" y="381276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7254C-C918-4BA2-B9A9-C50C5CA4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048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B1CF1-215B-4397-B811-5B70FF19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1256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2092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56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1256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2092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CB73E-C581-4119-B4B7-FF9D2B36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F871-F0A4-454E-853F-A44E4E6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2EE2-DEBC-428B-B542-727F7326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FFBF-DE62-430E-AA7B-40AB9B4C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43000" y="380880"/>
            <a:ext cx="6781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A541-DCFF-4A74-9B59-BCF2F5EB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7327-B13D-4D42-A214-B594494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048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E92A-2FA6-4510-8347-823C48D6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8A96-C7BB-4D45-A3C2-184DF57D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-22320" y="344520"/>
            <a:ext cx="819324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2" name="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269dd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045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c59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04920" y="6462360"/>
            <a:ext cx="2666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9" name="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8292960" y="6374880"/>
            <a:ext cx="457200" cy="2286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134A-7AD9-4254-972B-1AB4CB870F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未知"/>
          <p:cNvSpPr/>
          <p:nvPr/>
        </p:nvSpPr>
        <p:spPr>
          <a:xfrm>
            <a:off x="-7920" y="2138400"/>
            <a:ext cx="801360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269dd8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181160"/>
            <a:ext cx="67053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42a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42a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3"/>
          </p:nvPr>
        </p:nvSpPr>
        <p:spPr>
          <a:xfrm>
            <a:off x="3886200" y="6527520"/>
            <a:ext cx="1752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542a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542a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304560" y="650196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8292960" y="6413040"/>
            <a:ext cx="4572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8A9D-F2F5-4F8D-ACAD-ABDEEF07C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7560" y="16668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01640" y="2209680"/>
            <a:ext cx="2032200" cy="1717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3366"/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7840" y="3048120"/>
            <a:ext cx="1957320" cy="1717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3366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587600" y="3921120"/>
            <a:ext cx="2033640" cy="1717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3366"/>
            </a:outerShdw>
          </a:effectLst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468440"/>
            <a:ext cx="670536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42aa"/>
                </a:solidFill>
                <a:latin typeface="Arial"/>
              </a:rPr>
              <a:t>蓝色外国</a:t>
            </a:r>
            <a:r>
              <a:rPr b="1" lang="zh-CN" sz="3600" spc="-1" strike="noStrike">
                <a:solidFill>
                  <a:srgbClr val="6542aa"/>
                </a:solidFill>
                <a:latin typeface="Arial"/>
                <a:ea typeface="宋体"/>
              </a:rPr>
              <a:t>PPT</a:t>
            </a:r>
            <a:r>
              <a:rPr b="1" lang="en-US" sz="3600" spc="-1" strike="noStrike">
                <a:solidFill>
                  <a:srgbClr val="6542aa"/>
                </a:solidFill>
                <a:latin typeface="Arial"/>
              </a:rPr>
              <a:t>模板在线下载</a:t>
            </a:r>
            <a:endParaRPr b="1" lang="en-US" sz="3600" spc="-1" strike="noStrike">
              <a:solidFill>
                <a:srgbClr val="6542a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25600" y="3047760"/>
            <a:ext cx="4647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19320" y="1523880"/>
            <a:ext cx="6781680" cy="4114800"/>
            <a:chOff x="1219320" y="1523880"/>
            <a:chExt cx="6781680" cy="4114800"/>
          </a:xfrm>
        </p:grpSpPr>
        <p:sp>
          <p:nvSpPr>
            <p:cNvPr id="276" name=""/>
            <p:cNvSpPr/>
            <p:nvPr/>
          </p:nvSpPr>
          <p:spPr>
            <a:xfrm>
              <a:off x="3722760" y="335268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654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335268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654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335268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654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214776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69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3480" y="214776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21520" y="152856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c59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1520" y="152856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c59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2760" y="16398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82f71"/>
                </a:gs>
                <a:gs pos="50000">
                  <a:srgbClr val="4c59d2"/>
                </a:gs>
                <a:gs pos="100000">
                  <a:srgbClr val="282f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57960" y="164772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c59d2">
                    <a:alpha val="0"/>
                  </a:srgbClr>
                </a:gs>
                <a:gs pos="100000">
                  <a:srgbClr val="3038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1960" y="171108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95640" y="1523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0b5c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640" y="1523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0b5c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06520" y="163332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66169"/>
                </a:gs>
                <a:gs pos="50000">
                  <a:srgbClr val="a0b5c4"/>
                </a:gs>
                <a:gs pos="100000">
                  <a:srgbClr val="56616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08320" y="16365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a0b5c4">
                    <a:alpha val="0"/>
                  </a:srgbClr>
                </a:gs>
                <a:gs pos="100000">
                  <a:srgbClr val="657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81400" y="170820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501920" y="1726920"/>
              <a:ext cx="1290600" cy="1278000"/>
              <a:chOff x="1501920" y="1726920"/>
              <a:chExt cx="1290600" cy="1278000"/>
            </a:xfrm>
          </p:grpSpPr>
          <p:sp>
            <p:nvSpPr>
              <p:cNvPr id="292" name=""/>
              <p:cNvSpPr/>
              <p:nvPr/>
            </p:nvSpPr>
            <p:spPr>
              <a:xfrm>
                <a:off x="1501920" y="17269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18480" y="17337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31800" y="17463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601640" y="17787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759480" y="152856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69dd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59480" y="152856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14863"/>
                </a:gs>
                <a:gs pos="100000">
                  <a:srgbClr val="269dd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70360" y="163980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45474"/>
                </a:gs>
                <a:gs pos="50000">
                  <a:srgbClr val="269dd8"/>
                </a:gs>
                <a:gs pos="100000">
                  <a:srgbClr val="14547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72160" y="1641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69dd8">
                    <a:alpha val="0"/>
                  </a:srgbClr>
                </a:gs>
                <a:gs pos="100000">
                  <a:srgbClr val="1863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43440" y="171108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965760" y="1726920"/>
              <a:ext cx="1290600" cy="1278000"/>
              <a:chOff x="3965760" y="1726920"/>
              <a:chExt cx="1290600" cy="1278000"/>
            </a:xfrm>
          </p:grpSpPr>
          <p:sp>
            <p:nvSpPr>
              <p:cNvPr id="302" name=""/>
              <p:cNvSpPr/>
              <p:nvPr/>
            </p:nvSpPr>
            <p:spPr>
              <a:xfrm>
                <a:off x="3965760" y="17269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982320" y="17337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995640" y="17463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65480" y="17787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435720" y="1726920"/>
              <a:ext cx="1292400" cy="1278000"/>
              <a:chOff x="6435720" y="1726920"/>
              <a:chExt cx="1292400" cy="1278000"/>
            </a:xfrm>
          </p:grpSpPr>
          <p:sp>
            <p:nvSpPr>
              <p:cNvPr id="307" name=""/>
              <p:cNvSpPr/>
              <p:nvPr/>
            </p:nvSpPr>
            <p:spPr>
              <a:xfrm>
                <a:off x="6435720" y="172692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52280" y="173376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65600" y="174636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35800" y="177876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765080" y="2200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33600" y="2200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00680" y="2200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371600" y="1298520"/>
            <a:ext cx="5715000" cy="5330520"/>
            <a:chOff x="1371600" y="1298520"/>
            <a:chExt cx="5715000" cy="5330520"/>
          </a:xfrm>
        </p:grpSpPr>
        <p:sp>
          <p:nvSpPr>
            <p:cNvPr id="317" name=""/>
            <p:cNvSpPr/>
            <p:nvPr/>
          </p:nvSpPr>
          <p:spPr>
            <a:xfrm rot="13770000">
              <a:off x="4702680" y="3882240"/>
              <a:ext cx="1015920" cy="196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ddddd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0856000">
              <a:off x="2679480" y="340380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8394200">
              <a:off x="4837680" y="224316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bebeb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643560" y="2280600"/>
              <a:ext cx="1652400" cy="1684080"/>
              <a:chOff x="3643560" y="2280600"/>
              <a:chExt cx="1652400" cy="16840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3643560" y="2280600"/>
                <a:ext cx="1652400" cy="1684080"/>
                <a:chOff x="3643560" y="2280600"/>
                <a:chExt cx="1652400" cy="1684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560" y="228060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62b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3832200" y="230832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3750120" y="30128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89320" y="1298520"/>
              <a:ext cx="925200" cy="912240"/>
              <a:chOff x="5089320" y="1298520"/>
              <a:chExt cx="925200" cy="9122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089320" y="1298520"/>
                <a:ext cx="894960" cy="912240"/>
                <a:chOff x="5089320" y="1298520"/>
                <a:chExt cx="894960" cy="9122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089320" y="129852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9dd8"/>
                    </a:gs>
                    <a:gs pos="100000">
                      <a:srgbClr val="0926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5191560" y="131364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69d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5105160" y="16491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371600" y="2631960"/>
              <a:ext cx="1789920" cy="1894680"/>
              <a:chOff x="1371600" y="2631960"/>
              <a:chExt cx="1789920" cy="189468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1371600" y="2631960"/>
                <a:ext cx="1789920" cy="1894680"/>
                <a:chOff x="1371600" y="2631960"/>
                <a:chExt cx="1789920" cy="18946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371600" y="263196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547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3" name="未知"/>
                <p:cNvSpPr/>
                <p:nvPr/>
              </p:nvSpPr>
              <p:spPr>
                <a:xfrm>
                  <a:off x="1576080" y="266328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1487520" y="34740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020920" y="4035240"/>
              <a:ext cx="2065680" cy="2105280"/>
              <a:chOff x="5020920" y="4035240"/>
              <a:chExt cx="2065680" cy="210528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5020920" y="4035240"/>
                <a:ext cx="2065680" cy="2105280"/>
                <a:chOff x="5020920" y="4035240"/>
                <a:chExt cx="2065680" cy="21052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020920" y="403524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262d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8" name="未知"/>
                <p:cNvSpPr/>
                <p:nvPr/>
              </p:nvSpPr>
              <p:spPr>
                <a:xfrm>
                  <a:off x="5257080" y="40701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5336280" y="49474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577880" y="45968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81440" y="396828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65080" y="614088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27200" y="228060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46" name="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c59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c59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82f71"/>
                </a:gs>
                <a:gs pos="50000">
                  <a:srgbClr val="4c59d2"/>
                </a:gs>
                <a:gs pos="100000">
                  <a:srgbClr val="282f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c59d2">
                    <a:alpha val="0"/>
                  </a:srgbClr>
                </a:gs>
                <a:gs pos="100000">
                  <a:srgbClr val="3038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71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62120" y="6248520"/>
            <a:ext cx="5906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c59d2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79600" y="1832040"/>
            <a:ext cx="2170080" cy="4034880"/>
            <a:chOff x="579600" y="1832040"/>
            <a:chExt cx="2170080" cy="4034880"/>
          </a:xfrm>
        </p:grpSpPr>
        <p:sp>
          <p:nvSpPr>
            <p:cNvPr id="379" name=""/>
            <p:cNvSpPr/>
            <p:nvPr/>
          </p:nvSpPr>
          <p:spPr>
            <a:xfrm>
              <a:off x="579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30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60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3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1324080" y="1832040"/>
              <a:ext cx="642960" cy="642600"/>
              <a:chOff x="1324080" y="1832040"/>
              <a:chExt cx="642960" cy="642600"/>
            </a:xfrm>
          </p:grpSpPr>
          <p:sp>
            <p:nvSpPr>
              <p:cNvPr id="386" name=""/>
              <p:cNvSpPr/>
              <p:nvPr/>
            </p:nvSpPr>
            <p:spPr>
              <a:xfrm>
                <a:off x="1324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30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38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44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78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464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9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941560" y="1832040"/>
            <a:ext cx="2166840" cy="4034880"/>
            <a:chOff x="2941560" y="1832040"/>
            <a:chExt cx="2166840" cy="4034880"/>
          </a:xfrm>
        </p:grpSpPr>
        <p:sp>
          <p:nvSpPr>
            <p:cNvPr id="394" name=""/>
            <p:cNvSpPr/>
            <p:nvPr/>
          </p:nvSpPr>
          <p:spPr>
            <a:xfrm>
              <a:off x="29415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750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923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923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860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9252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0044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0656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184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260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178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44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9890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297400" y="1832040"/>
            <a:ext cx="2170080" cy="4034880"/>
            <a:chOff x="5297400" y="1832040"/>
            <a:chExt cx="2170080" cy="4034880"/>
          </a:xfrm>
        </p:grpSpPr>
        <p:sp>
          <p:nvSpPr>
            <p:cNvPr id="408" name=""/>
            <p:cNvSpPr/>
            <p:nvPr/>
          </p:nvSpPr>
          <p:spPr>
            <a:xfrm>
              <a:off x="53038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370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546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546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48360" y="1832040"/>
              <a:ext cx="642960" cy="642600"/>
              <a:chOff x="6048360" y="1832040"/>
              <a:chExt cx="642960" cy="642600"/>
            </a:xfrm>
          </p:grpSpPr>
          <p:sp>
            <p:nvSpPr>
              <p:cNvPr id="413" name=""/>
              <p:cNvSpPr/>
              <p:nvPr/>
            </p:nvSpPr>
            <p:spPr>
              <a:xfrm>
                <a:off x="60483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548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627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6924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030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61884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798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974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16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8600" y="1828800"/>
            <a:ext cx="8686800" cy="4188960"/>
            <a:chOff x="228600" y="1828800"/>
            <a:chExt cx="8686800" cy="4188960"/>
          </a:xfrm>
        </p:grpSpPr>
        <p:grpSp>
          <p:nvGrpSpPr>
            <p:cNvPr id="424" name=""/>
            <p:cNvGrpSpPr/>
            <p:nvPr/>
          </p:nvGrpSpPr>
          <p:grpSpPr>
            <a:xfrm>
              <a:off x="228600" y="3238560"/>
              <a:ext cx="8686800" cy="113760"/>
              <a:chOff x="228600" y="3238560"/>
              <a:chExt cx="8686800" cy="113760"/>
            </a:xfrm>
          </p:grpSpPr>
          <p:sp>
            <p:nvSpPr>
              <p:cNvPr id="425" name=""/>
              <p:cNvSpPr/>
              <p:nvPr/>
            </p:nvSpPr>
            <p:spPr>
              <a:xfrm>
                <a:off x="228600" y="3238560"/>
                <a:ext cx="8686800" cy="44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3282120"/>
                <a:ext cx="8686800" cy="7020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167480" y="3525480"/>
                <a:ext cx="1526760" cy="2425680"/>
                <a:chOff x="1167480" y="3525480"/>
                <a:chExt cx="1526760" cy="24256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167480" y="3683520"/>
                  <a:ext cx="1420920" cy="2267640"/>
                  <a:chOff x="1167480" y="3683520"/>
                  <a:chExt cx="1420920" cy="2267640"/>
                </a:xfrm>
              </p:grpSpPr>
              <p:sp>
                <p:nvSpPr>
                  <p:cNvPr id="430" name="未知"/>
                  <p:cNvSpPr/>
                  <p:nvPr/>
                </p:nvSpPr>
                <p:spPr>
                  <a:xfrm rot="3876600">
                    <a:off x="739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未知"/>
                  <p:cNvSpPr/>
                  <p:nvPr/>
                </p:nvSpPr>
                <p:spPr>
                  <a:xfrm rot="3876600">
                    <a:off x="2107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603800" y="3525480"/>
                  <a:ext cx="1090440" cy="1740240"/>
                  <a:chOff x="1603800" y="3525480"/>
                  <a:chExt cx="1090440" cy="1740240"/>
                </a:xfrm>
              </p:grpSpPr>
              <p:sp>
                <p:nvSpPr>
                  <p:cNvPr id="433" name="未知"/>
                  <p:cNvSpPr/>
                  <p:nvPr/>
                </p:nvSpPr>
                <p:spPr>
                  <a:xfrm flipV="1" rot="3876600">
                    <a:off x="127548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未知"/>
                  <p:cNvSpPr/>
                  <p:nvPr/>
                </p:nvSpPr>
                <p:spPr>
                  <a:xfrm flipV="1" rot="3876600">
                    <a:off x="230904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5" name="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3925800">
                <a:off x="158976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2913480" y="3525840"/>
                <a:ext cx="1526760" cy="2425320"/>
                <a:chOff x="2913480" y="3525840"/>
                <a:chExt cx="1526760" cy="242532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2913480" y="3683520"/>
                  <a:ext cx="1420920" cy="2267640"/>
                  <a:chOff x="2913480" y="3683520"/>
                  <a:chExt cx="1420920" cy="2267640"/>
                </a:xfrm>
              </p:grpSpPr>
              <p:sp>
                <p:nvSpPr>
                  <p:cNvPr id="451" name="未知"/>
                  <p:cNvSpPr/>
                  <p:nvPr/>
                </p:nvSpPr>
                <p:spPr>
                  <a:xfrm rot="3876600">
                    <a:off x="2485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未知"/>
                  <p:cNvSpPr/>
                  <p:nvPr/>
                </p:nvSpPr>
                <p:spPr>
                  <a:xfrm rot="3876600">
                    <a:off x="3853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3350160" y="3525840"/>
                  <a:ext cx="1090080" cy="1739880"/>
                  <a:chOff x="3350160" y="3525840"/>
                  <a:chExt cx="1090080" cy="1739880"/>
                </a:xfrm>
              </p:grpSpPr>
              <p:sp>
                <p:nvSpPr>
                  <p:cNvPr id="454" name="未知"/>
                  <p:cNvSpPr/>
                  <p:nvPr/>
                </p:nvSpPr>
                <p:spPr>
                  <a:xfrm flipV="1" rot="3876600">
                    <a:off x="3021840" y="42062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未知"/>
                  <p:cNvSpPr/>
                  <p:nvPr/>
                </p:nvSpPr>
                <p:spPr>
                  <a:xfrm flipV="1" rot="3876600">
                    <a:off x="4055400" y="48877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925800">
                <a:off x="33314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4718520" y="3525480"/>
                <a:ext cx="1526760" cy="2425680"/>
                <a:chOff x="4718520" y="3525480"/>
                <a:chExt cx="1526760" cy="242568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4718520" y="3683520"/>
                  <a:ext cx="1420920" cy="2267640"/>
                  <a:chOff x="4718520" y="3683520"/>
                  <a:chExt cx="1420920" cy="2267640"/>
                </a:xfrm>
              </p:grpSpPr>
              <p:sp>
                <p:nvSpPr>
                  <p:cNvPr id="472" name="未知"/>
                  <p:cNvSpPr/>
                  <p:nvPr/>
                </p:nvSpPr>
                <p:spPr>
                  <a:xfrm rot="3876600">
                    <a:off x="429084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未知"/>
                  <p:cNvSpPr/>
                  <p:nvPr/>
                </p:nvSpPr>
                <p:spPr>
                  <a:xfrm rot="3876600">
                    <a:off x="565848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5154840" y="3525480"/>
                  <a:ext cx="1090440" cy="1740240"/>
                  <a:chOff x="5154840" y="3525480"/>
                  <a:chExt cx="1090440" cy="1740240"/>
                </a:xfrm>
              </p:grpSpPr>
              <p:sp>
                <p:nvSpPr>
                  <p:cNvPr id="475" name="未知"/>
                  <p:cNvSpPr/>
                  <p:nvPr/>
                </p:nvSpPr>
                <p:spPr>
                  <a:xfrm flipV="1" rot="3876600">
                    <a:off x="482652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未知"/>
                  <p:cNvSpPr/>
                  <p:nvPr/>
                </p:nvSpPr>
                <p:spPr>
                  <a:xfrm flipV="1" rot="3876600">
                    <a:off x="586008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7" name="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8" name="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3925800">
                <a:off x="51440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93" name="未知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未知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496" name="未知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未知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8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11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542aa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542aa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542aa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542aa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cxnSp>
            <p:nvCxnSpPr>
              <p:cNvPr id="515" name=""/>
              <p:cNvCxnSpPr>
                <a:stCxn id="511" idx="3"/>
                <a:endCxn id="51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6542aa"/>
                </a:solidFill>
                <a:miter/>
                <a:tailEnd len="med" type="triangle" w="med"/>
              </a:ln>
            </p:spPr>
          </p:cxnSp>
          <p:cxnSp>
            <p:nvCxnSpPr>
              <p:cNvPr id="516" name=""/>
              <p:cNvCxnSpPr>
                <a:stCxn id="512" idx="3"/>
                <a:endCxn id="51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6542aa"/>
                </a:solidFill>
                <a:miter/>
                <a:tailEnd len="med" type="triangle" w="med"/>
              </a:ln>
            </p:spPr>
          </p:cxnSp>
          <p:cxnSp>
            <p:nvCxnSpPr>
              <p:cNvPr id="517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6542aa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518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21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23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69dd8"/>
                  </a:gs>
                  <a:gs pos="100000">
                    <a:srgbClr val="1a6d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c8e8"/>
                  </a:gs>
                  <a:gs pos="50000">
                    <a:srgbClr val="269dd8">
                      <a:alpha val="0"/>
                    </a:srgbClr>
                  </a:gs>
                  <a:gs pos="100000">
                    <a:srgbClr val="88c8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28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30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c86dd"/>
                  </a:gs>
                  <a:gs pos="100000">
                    <a:srgbClr val="4c59d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1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9d2">
                      <a:alpha val="0"/>
                    </a:srgbClr>
                  </a:gs>
                  <a:gs pos="100000">
                    <a:srgbClr val="b2b7e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35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37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0d291"/>
                  </a:gs>
                  <a:gs pos="100000">
                    <a:srgbClr val="85ba5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ba54">
                      <a:alpha val="0"/>
                    </a:srgbClr>
                  </a:gs>
                  <a:gs pos="100000">
                    <a:srgbClr val="c2dca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615168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5608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73440" y="3129120"/>
            <a:ext cx="1563480" cy="273816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25">
                <a:moveTo>
                  <a:pt x="2969" y="0"/>
                </a:moveTo>
                <a:arcTo wR="2969" hR="2969" stAng="16200000" swAng="-5400000"/>
                <a:lnTo>
                  <a:pt x="0" y="34856"/>
                </a:lnTo>
                <a:arcTo wR="2969" hR="2969" stAng="10800000" swAng="-5400000"/>
                <a:lnTo>
                  <a:pt x="18631" y="3782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312912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9" y="0"/>
                </a:moveTo>
                <a:arcTo wR="2969" hR="2969" stAng="16200000" swAng="-5400000"/>
                <a:lnTo>
                  <a:pt x="0" y="33512"/>
                </a:lnTo>
                <a:arcTo wR="2969" hR="2969" stAng="10800000" swAng="-5400000"/>
                <a:lnTo>
                  <a:pt x="18631" y="364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127520" y="1558440"/>
            <a:ext cx="6215400" cy="1324800"/>
            <a:chOff x="1127520" y="1558440"/>
            <a:chExt cx="6215400" cy="1324800"/>
          </a:xfrm>
        </p:grpSpPr>
        <p:sp>
          <p:nvSpPr>
            <p:cNvPr id="547" name=""/>
            <p:cNvSpPr/>
            <p:nvPr/>
          </p:nvSpPr>
          <p:spPr>
            <a:xfrm rot="3418800">
              <a:off x="133524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232960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258280" y="1939680"/>
              <a:ext cx="901080" cy="124200"/>
              <a:chOff x="2258280" y="1939680"/>
              <a:chExt cx="901080" cy="124200"/>
            </a:xfrm>
          </p:grpSpPr>
          <p:sp>
            <p:nvSpPr>
              <p:cNvPr id="549" name=""/>
              <p:cNvSpPr/>
              <p:nvPr/>
            </p:nvSpPr>
            <p:spPr>
              <a:xfrm>
                <a:off x="225828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344680" y="1940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2292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09600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rot="3418800">
              <a:off x="2999880" y="1704240"/>
              <a:ext cx="874080" cy="970920"/>
            </a:xfrm>
            <a:prstGeom prst="rect">
              <a:avLst/>
            </a:prstGeom>
            <a:solidFill>
              <a:srgbClr val="269dd8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922920" y="1939680"/>
              <a:ext cx="901080" cy="124200"/>
              <a:chOff x="3922920" y="1939680"/>
              <a:chExt cx="901080" cy="124200"/>
            </a:xfrm>
          </p:grpSpPr>
          <p:sp>
            <p:nvSpPr>
              <p:cNvPr id="555" name=""/>
              <p:cNvSpPr/>
              <p:nvPr/>
            </p:nvSpPr>
            <p:spPr>
              <a:xfrm>
                <a:off x="3922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09320" y="1940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687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6064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 rot="3418800">
              <a:off x="4595760" y="170388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232960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5587560" y="1939680"/>
              <a:ext cx="1178640" cy="124200"/>
              <a:chOff x="5587560" y="1939680"/>
              <a:chExt cx="1178640" cy="124200"/>
            </a:xfrm>
          </p:grpSpPr>
          <p:sp>
            <p:nvSpPr>
              <p:cNvPr id="561" name=""/>
              <p:cNvSpPr/>
              <p:nvPr/>
            </p:nvSpPr>
            <p:spPr>
              <a:xfrm>
                <a:off x="558756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00600" y="1940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8764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68304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 rot="3418800">
              <a:off x="6260400" y="1703880"/>
              <a:ext cx="874080" cy="971280"/>
            </a:xfrm>
            <a:prstGeom prst="rect">
              <a:avLst/>
            </a:prstGeom>
            <a:solidFill>
              <a:srgbClr val="269dd8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4425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381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843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7956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4900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4280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3804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3364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89040" y="2155680"/>
          <a:ext cx="7537320" cy="3176640"/>
        </p:xfrm>
        <a:graphic>
          <a:graphicData uri="http://schemas.openxmlformats.org/drawingml/2006/table">
            <a:tbl>
              <a:tblPr/>
              <a:tblGrid>
                <a:gridCol w="1700280"/>
                <a:gridCol w="1185840"/>
                <a:gridCol w="1163520"/>
                <a:gridCol w="1160640"/>
                <a:gridCol w="1166760"/>
                <a:gridCol w="1160280"/>
              </a:tblGrid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542aa"/>
                      </a:solidFill>
                    </a:lnR>
                    <a:lnT>
                      <a:noFill/>
                    </a:lnT>
                    <a:lnB w="5760">
                      <a:solidFill>
                        <a:srgbClr val="6542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269d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269dd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269d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269dd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269dd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78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878fe0"/>
                </a:gs>
                <a:gs pos="100000">
                  <a:srgbClr val="4c59d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75f82"/>
                </a:gs>
                <a:gs pos="100000">
                  <a:srgbClr val="269dd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48642d"/>
                </a:gs>
                <a:gs pos="100000">
                  <a:srgbClr val="85ba54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90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b5c4"/>
                  </a:gs>
                  <a:gs pos="100000">
                    <a:srgbClr val="606d7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9535a"/>
                  </a:gs>
                  <a:gs pos="100000">
                    <a:srgbClr val="a0b5c4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35a"/>
                  </a:gs>
                  <a:gs pos="100000">
                    <a:srgbClr val="a0b5c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336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600" name=""/>
            <p:cNvSpPr/>
            <p:nvPr/>
          </p:nvSpPr>
          <p:spPr>
            <a:xfrm>
              <a:off x="1752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45575"/>
                </a:gs>
                <a:gs pos="50000">
                  <a:srgbClr val="269dd8"/>
                </a:gs>
                <a:gs pos="100000">
                  <a:srgbClr val="145575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89840" y="28195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5ba54"/>
                      </a:gs>
                      <a:gs pos="100000">
                        <a:srgbClr val="54753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5ba5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612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0b5c4"/>
                      </a:gs>
                      <a:gs pos="100000">
                        <a:srgbClr val="262b2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0b5c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5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>
                <a:off x="678168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262d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20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25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9dd8"/>
                      </a:gs>
                      <a:gs pos="100000">
                        <a:srgbClr val="13506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269dd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8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28800" y="2100240"/>
            <a:ext cx="5410080" cy="665280"/>
            <a:chOff x="1828800" y="2100240"/>
            <a:chExt cx="5410080" cy="665280"/>
          </a:xfrm>
        </p:grpSpPr>
        <p:grpSp>
          <p:nvGrpSpPr>
            <p:cNvPr id="105" name=""/>
            <p:cNvGrpSpPr/>
            <p:nvPr/>
          </p:nvGrpSpPr>
          <p:grpSpPr>
            <a:xfrm>
              <a:off x="1828800" y="2100240"/>
              <a:ext cx="762120" cy="665280"/>
              <a:chOff x="1828800" y="2100240"/>
              <a:chExt cx="762120" cy="665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834920" y="2111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2880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73080" y="21394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c59d2"/>
                  </a:gs>
                  <a:gs pos="100000">
                    <a:srgbClr val="232960"/>
                  </a:gs>
                </a:gsLst>
                <a:lin ang="135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438280" y="270972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212256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27520" y="2198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28800" y="3014640"/>
            <a:ext cx="5410080" cy="665280"/>
            <a:chOff x="1828800" y="3014640"/>
            <a:chExt cx="5410080" cy="665280"/>
          </a:xfrm>
        </p:grpSpPr>
        <p:grpSp>
          <p:nvGrpSpPr>
            <p:cNvPr id="113" name=""/>
            <p:cNvGrpSpPr/>
            <p:nvPr/>
          </p:nvGrpSpPr>
          <p:grpSpPr>
            <a:xfrm>
              <a:off x="1828800" y="3014640"/>
              <a:ext cx="762120" cy="665280"/>
              <a:chOff x="1828800" y="3014640"/>
              <a:chExt cx="762120" cy="665280"/>
            </a:xfrm>
          </p:grpSpPr>
          <p:sp>
            <p:nvSpPr>
              <p:cNvPr id="114" name=""/>
              <p:cNvSpPr/>
              <p:nvPr/>
            </p:nvSpPr>
            <p:spPr>
              <a:xfrm>
                <a:off x="1834920" y="30258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2880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73080" y="30538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69dd8"/>
                  </a:gs>
                  <a:gs pos="100000">
                    <a:srgbClr val="114863"/>
                  </a:gs>
                </a:gsLst>
                <a:lin ang="135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438280" y="362412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1800" y="303696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7520" y="311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3906720"/>
            <a:ext cx="5410080" cy="665280"/>
            <a:chOff x="1828800" y="3906720"/>
            <a:chExt cx="5410080" cy="665280"/>
          </a:xfrm>
        </p:grpSpPr>
        <p:grpSp>
          <p:nvGrpSpPr>
            <p:cNvPr id="121" name=""/>
            <p:cNvGrpSpPr/>
            <p:nvPr/>
          </p:nvGrpSpPr>
          <p:grpSpPr>
            <a:xfrm>
              <a:off x="1828800" y="3906720"/>
              <a:ext cx="762120" cy="665280"/>
              <a:chOff x="1828800" y="3906720"/>
              <a:chExt cx="762120" cy="665280"/>
            </a:xfrm>
          </p:grpSpPr>
          <p:sp>
            <p:nvSpPr>
              <p:cNvPr id="122" name=""/>
              <p:cNvSpPr/>
              <p:nvPr/>
            </p:nvSpPr>
            <p:spPr>
              <a:xfrm>
                <a:off x="1834920" y="3917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880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73080" y="3945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c59d2"/>
                  </a:gs>
                  <a:gs pos="100000">
                    <a:srgbClr val="232960"/>
                  </a:gs>
                </a:gsLst>
                <a:lin ang="135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438280" y="451620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392904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27520" y="400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828800" y="4821120"/>
            <a:ext cx="5410080" cy="665280"/>
            <a:chOff x="1828800" y="4821120"/>
            <a:chExt cx="5410080" cy="665280"/>
          </a:xfrm>
        </p:grpSpPr>
        <p:grpSp>
          <p:nvGrpSpPr>
            <p:cNvPr id="129" name=""/>
            <p:cNvGrpSpPr/>
            <p:nvPr/>
          </p:nvGrpSpPr>
          <p:grpSpPr>
            <a:xfrm>
              <a:off x="1828800" y="4821120"/>
              <a:ext cx="762120" cy="665280"/>
              <a:chOff x="1828800" y="4821120"/>
              <a:chExt cx="762120" cy="665280"/>
            </a:xfrm>
          </p:grpSpPr>
          <p:sp>
            <p:nvSpPr>
              <p:cNvPr id="130" name=""/>
              <p:cNvSpPr/>
              <p:nvPr/>
            </p:nvSpPr>
            <p:spPr>
              <a:xfrm>
                <a:off x="1834920" y="4832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4821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73080" y="4860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69dd8"/>
                  </a:gs>
                  <a:gs pos="100000">
                    <a:srgbClr val="114863"/>
                  </a:gs>
                </a:gsLst>
                <a:lin ang="135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438280" y="543060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484344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2752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2209680" y="12952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5ba54"/>
                    </a:gs>
                    <a:gs pos="100000">
                      <a:srgbClr val="269dd8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5ba54"/>
                  </a:gs>
                  <a:gs pos="100000">
                    <a:srgbClr val="269dd8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3428640" y="3048120"/>
            <a:ext cx="4452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63244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3093-7C41-452E-BD18-9A4E69E0F3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7360" y="1447560"/>
            <a:ext cx="776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c59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542aa"/>
                </a:solidFill>
                <a:latin typeface="Arial"/>
              </a:rPr>
              <a:t>On the </a:t>
            </a:r>
            <a:r>
              <a:rPr b="1" lang="en-US" sz="2500" spc="-1" strike="noStrike">
                <a:solidFill>
                  <a:srgbClr val="269dd8"/>
                </a:solidFill>
                <a:latin typeface="Arial"/>
              </a:rPr>
              <a:t>[View]</a:t>
            </a:r>
            <a:r>
              <a:rPr b="1" lang="en-US" sz="2500" spc="-1" strike="noStrike">
                <a:solidFill>
                  <a:srgbClr val="6542aa"/>
                </a:solidFill>
                <a:latin typeface="Arial"/>
              </a:rPr>
              <a:t> menu, point to </a:t>
            </a:r>
            <a:r>
              <a:rPr b="1" lang="en-US" sz="2500" spc="-1" strike="noStrike">
                <a:solidFill>
                  <a:srgbClr val="269dd8"/>
                </a:solidFill>
                <a:latin typeface="Arial"/>
              </a:rPr>
              <a:t>[Master],</a:t>
            </a:r>
            <a:r>
              <a:rPr b="1" lang="en-US" sz="2500" spc="-1" strike="noStrike">
                <a:solidFill>
                  <a:srgbClr val="6542aa"/>
                </a:solidFill>
                <a:latin typeface="Arial"/>
              </a:rPr>
              <a:t> and then click </a:t>
            </a:r>
            <a:r>
              <a:rPr b="1" lang="en-US" sz="2500" spc="-1" strike="noStrike">
                <a:solidFill>
                  <a:srgbClr val="269dd8"/>
                </a:solidFill>
                <a:latin typeface="Arial"/>
              </a:rPr>
              <a:t>[Slide Master]</a:t>
            </a:r>
            <a:r>
              <a:rPr b="1" lang="en-US" sz="2500" spc="-1" strike="noStrike">
                <a:solidFill>
                  <a:srgbClr val="6542aa"/>
                </a:solidFill>
                <a:latin typeface="Arial"/>
              </a:rPr>
              <a:t> or </a:t>
            </a:r>
            <a:r>
              <a:rPr b="1" lang="en-US" sz="2500" spc="-1" strike="noStrike">
                <a:solidFill>
                  <a:srgbClr val="269dd8"/>
                </a:solidFill>
                <a:latin typeface="Arial"/>
              </a:rPr>
              <a:t>[Notes Master].</a:t>
            </a:r>
            <a:r>
              <a:rPr b="1" lang="en-US" sz="2500" spc="-1" strike="noStrike">
                <a:solidFill>
                  <a:srgbClr val="6542aa"/>
                </a:solidFill>
                <a:latin typeface="Arial"/>
              </a:rPr>
              <a:t> Change images to the one you like, then it will apply to all the other slides.</a:t>
            </a:r>
            <a:r>
              <a:rPr b="1" lang="en-US" sz="2800" spc="-1" strike="noStrike">
                <a:solidFill>
                  <a:srgbClr val="6542aa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6542a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5105520"/>
            <a:ext cx="632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Title Image –  www.multibits.co.kr - CD: School Days (EyeWire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41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0d291"/>
              </a:gs>
              <a:gs pos="100000">
                <a:srgbClr val="85ba5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45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42b65"/>
                    </a:gs>
                    <a:gs pos="100000">
                      <a:srgbClr val="4c59d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aeb4e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69dd8"/>
                  </a:gs>
                  <a:gs pos="100000">
                    <a:srgbClr val="11486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2dbf0"/>
                  </a:gs>
                  <a:gs pos="100000">
                    <a:srgbClr val="269dd8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269dd8">
                      <a:alpha val="48235"/>
                    </a:srgbClr>
                  </a:gs>
                  <a:gs pos="100000">
                    <a:srgbClr val="1d7ba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269dd8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55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7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5c9ef"/>
              </a:gs>
              <a:gs pos="100000">
                <a:srgbClr val="4c59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6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e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269dd8"/>
                </a:gs>
                <a:gs pos="100000">
                  <a:srgbClr val="0b31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73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74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14863"/>
                </a:gs>
                <a:gs pos="50000">
                  <a:srgbClr val="269dd8"/>
                </a:gs>
                <a:gs pos="100000">
                  <a:srgbClr val="114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0"/>
                </a:gs>
                <a:gs pos="50000">
                  <a:srgbClr val="4c59d2"/>
                </a:gs>
                <a:gs pos="100000">
                  <a:srgbClr val="2329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3000" y="1905120"/>
            <a:ext cx="6705720" cy="3352320"/>
            <a:chOff x="1143000" y="1905120"/>
            <a:chExt cx="6705720" cy="3352320"/>
          </a:xfrm>
        </p:grpSpPr>
        <p:grpSp>
          <p:nvGrpSpPr>
            <p:cNvPr id="198" name=""/>
            <p:cNvGrpSpPr/>
            <p:nvPr/>
          </p:nvGrpSpPr>
          <p:grpSpPr>
            <a:xfrm>
              <a:off x="3009240" y="1905120"/>
              <a:ext cx="2900160" cy="2705400"/>
              <a:chOff x="3009240" y="1905120"/>
              <a:chExt cx="2900160" cy="2705400"/>
            </a:xfrm>
          </p:grpSpPr>
          <p:sp>
            <p:nvSpPr>
              <p:cNvPr id="199" name=""/>
              <p:cNvSpPr/>
              <p:nvPr/>
            </p:nvSpPr>
            <p:spPr>
              <a:xfrm flipH="1" rot="16200000">
                <a:off x="2927880" y="295056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c1b4dc"/>
                  </a:gs>
                  <a:gs pos="100000">
                    <a:srgbClr val="6542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5400000">
                <a:off x="5531400" y="28994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c1b4dc"/>
                  </a:gs>
                  <a:gs pos="100000">
                    <a:srgbClr val="6542a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10800000">
                <a:off x="4239360" y="4304880"/>
                <a:ext cx="44424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c1b4dc"/>
                  </a:gs>
                  <a:gs pos="100000">
                    <a:srgbClr val="6542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305880" y="190512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720" y="204012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60040" y="2166480"/>
                <a:ext cx="182016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59d2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60040" y="2166480"/>
                <a:ext cx="182016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79920" y="2289960"/>
                <a:ext cx="1580760" cy="1631520"/>
              </a:xfrm>
              <a:prstGeom prst="ellipse">
                <a:avLst/>
              </a:prstGeom>
              <a:gradFill rotWithShape="0">
                <a:gsLst>
                  <a:gs pos="0">
                    <a:srgbClr val="282f71"/>
                  </a:gs>
                  <a:gs pos="50000">
                    <a:srgbClr val="4c59d2"/>
                  </a:gs>
                  <a:gs pos="100000">
                    <a:srgbClr val="282f7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79920" y="2289960"/>
                <a:ext cx="158076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143000" y="340308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526"/>
                </a:gs>
                <a:gs pos="50000">
                  <a:srgbClr val="85ba54"/>
                </a:gs>
                <a:gs pos="100000">
                  <a:srgbClr val="3d55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3000" y="29034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526"/>
                </a:gs>
                <a:gs pos="50000">
                  <a:srgbClr val="85ba54"/>
                </a:gs>
                <a:gs pos="100000">
                  <a:srgbClr val="3d55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526"/>
                </a:gs>
                <a:gs pos="50000">
                  <a:srgbClr val="85ba54"/>
                </a:gs>
                <a:gs pos="100000">
                  <a:srgbClr val="3d55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0360" y="340308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863"/>
                </a:gs>
                <a:gs pos="50000">
                  <a:srgbClr val="269dd8"/>
                </a:gs>
                <a:gs pos="100000">
                  <a:srgbClr val="114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20360" y="29034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863"/>
                </a:gs>
                <a:gs pos="50000">
                  <a:srgbClr val="269dd8"/>
                </a:gs>
                <a:gs pos="100000">
                  <a:srgbClr val="114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20360" y="24044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863"/>
                </a:gs>
                <a:gs pos="50000">
                  <a:srgbClr val="269dd8"/>
                </a:gs>
                <a:gs pos="100000">
                  <a:srgbClr val="114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7532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02520" y="475848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8832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8832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8832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520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520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8520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24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8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5526"/>
                  </a:gs>
                  <a:gs pos="50000">
                    <a:srgbClr val="85ba54"/>
                  </a:gs>
                  <a:gs pos="100000">
                    <a:srgbClr val="3d552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85b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2960"/>
                  </a:gs>
                  <a:gs pos="50000">
                    <a:srgbClr val="4c59d2"/>
                  </a:gs>
                  <a:gs pos="100000">
                    <a:srgbClr val="23296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4c5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35a"/>
                  </a:gs>
                  <a:gs pos="50000">
                    <a:srgbClr val="a0b5c4"/>
                  </a:gs>
                  <a:gs pos="100000">
                    <a:srgbClr val="49535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4863"/>
                  </a:gs>
                  <a:gs pos="50000">
                    <a:srgbClr val="269dd8"/>
                  </a:gs>
                  <a:gs pos="100000">
                    <a:srgbClr val="11486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69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0863c"/>
                  </a:gs>
                  <a:gs pos="50000">
                    <a:srgbClr val="85ba54"/>
                  </a:gs>
                  <a:gs pos="100000">
                    <a:srgbClr val="60863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364097"/>
                  </a:gs>
                  <a:gs pos="50000">
                    <a:srgbClr val="4c59d2"/>
                  </a:gs>
                  <a:gs pos="100000">
                    <a:srgbClr val="3640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73828d"/>
                  </a:gs>
                  <a:gs pos="50000">
                    <a:srgbClr val="a0b5c4"/>
                  </a:gs>
                  <a:gs pos="100000">
                    <a:srgbClr val="7382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1b719c"/>
                  </a:gs>
                  <a:gs pos="50000">
                    <a:srgbClr val="269dd8"/>
                  </a:gs>
                  <a:gs pos="100000">
                    <a:srgbClr val="1b719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53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5b67d5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5526"/>
                </a:gs>
                <a:gs pos="50000">
                  <a:srgbClr val="85ba54"/>
                </a:gs>
                <a:gs pos="100000">
                  <a:srgbClr val="3d55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c59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2960"/>
                </a:gs>
                <a:gs pos="50000">
                  <a:srgbClr val="4c59d2"/>
                </a:gs>
                <a:gs pos="100000">
                  <a:srgbClr val="2329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c7d3dc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66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a0b5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d454b"/>
                  </a:gs>
                  <a:gs pos="50000">
                    <a:srgbClr val="a0b5c4"/>
                  </a:gs>
                  <a:gs pos="100000">
                    <a:srgbClr val="3d45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1:13:41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