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9653-73C4-46FC-8C23-2A0065A26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3AED-6D35-41E7-9CE6-5FE389A61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0B19-9578-451A-AA81-2D2F6292F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15BF-0DAA-4DB9-B28B-B81D035E3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34D4-F528-436E-BC8B-C3CB351B2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AD2A-8231-410C-9F5B-C459C4BD2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F0A7-6B34-4746-8496-20E74E044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3C49-2009-4111-A438-6CED8133F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4C60-6FBB-44FB-AB6B-1E8105935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67A6-4386-4F32-B060-A55C5B9DB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DC39-EDCB-4799-B0C1-F23644DDA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B210-6BE2-43FD-82C6-10D48B56C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57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2572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078-4E5B-4E32-B206-5987AE0370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572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61722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绿色竹溪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7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25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57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2e16"/>
                </a:gs>
                <a:gs pos="50000">
                  <a:srgbClr val="b2572a"/>
                </a:gs>
                <a:gs pos="100000">
                  <a:srgbClr val="5f2e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037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b3ca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b3ca8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8205a"/>
                </a:gs>
                <a:gs pos="50000">
                  <a:srgbClr val="4b3ca8"/>
                </a:gs>
                <a:gs pos="100000">
                  <a:srgbClr val="2820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b3ca8">
                    <a:alpha val="0"/>
                  </a:srgbClr>
                </a:gs>
                <a:gs pos="100000">
                  <a:srgbClr val="2f25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7a19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e5653"/>
                </a:gs>
                <a:gs pos="50000">
                  <a:srgbClr val="57a19a"/>
                </a:gs>
                <a:gs pos="100000">
                  <a:srgbClr val="2e56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7a19a">
                    <a:alpha val="0"/>
                  </a:srgbClr>
                </a:gs>
                <a:gs pos="100000">
                  <a:srgbClr val="3765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23880" y="1676520"/>
            <a:ext cx="5181480" cy="4084560"/>
            <a:chOff x="1523880" y="1676520"/>
            <a:chExt cx="5181480" cy="4084560"/>
          </a:xfrm>
        </p:grpSpPr>
        <p:sp>
          <p:nvSpPr>
            <p:cNvPr id="287" name=""/>
            <p:cNvSpPr/>
            <p:nvPr/>
          </p:nvSpPr>
          <p:spPr>
            <a:xfrm rot="13770000">
              <a:off x="4579560" y="38523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856000">
              <a:off x="2709360" y="34524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394200">
              <a:off x="4686480" y="2468160"/>
              <a:ext cx="531720" cy="122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84520" y="2505240"/>
              <a:ext cx="1498680" cy="1420920"/>
              <a:chOff x="3584520" y="2505240"/>
              <a:chExt cx="1498680" cy="14209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84520" y="2505240"/>
                <a:ext cx="1498680" cy="1420920"/>
                <a:chOff x="3584520" y="2505240"/>
                <a:chExt cx="1498680" cy="14209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84520" y="2505240"/>
                  <a:ext cx="1498680" cy="142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3ca8"/>
                    </a:gs>
                    <a:gs pos="100000">
                      <a:srgbClr val="120e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>
                  <a:off x="3755880" y="252864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3c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3616920" y="31230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896000" y="1676520"/>
              <a:ext cx="834840" cy="770040"/>
              <a:chOff x="4896000" y="1676520"/>
              <a:chExt cx="834840" cy="770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896000" y="1676520"/>
                <a:ext cx="810000" cy="770040"/>
                <a:chOff x="4896000" y="1676520"/>
                <a:chExt cx="810000" cy="7700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896000" y="1676520"/>
                  <a:ext cx="810000" cy="77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1526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4988520" y="1689120"/>
                  <a:ext cx="62496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7a1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4916160" y="19738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523880" y="2800440"/>
              <a:ext cx="1622520" cy="1598760"/>
              <a:chOff x="1523880" y="2800440"/>
              <a:chExt cx="1622520" cy="15987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523880" y="2800440"/>
                <a:ext cx="1622520" cy="1598760"/>
                <a:chOff x="1523880" y="2800440"/>
                <a:chExt cx="1622520" cy="1598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523880" y="2800440"/>
                  <a:ext cx="1622520" cy="159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ba4c"/>
                    </a:gs>
                    <a:gs pos="100000">
                      <a:srgbClr val="6f75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1709280" y="2826720"/>
                  <a:ext cx="1251720" cy="603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0ba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557000" y="35118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32280" y="3984840"/>
              <a:ext cx="1873080" cy="1776240"/>
              <a:chOff x="4832280" y="3984840"/>
              <a:chExt cx="1873080" cy="17762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832280" y="3984840"/>
                <a:ext cx="1873080" cy="1776240"/>
                <a:chOff x="4832280" y="3984840"/>
                <a:chExt cx="1873080" cy="17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832280" y="3984840"/>
                  <a:ext cx="1873080" cy="177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5b2c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5046120" y="401400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257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5046120" y="47545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43560" y="1981080"/>
            <a:ext cx="7282440" cy="3770280"/>
            <a:chOff x="943560" y="1981080"/>
            <a:chExt cx="7282440" cy="3770280"/>
          </a:xfrm>
        </p:grpSpPr>
        <p:sp>
          <p:nvSpPr>
            <p:cNvPr id="312" name=""/>
            <p:cNvSpPr/>
            <p:nvPr/>
          </p:nvSpPr>
          <p:spPr>
            <a:xfrm rot="17973000">
              <a:off x="4750560" y="26848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3465600">
              <a:off x="4801320" y="47948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4368800">
              <a:off x="3582000" y="27072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534800">
              <a:off x="3543840" y="4761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84880" y="3763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2974680" y="37569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7a19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95680" y="20066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4704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57960" y="19810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144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7040" y="53337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3560" y="3733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81640" y="5271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2760" y="378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716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72280" y="2133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91200" y="53337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72280" y="5333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86680" y="3771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7dca7"/>
                </a:gs>
                <a:gs pos="100000">
                  <a:srgbClr val="b0b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35720" y="3036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572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40400" y="30351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2572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6600" y="31464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f2e16"/>
                </a:gs>
                <a:gs pos="50000">
                  <a:srgbClr val="b2572a"/>
                </a:gs>
                <a:gs pos="100000">
                  <a:srgbClr val="5f2e1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43360" y="31496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b2572a">
                    <a:alpha val="0"/>
                  </a:srgbClr>
                </a:gs>
                <a:gs pos="100000">
                  <a:srgbClr val="70371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21120" y="32209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942000" y="3240000"/>
              <a:ext cx="1290600" cy="1278000"/>
              <a:chOff x="3942000" y="3240000"/>
              <a:chExt cx="1290600" cy="1278000"/>
            </a:xfrm>
          </p:grpSpPr>
          <p:sp>
            <p:nvSpPr>
              <p:cNvPr id="337" name=""/>
              <p:cNvSpPr/>
              <p:nvPr/>
            </p:nvSpPr>
            <p:spPr>
              <a:xfrm>
                <a:off x="3942000" y="32400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8560" y="32468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71880" y="32594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41720" y="32918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20516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066680" y="1905120"/>
            <a:ext cx="2163600" cy="3165480"/>
            <a:chOff x="1066680" y="1905120"/>
            <a:chExt cx="2163600" cy="3165480"/>
          </a:xfrm>
        </p:grpSpPr>
        <p:sp>
          <p:nvSpPr>
            <p:cNvPr id="344" name=""/>
            <p:cNvSpPr/>
            <p:nvPr/>
          </p:nvSpPr>
          <p:spPr>
            <a:xfrm>
              <a:off x="106668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016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1744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1744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11160" y="1905120"/>
              <a:ext cx="642960" cy="642960"/>
              <a:chOff x="1811160" y="1905120"/>
              <a:chExt cx="642960" cy="642960"/>
            </a:xfrm>
          </p:grpSpPr>
          <p:sp>
            <p:nvSpPr>
              <p:cNvPr id="349" name=""/>
              <p:cNvSpPr/>
              <p:nvPr/>
            </p:nvSpPr>
            <p:spPr>
              <a:xfrm>
                <a:off x="1811160" y="19051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17640" y="19098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25560" y="19137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2040" y="19195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65880" y="19350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95120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300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29000" y="1905120"/>
            <a:ext cx="2163600" cy="3165480"/>
            <a:chOff x="3429000" y="1905120"/>
            <a:chExt cx="2163600" cy="3165480"/>
          </a:xfrm>
        </p:grpSpPr>
        <p:sp>
          <p:nvSpPr>
            <p:cNvPr id="357" name=""/>
            <p:cNvSpPr/>
            <p:nvPr/>
          </p:nvSpPr>
          <p:spPr>
            <a:xfrm>
              <a:off x="342900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7976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976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3480" y="19051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9960" y="19098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87880" y="19130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94000" y="19195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29280" y="19353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352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791320" y="1905120"/>
            <a:ext cx="2163600" cy="3165480"/>
            <a:chOff x="5791320" y="1905120"/>
            <a:chExt cx="2163600" cy="3165480"/>
          </a:xfrm>
        </p:grpSpPr>
        <p:sp>
          <p:nvSpPr>
            <p:cNvPr id="369" name=""/>
            <p:cNvSpPr/>
            <p:nvPr/>
          </p:nvSpPr>
          <p:spPr>
            <a:xfrm>
              <a:off x="5791320" y="22129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24800" y="22212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42080" y="42847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22431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535800" y="1905120"/>
              <a:ext cx="642960" cy="642960"/>
              <a:chOff x="6535800" y="1905120"/>
              <a:chExt cx="642960" cy="642960"/>
            </a:xfrm>
          </p:grpSpPr>
          <p:sp>
            <p:nvSpPr>
              <p:cNvPr id="374" name=""/>
              <p:cNvSpPr/>
              <p:nvPr/>
            </p:nvSpPr>
            <p:spPr>
              <a:xfrm>
                <a:off x="6535800" y="19051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42280" y="19098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50200" y="19137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6680" y="19195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90520" y="19350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675840" y="19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640" y="26672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2031840"/>
            <a:ext cx="9144000" cy="3985920"/>
            <a:chOff x="0" y="2031840"/>
            <a:chExt cx="9144000" cy="3985920"/>
          </a:xfrm>
        </p:grpSpPr>
        <p:grpSp>
          <p:nvGrpSpPr>
            <p:cNvPr id="384" name=""/>
            <p:cNvGrpSpPr/>
            <p:nvPr/>
          </p:nvGrpSpPr>
          <p:grpSpPr>
            <a:xfrm>
              <a:off x="0" y="3238200"/>
              <a:ext cx="9144000" cy="150480"/>
              <a:chOff x="0" y="3238200"/>
              <a:chExt cx="9144000" cy="15048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238200"/>
                <a:ext cx="9144000" cy="59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295800"/>
                <a:ext cx="9144000" cy="9288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62120" y="2685960"/>
              <a:ext cx="1932120" cy="3264840"/>
              <a:chOff x="762120" y="2685960"/>
              <a:chExt cx="1932120" cy="32648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167480" y="3525120"/>
                <a:ext cx="1526760" cy="2425680"/>
                <a:chOff x="1167480" y="3525120"/>
                <a:chExt cx="1526760" cy="242568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167480" y="3683160"/>
                  <a:ext cx="1420920" cy="2267640"/>
                  <a:chOff x="1167480" y="3683160"/>
                  <a:chExt cx="1420920" cy="2267640"/>
                </a:xfrm>
              </p:grpSpPr>
              <p:sp>
                <p:nvSpPr>
                  <p:cNvPr id="390" name="未知"/>
                  <p:cNvSpPr/>
                  <p:nvPr/>
                </p:nvSpPr>
                <p:spPr>
                  <a:xfrm rot="3876600">
                    <a:off x="739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未知"/>
                  <p:cNvSpPr/>
                  <p:nvPr/>
                </p:nvSpPr>
                <p:spPr>
                  <a:xfrm rot="3876600">
                    <a:off x="2107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1603800" y="3525120"/>
                  <a:ext cx="1090440" cy="1740240"/>
                  <a:chOff x="1603800" y="3525120"/>
                  <a:chExt cx="1090440" cy="1740240"/>
                </a:xfrm>
              </p:grpSpPr>
              <p:sp>
                <p:nvSpPr>
                  <p:cNvPr id="393" name="未知"/>
                  <p:cNvSpPr/>
                  <p:nvPr/>
                </p:nvSpPr>
                <p:spPr>
                  <a:xfrm flipV="1" rot="3876600">
                    <a:off x="127548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未知"/>
                  <p:cNvSpPr/>
                  <p:nvPr/>
                </p:nvSpPr>
                <p:spPr>
                  <a:xfrm flipV="1" rot="3876600">
                    <a:off x="230904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5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6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925800">
                <a:off x="158976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509920" y="2685960"/>
              <a:ext cx="1930320" cy="3264840"/>
              <a:chOff x="2509920" y="2685960"/>
              <a:chExt cx="1930320" cy="326484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2913480" y="3525480"/>
                <a:ext cx="1526760" cy="2425320"/>
                <a:chOff x="2913480" y="3525480"/>
                <a:chExt cx="1526760" cy="24253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913480" y="3683160"/>
                  <a:ext cx="1420920" cy="2267640"/>
                  <a:chOff x="2913480" y="3683160"/>
                  <a:chExt cx="1420920" cy="226764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rot="3876600">
                    <a:off x="248580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rot="3876600">
                    <a:off x="385344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350160" y="3525480"/>
                  <a:ext cx="1090080" cy="1739880"/>
                  <a:chOff x="3350160" y="3525480"/>
                  <a:chExt cx="1090080" cy="173988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 flipV="1" rot="3876600">
                    <a:off x="3021840" y="420588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 flipV="1" rot="3876600">
                    <a:off x="4055400" y="488736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33314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313160" y="2685960"/>
              <a:ext cx="1932120" cy="3264840"/>
              <a:chOff x="4313160" y="2685960"/>
              <a:chExt cx="1932120" cy="326484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4718520" y="3525120"/>
                <a:ext cx="1526760" cy="2425680"/>
                <a:chOff x="4718520" y="3525120"/>
                <a:chExt cx="1526760" cy="242568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4718520" y="3683160"/>
                  <a:ext cx="1420920" cy="2267640"/>
                  <a:chOff x="4718520" y="3683160"/>
                  <a:chExt cx="1420920" cy="226764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rot="3876600">
                    <a:off x="4290840" y="457056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rot="3876600">
                    <a:off x="5658480" y="544968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5154840" y="3525120"/>
                  <a:ext cx="1090440" cy="1740240"/>
                  <a:chOff x="5154840" y="3525120"/>
                  <a:chExt cx="1090440" cy="1740240"/>
                </a:xfrm>
              </p:grpSpPr>
              <p:sp>
                <p:nvSpPr>
                  <p:cNvPr id="435" name="未知"/>
                  <p:cNvSpPr/>
                  <p:nvPr/>
                </p:nvSpPr>
                <p:spPr>
                  <a:xfrm flipV="1" rot="3876600">
                    <a:off x="4826520" y="420588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未知"/>
                  <p:cNvSpPr/>
                  <p:nvPr/>
                </p:nvSpPr>
                <p:spPr>
                  <a:xfrm flipV="1" rot="3876600">
                    <a:off x="5860080" y="488772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5144040" y="4222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56" name="未知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未知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471" name="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5" name=""/>
              <p:cNvCxnSpPr>
                <a:stCxn id="471" idx="3"/>
                <a:endCxn id="472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476" name=""/>
              <p:cNvCxnSpPr>
                <a:stCxn id="472" idx="3"/>
                <a:endCxn id="473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477" name="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480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481" name="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3c6f6b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2cac7"/>
                    </a:gs>
                    <a:gs pos="50000">
                      <a:srgbClr val="57a19a">
                        <a:alpha val="0"/>
                      </a:srgbClr>
                    </a:gs>
                    <a:gs pos="100000">
                      <a:srgbClr val="a2ca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488" name="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c68464"/>
                    </a:gs>
                    <a:gs pos="100000">
                      <a:srgbClr val="b2572a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572a">
                        <a:alpha val="0"/>
                      </a:srgbClr>
                    </a:gs>
                    <a:gs pos="100000">
                      <a:srgbClr val="ddb7a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495" name="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c82c6"/>
                    </a:gs>
                    <a:gs pos="100000">
                      <a:srgbClr val="4b3ca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3ca8">
                        <a:alpha val="0"/>
                      </a:srgbClr>
                    </a:gs>
                    <a:gs pos="100000">
                      <a:srgbClr val="a69f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0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52281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0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57a1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1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52281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57a19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846000" y="2354400"/>
          <a:ext cx="7450200" cy="3082680"/>
        </p:xfrm>
        <a:graphic>
          <a:graphicData uri="http://schemas.openxmlformats.org/drawingml/2006/table">
            <a:tbl>
              <a:tblPr/>
              <a:tblGrid>
                <a:gridCol w="1679400"/>
                <a:gridCol w="1173240"/>
                <a:gridCol w="1149480"/>
                <a:gridCol w="1146240"/>
                <a:gridCol w="1154160"/>
                <a:gridCol w="1147680"/>
              </a:tblGrid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a19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538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a8e70"/>
                </a:gs>
                <a:gs pos="100000">
                  <a:srgbClr val="b2572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805a2c"/>
                </a:gs>
                <a:gs pos="100000">
                  <a:srgbClr val="d4964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541880" y="225108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2d5450"/>
                </a:gs>
                <a:gs pos="100000">
                  <a:srgbClr val="57a19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5f6429"/>
                </a:gs>
                <a:gs pos="100000">
                  <a:srgbClr val="b0ba4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550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b3ca8"/>
                  </a:gs>
                  <a:gs pos="100000">
                    <a:srgbClr val="2d24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100000">
                    <a:srgbClr val="4b3ca8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100000">
                    <a:srgbClr val="4b3c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143000" y="1752480"/>
            <a:ext cx="6781680" cy="3886200"/>
            <a:chOff x="1143000" y="1752480"/>
            <a:chExt cx="6781680" cy="3886200"/>
          </a:xfrm>
        </p:grpSpPr>
        <p:sp>
          <p:nvSpPr>
            <p:cNvPr id="559" name=""/>
            <p:cNvSpPr/>
            <p:nvPr/>
          </p:nvSpPr>
          <p:spPr>
            <a:xfrm>
              <a:off x="2052720" y="2573280"/>
              <a:ext cx="507348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dfdfd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41400" y="1752480"/>
              <a:ext cx="531504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92c1bd"/>
                </a:gs>
                <a:gs pos="100000">
                  <a:srgbClr val="57a19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6320" y="31226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143000" y="4263840"/>
              <a:ext cx="1363680" cy="1368360"/>
              <a:chOff x="1143000" y="4263840"/>
              <a:chExt cx="1363680" cy="136836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143000" y="4263840"/>
                <a:ext cx="1363680" cy="1368360"/>
                <a:chOff x="1143000" y="4263840"/>
                <a:chExt cx="1363680" cy="13683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143000" y="4263840"/>
                  <a:ext cx="1363680" cy="136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ba4c"/>
                    </a:gs>
                    <a:gs pos="100000">
                      <a:srgbClr val="6f75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>
                  <a:off x="1298880" y="4286520"/>
                  <a:ext cx="1051920" cy="516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0ba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240200" y="495936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526080" y="4224240"/>
              <a:ext cx="1398600" cy="1384200"/>
              <a:chOff x="6526080" y="4224240"/>
              <a:chExt cx="1398600" cy="138420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6526080" y="4224240"/>
                <a:ext cx="1398600" cy="1384200"/>
                <a:chOff x="6526080" y="4224240"/>
                <a:chExt cx="1398600" cy="13842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526080" y="4224240"/>
                  <a:ext cx="1398600" cy="138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3ca8"/>
                    </a:gs>
                    <a:gs pos="100000">
                      <a:srgbClr val="120e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未知"/>
                <p:cNvSpPr/>
                <p:nvPr/>
              </p:nvSpPr>
              <p:spPr>
                <a:xfrm>
                  <a:off x="6685920" y="4246920"/>
                  <a:ext cx="1078920" cy="522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3c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6607800" y="4868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890800" y="4263840"/>
              <a:ext cx="1398600" cy="1374840"/>
              <a:chOff x="2890800" y="4263840"/>
              <a:chExt cx="1398600" cy="137484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890800" y="4263840"/>
                <a:ext cx="1398600" cy="1374840"/>
                <a:chOff x="2890800" y="4263840"/>
                <a:chExt cx="1398600" cy="13748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890800" y="4263840"/>
                  <a:ext cx="1398600" cy="13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5b2c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>
                  <a:off x="3050640" y="4286520"/>
                  <a:ext cx="107892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257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960640" y="4924080"/>
                <a:ext cx="12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4778280" y="4224240"/>
              <a:ext cx="1398600" cy="1374840"/>
              <a:chOff x="4778280" y="4224240"/>
              <a:chExt cx="1398600" cy="137484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4778280" y="4224240"/>
                <a:ext cx="1398600" cy="1374840"/>
                <a:chOff x="4778280" y="4224240"/>
                <a:chExt cx="1398600" cy="13748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778280" y="4224240"/>
                  <a:ext cx="1398600" cy="13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19a"/>
                    </a:gs>
                    <a:gs pos="100000">
                      <a:srgbClr val="2c52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未知"/>
                <p:cNvSpPr/>
                <p:nvPr/>
              </p:nvSpPr>
              <p:spPr>
                <a:xfrm>
                  <a:off x="4938120" y="4246920"/>
                  <a:ext cx="107892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7a1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4848120" y="4884480"/>
                <a:ext cx="12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360" y="404640"/>
            <a:ext cx="817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defd8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aeae8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ddad1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8d4eb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38080" y="22096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19a"/>
                    </a:gs>
                    <a:gs pos="100000">
                      <a:srgbClr val="3366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19a"/>
                  </a:gs>
                  <a:gs pos="100000">
                    <a:srgbClr val="336699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b2572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A9A4-9B14-47BD-9547-D0C3D178F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6600"/>
            <a:ext cx="82170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d28c"/>
              </a:gs>
              <a:gs pos="100000">
                <a:srgbClr val="b0ba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62a14"/>
                    </a:gs>
                    <a:gs pos="100000">
                      <a:srgbClr val="b2572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572a"/>
                    </a:gs>
                    <a:gs pos="100000">
                      <a:srgbClr val="dcb39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57a19a"/>
                  </a:gs>
                  <a:gs pos="100000">
                    <a:srgbClr val="284a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3ddda"/>
                  </a:gs>
                  <a:gs pos="100000">
                    <a:srgbClr val="57a19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7a19a">
                      <a:alpha val="48235"/>
                    </a:srgbClr>
                  </a:gs>
                  <a:gs pos="100000">
                    <a:srgbClr val="447f7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57a19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c8ba"/>
              </a:gs>
              <a:gs pos="100000">
                <a:srgbClr val="b257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b2572a"/>
                </a:gs>
                <a:gs pos="100000">
                  <a:srgbClr val="3d1d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7a19a"/>
                </a:gs>
                <a:gs pos="100000">
                  <a:srgbClr val="1b32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0ba4c"/>
                </a:gs>
                <a:gs pos="100000">
                  <a:srgbClr val="3e42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4b3ca8"/>
                </a:gs>
                <a:gs pos="100000">
                  <a:srgbClr val="1914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522813"/>
                </a:gs>
                <a:gs pos="50000">
                  <a:srgbClr val="b2572a"/>
                </a:gs>
                <a:gs pos="100000">
                  <a:srgbClr val="5228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0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2572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f2e16"/>
                  </a:gs>
                  <a:gs pos="50000">
                    <a:srgbClr val="b2572a"/>
                  </a:gs>
                  <a:gs pos="100000">
                    <a:srgbClr val="5f2e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1b4d"/>
                </a:gs>
                <a:gs pos="50000">
                  <a:srgbClr val="4b3ca8"/>
                </a:gs>
                <a:gs pos="100000">
                  <a:srgbClr val="221b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84a46"/>
                </a:gs>
                <a:gs pos="50000">
                  <a:srgbClr val="57a19a"/>
                </a:gs>
                <a:gs pos="100000">
                  <a:srgbClr val="284a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9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523"/>
                  </a:gs>
                  <a:gs pos="50000">
                    <a:srgbClr val="b0ba4c"/>
                  </a:gs>
                  <a:gs pos="100000">
                    <a:srgbClr val="5155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b0b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2813"/>
                  </a:gs>
                  <a:gs pos="50000">
                    <a:srgbClr val="b2572a"/>
                  </a:gs>
                  <a:gs pos="100000">
                    <a:srgbClr val="52281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b2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1b4d"/>
                  </a:gs>
                  <a:gs pos="50000">
                    <a:srgbClr val="4b3ca8"/>
                  </a:gs>
                  <a:gs pos="100000">
                    <a:srgbClr val="221b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4a46"/>
                  </a:gs>
                  <a:gs pos="50000">
                    <a:srgbClr val="57a19a"/>
                  </a:gs>
                  <a:gs pos="100000">
                    <a:srgbClr val="284a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57a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f8636"/>
                  </a:gs>
                  <a:gs pos="50000">
                    <a:srgbClr val="b0ba4c"/>
                  </a:gs>
                  <a:gs pos="100000">
                    <a:srgbClr val="7f863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803e1e"/>
                  </a:gs>
                  <a:gs pos="50000">
                    <a:srgbClr val="b2572a"/>
                  </a:gs>
                  <a:gs pos="100000">
                    <a:srgbClr val="803e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4b3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362b79"/>
                  </a:gs>
                  <a:gs pos="50000">
                    <a:srgbClr val="4b3ca8"/>
                  </a:gs>
                  <a:gs pos="100000">
                    <a:srgbClr val="362b7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e746f"/>
                  </a:gs>
                  <a:gs pos="50000">
                    <a:srgbClr val="57a19a"/>
                  </a:gs>
                  <a:gs pos="100000">
                    <a:srgbClr val="3e7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24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2572a"/>
                </a:gs>
                <a:gs pos="100000">
                  <a:srgbClr val="b8653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0ba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5523"/>
                </a:gs>
                <a:gs pos="50000">
                  <a:srgbClr val="b0ba4c"/>
                </a:gs>
                <a:gs pos="100000">
                  <a:srgbClr val="515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257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2813"/>
                </a:gs>
                <a:gs pos="50000">
                  <a:srgbClr val="b2572a"/>
                </a:gs>
                <a:gs pos="100000">
                  <a:srgbClr val="5228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b3ca8"/>
                </a:gs>
                <a:gs pos="100000">
                  <a:srgbClr val="968ecc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4b3c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d1740"/>
                  </a:gs>
                  <a:gs pos="50000">
                    <a:srgbClr val="4b3ca8"/>
                  </a:gs>
                  <a:gs pos="100000">
                    <a:srgbClr val="1d17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08:4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