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AD5C-26E0-4F74-84B5-8334515A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57C-EC22-42F4-A464-83278651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BCA-E4F3-46EF-8F58-63486637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813-43EC-4311-AD22-9AA56967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326E-D5F2-4D73-A467-FCEF6F89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D701-D6CB-491A-B218-39ED650A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FE63-AD04-4487-95F3-6E898CE8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A55A-401F-4292-BE3E-0C0AF3A0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8D9F-1FE8-49C0-B8D7-C90A64DF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1C94-CB41-422E-97E0-FE718E3E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792B-DB09-4F6E-97E9-87683C91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5494-D177-4AE9-84DF-991ACA927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C5926-D345-41FC-994D-8BE2C79A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A7E9-F2FD-4D40-9298-002C13B7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0DF7-EFB8-4E28-BDAF-70871CFE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0956-AFBE-4B19-A25C-56EC7EAF3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DD69-F27E-4F1F-8BDA-C2CD612F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E78E-4ECC-4390-B401-5EAF72C9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DDA-2C40-4435-9518-3B56C18E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455A-390E-4106-A9F9-5C389F31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ECF-52E9-4658-8A50-1CAF880F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3975-5E34-4DF1-AB6F-AFD0EF4F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92D-5525-4A10-92C5-D2614747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B996-357D-447D-ACA4-520F16C6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DEC0-15A8-43FE-8791-D907010112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97DF-B86E-46E0-B64B-81FA8412F0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D25C-B296-4780-B51E-57EEDD5DA5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E7DB-2037-44D6-91DC-F681F1FAD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media1.mp3" TargetMode="External"/><Relationship Id="rId3" Type="http://schemas.microsoft.com/office/2007/relationships/media" Target="file:///tmp/home/.config/libreoffice/4/user/gallery/media1.mp3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3"/>
          <p:cNvGrpSpPr/>
          <p:nvPr/>
        </p:nvGrpSpPr>
        <p:grpSpPr>
          <a:xfrm>
            <a:off x="2530440" y="3406680"/>
            <a:ext cx="2633760" cy="2616120"/>
            <a:chOff x="2530440" y="3406680"/>
            <a:chExt cx="2633760" cy="2616120"/>
          </a:xfrm>
        </p:grpSpPr>
        <p:sp>
          <p:nvSpPr>
            <p:cNvPr id="83" name="圆角矩形 1"/>
            <p:cNvSpPr/>
            <p:nvPr/>
          </p:nvSpPr>
          <p:spPr>
            <a:xfrm>
              <a:off x="2530440" y="3406680"/>
              <a:ext cx="2616840" cy="2616120"/>
            </a:xfrm>
            <a:prstGeom prst="pie">
              <a:avLst/>
            </a:prstGeom>
            <a:solidFill>
              <a:srgbClr val="e36c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7"/>
            <p:cNvSpPr/>
            <p:nvPr/>
          </p:nvSpPr>
          <p:spPr>
            <a:xfrm>
              <a:off x="2707200" y="3799440"/>
              <a:ext cx="2457000" cy="2006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圆角矩形 1"/>
          <p:cNvSpPr/>
          <p:nvPr/>
        </p:nvSpPr>
        <p:spPr>
          <a:xfrm>
            <a:off x="2903400" y="1684440"/>
            <a:ext cx="2156040" cy="180000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圆角矩形 1"/>
          <p:cNvSpPr/>
          <p:nvPr/>
        </p:nvSpPr>
        <p:spPr>
          <a:xfrm>
            <a:off x="4923000" y="1969920"/>
            <a:ext cx="1766880" cy="14749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1"/>
          <p:cNvSpPr/>
          <p:nvPr/>
        </p:nvSpPr>
        <p:spPr>
          <a:xfrm rot="21055800">
            <a:off x="5335560" y="3608280"/>
            <a:ext cx="1535040" cy="147492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任意多边形 9"/>
          <p:cNvSpPr/>
          <p:nvPr/>
        </p:nvSpPr>
        <p:spPr>
          <a:xfrm>
            <a:off x="6424560" y="1741320"/>
            <a:ext cx="1422360" cy="973440"/>
          </a:xfrm>
          <a:prstGeom prst="pie">
            <a:avLst/>
          </a:prstGeom>
          <a:noFill/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10"/>
          <p:cNvSpPr/>
          <p:nvPr/>
        </p:nvSpPr>
        <p:spPr>
          <a:xfrm>
            <a:off x="6716880" y="4006800"/>
            <a:ext cx="1247760" cy="376200"/>
          </a:xfrm>
          <a:prstGeom prst="pie">
            <a:avLst/>
          </a:prstGeom>
          <a:noFill/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任意多边形 11"/>
          <p:cNvSpPr/>
          <p:nvPr/>
        </p:nvSpPr>
        <p:spPr>
          <a:xfrm flipH="1">
            <a:off x="1330200" y="1738440"/>
            <a:ext cx="1276560" cy="855360"/>
          </a:xfrm>
          <a:prstGeom prst="pie">
            <a:avLst/>
          </a:prstGeom>
          <a:noFill/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任意多边形 12"/>
          <p:cNvSpPr/>
          <p:nvPr/>
        </p:nvSpPr>
        <p:spPr>
          <a:xfrm flipH="1">
            <a:off x="1297080" y="4181400"/>
            <a:ext cx="1185840" cy="536760"/>
          </a:xfrm>
          <a:prstGeom prst="pie">
            <a:avLst/>
          </a:prstGeom>
          <a:noFill/>
          <a:ln w="255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3"/>
          <p:cNvSpPr/>
          <p:nvPr/>
        </p:nvSpPr>
        <p:spPr>
          <a:xfrm>
            <a:off x="384120" y="1268280"/>
            <a:ext cx="19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4"/>
          <p:cNvSpPr/>
          <p:nvPr/>
        </p:nvSpPr>
        <p:spPr>
          <a:xfrm>
            <a:off x="341280" y="3738600"/>
            <a:ext cx="19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5"/>
          <p:cNvSpPr/>
          <p:nvPr/>
        </p:nvSpPr>
        <p:spPr>
          <a:xfrm>
            <a:off x="6988320" y="3608280"/>
            <a:ext cx="19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6"/>
          <p:cNvSpPr/>
          <p:nvPr/>
        </p:nvSpPr>
        <p:spPr>
          <a:xfrm>
            <a:off x="6902280" y="1300320"/>
            <a:ext cx="1917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添加文字添加文字添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3459240" y="4248000"/>
            <a:ext cx="75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95959"/>
                </a:solidFill>
                <a:latin typeface="微软雅黑"/>
                <a:ea typeface="微软雅黑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3535200" y="2124000"/>
            <a:ext cx="74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595959"/>
                </a:solidFill>
                <a:latin typeface="微软雅黑"/>
                <a:ea typeface="微软雅黑"/>
              </a:rPr>
              <a:t>B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9"/>
          <p:cNvSpPr/>
          <p:nvPr/>
        </p:nvSpPr>
        <p:spPr>
          <a:xfrm>
            <a:off x="5412600" y="2384280"/>
            <a:ext cx="56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95959"/>
                </a:solidFill>
                <a:latin typeface="微软雅黑"/>
                <a:ea typeface="微软雅黑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5705640" y="3927600"/>
            <a:ext cx="4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95959"/>
                </a:solidFill>
                <a:latin typeface="微软雅黑"/>
                <a:ea typeface="微软雅黑"/>
              </a:rPr>
              <a:t>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388800" y="236520"/>
            <a:ext cx="37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调关系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表系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667640" y="7174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29:2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