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680" y="41868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872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412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656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68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412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656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872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680" y="41868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872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5412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36560" y="204624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68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5412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36560" y="4186800"/>
            <a:ext cx="264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8720" y="418680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8720" y="2046240"/>
            <a:ext cx="40158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680" y="41868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5"/>
          <p:cNvSpPr/>
          <p:nvPr/>
        </p:nvSpPr>
        <p:spPr>
          <a:xfrm>
            <a:off x="2928960" y="6407280"/>
            <a:ext cx="28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5"/>
          <p:cNvSpPr/>
          <p:nvPr/>
        </p:nvSpPr>
        <p:spPr>
          <a:xfrm>
            <a:off x="2928960" y="6407280"/>
            <a:ext cx="28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71680" y="20462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01100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8763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rial"/>
              </a:rPr>
              <a:t>玫瑰花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rial"/>
              </a:rPr>
              <a:t>演示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71440" y="2071800"/>
            <a:ext cx="63579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14640" y="1828440"/>
            <a:ext cx="4681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3:29:22Z</dcterms:created>
  <dc:creator>http://www.eeppt.com</dc:creator>
  <dc:description>ppt模板下载网站 http://www.eeppt.com</dc:description>
  <dc:language>en-US</dc:language>
  <cp:lastModifiedBy/>
  <dcterms:modified xsi:type="dcterms:W3CDTF">2015-06-14T06:29:4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