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9EE-B135-42F7-A005-FD72216F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30C-F247-49AF-B3D9-D44F635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FA2-A69D-4832-8E16-94ADCC9B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291-B5C1-49C8-8C37-58931544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15A-40A3-4968-9D50-B87DBC0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FBC-772E-4385-B5D6-3283487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907-916D-4A69-86D3-E2E5082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6E0-A60D-492B-9FAE-59E8D4E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0C7-3521-4BEA-ADEE-CFD4B7D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B57-4288-4FBC-8E7B-D128342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3B0-AA2F-4907-BAE9-3AC8861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C74-C00F-480F-9144-F8F29E3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F870-18BA-41F8-B0F3-A89620FD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0720" y="263196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梦幻百合花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F89-9612-4015-8B07-5B4AC1466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44Z</dcterms:created>
  <dc:creator>http://www.eeppt.com</dc:creator>
  <dc:description>ppt模板下载网站 http://www.eeppt.com</dc:description>
  <dc:language>en-US</dc:language>
  <cp:lastModifiedBy/>
  <dcterms:modified xsi:type="dcterms:W3CDTF">2015-06-14T06:31:4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