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4AA-9D21-4F86-A4E0-E0BF5121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91860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893-1751-4D4A-A164-7CD4D483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91860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2560" y="391860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6E9-BC25-47A7-A030-723DD46B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5080" y="137124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7880" y="137124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91860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5080" y="391860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7880" y="391860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117-DBA1-475E-8DEA-6E1B0C21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D5FD-607D-429C-BF0E-BF6BB865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2C6D-A0A8-4F41-9A2C-AF6E66B6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9569-BCCF-4ECC-B86F-0BB04F1F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C048-75C2-4FCC-B61A-05FBFE4E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4980-CD51-4521-AA73-F8BA3AFA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F037-36D9-4C55-A982-6E68A668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280" y="391860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A8A6-666A-4245-9100-5062ABFB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405-D18D-46D5-854A-D8B9395A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2560" y="391860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7A30-BA90-4A3F-9089-F5E1B870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280" y="391860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59C7-606F-4215-8A85-894B21EC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2280" y="391860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C5B4-3042-4F2B-B245-777C6652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2280" y="391860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2560" y="391860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8D97-AC02-483A-B1D9-4A8ACE45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5080" y="137124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7880" y="137124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2280" y="391860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5080" y="391860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7880" y="391860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5C80-F333-4DA9-841A-E9EE57B9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4B4-BC23-417E-BF01-3D66E64B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FEF5-E0A4-4B4D-8159-3A3243D0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BB1-0E62-4AD8-9C6B-4250498B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555-5F71-4198-90A9-E0C322A2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91860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9B3-09E3-43EB-9DB2-F478D672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2560" y="391860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67B-DCCA-4AFE-A923-D6447C7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560" y="137124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91860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BD3-B622-48B3-974D-6A94D1C2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33200"/>
            <a:ext cx="896616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-윤고딕140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-윤고딕120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F237-440E-4281-B548-40BB0599222D}" type="slidenum">
              <a:rPr b="0" lang="en-US" sz="1000" spc="-1" strike="noStrike">
                <a:solidFill>
                  <a:srgbClr val="ffffff"/>
                </a:solidFill>
                <a:latin typeface="-윤고딕120"/>
                <a:ea typeface="-윤고딕120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15840" y="4324320"/>
            <a:ext cx="6873840" cy="126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4333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-윤고딕140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44CA-A583-4BCB-A7F1-F563F701E811}" type="slidenum">
              <a:rPr b="0" lang="en-US" sz="10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-윤고딕140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-윤고딕140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-윤고딕120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-윤고딕12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-윤고딕120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-윤고딕120"/>
            </a:endParaRPr>
          </a:p>
          <a:p>
            <a:pPr lvl="3" marL="1371600" algn="ctr">
              <a:spcBef>
                <a:spcPts val="374"/>
              </a:spcBef>
              <a:buClr>
                <a:srgbClr val="ffffff"/>
              </a:buClr>
              <a:buFont typeface="-윤고딕120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-윤고딕120"/>
              </a:rPr>
              <a:t>Fourth Outline Level</a:t>
            </a:r>
            <a:endParaRPr b="0" lang="en-US" sz="1500" spc="-1" strike="noStrike">
              <a:solidFill>
                <a:srgbClr val="ffffff"/>
              </a:solidFill>
              <a:latin typeface="-윤고딕120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-윤고딕120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-윤고딕120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-윤고딕120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-윤고딕120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-윤고딕120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-윤고딕120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-윤고딕12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508640"/>
            <a:ext cx="65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-윤고딕140"/>
                <a:ea typeface="华文隶书"/>
              </a:rPr>
              <a:t>摩天大楼夜色</a:t>
            </a:r>
            <a:r>
              <a:rPr b="0" lang="zh-CN" sz="4400" spc="-1" strike="noStrike">
                <a:solidFill>
                  <a:srgbClr val="ffffff"/>
                </a:solidFill>
                <a:latin typeface="-윤고딕140"/>
                <a:ea typeface="华文隶书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-윤고딕140"/>
                <a:ea typeface="华文隶书"/>
              </a:rPr>
              <a:t>模板</a:t>
            </a:r>
            <a:endParaRPr b="0" lang="en-US" sz="44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88" name=""/>
          <p:cNvSpPr/>
          <p:nvPr/>
        </p:nvSpPr>
        <p:spPr>
          <a:xfrm>
            <a:off x="-12240" y="63817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500" spc="-1" strike="noStrike">
              <a:solidFill>
                <a:srgbClr val="ffffff"/>
              </a:solidFill>
              <a:latin typeface="-윤고딕1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-윤고딕140"/>
              </a:rPr>
              <a:t>使用规范说明</a:t>
            </a:r>
            <a:endParaRPr b="0" lang="en-US" sz="4000" spc="-1" strike="noStrike">
              <a:solidFill>
                <a:srgbClr val="ffff99"/>
              </a:solidFill>
              <a:latin typeface="-윤고딕1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-윤고딕120"/>
              </a:rPr>
              <a:t>站点介绍</a:t>
            </a:r>
            <a:r>
              <a:rPr b="1" lang="ko-KR" sz="1800" spc="-1" strike="noStrike">
                <a:solidFill>
                  <a:srgbClr val="ededed"/>
                </a:solidFill>
                <a:latin typeface="-윤고딕120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模板下载网站</a:t>
            </a:r>
            <a:r>
              <a:rPr b="1" lang="ko-KR" sz="1600" spc="-1" strike="noStrike">
                <a:solidFill>
                  <a:srgbClr val="e8eff7"/>
                </a:solidFill>
                <a:latin typeface="-윤고딕120"/>
              </a:rPr>
              <a:t>WWW.EEPPT.COM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为您提供免费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模板下载，有好看的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模板，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背景图片，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素材，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图表，动态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模板大全，幻灯片模板，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Powe</a:t>
            </a:r>
            <a:r>
              <a:rPr b="1" lang="ko-KR" sz="1600" spc="-1" strike="noStrike">
                <a:solidFill>
                  <a:srgbClr val="e8eff7"/>
                </a:solidFill>
                <a:latin typeface="-윤고딕120"/>
              </a:rPr>
              <a:t>rPoint</a:t>
            </a:r>
            <a:r>
              <a:rPr b="1" lang="ko-KR" sz="1600" spc="-1" strike="noStrike">
                <a:solidFill>
                  <a:srgbClr val="e8eff7"/>
                </a:solidFill>
                <a:latin typeface="-윤고딕120"/>
              </a:rPr>
              <a:t>模板等各类</a:t>
            </a:r>
            <a:r>
              <a:rPr b="1" lang="ko-KR" sz="1600" spc="-1" strike="noStrike">
                <a:solidFill>
                  <a:srgbClr val="e8eff7"/>
                </a:solidFill>
                <a:latin typeface="-윤고딕120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-윤고딕120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-윤고딕120"/>
              </a:rPr>
              <a:t>助</a:t>
            </a:r>
            <a:r>
              <a:rPr b="1" lang="ko-KR" sz="1600" spc="-1" strike="noStrike">
                <a:solidFill>
                  <a:srgbClr val="e8eff7"/>
                </a:solidFill>
                <a:latin typeface="-윤고딕120"/>
              </a:rPr>
              <a:t>您轻松制作出精美</a:t>
            </a:r>
            <a:r>
              <a:rPr b="1" lang="ko-KR" sz="1600" spc="-1" strike="noStrike">
                <a:solidFill>
                  <a:srgbClr val="e8eff7"/>
                </a:solidFill>
                <a:latin typeface="-윤고딕120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-윤고딕120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ededed"/>
                </a:solidFill>
                <a:latin typeface="-윤고딕120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-윤고딕120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-윤고딕120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-윤고딕120"/>
              </a:rPr>
              <a:t>模板收集于网络，</a:t>
            </a:r>
            <a:r>
              <a:rPr b="1" lang="ko-KR" sz="1600" spc="-1" strike="noStrike">
                <a:solidFill>
                  <a:srgbClr val="ededed"/>
                </a:solidFill>
                <a:latin typeface="-윤고딕120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-윤고딕120"/>
              </a:rPr>
              <a:t>栏目推荐</a:t>
            </a:r>
            <a:r>
              <a:rPr b="1" lang="ko-KR" sz="1800" spc="-1" strike="noStrike">
                <a:solidFill>
                  <a:srgbClr val="ededed"/>
                </a:solidFill>
                <a:latin typeface="-윤고딕120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ko-KR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ko-KR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-윤고딕120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-윤고딕120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B81-8FB2-4B84-A677-985B90A9C6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http://www.eeppt.com</dc:creator>
  <dc:description>ppt模板下载网站 http://www.eeppt.com</dc:description>
  <dc:language>en-US</dc:language>
  <cp:lastModifiedBy> </cp:lastModifiedBy>
  <dcterms:modified xsi:type="dcterms:W3CDTF">2015-06-14T06:38:01Z</dcterms:modified>
  <cp:revision>1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