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80A-7F32-44CC-8AEE-19A9E6BD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35D-D003-4FF0-9892-00CC152A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EFE-5C9A-426B-8322-9F7692D8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216-AF2B-4543-BAFC-5980BB92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DF2E-85EE-434C-A128-96DA3593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9E89-33C9-49DC-837A-C6D6C1B1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822B-60DD-4157-A70A-AE9D9E59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1784-2DEB-45DC-871F-38B09A13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0069-B68B-45B6-9779-3BDB106F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F282-56DA-4560-9896-FB89A9F9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7685-F029-4A3F-99F3-9B25FDF0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F85-702F-442F-A4AB-57A81DB1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ABF6-64BA-4747-9566-069166A9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0B71-12E5-4975-87F8-9A8B2F33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0132-FE6D-42C8-8141-7A851EC4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E1F3-524C-48B1-BBA1-3592899B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D9EE-7A0F-4EAB-BC20-A660BED5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E1F-E458-4AA7-B1E9-561CA616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6F9-28B0-4AB8-B4DC-0302E1F9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306-403D-44AF-BEEA-BD353A1F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BDF-EA59-4667-A6F1-BCC87A07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B1E-AC45-4A1A-9254-2E6E4115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74F-F053-4F43-86F6-3C783D9B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AB9-AC8F-4FB9-B518-552D03B8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E1AE-8717-40FA-B952-CEF608DA508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440" y="2666880"/>
            <a:ext cx="480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BF8B-9D7C-4661-82BF-FED3D5557F3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92360" y="3500280"/>
            <a:ext cx="53517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命中靶心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14440" y="441972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6575040" y="616572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ahoma"/>
              <a:ea typeface="PMingLiU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ahoma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ahoma"/>
              <a:ea typeface="PMingLiU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ahoma"/>
              <a:ea typeface="PMingLiU"/>
            </a:endParaRPr>
          </a:p>
        </p:txBody>
      </p:sp>
      <p:sp>
        <p:nvSpPr>
          <p:cNvPr id="89" name=""/>
          <p:cNvSpPr/>
          <p:nvPr/>
        </p:nvSpPr>
        <p:spPr>
          <a:xfrm>
            <a:off x="6071760" y="6093000"/>
            <a:ext cx="2255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905120"/>
            <a:ext cx="91803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8915400" cy="2378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62320" y="28195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PMingLiU"/>
              </a:rPr>
              <a:t>TRANSITION P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CFA-8EC8-40B4-8ABA-AFAC84D8CC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08:30:00Z</dcterms:created>
  <dc:creator>http://www.eeppt.com</dc:creator>
  <dc:description>ppt模板下载网站 http://www.eeppt.com</dc:description>
  <dc:language>en-US</dc:language>
  <cp:lastModifiedBy/>
  <dcterms:modified xsi:type="dcterms:W3CDTF">2015-06-14T06:35:1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