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07434-2909-4ADB-8FB0-62B4EF770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03A7A-9923-488C-9243-E35053EA7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F666C-D0DB-4F34-8E15-F4CD67825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FE1EA-3A8B-45D5-ADCD-7AEAB64CB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68F9A-F225-4B56-9DA3-3D65395BC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D4D7C-973D-4155-A6A7-44F34529A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7B6B2-2919-4AF0-A77C-728554D9A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13A3A-AFCE-4037-B879-B2A881802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C4E60-8D68-4F27-A0AF-B41654B62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5F18E-091A-4CEA-AC31-7F2B331AA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2EDC9-5745-41D1-94D1-B458085C9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57086-064B-4C4C-BC78-E83B58DDB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3FA5D-89CE-44F3-B46F-CCDCC9F0C10C}" type="datetime">
              <a:rPr b="0" lang="zh-CN" sz="9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EB3D1-9C76-438B-8502-983F81DEC56B}" type="slidenum">
              <a:rPr b="0" lang="zh-CN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2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60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62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64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66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68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70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72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74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76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78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80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82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84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86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88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90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92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94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96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98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6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00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300" spc="-1" strike="noStrike">
                <a:solidFill>
                  <a:srgbClr val="000000"/>
                </a:solidFill>
                <a:latin typeface="Calibri Light"/>
              </a:rPr>
              <a:t>使用规范说明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6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6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6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6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6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6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79B5B-9646-4A48-8672-6E235C7C88C6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8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0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2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4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6" name="图片 2" descr=""/>
          <p:cNvPicPr/>
          <p:nvPr/>
        </p:nvPicPr>
        <p:blipFill>
          <a:blip r:embed="rId1"/>
          <a:stretch/>
        </p:blipFill>
        <p:spPr>
          <a:xfrm>
            <a:off x="0" y="-90360"/>
            <a:ext cx="9144000" cy="68547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8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3T07:32:00Z</dcterms:created>
  <dc:creator>http://www.eeppt.com</dc:creator>
  <dc:description>ppt模板下载网站 http://www.eeppt.com</dc:description>
  <dc:language>en-US</dc:language>
  <cp:lastModifiedBy/>
  <dcterms:modified xsi:type="dcterms:W3CDTF">2015-06-13T07:15:31Z</dcterms:modified>
  <cp:revision>3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