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92D-D9E8-45F9-BB50-06C52960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C34-F136-4B01-8805-63608C6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F6-852D-49FC-B8E2-7CDF7521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F39-3C14-4318-9DEA-3FA81FC8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EA8-000F-4E1D-8601-66B92226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0E0-A26C-4CDC-8230-DA867B82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99C-93BD-4393-ABDB-0B0BFC4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C75-8E4D-4455-8282-3CBF2DD1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5F7-DC66-4593-8CA0-A56559A7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946-256A-4B38-8079-2F4597A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242-1F21-4936-95C7-FF6B3F94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708-AF1D-4BB5-9D6A-46F6909E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C16A-B078-412F-ACF8-4ECDD57EB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2"/>
          <p:cNvSpPr/>
          <p:nvPr/>
        </p:nvSpPr>
        <p:spPr>
          <a:xfrm flipH="1">
            <a:off x="2103480" y="182880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4564080" y="182880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"/>
          <p:cNvSpPr/>
          <p:nvPr/>
        </p:nvSpPr>
        <p:spPr>
          <a:xfrm>
            <a:off x="2103480" y="3919680"/>
            <a:ext cx="2341440" cy="196200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 flipH="1">
            <a:off x="4564080" y="3919680"/>
            <a:ext cx="2341440" cy="196200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3389400" y="27576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332080" y="2286000"/>
            <a:ext cx="1792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905120" y="597204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848120" y="2286000"/>
            <a:ext cx="1792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341440" y="4930920"/>
            <a:ext cx="1792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848120" y="4930920"/>
            <a:ext cx="17924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705480" y="3276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4805640" y="3276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705480" y="4152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805640" y="4152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3805200" y="3795840"/>
            <a:ext cx="1265400" cy="80316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797" h="506">
                <a:moveTo>
                  <a:pt x="390" y="0"/>
                </a:moveTo>
                <a:lnTo>
                  <a:pt x="448" y="64"/>
                </a:lnTo>
                <a:lnTo>
                  <a:pt x="797" y="495"/>
                </a:lnTo>
                <a:lnTo>
                  <a:pt x="390" y="355"/>
                </a:lnTo>
                <a:lnTo>
                  <a:pt x="0" y="506"/>
                </a:lnTo>
                <a:lnTo>
                  <a:pt x="39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4443480" y="2817720"/>
            <a:ext cx="1735200" cy="111780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1093" h="704">
                <a:moveTo>
                  <a:pt x="64" y="704"/>
                </a:moveTo>
                <a:lnTo>
                  <a:pt x="0" y="622"/>
                </a:lnTo>
                <a:lnTo>
                  <a:pt x="820" y="0"/>
                </a:lnTo>
                <a:lnTo>
                  <a:pt x="1093" y="453"/>
                </a:lnTo>
                <a:lnTo>
                  <a:pt x="64" y="70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ab7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4"/>
          <p:cNvSpPr/>
          <p:nvPr/>
        </p:nvSpPr>
        <p:spPr>
          <a:xfrm>
            <a:off x="2973240" y="2844720"/>
            <a:ext cx="1470240" cy="1117800"/>
          </a:xfrm>
          <a:custGeom>
            <a:avLst/>
            <a:gdLst>
              <a:gd name="textAreaLeft" fmla="*/ 0 w 1470240"/>
              <a:gd name="textAreaRight" fmla="*/ 1470600 w 147024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926" h="704">
                <a:moveTo>
                  <a:pt x="926" y="611"/>
                </a:moveTo>
                <a:lnTo>
                  <a:pt x="844" y="704"/>
                </a:lnTo>
                <a:lnTo>
                  <a:pt x="0" y="489"/>
                </a:lnTo>
                <a:lnTo>
                  <a:pt x="315" y="0"/>
                </a:lnTo>
                <a:lnTo>
                  <a:pt x="926" y="611"/>
                </a:lnTo>
                <a:close/>
              </a:path>
            </a:pathLst>
          </a:custGeom>
          <a:gradFill rotWithShape="0">
            <a:gsLst>
              <a:gs pos="0">
                <a:srgbClr val="a3c975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09600" y="1558800"/>
            <a:ext cx="2257560" cy="2257560"/>
            <a:chOff x="1209600" y="1558800"/>
            <a:chExt cx="2257560" cy="2257560"/>
          </a:xfrm>
        </p:grpSpPr>
        <p:sp>
          <p:nvSpPr>
            <p:cNvPr id="62" name="Oval 7"/>
            <p:cNvSpPr/>
            <p:nvPr/>
          </p:nvSpPr>
          <p:spPr>
            <a:xfrm>
              <a:off x="1209600" y="1558800"/>
              <a:ext cx="2257560" cy="2257560"/>
            </a:xfrm>
            <a:prstGeom prst="ellipse">
              <a:avLst/>
            </a:prstGeom>
            <a:gradFill rotWithShape="0">
              <a:gsLst>
                <a:gs pos="0">
                  <a:srgbClr val="a3c975"/>
                </a:gs>
                <a:gs pos="100000">
                  <a:srgbClr val="7c9959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1276200" y="1616040"/>
              <a:ext cx="2122560" cy="2139840"/>
            </a:xfrm>
            <a:prstGeom prst="ellipse">
              <a:avLst/>
            </a:prstGeom>
            <a:gradFill rotWithShape="0">
              <a:gsLst>
                <a:gs pos="0">
                  <a:srgbClr val="7c9959"/>
                </a:gs>
                <a:gs pos="100000">
                  <a:srgbClr val="a3c9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9"/>
          <p:cNvSpPr/>
          <p:nvPr/>
        </p:nvSpPr>
        <p:spPr>
          <a:xfrm>
            <a:off x="1312920" y="2514600"/>
            <a:ext cx="1946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00600" y="1558800"/>
            <a:ext cx="2257560" cy="2257560"/>
            <a:chOff x="5700600" y="1558800"/>
            <a:chExt cx="2257560" cy="2257560"/>
          </a:xfrm>
        </p:grpSpPr>
        <p:sp>
          <p:nvSpPr>
            <p:cNvPr id="66" name="Oval 11"/>
            <p:cNvSpPr/>
            <p:nvPr/>
          </p:nvSpPr>
          <p:spPr>
            <a:xfrm>
              <a:off x="5700600" y="1558800"/>
              <a:ext cx="2257560" cy="2257560"/>
            </a:xfrm>
            <a:prstGeom prst="ellipse">
              <a:avLst/>
            </a:prstGeom>
            <a:gradFill rotWithShape="0">
              <a:gsLst>
                <a:gs pos="0">
                  <a:srgbClr val="d3ce73"/>
                </a:gs>
                <a:gs pos="100000">
                  <a:srgbClr val="a19d57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5767200" y="1616040"/>
              <a:ext cx="2122560" cy="2139840"/>
            </a:xfrm>
            <a:prstGeom prst="ellipse">
              <a:avLst/>
            </a:prstGeom>
            <a:gradFill rotWithShape="0">
              <a:gsLst>
                <a:gs pos="0">
                  <a:srgbClr val="a19d57"/>
                </a:gs>
                <a:gs pos="100000">
                  <a:srgbClr val="d3ce7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13"/>
          <p:cNvSpPr/>
          <p:nvPr/>
        </p:nvSpPr>
        <p:spPr>
          <a:xfrm>
            <a:off x="5803920" y="2514600"/>
            <a:ext cx="1946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36840" y="4330800"/>
            <a:ext cx="2257560" cy="2257200"/>
            <a:chOff x="3336840" y="4330800"/>
            <a:chExt cx="2257560" cy="2257200"/>
          </a:xfrm>
        </p:grpSpPr>
        <p:sp>
          <p:nvSpPr>
            <p:cNvPr id="70" name="Oval 15"/>
            <p:cNvSpPr/>
            <p:nvPr/>
          </p:nvSpPr>
          <p:spPr>
            <a:xfrm>
              <a:off x="3336840" y="4330800"/>
              <a:ext cx="2257560" cy="2257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7474c2"/>
                </a:gs>
              </a:gsLst>
              <a:lin ang="81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3403440" y="4387680"/>
              <a:ext cx="2122560" cy="2139480"/>
            </a:xfrm>
            <a:prstGeom prst="ellipse">
              <a:avLst/>
            </a:prstGeom>
            <a:gradFill rotWithShape="0">
              <a:gsLst>
                <a:gs pos="0">
                  <a:srgbClr val="7474c2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17"/>
          <p:cNvSpPr/>
          <p:nvPr/>
        </p:nvSpPr>
        <p:spPr>
          <a:xfrm>
            <a:off x="3440160" y="5286240"/>
            <a:ext cx="1946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551400" y="1521000"/>
            <a:ext cx="199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9"/>
          <p:cNvSpPr/>
          <p:nvPr/>
        </p:nvSpPr>
        <p:spPr>
          <a:xfrm>
            <a:off x="3448080" y="4395960"/>
            <a:ext cx="2023920" cy="78552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1291" h="495">
                <a:moveTo>
                  <a:pt x="0" y="495"/>
                </a:moveTo>
                <a:lnTo>
                  <a:pt x="1291" y="488"/>
                </a:lnTo>
                <a:cubicBezTo>
                  <a:pt x="1255" y="336"/>
                  <a:pt x="1163" y="231"/>
                  <a:pt x="1079" y="156"/>
                </a:cubicBezTo>
                <a:cubicBezTo>
                  <a:pt x="995" y="81"/>
                  <a:pt x="854" y="0"/>
                  <a:pt x="635" y="0"/>
                </a:cubicBezTo>
                <a:cubicBezTo>
                  <a:pt x="416" y="0"/>
                  <a:pt x="340" y="63"/>
                  <a:pt x="230" y="143"/>
                </a:cubicBezTo>
                <a:cubicBezTo>
                  <a:pt x="120" y="223"/>
                  <a:pt x="6" y="413"/>
                  <a:pt x="0" y="495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3586320" y="47084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1"/>
          <p:cNvSpPr/>
          <p:nvPr/>
        </p:nvSpPr>
        <p:spPr>
          <a:xfrm>
            <a:off x="5810400" y="1614600"/>
            <a:ext cx="2033280" cy="780840"/>
          </a:xfrm>
          <a:custGeom>
            <a:avLst/>
            <a:gdLst>
              <a:gd name="textAreaLeft" fmla="*/ 0 w 2033280"/>
              <a:gd name="textAreaRight" fmla="*/ 2033640 w 203328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1293" h="492">
                <a:moveTo>
                  <a:pt x="0" y="490"/>
                </a:moveTo>
                <a:lnTo>
                  <a:pt x="1293" y="492"/>
                </a:lnTo>
                <a:cubicBezTo>
                  <a:pt x="1257" y="340"/>
                  <a:pt x="1165" y="235"/>
                  <a:pt x="1081" y="160"/>
                </a:cubicBezTo>
                <a:cubicBezTo>
                  <a:pt x="997" y="85"/>
                  <a:pt x="867" y="0"/>
                  <a:pt x="648" y="0"/>
                </a:cubicBezTo>
                <a:cubicBezTo>
                  <a:pt x="429" y="0"/>
                  <a:pt x="342" y="67"/>
                  <a:pt x="232" y="147"/>
                </a:cubicBezTo>
                <a:cubicBezTo>
                  <a:pt x="122" y="227"/>
                  <a:pt x="18" y="421"/>
                  <a:pt x="0" y="490"/>
                </a:cubicBezTo>
                <a:close/>
              </a:path>
            </a:pathLst>
          </a:custGeom>
          <a:solidFill>
            <a:srgbClr val="d3c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2"/>
          <p:cNvSpPr/>
          <p:nvPr/>
        </p:nvSpPr>
        <p:spPr>
          <a:xfrm>
            <a:off x="1311120" y="1616040"/>
            <a:ext cx="2038680" cy="785880"/>
          </a:xfrm>
          <a:custGeom>
            <a:avLst/>
            <a:gdLst>
              <a:gd name="textAreaLeft" fmla="*/ 0 w 2038680"/>
              <a:gd name="textAreaRight" fmla="*/ 2038680 w 203868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284" h="495">
                <a:moveTo>
                  <a:pt x="0" y="495"/>
                </a:moveTo>
                <a:lnTo>
                  <a:pt x="1284" y="492"/>
                </a:lnTo>
                <a:cubicBezTo>
                  <a:pt x="1248" y="340"/>
                  <a:pt x="1156" y="235"/>
                  <a:pt x="1072" y="160"/>
                </a:cubicBezTo>
                <a:cubicBezTo>
                  <a:pt x="988" y="85"/>
                  <a:pt x="858" y="0"/>
                  <a:pt x="639" y="0"/>
                </a:cubicBezTo>
                <a:cubicBezTo>
                  <a:pt x="420" y="0"/>
                  <a:pt x="333" y="67"/>
                  <a:pt x="223" y="147"/>
                </a:cubicBezTo>
                <a:cubicBezTo>
                  <a:pt x="113" y="227"/>
                  <a:pt x="18" y="426"/>
                  <a:pt x="0" y="495"/>
                </a:cubicBezTo>
                <a:close/>
              </a:path>
            </a:pathLst>
          </a:custGeom>
          <a:solidFill>
            <a:srgbClr val="a3c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5921280" y="19270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1440000" y="19368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5"/>
          <p:cNvSpPr/>
          <p:nvPr/>
        </p:nvSpPr>
        <p:spPr>
          <a:xfrm>
            <a:off x="4192560" y="2290680"/>
            <a:ext cx="679320" cy="1857600"/>
          </a:xfrm>
          <a:custGeom>
            <a:avLst/>
            <a:gdLst>
              <a:gd name="textAreaLeft" fmla="*/ 0 w 679320"/>
              <a:gd name="textAreaRight" fmla="*/ 679680 w 67932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2682720" y="1843200"/>
            <a:ext cx="3743640" cy="374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 rot="17973000">
            <a:off x="4768200" y="2483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 rot="3465600">
            <a:off x="4767840" y="4647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 rot="14368800">
            <a:off x="3548520" y="255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 rot="7534800">
            <a:off x="3510360" y="46137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5346720" y="3611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10800000">
            <a:off x="2936520" y="36046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338640" y="5100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2fbf9"/>
              </a:gs>
              <a:gs pos="100000">
                <a:srgbClr val="4dc9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707800" y="1828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907280" y="1828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6622200" y="3581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707800" y="5181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992880" y="3581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1831320" y="511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5400720" y="5105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af5fd"/>
              </a:gs>
              <a:gs pos="100000">
                <a:srgbClr val="cb90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6238800" y="3581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1f6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9"/>
          <p:cNvSpPr/>
          <p:nvPr/>
        </p:nvSpPr>
        <p:spPr>
          <a:xfrm>
            <a:off x="5324400" y="19051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6e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3343320" y="19810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efdf4"/>
              </a:gs>
              <a:gs pos="100000">
                <a:srgbClr val="edd9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2505240" y="3581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6faee"/>
              </a:gs>
              <a:gs pos="100000">
                <a:srgbClr val="82b82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429000" y="26668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3"/>
          <p:cNvSpPr/>
          <p:nvPr/>
        </p:nvSpPr>
        <p:spPr>
          <a:xfrm>
            <a:off x="3570120" y="280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3581280" y="3505320"/>
            <a:ext cx="1890720" cy="476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2919240" y="3335400"/>
            <a:ext cx="34308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3038400" y="4952880"/>
            <a:ext cx="247680" cy="190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821400" y="5322240"/>
            <a:ext cx="40320" cy="309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2763720" y="431784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4993920" y="262872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 flipV="1">
            <a:off x="5576400" y="463212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5456160" y="311580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057320" y="29718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5735160" y="3951360"/>
            <a:ext cx="313920" cy="93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95200" y="1447920"/>
            <a:ext cx="4191120" cy="761760"/>
            <a:chOff x="295200" y="1447920"/>
            <a:chExt cx="4191120" cy="761760"/>
          </a:xfrm>
        </p:grpSpPr>
        <p:sp>
          <p:nvSpPr>
            <p:cNvPr id="115" name="AutoShape 13"/>
            <p:cNvSpPr/>
            <p:nvPr/>
          </p:nvSpPr>
          <p:spPr>
            <a:xfrm>
              <a:off x="295200" y="1447920"/>
              <a:ext cx="4191120" cy="76176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333399"/>
              </a:solidFill>
              <a:miter/>
            </a:ln>
            <a:effectLst>
              <a:outerShdw dist="63504" dir="318390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47480" y="159984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5"/>
          <p:cNvSpPr/>
          <p:nvPr/>
        </p:nvSpPr>
        <p:spPr>
          <a:xfrm>
            <a:off x="3191040" y="2971800"/>
            <a:ext cx="236196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209600" y="3048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7"/>
          <p:cNvSpPr/>
          <p:nvPr/>
        </p:nvSpPr>
        <p:spPr>
          <a:xfrm>
            <a:off x="905040" y="403848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8"/>
          <p:cNvSpPr/>
          <p:nvPr/>
        </p:nvSpPr>
        <p:spPr>
          <a:xfrm>
            <a:off x="1057320" y="495288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2276640" y="563868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1133640" y="4114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120960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2428920" y="5715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>
            <a:off x="4638600" y="198108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c2d1b2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4791240" y="2057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5705640" y="27432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c2d1b2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5857920" y="2819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6086520" y="36576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c2d1b2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6238800" y="3733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9"/>
          <p:cNvSpPr/>
          <p:nvPr/>
        </p:nvSpPr>
        <p:spPr>
          <a:xfrm>
            <a:off x="5857920" y="46483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50000">
                <a:srgbClr val="c2d1b2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6010200" y="4724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3114720" y="2895480"/>
            <a:ext cx="2519280" cy="2438640"/>
          </a:xfrm>
          <a:prstGeom prst="ellipse">
            <a:avLst/>
          </a:prstGeom>
          <a:noFill/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85440" y="760680"/>
            <a:ext cx="5481000" cy="5149080"/>
            <a:chOff x="1585440" y="760680"/>
            <a:chExt cx="5481000" cy="5149080"/>
          </a:xfrm>
        </p:grpSpPr>
        <p:sp>
          <p:nvSpPr>
            <p:cNvPr id="136" name="Freeform 4"/>
            <p:cNvSpPr/>
            <p:nvPr/>
          </p:nvSpPr>
          <p:spPr>
            <a:xfrm rot="20805000">
              <a:off x="4552920" y="2494080"/>
              <a:ext cx="1150920" cy="33163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6320"/>
                <a:gd name="textAreaBottom" fmla="*/ 3316680 h 331632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 rot="5461200">
              <a:off x="2759040" y="2041200"/>
              <a:ext cx="1150920" cy="33163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6320"/>
                <a:gd name="textAreaBottom" fmla="*/ 3316680 h 331632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 rot="14128200">
              <a:off x="4604400" y="516240"/>
              <a:ext cx="1150920" cy="331776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326ac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585440" y="1265760"/>
              <a:ext cx="5481000" cy="4644000"/>
              <a:chOff x="1585440" y="1265760"/>
              <a:chExt cx="5481000" cy="4644000"/>
            </a:xfrm>
          </p:grpSpPr>
          <p:sp>
            <p:nvSpPr>
              <p:cNvPr id="140" name="Freeform 8"/>
              <p:cNvSpPr/>
              <p:nvPr/>
            </p:nvSpPr>
            <p:spPr>
              <a:xfrm>
                <a:off x="4355280" y="2593800"/>
                <a:ext cx="1150560" cy="33159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5960"/>
                  <a:gd name="textAreaBottom" fmla="*/ 3316320 h 33159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"/>
              <p:cNvSpPr/>
              <p:nvPr/>
            </p:nvSpPr>
            <p:spPr>
              <a:xfrm rot="6256200">
                <a:off x="2759040" y="1893240"/>
                <a:ext cx="1150560" cy="331668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6680"/>
                  <a:gd name="textAreaBottom" fmla="*/ 3317040 h 331668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"/>
              <p:cNvSpPr/>
              <p:nvPr/>
            </p:nvSpPr>
            <p:spPr>
              <a:xfrm rot="14922600">
                <a:off x="4736880" y="745200"/>
                <a:ext cx="1150560" cy="331668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16680"/>
                  <a:gd name="textAreaBottom" fmla="*/ 3317040 h 331668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845160" y="2557440"/>
              <a:ext cx="1339560" cy="1338120"/>
              <a:chOff x="3845160" y="2557440"/>
              <a:chExt cx="1339560" cy="1338120"/>
            </a:xfrm>
          </p:grpSpPr>
          <p:sp>
            <p:nvSpPr>
              <p:cNvPr id="144" name="Oval 12"/>
              <p:cNvSpPr/>
              <p:nvPr/>
            </p:nvSpPr>
            <p:spPr>
              <a:xfrm>
                <a:off x="3845160" y="25574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3998160" y="2579400"/>
                <a:ext cx="1033200" cy="505080"/>
              </a:xfrm>
              <a:custGeom>
                <a:avLst/>
                <a:gdLst>
                  <a:gd name="textAreaLeft" fmla="*/ 0 w 1033200"/>
                  <a:gd name="textAreaRight" fmla="*/ 1033560 w 103320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4"/>
            <p:cNvSpPr/>
            <p:nvPr/>
          </p:nvSpPr>
          <p:spPr>
            <a:xfrm>
              <a:off x="4040640" y="30481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925640" y="27478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121360" y="19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3456000" y="4470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/>
          <p:cNvSpPr/>
          <p:nvPr/>
        </p:nvSpPr>
        <p:spPr>
          <a:xfrm>
            <a:off x="2890800" y="2297160"/>
            <a:ext cx="3225960" cy="3219480"/>
          </a:xfrm>
          <a:prstGeom prst="ellipse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3830760" y="3201840"/>
            <a:ext cx="1380960" cy="1378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3e522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2435400" y="4051440"/>
            <a:ext cx="1333440" cy="13334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4d39d"/>
              </a:gs>
            </a:gsLst>
            <a:lin ang="81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3870360" y="1577880"/>
            <a:ext cx="1333440" cy="13334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4d39d"/>
              </a:gs>
            </a:gsLst>
            <a:lin ang="81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 flipV="1">
            <a:off x="4467240" y="2998080"/>
            <a:ext cx="142920" cy="120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V="1">
            <a:off x="3687840" y="4266360"/>
            <a:ext cx="142920" cy="120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 flipV="1">
            <a:off x="5202360" y="4263480"/>
            <a:ext cx="142920" cy="120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5261040" y="4057560"/>
            <a:ext cx="1333440" cy="13334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f4d39d"/>
              </a:gs>
            </a:gsLst>
            <a:lin ang="81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687680" y="2706840"/>
            <a:ext cx="145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734080" y="276372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743280" y="5595840"/>
            <a:ext cx="166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3"/>
          <p:cNvSpPr/>
          <p:nvPr/>
        </p:nvSpPr>
        <p:spPr>
          <a:xfrm rot="5400000">
            <a:off x="4731120" y="3232800"/>
            <a:ext cx="714600" cy="712800"/>
          </a:xfrm>
          <a:prstGeom prst="ellipse">
            <a:avLst/>
          </a:prstGeom>
          <a:solidFill>
            <a:srgbClr val="dad61c"/>
          </a:solidFill>
          <a:ln w="9360">
            <a:solidFill>
              <a:srgbClr val="3d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4"/>
          <p:cNvSpPr/>
          <p:nvPr/>
        </p:nvSpPr>
        <p:spPr>
          <a:xfrm rot="5400000">
            <a:off x="3575880" y="3239280"/>
            <a:ext cx="711360" cy="712800"/>
          </a:xfrm>
          <a:prstGeom prst="ellipse">
            <a:avLst/>
          </a:prstGeom>
          <a:solidFill>
            <a:srgbClr val="dad61c"/>
          </a:solidFill>
          <a:ln w="9360">
            <a:solidFill>
              <a:srgbClr val="3d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3629880" y="3422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4798080" y="3432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 rot="5400000">
            <a:off x="4159800" y="4123440"/>
            <a:ext cx="711360" cy="712800"/>
          </a:xfrm>
          <a:prstGeom prst="ellipse">
            <a:avLst/>
          </a:prstGeom>
          <a:solidFill>
            <a:srgbClr val="dad61c"/>
          </a:solidFill>
          <a:ln w="9360">
            <a:solidFill>
              <a:srgbClr val="3d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4213800" y="4329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4081320" y="19288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5465880" y="4429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2630520" y="442764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17:12Z</dcterms:created>
  <dc:creator>http://www.eeppt.com</dc:creator>
  <dc:description>ppt模板下载网站 http://www.eeppt.com</dc:description>
  <dc:language>en-US</dc:language>
  <cp:lastModifiedBy/>
  <dcterms:modified xsi:type="dcterms:W3CDTF">2015-06-12T15:49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