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push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608F-9AAB-4237-8CCF-6EF2F3B01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849600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4000" y="3774240"/>
            <a:ext cx="849600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2C60-472C-49E4-BD03-9A466663E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480" y="155592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4000" y="377424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480" y="377424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A286-9947-4E76-8294-5A871D39F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27356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6800" y="1555920"/>
            <a:ext cx="27356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9600" y="1555920"/>
            <a:ext cx="27356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4000" y="3774240"/>
            <a:ext cx="27356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6800" y="3774240"/>
            <a:ext cx="27356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9600" y="3774240"/>
            <a:ext cx="27356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8895-92C7-4661-9B35-3FB7060D1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4000" y="1555920"/>
            <a:ext cx="849600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944D-9F95-4E5E-A54D-909CF9355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849600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4142-79E9-4837-8D9A-FD58EF617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414576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480" y="1555920"/>
            <a:ext cx="414576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76D7-F685-4A72-A24A-DDB825D88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617D-D933-45C8-A971-EA41A8CCB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4000" y="-360"/>
            <a:ext cx="8496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C616-728B-40D2-8740-2A149CD53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480" y="1555920"/>
            <a:ext cx="414576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4000" y="377424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2C71-7A69-48D2-8AED-24D2F1FDB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414576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480" y="155592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480" y="377424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FFEF-3A3B-40BE-B0FE-E5ECE2118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480" y="155592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4000" y="3774240"/>
            <a:ext cx="849600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F30C-7122-4F03-B136-60EC1B544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24000" y="1555920"/>
            <a:ext cx="849600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6040" indent="-176040">
              <a:spcBef>
                <a:spcPts val="451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77840" indent="736560">
              <a:spcBef>
                <a:spcPts val="451"/>
              </a:spcBef>
              <a:buClr>
                <a:srgbClr val="000000"/>
              </a:buClr>
              <a:buSzPct val="2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60360" indent="554040">
              <a:spcBef>
                <a:spcPts val="451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536400" indent="378000">
              <a:spcBef>
                <a:spcPts val="451"/>
              </a:spcBef>
              <a:buClr>
                <a:srgbClr val="000000"/>
              </a:buClr>
              <a:buSzPct val="2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720720" indent="193680">
              <a:spcBef>
                <a:spcPts val="451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720720" indent="193680">
              <a:spcBef>
                <a:spcPts val="451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720720" indent="193680">
              <a:spcBef>
                <a:spcPts val="451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240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63EF8-DC4F-4FEC-8047-CE6AB12457B6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57360" y="6356520"/>
            <a:ext cx="4229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866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20E22-9C76-4210-AB40-A839ABBBDC5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2.png"/><Relationship Id="rId9" Type="http://schemas.openxmlformats.org/officeDocument/2006/relationships/image" Target="../media/image7.png"/><Relationship Id="rId10" Type="http://schemas.openxmlformats.org/officeDocument/2006/relationships/audio" Target="../media/push.wav"/><Relationship Id="rId1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audio" Target="../media/push.wav"/><Relationship Id="rId1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-11160" y="793800"/>
            <a:ext cx="9191520" cy="5371920"/>
          </a:xfrm>
          <a:prstGeom prst="rect">
            <a:avLst/>
          </a:prstGeom>
          <a:ln w="0">
            <a:noFill/>
          </a:ln>
        </p:spPr>
      </p:pic>
      <p:grpSp>
        <p:nvGrpSpPr>
          <p:cNvPr id="42" name="组合 564"/>
          <p:cNvGrpSpPr/>
          <p:nvPr/>
        </p:nvGrpSpPr>
        <p:grpSpPr>
          <a:xfrm>
            <a:off x="796680" y="3724200"/>
            <a:ext cx="7743240" cy="204840"/>
            <a:chOff x="796680" y="3724200"/>
            <a:chExt cx="7743240" cy="204840"/>
          </a:xfrm>
        </p:grpSpPr>
        <p:sp>
          <p:nvSpPr>
            <p:cNvPr id="43" name="Freeform 6"/>
            <p:cNvSpPr/>
            <p:nvPr/>
          </p:nvSpPr>
          <p:spPr>
            <a:xfrm rot="5400000">
              <a:off x="8339400" y="3748680"/>
              <a:ext cx="204840" cy="1558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6"/>
            <p:cNvSpPr/>
            <p:nvPr/>
          </p:nvSpPr>
          <p:spPr>
            <a:xfrm flipH="1" rot="16200000">
              <a:off x="792000" y="3748680"/>
              <a:ext cx="204840" cy="1558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组合 567"/>
            <p:cNvGrpSpPr/>
            <p:nvPr/>
          </p:nvGrpSpPr>
          <p:grpSpPr>
            <a:xfrm>
              <a:off x="821160" y="3751560"/>
              <a:ext cx="7705080" cy="158400"/>
              <a:chOff x="821160" y="3751560"/>
              <a:chExt cx="7705080" cy="158400"/>
            </a:xfrm>
          </p:grpSpPr>
          <p:sp>
            <p:nvSpPr>
              <p:cNvPr id="46" name="圆角矩形 570"/>
              <p:cNvSpPr/>
              <p:nvPr/>
            </p:nvSpPr>
            <p:spPr>
              <a:xfrm>
                <a:off x="821160" y="3751560"/>
                <a:ext cx="7705080" cy="158400"/>
              </a:xfrm>
              <a:prstGeom prst="roundRect">
                <a:avLst>
                  <a:gd name="adj" fmla="val 16667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圆角矩形 571"/>
              <p:cNvSpPr/>
              <p:nvPr/>
            </p:nvSpPr>
            <p:spPr>
              <a:xfrm>
                <a:off x="821160" y="3751560"/>
                <a:ext cx="7705080" cy="1584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" name="Freeform 6"/>
            <p:cNvSpPr/>
            <p:nvPr/>
          </p:nvSpPr>
          <p:spPr>
            <a:xfrm rot="5400000">
              <a:off x="772200" y="3748680"/>
              <a:ext cx="204840" cy="1558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6"/>
            <p:cNvSpPr/>
            <p:nvPr/>
          </p:nvSpPr>
          <p:spPr>
            <a:xfrm flipH="1" rot="16200000">
              <a:off x="8359200" y="3748680"/>
              <a:ext cx="204840" cy="1558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组合 572"/>
          <p:cNvGrpSpPr/>
          <p:nvPr/>
        </p:nvGrpSpPr>
        <p:grpSpPr>
          <a:xfrm>
            <a:off x="995400" y="2300400"/>
            <a:ext cx="1689120" cy="1975320"/>
            <a:chOff x="995400" y="2300400"/>
            <a:chExt cx="1689120" cy="1975320"/>
          </a:xfrm>
        </p:grpSpPr>
        <p:grpSp>
          <p:nvGrpSpPr>
            <p:cNvPr id="51" name="组合 573"/>
            <p:cNvGrpSpPr/>
            <p:nvPr/>
          </p:nvGrpSpPr>
          <p:grpSpPr>
            <a:xfrm>
              <a:off x="1401840" y="3907440"/>
              <a:ext cx="890640" cy="368280"/>
              <a:chOff x="1401840" y="3907440"/>
              <a:chExt cx="890640" cy="368280"/>
            </a:xfrm>
          </p:grpSpPr>
          <p:sp>
            <p:nvSpPr>
              <p:cNvPr id="52" name="梯形 598"/>
              <p:cNvSpPr/>
              <p:nvPr/>
            </p:nvSpPr>
            <p:spPr>
              <a:xfrm flipV="1">
                <a:off x="1401840" y="3934800"/>
                <a:ext cx="843840" cy="281520"/>
              </a:xfrm>
              <a:custGeom>
                <a:avLst/>
                <a:gdLst>
                  <a:gd name="textAreaLeft" fmla="*/ 68040 w 843840"/>
                  <a:gd name="textAreaRight" fmla="*/ 775800 w 843840"/>
                  <a:gd name="textAreaTop" fmla="*/ 22680 h 281520"/>
                  <a:gd name="textAreaBottom" fmla="*/ 258840 h 281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00b0f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矩形 599"/>
              <p:cNvSpPr/>
              <p:nvPr/>
            </p:nvSpPr>
            <p:spPr>
              <a:xfrm>
                <a:off x="1482120" y="3907440"/>
                <a:ext cx="81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20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" name="组合 574"/>
            <p:cNvGrpSpPr/>
            <p:nvPr/>
          </p:nvGrpSpPr>
          <p:grpSpPr>
            <a:xfrm>
              <a:off x="995400" y="2300400"/>
              <a:ext cx="1689120" cy="1474560"/>
              <a:chOff x="995400" y="2300400"/>
              <a:chExt cx="1689120" cy="1474560"/>
            </a:xfrm>
          </p:grpSpPr>
          <p:sp>
            <p:nvSpPr>
              <p:cNvPr id="55" name="圆角矩形 576"/>
              <p:cNvSpPr/>
              <p:nvPr/>
            </p:nvSpPr>
            <p:spPr>
              <a:xfrm>
                <a:off x="1108800" y="2423160"/>
                <a:ext cx="1473120" cy="1234080"/>
              </a:xfrm>
              <a:prstGeom prst="roundRect">
                <a:avLst>
                  <a:gd name="adj" fmla="val 8171"/>
                </a:avLst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" name="组合 577"/>
              <p:cNvGrpSpPr/>
              <p:nvPr/>
            </p:nvGrpSpPr>
            <p:grpSpPr>
              <a:xfrm>
                <a:off x="1002600" y="2300400"/>
                <a:ext cx="1681920" cy="228600"/>
                <a:chOff x="1002600" y="2300400"/>
                <a:chExt cx="1681920" cy="228600"/>
              </a:xfrm>
            </p:grpSpPr>
            <p:grpSp>
              <p:nvGrpSpPr>
                <p:cNvPr id="57" name="组合 592"/>
                <p:cNvGrpSpPr/>
                <p:nvPr/>
              </p:nvGrpSpPr>
              <p:grpSpPr>
                <a:xfrm>
                  <a:off x="1002600" y="2300400"/>
                  <a:ext cx="849600" cy="228600"/>
                  <a:chOff x="1002600" y="2300400"/>
                  <a:chExt cx="849600" cy="228600"/>
                </a:xfrm>
              </p:grpSpPr>
              <p:sp>
                <p:nvSpPr>
                  <p:cNvPr id="58" name="燕尾形箭头 38"/>
                  <p:cNvSpPr/>
                  <p:nvPr/>
                </p:nvSpPr>
                <p:spPr>
                  <a:xfrm flipH="1">
                    <a:off x="1002240" y="2309400"/>
                    <a:ext cx="849240" cy="219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燕尾形箭头 38"/>
                  <p:cNvSpPr/>
                  <p:nvPr/>
                </p:nvSpPr>
                <p:spPr>
                  <a:xfrm flipH="1">
                    <a:off x="1080360" y="2300400"/>
                    <a:ext cx="771840" cy="1587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组合 593"/>
                <p:cNvGrpSpPr/>
                <p:nvPr/>
              </p:nvGrpSpPr>
              <p:grpSpPr>
                <a:xfrm>
                  <a:off x="1834920" y="2300400"/>
                  <a:ext cx="849600" cy="228600"/>
                  <a:chOff x="1834920" y="2300400"/>
                  <a:chExt cx="849600" cy="228600"/>
                </a:xfrm>
              </p:grpSpPr>
              <p:sp>
                <p:nvSpPr>
                  <p:cNvPr id="61" name="燕尾形箭头 38"/>
                  <p:cNvSpPr/>
                  <p:nvPr/>
                </p:nvSpPr>
                <p:spPr>
                  <a:xfrm>
                    <a:off x="1835280" y="2309400"/>
                    <a:ext cx="849240" cy="219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燕尾形箭头 38"/>
                  <p:cNvSpPr/>
                  <p:nvPr/>
                </p:nvSpPr>
                <p:spPr>
                  <a:xfrm>
                    <a:off x="1834920" y="2300400"/>
                    <a:ext cx="771840" cy="1587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3" name="圆角矩形 16"/>
              <p:cNvSpPr/>
              <p:nvPr/>
            </p:nvSpPr>
            <p:spPr>
              <a:xfrm>
                <a:off x="1281960" y="3087720"/>
                <a:ext cx="1301400" cy="5731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圆角矩形 18"/>
              <p:cNvSpPr/>
              <p:nvPr/>
            </p:nvSpPr>
            <p:spPr>
              <a:xfrm>
                <a:off x="1117080" y="3298680"/>
                <a:ext cx="1466640" cy="3621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矩形 580"/>
              <p:cNvSpPr/>
              <p:nvPr/>
            </p:nvSpPr>
            <p:spPr>
              <a:xfrm>
                <a:off x="1127520" y="2603520"/>
                <a:ext cx="1429920" cy="93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" name="组合 581"/>
              <p:cNvGrpSpPr/>
              <p:nvPr/>
            </p:nvGrpSpPr>
            <p:grpSpPr>
              <a:xfrm>
                <a:off x="995400" y="3437640"/>
                <a:ext cx="1688040" cy="337320"/>
                <a:chOff x="995400" y="3437640"/>
                <a:chExt cx="1688040" cy="337320"/>
              </a:xfrm>
            </p:grpSpPr>
            <p:grpSp>
              <p:nvGrpSpPr>
                <p:cNvPr id="67" name="组合 582"/>
                <p:cNvGrpSpPr/>
                <p:nvPr/>
              </p:nvGrpSpPr>
              <p:grpSpPr>
                <a:xfrm>
                  <a:off x="995400" y="3437640"/>
                  <a:ext cx="853200" cy="337320"/>
                  <a:chOff x="995400" y="3437640"/>
                  <a:chExt cx="853200" cy="337320"/>
                </a:xfrm>
              </p:grpSpPr>
              <p:sp>
                <p:nvSpPr>
                  <p:cNvPr id="68" name="燕尾形箭头 38"/>
                  <p:cNvSpPr/>
                  <p:nvPr/>
                </p:nvSpPr>
                <p:spPr>
                  <a:xfrm flipH="1" flipV="1">
                    <a:off x="995400" y="3437280"/>
                    <a:ext cx="849600" cy="322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9" name="组合 589"/>
                  <p:cNvGrpSpPr/>
                  <p:nvPr/>
                </p:nvGrpSpPr>
                <p:grpSpPr>
                  <a:xfrm>
                    <a:off x="999000" y="3546360"/>
                    <a:ext cx="849600" cy="228600"/>
                    <a:chOff x="999000" y="3546360"/>
                    <a:chExt cx="849600" cy="228600"/>
                  </a:xfrm>
                </p:grpSpPr>
                <p:sp>
                  <p:nvSpPr>
                    <p:cNvPr id="70" name="燕尾形箭头 38"/>
                    <p:cNvSpPr/>
                    <p:nvPr/>
                  </p:nvSpPr>
                  <p:spPr>
                    <a:xfrm flipH="1" flipV="1">
                      <a:off x="999000" y="3546360"/>
                      <a:ext cx="849600" cy="219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" name="燕尾形箭头 38"/>
                    <p:cNvSpPr/>
                    <p:nvPr/>
                  </p:nvSpPr>
                  <p:spPr>
                    <a:xfrm flipH="1" flipV="1">
                      <a:off x="1075680" y="3615840"/>
                      <a:ext cx="772200" cy="158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2" name="组合 583"/>
                <p:cNvGrpSpPr/>
                <p:nvPr/>
              </p:nvGrpSpPr>
              <p:grpSpPr>
                <a:xfrm>
                  <a:off x="1830240" y="3437640"/>
                  <a:ext cx="853200" cy="337320"/>
                  <a:chOff x="1830240" y="3437640"/>
                  <a:chExt cx="853200" cy="337320"/>
                </a:xfrm>
              </p:grpSpPr>
              <p:sp>
                <p:nvSpPr>
                  <p:cNvPr id="73" name="燕尾形箭头 38"/>
                  <p:cNvSpPr/>
                  <p:nvPr/>
                </p:nvSpPr>
                <p:spPr>
                  <a:xfrm flipV="1">
                    <a:off x="1833840" y="3437280"/>
                    <a:ext cx="849600" cy="322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4" name="组合 585"/>
                  <p:cNvGrpSpPr/>
                  <p:nvPr/>
                </p:nvGrpSpPr>
                <p:grpSpPr>
                  <a:xfrm>
                    <a:off x="1830240" y="3546360"/>
                    <a:ext cx="849600" cy="228600"/>
                    <a:chOff x="1830240" y="3546360"/>
                    <a:chExt cx="849600" cy="228600"/>
                  </a:xfrm>
                </p:grpSpPr>
                <p:sp>
                  <p:nvSpPr>
                    <p:cNvPr id="75" name="燕尾形箭头 38"/>
                    <p:cNvSpPr/>
                    <p:nvPr/>
                  </p:nvSpPr>
                  <p:spPr>
                    <a:xfrm flipV="1">
                      <a:off x="1830240" y="3546360"/>
                      <a:ext cx="849600" cy="219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" name="燕尾形箭头 38"/>
                    <p:cNvSpPr/>
                    <p:nvPr/>
                  </p:nvSpPr>
                  <p:spPr>
                    <a:xfrm flipV="1">
                      <a:off x="1830600" y="3615840"/>
                      <a:ext cx="772200" cy="158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77" name="椭圆 575"/>
            <p:cNvSpPr/>
            <p:nvPr/>
          </p:nvSpPr>
          <p:spPr>
            <a:xfrm>
              <a:off x="1761480" y="3757320"/>
              <a:ext cx="137160" cy="14256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组合 601"/>
          <p:cNvGrpSpPr/>
          <p:nvPr/>
        </p:nvGrpSpPr>
        <p:grpSpPr>
          <a:xfrm>
            <a:off x="2887200" y="3395520"/>
            <a:ext cx="1681920" cy="1905120"/>
            <a:chOff x="2887200" y="3395520"/>
            <a:chExt cx="1681920" cy="1905120"/>
          </a:xfrm>
        </p:grpSpPr>
        <p:grpSp>
          <p:nvGrpSpPr>
            <p:cNvPr id="79" name="组合 602"/>
            <p:cNvGrpSpPr/>
            <p:nvPr/>
          </p:nvGrpSpPr>
          <p:grpSpPr>
            <a:xfrm>
              <a:off x="2887200" y="3939120"/>
              <a:ext cx="1681920" cy="1361520"/>
              <a:chOff x="2887200" y="3939120"/>
              <a:chExt cx="1681920" cy="1361520"/>
            </a:xfrm>
          </p:grpSpPr>
          <p:sp>
            <p:nvSpPr>
              <p:cNvPr id="80" name="圆角矩形 607"/>
              <p:cNvSpPr/>
              <p:nvPr/>
            </p:nvSpPr>
            <p:spPr>
              <a:xfrm>
                <a:off x="2993400" y="4061880"/>
                <a:ext cx="1473120" cy="1233720"/>
              </a:xfrm>
              <a:prstGeom prst="roundRect">
                <a:avLst>
                  <a:gd name="adj" fmla="val 7398"/>
                </a:avLst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" name="组合 608"/>
              <p:cNvGrpSpPr/>
              <p:nvPr/>
            </p:nvGrpSpPr>
            <p:grpSpPr>
              <a:xfrm>
                <a:off x="2887200" y="3939120"/>
                <a:ext cx="1681920" cy="329040"/>
                <a:chOff x="2887200" y="3939120"/>
                <a:chExt cx="1681920" cy="329040"/>
              </a:xfrm>
            </p:grpSpPr>
            <p:grpSp>
              <p:nvGrpSpPr>
                <p:cNvPr id="82" name="组合 612"/>
                <p:cNvGrpSpPr/>
                <p:nvPr/>
              </p:nvGrpSpPr>
              <p:grpSpPr>
                <a:xfrm>
                  <a:off x="2887200" y="3939120"/>
                  <a:ext cx="849600" cy="329040"/>
                  <a:chOff x="2887200" y="3939120"/>
                  <a:chExt cx="849600" cy="329040"/>
                </a:xfrm>
              </p:grpSpPr>
              <p:sp>
                <p:nvSpPr>
                  <p:cNvPr id="83" name="燕尾形箭头 38"/>
                  <p:cNvSpPr/>
                  <p:nvPr/>
                </p:nvSpPr>
                <p:spPr>
                  <a:xfrm flipH="1">
                    <a:off x="2887200" y="3946320"/>
                    <a:ext cx="849240" cy="321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4" name="组合 619"/>
                  <p:cNvGrpSpPr/>
                  <p:nvPr/>
                </p:nvGrpSpPr>
                <p:grpSpPr>
                  <a:xfrm>
                    <a:off x="2887200" y="3939120"/>
                    <a:ext cx="849600" cy="228600"/>
                    <a:chOff x="2887200" y="3939120"/>
                    <a:chExt cx="849600" cy="228600"/>
                  </a:xfrm>
                </p:grpSpPr>
                <p:sp>
                  <p:nvSpPr>
                    <p:cNvPr id="85" name="燕尾形箭头 38"/>
                    <p:cNvSpPr/>
                    <p:nvPr/>
                  </p:nvSpPr>
                  <p:spPr>
                    <a:xfrm flipH="1">
                      <a:off x="2886840" y="3948120"/>
                      <a:ext cx="849240" cy="219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" name="燕尾形箭头 38"/>
                    <p:cNvSpPr/>
                    <p:nvPr/>
                  </p:nvSpPr>
                  <p:spPr>
                    <a:xfrm flipH="1">
                      <a:off x="2964960" y="3939120"/>
                      <a:ext cx="771840" cy="158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87" name="组合 613"/>
                <p:cNvGrpSpPr/>
                <p:nvPr/>
              </p:nvGrpSpPr>
              <p:grpSpPr>
                <a:xfrm>
                  <a:off x="3719520" y="3939120"/>
                  <a:ext cx="849600" cy="329040"/>
                  <a:chOff x="3719520" y="3939120"/>
                  <a:chExt cx="849600" cy="329040"/>
                </a:xfrm>
              </p:grpSpPr>
              <p:sp>
                <p:nvSpPr>
                  <p:cNvPr id="88" name="燕尾形箭头 38"/>
                  <p:cNvSpPr/>
                  <p:nvPr/>
                </p:nvSpPr>
                <p:spPr>
                  <a:xfrm>
                    <a:off x="3719520" y="3946320"/>
                    <a:ext cx="849240" cy="321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9" name="组合 615"/>
                  <p:cNvGrpSpPr/>
                  <p:nvPr/>
                </p:nvGrpSpPr>
                <p:grpSpPr>
                  <a:xfrm>
                    <a:off x="3719520" y="3939120"/>
                    <a:ext cx="849600" cy="228600"/>
                    <a:chOff x="3719520" y="3939120"/>
                    <a:chExt cx="849600" cy="228600"/>
                  </a:xfrm>
                </p:grpSpPr>
                <p:sp>
                  <p:nvSpPr>
                    <p:cNvPr id="90" name="燕尾形箭头 38"/>
                    <p:cNvSpPr/>
                    <p:nvPr/>
                  </p:nvSpPr>
                  <p:spPr>
                    <a:xfrm>
                      <a:off x="3719880" y="3948120"/>
                      <a:ext cx="849240" cy="219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" name="燕尾形箭头 38"/>
                    <p:cNvSpPr/>
                    <p:nvPr/>
                  </p:nvSpPr>
                  <p:spPr>
                    <a:xfrm>
                      <a:off x="3719520" y="3939120"/>
                      <a:ext cx="771840" cy="158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92" name="圆角矩形 16"/>
              <p:cNvSpPr/>
              <p:nvPr/>
            </p:nvSpPr>
            <p:spPr>
              <a:xfrm>
                <a:off x="3166560" y="4726080"/>
                <a:ext cx="1302840" cy="574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圆角矩形 18"/>
              <p:cNvSpPr/>
              <p:nvPr/>
            </p:nvSpPr>
            <p:spPr>
              <a:xfrm>
                <a:off x="3001680" y="4937040"/>
                <a:ext cx="1466280" cy="3632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矩形 611"/>
              <p:cNvSpPr/>
              <p:nvPr/>
            </p:nvSpPr>
            <p:spPr>
              <a:xfrm>
                <a:off x="3012120" y="4242240"/>
                <a:ext cx="1429920" cy="93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椭圆 603"/>
            <p:cNvSpPr/>
            <p:nvPr/>
          </p:nvSpPr>
          <p:spPr>
            <a:xfrm>
              <a:off x="3658320" y="3758040"/>
              <a:ext cx="137160" cy="14256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组合 604"/>
            <p:cNvGrpSpPr/>
            <p:nvPr/>
          </p:nvGrpSpPr>
          <p:grpSpPr>
            <a:xfrm>
              <a:off x="3312360" y="3395520"/>
              <a:ext cx="890280" cy="368280"/>
              <a:chOff x="3312360" y="3395520"/>
              <a:chExt cx="890280" cy="368280"/>
            </a:xfrm>
          </p:grpSpPr>
          <p:sp>
            <p:nvSpPr>
              <p:cNvPr id="97" name="梯形 605"/>
              <p:cNvSpPr/>
              <p:nvPr/>
            </p:nvSpPr>
            <p:spPr>
              <a:xfrm flipV="1">
                <a:off x="3312360" y="3422880"/>
                <a:ext cx="843480" cy="281520"/>
              </a:xfrm>
              <a:custGeom>
                <a:avLst/>
                <a:gdLst>
                  <a:gd name="textAreaLeft" fmla="*/ 68040 w 843480"/>
                  <a:gd name="textAreaRight" fmla="*/ 775440 w 843480"/>
                  <a:gd name="textAreaTop" fmla="*/ 22680 h 281520"/>
                  <a:gd name="textAreaBottom" fmla="*/ 258840 h 281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eb870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矩形 606"/>
              <p:cNvSpPr/>
              <p:nvPr/>
            </p:nvSpPr>
            <p:spPr>
              <a:xfrm>
                <a:off x="3392640" y="3395520"/>
                <a:ext cx="810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201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9" name="组合 622"/>
          <p:cNvGrpSpPr/>
          <p:nvPr/>
        </p:nvGrpSpPr>
        <p:grpSpPr>
          <a:xfrm>
            <a:off x="4771800" y="2300400"/>
            <a:ext cx="1687680" cy="1975320"/>
            <a:chOff x="4771800" y="2300400"/>
            <a:chExt cx="1687680" cy="1975320"/>
          </a:xfrm>
        </p:grpSpPr>
        <p:grpSp>
          <p:nvGrpSpPr>
            <p:cNvPr id="100" name="组合 623"/>
            <p:cNvGrpSpPr/>
            <p:nvPr/>
          </p:nvGrpSpPr>
          <p:grpSpPr>
            <a:xfrm>
              <a:off x="4771800" y="2300400"/>
              <a:ext cx="1687680" cy="1474560"/>
              <a:chOff x="4771800" y="2300400"/>
              <a:chExt cx="1687680" cy="1474560"/>
            </a:xfrm>
          </p:grpSpPr>
          <p:sp>
            <p:nvSpPr>
              <p:cNvPr id="101" name="圆角矩形 629"/>
              <p:cNvSpPr/>
              <p:nvPr/>
            </p:nvSpPr>
            <p:spPr>
              <a:xfrm>
                <a:off x="4885560" y="2423160"/>
                <a:ext cx="1472760" cy="1234080"/>
              </a:xfrm>
              <a:prstGeom prst="roundRect">
                <a:avLst>
                  <a:gd name="adj" fmla="val 6625"/>
                </a:avLst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" name="组合 630"/>
              <p:cNvGrpSpPr/>
              <p:nvPr/>
            </p:nvGrpSpPr>
            <p:grpSpPr>
              <a:xfrm>
                <a:off x="4779360" y="2300400"/>
                <a:ext cx="848880" cy="228600"/>
                <a:chOff x="4779360" y="2300400"/>
                <a:chExt cx="848880" cy="228600"/>
              </a:xfrm>
            </p:grpSpPr>
            <p:sp>
              <p:nvSpPr>
                <p:cNvPr id="103" name="燕尾形箭头 38"/>
                <p:cNvSpPr/>
                <p:nvPr/>
              </p:nvSpPr>
              <p:spPr>
                <a:xfrm flipH="1">
                  <a:off x="4779360" y="2309400"/>
                  <a:ext cx="848880" cy="2196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燕尾形箭头 38"/>
                <p:cNvSpPr/>
                <p:nvPr/>
              </p:nvSpPr>
              <p:spPr>
                <a:xfrm flipH="1">
                  <a:off x="4856040" y="2300400"/>
                  <a:ext cx="771480" cy="1587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" name="圆角矩形 16"/>
              <p:cNvSpPr/>
              <p:nvPr/>
            </p:nvSpPr>
            <p:spPr>
              <a:xfrm>
                <a:off x="5058720" y="3087720"/>
                <a:ext cx="1301040" cy="5731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圆角矩形 18"/>
              <p:cNvSpPr/>
              <p:nvPr/>
            </p:nvSpPr>
            <p:spPr>
              <a:xfrm>
                <a:off x="4893840" y="3298680"/>
                <a:ext cx="1465920" cy="3621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矩形 633"/>
              <p:cNvSpPr/>
              <p:nvPr/>
            </p:nvSpPr>
            <p:spPr>
              <a:xfrm>
                <a:off x="4904280" y="2603520"/>
                <a:ext cx="142956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。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" name="组合 634"/>
              <p:cNvGrpSpPr/>
              <p:nvPr/>
            </p:nvGrpSpPr>
            <p:grpSpPr>
              <a:xfrm>
                <a:off x="4771800" y="3437640"/>
                <a:ext cx="1687680" cy="337320"/>
                <a:chOff x="4771800" y="3437640"/>
                <a:chExt cx="1687680" cy="337320"/>
              </a:xfrm>
            </p:grpSpPr>
            <p:grpSp>
              <p:nvGrpSpPr>
                <p:cNvPr id="109" name="组合 635"/>
                <p:cNvGrpSpPr/>
                <p:nvPr/>
              </p:nvGrpSpPr>
              <p:grpSpPr>
                <a:xfrm>
                  <a:off x="4771800" y="3437640"/>
                  <a:ext cx="853200" cy="337320"/>
                  <a:chOff x="4771800" y="3437640"/>
                  <a:chExt cx="853200" cy="337320"/>
                </a:xfrm>
              </p:grpSpPr>
              <p:sp>
                <p:nvSpPr>
                  <p:cNvPr id="110" name="燕尾形箭头 38"/>
                  <p:cNvSpPr/>
                  <p:nvPr/>
                </p:nvSpPr>
                <p:spPr>
                  <a:xfrm flipH="1" flipV="1">
                    <a:off x="4771440" y="3437280"/>
                    <a:ext cx="849240" cy="322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11" name="组合 642"/>
                  <p:cNvGrpSpPr/>
                  <p:nvPr/>
                </p:nvGrpSpPr>
                <p:grpSpPr>
                  <a:xfrm>
                    <a:off x="4775400" y="3546360"/>
                    <a:ext cx="849600" cy="228600"/>
                    <a:chOff x="4775400" y="3546360"/>
                    <a:chExt cx="849600" cy="228600"/>
                  </a:xfrm>
                </p:grpSpPr>
                <p:sp>
                  <p:nvSpPr>
                    <p:cNvPr id="112" name="燕尾形箭头 38"/>
                    <p:cNvSpPr/>
                    <p:nvPr/>
                  </p:nvSpPr>
                  <p:spPr>
                    <a:xfrm flipH="1" flipV="1">
                      <a:off x="4775040" y="3546360"/>
                      <a:ext cx="849240" cy="219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" name="燕尾形箭头 38"/>
                    <p:cNvSpPr/>
                    <p:nvPr/>
                  </p:nvSpPr>
                  <p:spPr>
                    <a:xfrm flipH="1" flipV="1">
                      <a:off x="4853160" y="3615840"/>
                      <a:ext cx="771840" cy="158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14" name="组合 636"/>
                <p:cNvGrpSpPr/>
                <p:nvPr/>
              </p:nvGrpSpPr>
              <p:grpSpPr>
                <a:xfrm>
                  <a:off x="5606280" y="3437640"/>
                  <a:ext cx="853200" cy="337320"/>
                  <a:chOff x="5606280" y="3437640"/>
                  <a:chExt cx="853200" cy="337320"/>
                </a:xfrm>
              </p:grpSpPr>
              <p:sp>
                <p:nvSpPr>
                  <p:cNvPr id="115" name="燕尾形箭头 38"/>
                  <p:cNvSpPr/>
                  <p:nvPr/>
                </p:nvSpPr>
                <p:spPr>
                  <a:xfrm flipV="1">
                    <a:off x="5610240" y="3437280"/>
                    <a:ext cx="849240" cy="322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16" name="组合 638"/>
                  <p:cNvGrpSpPr/>
                  <p:nvPr/>
                </p:nvGrpSpPr>
                <p:grpSpPr>
                  <a:xfrm>
                    <a:off x="5606280" y="3546360"/>
                    <a:ext cx="849600" cy="228600"/>
                    <a:chOff x="5606280" y="3546360"/>
                    <a:chExt cx="849600" cy="228600"/>
                  </a:xfrm>
                </p:grpSpPr>
                <p:sp>
                  <p:nvSpPr>
                    <p:cNvPr id="117" name="燕尾形箭头 38"/>
                    <p:cNvSpPr/>
                    <p:nvPr/>
                  </p:nvSpPr>
                  <p:spPr>
                    <a:xfrm flipV="1">
                      <a:off x="5606640" y="3546360"/>
                      <a:ext cx="849240" cy="219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" name="燕尾形箭头 38"/>
                    <p:cNvSpPr/>
                    <p:nvPr/>
                  </p:nvSpPr>
                  <p:spPr>
                    <a:xfrm flipV="1">
                      <a:off x="5606280" y="3615840"/>
                      <a:ext cx="771840" cy="158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119" name="椭圆 624"/>
            <p:cNvSpPr/>
            <p:nvPr/>
          </p:nvSpPr>
          <p:spPr>
            <a:xfrm>
              <a:off x="5606640" y="3756960"/>
              <a:ext cx="137160" cy="14256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" name="组合 625"/>
            <p:cNvGrpSpPr/>
            <p:nvPr/>
          </p:nvGrpSpPr>
          <p:grpSpPr>
            <a:xfrm>
              <a:off x="5250600" y="3907440"/>
              <a:ext cx="890280" cy="368280"/>
              <a:chOff x="5250600" y="3907440"/>
              <a:chExt cx="890280" cy="368280"/>
            </a:xfrm>
          </p:grpSpPr>
          <p:sp>
            <p:nvSpPr>
              <p:cNvPr id="121" name="梯形 627"/>
              <p:cNvSpPr/>
              <p:nvPr/>
            </p:nvSpPr>
            <p:spPr>
              <a:xfrm flipV="1">
                <a:off x="5250600" y="3934800"/>
                <a:ext cx="843480" cy="281520"/>
              </a:xfrm>
              <a:custGeom>
                <a:avLst/>
                <a:gdLst>
                  <a:gd name="textAreaLeft" fmla="*/ 68040 w 843480"/>
                  <a:gd name="textAreaRight" fmla="*/ 775440 w 843480"/>
                  <a:gd name="textAreaTop" fmla="*/ 22680 h 281520"/>
                  <a:gd name="textAreaBottom" fmla="*/ 258840 h 281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c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矩形 628"/>
              <p:cNvSpPr/>
              <p:nvPr/>
            </p:nvSpPr>
            <p:spPr>
              <a:xfrm>
                <a:off x="5330880" y="3907440"/>
                <a:ext cx="810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201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" name="椭圆 626"/>
            <p:cNvSpPr/>
            <p:nvPr/>
          </p:nvSpPr>
          <p:spPr>
            <a:xfrm>
              <a:off x="5609160" y="3756960"/>
              <a:ext cx="137160" cy="142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组合 647"/>
          <p:cNvGrpSpPr/>
          <p:nvPr/>
        </p:nvGrpSpPr>
        <p:grpSpPr>
          <a:xfrm>
            <a:off x="6660720" y="3357720"/>
            <a:ext cx="1681920" cy="1904760"/>
            <a:chOff x="6660720" y="3357720"/>
            <a:chExt cx="1681920" cy="1904760"/>
          </a:xfrm>
        </p:grpSpPr>
        <p:grpSp>
          <p:nvGrpSpPr>
            <p:cNvPr id="125" name="组合 648"/>
            <p:cNvGrpSpPr/>
            <p:nvPr/>
          </p:nvGrpSpPr>
          <p:grpSpPr>
            <a:xfrm>
              <a:off x="6660720" y="3901320"/>
              <a:ext cx="1681920" cy="1361160"/>
              <a:chOff x="6660720" y="3901320"/>
              <a:chExt cx="1681920" cy="1361160"/>
            </a:xfrm>
          </p:grpSpPr>
          <p:sp>
            <p:nvSpPr>
              <p:cNvPr id="126" name="圆角矩形 653"/>
              <p:cNvSpPr/>
              <p:nvPr/>
            </p:nvSpPr>
            <p:spPr>
              <a:xfrm>
                <a:off x="6766920" y="4024080"/>
                <a:ext cx="1473120" cy="1233360"/>
              </a:xfrm>
              <a:prstGeom prst="roundRect">
                <a:avLst>
                  <a:gd name="adj" fmla="val 7398"/>
                </a:avLst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组合 654"/>
              <p:cNvGrpSpPr/>
              <p:nvPr/>
            </p:nvGrpSpPr>
            <p:grpSpPr>
              <a:xfrm>
                <a:off x="6660720" y="3901320"/>
                <a:ext cx="1681920" cy="329040"/>
                <a:chOff x="6660720" y="3901320"/>
                <a:chExt cx="1681920" cy="329040"/>
              </a:xfrm>
            </p:grpSpPr>
            <p:grpSp>
              <p:nvGrpSpPr>
                <p:cNvPr id="128" name="组合 658"/>
                <p:cNvGrpSpPr/>
                <p:nvPr/>
              </p:nvGrpSpPr>
              <p:grpSpPr>
                <a:xfrm>
                  <a:off x="6660720" y="3901320"/>
                  <a:ext cx="849600" cy="329040"/>
                  <a:chOff x="6660720" y="3901320"/>
                  <a:chExt cx="849600" cy="329040"/>
                </a:xfrm>
              </p:grpSpPr>
              <p:sp>
                <p:nvSpPr>
                  <p:cNvPr id="129" name="燕尾形箭头 38"/>
                  <p:cNvSpPr/>
                  <p:nvPr/>
                </p:nvSpPr>
                <p:spPr>
                  <a:xfrm flipH="1">
                    <a:off x="6660720" y="3908520"/>
                    <a:ext cx="849240" cy="321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30" name="组合 665"/>
                  <p:cNvGrpSpPr/>
                  <p:nvPr/>
                </p:nvGrpSpPr>
                <p:grpSpPr>
                  <a:xfrm>
                    <a:off x="6660720" y="3901320"/>
                    <a:ext cx="849600" cy="228600"/>
                    <a:chOff x="6660720" y="3901320"/>
                    <a:chExt cx="849600" cy="228600"/>
                  </a:xfrm>
                </p:grpSpPr>
                <p:sp>
                  <p:nvSpPr>
                    <p:cNvPr id="131" name="燕尾形箭头 38"/>
                    <p:cNvSpPr/>
                    <p:nvPr/>
                  </p:nvSpPr>
                  <p:spPr>
                    <a:xfrm flipH="1">
                      <a:off x="6660360" y="3910320"/>
                      <a:ext cx="849240" cy="219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" name="燕尾形箭头 38"/>
                    <p:cNvSpPr/>
                    <p:nvPr/>
                  </p:nvSpPr>
                  <p:spPr>
                    <a:xfrm flipH="1">
                      <a:off x="6738480" y="3901320"/>
                      <a:ext cx="771840" cy="158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33" name="组合 659"/>
                <p:cNvGrpSpPr/>
                <p:nvPr/>
              </p:nvGrpSpPr>
              <p:grpSpPr>
                <a:xfrm>
                  <a:off x="7493040" y="3901320"/>
                  <a:ext cx="849600" cy="329040"/>
                  <a:chOff x="7493040" y="3901320"/>
                  <a:chExt cx="849600" cy="329040"/>
                </a:xfrm>
              </p:grpSpPr>
              <p:sp>
                <p:nvSpPr>
                  <p:cNvPr id="134" name="燕尾形箭头 38"/>
                  <p:cNvSpPr/>
                  <p:nvPr/>
                </p:nvSpPr>
                <p:spPr>
                  <a:xfrm>
                    <a:off x="7493040" y="3908520"/>
                    <a:ext cx="849240" cy="321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35" name="组合 661"/>
                  <p:cNvGrpSpPr/>
                  <p:nvPr/>
                </p:nvGrpSpPr>
                <p:grpSpPr>
                  <a:xfrm>
                    <a:off x="7493040" y="3901320"/>
                    <a:ext cx="849600" cy="228600"/>
                    <a:chOff x="7493040" y="3901320"/>
                    <a:chExt cx="849600" cy="228600"/>
                  </a:xfrm>
                </p:grpSpPr>
                <p:sp>
                  <p:nvSpPr>
                    <p:cNvPr id="136" name="燕尾形箭头 38"/>
                    <p:cNvSpPr/>
                    <p:nvPr/>
                  </p:nvSpPr>
                  <p:spPr>
                    <a:xfrm>
                      <a:off x="7493400" y="3910320"/>
                      <a:ext cx="849240" cy="219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" name="燕尾形箭头 38"/>
                    <p:cNvSpPr/>
                    <p:nvPr/>
                  </p:nvSpPr>
                  <p:spPr>
                    <a:xfrm>
                      <a:off x="7493040" y="3901320"/>
                      <a:ext cx="771840" cy="158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38" name="圆角矩形 16"/>
              <p:cNvSpPr/>
              <p:nvPr/>
            </p:nvSpPr>
            <p:spPr>
              <a:xfrm>
                <a:off x="6940080" y="4687920"/>
                <a:ext cx="1302840" cy="574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圆角矩形 18"/>
              <p:cNvSpPr/>
              <p:nvPr/>
            </p:nvSpPr>
            <p:spPr>
              <a:xfrm>
                <a:off x="6775200" y="4899240"/>
                <a:ext cx="1466280" cy="3628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矩形 657"/>
              <p:cNvSpPr/>
              <p:nvPr/>
            </p:nvSpPr>
            <p:spPr>
              <a:xfrm>
                <a:off x="6785640" y="4204080"/>
                <a:ext cx="1429920" cy="93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" name="椭圆 649"/>
            <p:cNvSpPr/>
            <p:nvPr/>
          </p:nvSpPr>
          <p:spPr>
            <a:xfrm>
              <a:off x="7431840" y="3720240"/>
              <a:ext cx="137160" cy="142560"/>
            </a:xfrm>
            <a:prstGeom prst="ellipse">
              <a:avLst/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" name="组合 650"/>
            <p:cNvGrpSpPr/>
            <p:nvPr/>
          </p:nvGrpSpPr>
          <p:grpSpPr>
            <a:xfrm>
              <a:off x="7085880" y="3357720"/>
              <a:ext cx="890280" cy="368280"/>
              <a:chOff x="7085880" y="3357720"/>
              <a:chExt cx="890280" cy="368280"/>
            </a:xfrm>
          </p:grpSpPr>
          <p:sp>
            <p:nvSpPr>
              <p:cNvPr id="143" name="梯形 651"/>
              <p:cNvSpPr/>
              <p:nvPr/>
            </p:nvSpPr>
            <p:spPr>
              <a:xfrm flipV="1">
                <a:off x="7085880" y="3384360"/>
                <a:ext cx="843480" cy="281160"/>
              </a:xfrm>
              <a:custGeom>
                <a:avLst/>
                <a:gdLst>
                  <a:gd name="textAreaLeft" fmla="*/ 68040 w 843480"/>
                  <a:gd name="textAreaRight" fmla="*/ 775440 w 843480"/>
                  <a:gd name="textAreaTop" fmla="*/ 22680 h 281160"/>
                  <a:gd name="textAreaBottom" fmla="*/ 258480 h 281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0069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矩形 652"/>
              <p:cNvSpPr/>
              <p:nvPr/>
            </p:nvSpPr>
            <p:spPr>
              <a:xfrm>
                <a:off x="7166160" y="3357720"/>
                <a:ext cx="810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7f7f7f"/>
                    </a:solidFill>
                    <a:latin typeface="微软雅黑"/>
                    <a:ea typeface="微软雅黑"/>
                  </a:rPr>
                  <a:t>201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5" name="椭圆 668"/>
          <p:cNvSpPr/>
          <p:nvPr/>
        </p:nvSpPr>
        <p:spPr>
          <a:xfrm>
            <a:off x="7437600" y="3757680"/>
            <a:ext cx="13644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split dir="out" orient="horz"/>
    <p:sndAc>
      <p:stSnd>
        <p:snd r:embed="rId10" name="push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E334-A2E6-4347-A368-FB167719B0F2}" type="slidenum">
              <a:t>2</a:t>
            </a:fld>
          </a:p>
        </p:txBody>
      </p:sp>
    </p:spTree>
  </p:cSld>
  <p:transition spd="med" advTm="2000">
    <p:split dir="out" orient="horz"/>
    <p:sndAc>
      <p:stSnd>
        <p:snd r:embed="rId17" name="push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0T06:04:00Z</dcterms:created>
  <dc:creator>http://www.eeppt.com</dc:creator>
  <dc:description>ppt模板下载网站 http://www.eeppt.com</dc:description>
  <dc:language>en-US</dc:language>
  <cp:lastModifiedBy/>
  <dcterms:modified xsi:type="dcterms:W3CDTF">2015-06-15T00:45:50Z</dcterms:modified>
  <cp:revision>15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