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push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931-A936-4B98-82C3-18AB596A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0720" y="388080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B8B-FEE8-44C0-9F36-1AD95A34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128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387-2AA8-4A54-9255-A92A20D3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160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48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072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160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48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D0E-C599-41FC-8587-F73C498B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F6FF-59D7-4B9B-B381-E608879D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AB0-262B-4261-A177-A8EA158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4A67-B184-4C5E-AC6E-E4E0301C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B71-6AD1-4CE5-BAEF-8609CF04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2081-FEB9-4604-92D1-7F8882E2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8840" y="563400"/>
            <a:ext cx="551844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7E15-CC7E-48E6-BAB4-CF8AF4D7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FCC3-62EB-4070-BC4F-94C197A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A56-C5FB-4DDC-9E5A-AC171AA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0128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316-D7F1-4E2C-BC98-F9C11190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DABD-62D1-4AA8-AFC1-56477F8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50720" y="388080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E31F-6BC8-4CCA-B914-D79B4356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0128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B2F8-6061-402D-B688-CECEE320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160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248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5072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160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248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A60-1F7A-41F9-B255-72C6C4AC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C839-9B29-4697-A130-9C8AFCA9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F47C-9119-4649-8968-956CFC50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54AC-4382-4A14-BE68-8177D09B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49BF-3BEA-4B8D-99E5-EA37DF3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4BA7-3533-4E3C-BDF4-608F9AA2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A8E-0B34-46C5-9E5D-37B59E8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18840" y="563400"/>
            <a:ext cx="551844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91DB-0FB9-45A9-8ADD-8B4E977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16CC-8937-4A23-9C89-77C7331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0128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FEF6-4B70-4A66-8D18-70FD4BB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564B-E82D-4050-B2AE-D2F29D21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50720" y="388080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C832-5ED2-4A5C-9D26-760336B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0128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2307-9AAB-47BF-B4D5-4D833185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9160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32480" y="144792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5072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9160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32480" y="3880800"/>
            <a:ext cx="24195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E8B7-D79B-442D-A728-06009AF5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C77-9A19-43EE-81F4-FE3D9057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BAE-3A83-4F75-8BB3-F64ED1E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18840" y="563400"/>
            <a:ext cx="551844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731-E8E6-4F30-8B66-936AD2D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EA6-1C08-4026-A3FE-1503006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1280" y="388080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A97-4F1D-49AE-8664-92B43BE7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072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1280" y="1447920"/>
            <a:ext cx="36669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0720" y="3880800"/>
            <a:ext cx="75150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705-2138-437D-9A6C-F4E7C372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B5B8-B569-4D1F-9202-B5F96D6FDF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2F85-1C05-4D54-83F1-AD8B14097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rcRect l="6954" t="0" r="0" b="0"/>
          <a:stretch/>
        </p:blipFill>
        <p:spPr>
          <a:xfrm>
            <a:off x="-1440" y="0"/>
            <a:ext cx="8508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D31C-1BE1-4F12-915B-2A083B112D63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418840" y="563400"/>
            <a:ext cx="5518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8e2e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350720" y="1447920"/>
            <a:ext cx="7515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babd3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ad2d3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8e2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b8e2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EF8-7A5C-4B47-A0FA-B7F12B0D0947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2547720" y="2814120"/>
            <a:ext cx="6134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6063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5d6063"/>
              </a:solidFill>
              <a:latin typeface="黑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063"/>
                </a:solidFill>
                <a:latin typeface="幼圆"/>
              </a:rPr>
              <a:t>Click to edit the outline text format</a:t>
            </a:r>
            <a:endParaRPr b="0" lang="en-US" sz="1800" spc="-1" strike="noStrike">
              <a:solidFill>
                <a:srgbClr val="5d6063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8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push.wav"/><Relationship Id="rId1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126" name="그룹 110"/>
          <p:cNvGrpSpPr/>
          <p:nvPr/>
        </p:nvGrpSpPr>
        <p:grpSpPr>
          <a:xfrm>
            <a:off x="776880" y="1212840"/>
            <a:ext cx="7804800" cy="4503960"/>
            <a:chOff x="776880" y="1212840"/>
            <a:chExt cx="7804800" cy="4503960"/>
          </a:xfrm>
        </p:grpSpPr>
        <p:sp>
          <p:nvSpPr>
            <p:cNvPr id="127" name="Rectangle 57"/>
            <p:cNvSpPr/>
            <p:nvPr/>
          </p:nvSpPr>
          <p:spPr>
            <a:xfrm>
              <a:off x="1724400" y="4583880"/>
              <a:ext cx="6818760" cy="3816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8"/>
            <p:cNvSpPr/>
            <p:nvPr/>
          </p:nvSpPr>
          <p:spPr>
            <a:xfrm>
              <a:off x="1724400" y="3817080"/>
              <a:ext cx="6818760" cy="3816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9"/>
            <p:cNvSpPr/>
            <p:nvPr/>
          </p:nvSpPr>
          <p:spPr>
            <a:xfrm>
              <a:off x="1724400" y="3050280"/>
              <a:ext cx="6818760" cy="3816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60"/>
            <p:cNvSpPr/>
            <p:nvPr/>
          </p:nvSpPr>
          <p:spPr>
            <a:xfrm>
              <a:off x="1724400" y="2285280"/>
              <a:ext cx="6818760" cy="3816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1"/>
            <p:cNvSpPr/>
            <p:nvPr/>
          </p:nvSpPr>
          <p:spPr>
            <a:xfrm>
              <a:off x="1724400" y="1518480"/>
              <a:ext cx="6818760" cy="3816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2"/>
            <p:cNvSpPr/>
            <p:nvPr/>
          </p:nvSpPr>
          <p:spPr>
            <a:xfrm>
              <a:off x="2491200" y="45838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3"/>
            <p:cNvSpPr/>
            <p:nvPr/>
          </p:nvSpPr>
          <p:spPr>
            <a:xfrm>
              <a:off x="3256560" y="42004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4"/>
            <p:cNvSpPr/>
            <p:nvPr/>
          </p:nvSpPr>
          <p:spPr>
            <a:xfrm>
              <a:off x="4023360" y="38170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5"/>
            <p:cNvSpPr/>
            <p:nvPr/>
          </p:nvSpPr>
          <p:spPr>
            <a:xfrm>
              <a:off x="4790160" y="34336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6"/>
            <p:cNvSpPr/>
            <p:nvPr/>
          </p:nvSpPr>
          <p:spPr>
            <a:xfrm>
              <a:off x="5555520" y="30520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7"/>
            <p:cNvSpPr/>
            <p:nvPr/>
          </p:nvSpPr>
          <p:spPr>
            <a:xfrm>
              <a:off x="6705720" y="22852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6322320" y="2668680"/>
              <a:ext cx="3834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7470720" y="1901880"/>
              <a:ext cx="3834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0"/>
            <p:cNvSpPr/>
            <p:nvPr/>
          </p:nvSpPr>
          <p:spPr>
            <a:xfrm>
              <a:off x="7854120" y="1518480"/>
              <a:ext cx="3834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1"/>
            <p:cNvSpPr/>
            <p:nvPr/>
          </p:nvSpPr>
          <p:spPr>
            <a:xfrm>
              <a:off x="1724400" y="4967280"/>
              <a:ext cx="766800" cy="38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72"/>
            <p:cNvGrpSpPr/>
            <p:nvPr/>
          </p:nvGrpSpPr>
          <p:grpSpPr>
            <a:xfrm>
              <a:off x="1726200" y="1212840"/>
              <a:ext cx="6855480" cy="4137480"/>
              <a:chOff x="1726200" y="1212840"/>
              <a:chExt cx="6855480" cy="4137480"/>
            </a:xfrm>
          </p:grpSpPr>
          <p:sp>
            <p:nvSpPr>
              <p:cNvPr id="143" name="Freeform 73"/>
              <p:cNvSpPr/>
              <p:nvPr/>
            </p:nvSpPr>
            <p:spPr>
              <a:xfrm>
                <a:off x="1726200" y="1212840"/>
                <a:ext cx="6855480" cy="4135680"/>
              </a:xfrm>
              <a:prstGeom prst="pie">
                <a:avLst/>
              </a:prstGeom>
              <a:noFill/>
              <a:ln w="25560">
                <a:solidFill>
                  <a:srgbClr val="96969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1726200" y="4967280"/>
                <a:ext cx="6818400" cy="1440"/>
                <a:chOff x="1726200" y="4967280"/>
                <a:chExt cx="6818400" cy="1440"/>
              </a:xfrm>
            </p:grpSpPr>
            <p:sp>
              <p:nvSpPr>
                <p:cNvPr id="145" name="Line 74"/>
                <p:cNvSpPr/>
                <p:nvPr/>
              </p:nvSpPr>
              <p:spPr>
                <a:xfrm>
                  <a:off x="1726200" y="4967280"/>
                  <a:ext cx="6818400" cy="144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 txBox="1"/>
                <p:nvPr/>
              </p:nvSpPr>
              <p:spPr>
                <a:xfrm>
                  <a:off x="1726200" y="4967280"/>
                  <a:ext cx="6818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726200" y="4583880"/>
                <a:ext cx="6818400" cy="1440"/>
                <a:chOff x="1726200" y="4583880"/>
                <a:chExt cx="6818400" cy="1440"/>
              </a:xfrm>
            </p:grpSpPr>
            <p:sp>
              <p:nvSpPr>
                <p:cNvPr id="148" name="Line 75"/>
                <p:cNvSpPr/>
                <p:nvPr/>
              </p:nvSpPr>
              <p:spPr>
                <a:xfrm>
                  <a:off x="1726200" y="4583880"/>
                  <a:ext cx="6818400" cy="144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 txBox="1"/>
                <p:nvPr/>
              </p:nvSpPr>
              <p:spPr>
                <a:xfrm>
                  <a:off x="1726200" y="4583880"/>
                  <a:ext cx="6818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726200" y="4200480"/>
                <a:ext cx="6818400" cy="1440"/>
                <a:chOff x="1726200" y="4200480"/>
                <a:chExt cx="6818400" cy="1440"/>
              </a:xfrm>
            </p:grpSpPr>
            <p:sp>
              <p:nvSpPr>
                <p:cNvPr id="151" name="Line 76"/>
                <p:cNvSpPr/>
                <p:nvPr/>
              </p:nvSpPr>
              <p:spPr>
                <a:xfrm>
                  <a:off x="1726200" y="4200480"/>
                  <a:ext cx="6818400" cy="144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 txBox="1"/>
                <p:nvPr/>
              </p:nvSpPr>
              <p:spPr>
                <a:xfrm>
                  <a:off x="1726200" y="4200480"/>
                  <a:ext cx="6818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726200" y="3817080"/>
                <a:ext cx="6818400" cy="1440"/>
                <a:chOff x="1726200" y="3817080"/>
                <a:chExt cx="6818400" cy="1440"/>
              </a:xfrm>
            </p:grpSpPr>
            <p:sp>
              <p:nvSpPr>
                <p:cNvPr id="154" name="Line 77"/>
                <p:cNvSpPr/>
                <p:nvPr/>
              </p:nvSpPr>
              <p:spPr>
                <a:xfrm>
                  <a:off x="1726200" y="3817080"/>
                  <a:ext cx="6818400" cy="144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 txBox="1"/>
                <p:nvPr/>
              </p:nvSpPr>
              <p:spPr>
                <a:xfrm>
                  <a:off x="1726200" y="3817080"/>
                  <a:ext cx="6818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726200" y="3435120"/>
                <a:ext cx="6818400" cy="1800"/>
                <a:chOff x="1726200" y="3435120"/>
                <a:chExt cx="6818400" cy="1800"/>
              </a:xfrm>
            </p:grpSpPr>
            <p:sp>
              <p:nvSpPr>
                <p:cNvPr id="157" name="Line 78"/>
                <p:cNvSpPr/>
                <p:nvPr/>
              </p:nvSpPr>
              <p:spPr>
                <a:xfrm>
                  <a:off x="1726200" y="3435120"/>
                  <a:ext cx="6818400" cy="180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 txBox="1"/>
                <p:nvPr/>
              </p:nvSpPr>
              <p:spPr>
                <a:xfrm>
                  <a:off x="1726200" y="3435120"/>
                  <a:ext cx="68184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726200" y="3051720"/>
                <a:ext cx="6818400" cy="1800"/>
                <a:chOff x="1726200" y="3051720"/>
                <a:chExt cx="6818400" cy="1800"/>
              </a:xfrm>
            </p:grpSpPr>
            <p:sp>
              <p:nvSpPr>
                <p:cNvPr id="160" name="Line 79"/>
                <p:cNvSpPr/>
                <p:nvPr/>
              </p:nvSpPr>
              <p:spPr>
                <a:xfrm>
                  <a:off x="1726200" y="3051720"/>
                  <a:ext cx="6818400" cy="180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>
                  <a:off x="1726200" y="3051720"/>
                  <a:ext cx="68184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726200" y="2668320"/>
                <a:ext cx="6818400" cy="1800"/>
                <a:chOff x="1726200" y="2668320"/>
                <a:chExt cx="6818400" cy="1800"/>
              </a:xfrm>
            </p:grpSpPr>
            <p:sp>
              <p:nvSpPr>
                <p:cNvPr id="163" name="Line 80"/>
                <p:cNvSpPr/>
                <p:nvPr/>
              </p:nvSpPr>
              <p:spPr>
                <a:xfrm>
                  <a:off x="1726200" y="2668320"/>
                  <a:ext cx="6818400" cy="180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1726200" y="2668320"/>
                  <a:ext cx="68184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726200" y="2284920"/>
                <a:ext cx="6818400" cy="1800"/>
                <a:chOff x="1726200" y="2284920"/>
                <a:chExt cx="6818400" cy="1800"/>
              </a:xfrm>
            </p:grpSpPr>
            <p:sp>
              <p:nvSpPr>
                <p:cNvPr id="166" name="Line 81"/>
                <p:cNvSpPr/>
                <p:nvPr/>
              </p:nvSpPr>
              <p:spPr>
                <a:xfrm>
                  <a:off x="1726200" y="2284920"/>
                  <a:ext cx="6818400" cy="180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 txBox="1"/>
                <p:nvPr/>
              </p:nvSpPr>
              <p:spPr>
                <a:xfrm>
                  <a:off x="1726200" y="2284920"/>
                  <a:ext cx="68184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726200" y="1903680"/>
                <a:ext cx="6818400" cy="1440"/>
                <a:chOff x="1726200" y="1903680"/>
                <a:chExt cx="6818400" cy="1440"/>
              </a:xfrm>
            </p:grpSpPr>
            <p:sp>
              <p:nvSpPr>
                <p:cNvPr id="169" name="Line 82"/>
                <p:cNvSpPr/>
                <p:nvPr/>
              </p:nvSpPr>
              <p:spPr>
                <a:xfrm>
                  <a:off x="1726200" y="1903680"/>
                  <a:ext cx="6818400" cy="144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 txBox="1"/>
                <p:nvPr/>
              </p:nvSpPr>
              <p:spPr>
                <a:xfrm>
                  <a:off x="1726200" y="1903680"/>
                  <a:ext cx="6818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726200" y="1520280"/>
                <a:ext cx="6818400" cy="1440"/>
                <a:chOff x="1726200" y="1520280"/>
                <a:chExt cx="6818400" cy="1440"/>
              </a:xfrm>
            </p:grpSpPr>
            <p:sp>
              <p:nvSpPr>
                <p:cNvPr id="172" name="Line 83"/>
                <p:cNvSpPr/>
                <p:nvPr/>
              </p:nvSpPr>
              <p:spPr>
                <a:xfrm>
                  <a:off x="1726200" y="1520280"/>
                  <a:ext cx="6818400" cy="144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 txBox="1"/>
                <p:nvPr/>
              </p:nvSpPr>
              <p:spPr>
                <a:xfrm>
                  <a:off x="1726200" y="1520280"/>
                  <a:ext cx="6818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07800" y="1251360"/>
                <a:ext cx="1440" cy="4098960"/>
                <a:chOff x="2107800" y="1251360"/>
                <a:chExt cx="1440" cy="4098960"/>
              </a:xfrm>
            </p:grpSpPr>
            <p:sp>
              <p:nvSpPr>
                <p:cNvPr id="175" name="Line 84"/>
                <p:cNvSpPr/>
                <p:nvPr/>
              </p:nvSpPr>
              <p:spPr>
                <a:xfrm flipV="1">
                  <a:off x="210780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 txBox="1"/>
                <p:nvPr/>
              </p:nvSpPr>
              <p:spPr>
                <a:xfrm rot="10800000">
                  <a:off x="210780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491200" y="1251360"/>
                <a:ext cx="1440" cy="4098960"/>
                <a:chOff x="2491200" y="1251360"/>
                <a:chExt cx="1440" cy="4098960"/>
              </a:xfrm>
            </p:grpSpPr>
            <p:sp>
              <p:nvSpPr>
                <p:cNvPr id="178" name="Line 85"/>
                <p:cNvSpPr/>
                <p:nvPr/>
              </p:nvSpPr>
              <p:spPr>
                <a:xfrm flipV="1">
                  <a:off x="249120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 txBox="1"/>
                <p:nvPr/>
              </p:nvSpPr>
              <p:spPr>
                <a:xfrm rot="10800000">
                  <a:off x="249120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874600" y="1251360"/>
                <a:ext cx="1440" cy="4098960"/>
                <a:chOff x="2874600" y="1251360"/>
                <a:chExt cx="1440" cy="4098960"/>
              </a:xfrm>
            </p:grpSpPr>
            <p:sp>
              <p:nvSpPr>
                <p:cNvPr id="181" name="Line 86"/>
                <p:cNvSpPr/>
                <p:nvPr/>
              </p:nvSpPr>
              <p:spPr>
                <a:xfrm flipV="1">
                  <a:off x="287460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 txBox="1"/>
                <p:nvPr/>
              </p:nvSpPr>
              <p:spPr>
                <a:xfrm rot="10800000">
                  <a:off x="287460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58000" y="1251360"/>
                <a:ext cx="1440" cy="4098960"/>
                <a:chOff x="3258000" y="1251360"/>
                <a:chExt cx="1440" cy="4098960"/>
              </a:xfrm>
            </p:grpSpPr>
            <p:sp>
              <p:nvSpPr>
                <p:cNvPr id="184" name="Line 87"/>
                <p:cNvSpPr/>
                <p:nvPr/>
              </p:nvSpPr>
              <p:spPr>
                <a:xfrm flipV="1">
                  <a:off x="325800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 txBox="1"/>
                <p:nvPr/>
              </p:nvSpPr>
              <p:spPr>
                <a:xfrm rot="10800000">
                  <a:off x="325800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639240" y="1251360"/>
                <a:ext cx="2160" cy="4098960"/>
                <a:chOff x="3639240" y="1251360"/>
                <a:chExt cx="2160" cy="4098960"/>
              </a:xfrm>
            </p:grpSpPr>
            <p:sp>
              <p:nvSpPr>
                <p:cNvPr id="187" name="Line 88"/>
                <p:cNvSpPr/>
                <p:nvPr/>
              </p:nvSpPr>
              <p:spPr>
                <a:xfrm flipV="1">
                  <a:off x="363960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 txBox="1"/>
                <p:nvPr/>
              </p:nvSpPr>
              <p:spPr>
                <a:xfrm rot="10800000">
                  <a:off x="363924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022640" y="1251360"/>
                <a:ext cx="2160" cy="4098960"/>
                <a:chOff x="4022640" y="1251360"/>
                <a:chExt cx="2160" cy="4098960"/>
              </a:xfrm>
            </p:grpSpPr>
            <p:sp>
              <p:nvSpPr>
                <p:cNvPr id="190" name="Line 89"/>
                <p:cNvSpPr/>
                <p:nvPr/>
              </p:nvSpPr>
              <p:spPr>
                <a:xfrm flipV="1">
                  <a:off x="402300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 txBox="1"/>
                <p:nvPr/>
              </p:nvSpPr>
              <p:spPr>
                <a:xfrm rot="10800000">
                  <a:off x="402264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406040" y="1251360"/>
                <a:ext cx="2160" cy="4098960"/>
                <a:chOff x="4406040" y="1251360"/>
                <a:chExt cx="2160" cy="4098960"/>
              </a:xfrm>
            </p:grpSpPr>
            <p:sp>
              <p:nvSpPr>
                <p:cNvPr id="193" name="Line 90"/>
                <p:cNvSpPr/>
                <p:nvPr/>
              </p:nvSpPr>
              <p:spPr>
                <a:xfrm flipV="1">
                  <a:off x="440640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 txBox="1"/>
                <p:nvPr/>
              </p:nvSpPr>
              <p:spPr>
                <a:xfrm rot="10800000">
                  <a:off x="440604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789440" y="1251360"/>
                <a:ext cx="2160" cy="4098960"/>
                <a:chOff x="4789440" y="1251360"/>
                <a:chExt cx="2160" cy="4098960"/>
              </a:xfrm>
            </p:grpSpPr>
            <p:sp>
              <p:nvSpPr>
                <p:cNvPr id="196" name="Line 91"/>
                <p:cNvSpPr/>
                <p:nvPr/>
              </p:nvSpPr>
              <p:spPr>
                <a:xfrm flipV="1">
                  <a:off x="478980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 txBox="1"/>
                <p:nvPr/>
              </p:nvSpPr>
              <p:spPr>
                <a:xfrm rot="10800000">
                  <a:off x="478944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71760" y="1251360"/>
                <a:ext cx="1440" cy="4098960"/>
                <a:chOff x="5171760" y="1251360"/>
                <a:chExt cx="1440" cy="4098960"/>
              </a:xfrm>
            </p:grpSpPr>
            <p:sp>
              <p:nvSpPr>
                <p:cNvPr id="199" name="Line 92"/>
                <p:cNvSpPr/>
                <p:nvPr/>
              </p:nvSpPr>
              <p:spPr>
                <a:xfrm flipV="1">
                  <a:off x="517176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 rot="10800000">
                  <a:off x="517176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55160" y="1251360"/>
                <a:ext cx="1440" cy="4098960"/>
                <a:chOff x="5555160" y="1251360"/>
                <a:chExt cx="1440" cy="4098960"/>
              </a:xfrm>
            </p:grpSpPr>
            <p:sp>
              <p:nvSpPr>
                <p:cNvPr id="202" name="Line 93"/>
                <p:cNvSpPr/>
                <p:nvPr/>
              </p:nvSpPr>
              <p:spPr>
                <a:xfrm flipV="1">
                  <a:off x="555516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 txBox="1"/>
                <p:nvPr/>
              </p:nvSpPr>
              <p:spPr>
                <a:xfrm rot="10800000">
                  <a:off x="555516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38560" y="1251360"/>
                <a:ext cx="1440" cy="4098960"/>
                <a:chOff x="5938560" y="1251360"/>
                <a:chExt cx="1440" cy="4098960"/>
              </a:xfrm>
            </p:grpSpPr>
            <p:sp>
              <p:nvSpPr>
                <p:cNvPr id="205" name="Line 94"/>
                <p:cNvSpPr/>
                <p:nvPr/>
              </p:nvSpPr>
              <p:spPr>
                <a:xfrm flipV="1">
                  <a:off x="593856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 txBox="1"/>
                <p:nvPr/>
              </p:nvSpPr>
              <p:spPr>
                <a:xfrm rot="10800000">
                  <a:off x="593856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321960" y="1251360"/>
                <a:ext cx="1440" cy="4098960"/>
                <a:chOff x="6321960" y="1251360"/>
                <a:chExt cx="1440" cy="4098960"/>
              </a:xfrm>
            </p:grpSpPr>
            <p:sp>
              <p:nvSpPr>
                <p:cNvPr id="208" name="Line 95"/>
                <p:cNvSpPr/>
                <p:nvPr/>
              </p:nvSpPr>
              <p:spPr>
                <a:xfrm flipV="1">
                  <a:off x="6321960" y="1251360"/>
                  <a:ext cx="144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 txBox="1"/>
                <p:nvPr/>
              </p:nvSpPr>
              <p:spPr>
                <a:xfrm rot="10800000">
                  <a:off x="6321960" y="1251360"/>
                  <a:ext cx="144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703200" y="1251360"/>
                <a:ext cx="2160" cy="4098960"/>
                <a:chOff x="6703200" y="1251360"/>
                <a:chExt cx="2160" cy="4098960"/>
              </a:xfrm>
            </p:grpSpPr>
            <p:sp>
              <p:nvSpPr>
                <p:cNvPr id="211" name="Line 96"/>
                <p:cNvSpPr/>
                <p:nvPr/>
              </p:nvSpPr>
              <p:spPr>
                <a:xfrm flipV="1">
                  <a:off x="670356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 txBox="1"/>
                <p:nvPr/>
              </p:nvSpPr>
              <p:spPr>
                <a:xfrm rot="10800000">
                  <a:off x="670320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086600" y="1251360"/>
                <a:ext cx="2160" cy="4098960"/>
                <a:chOff x="7086600" y="1251360"/>
                <a:chExt cx="2160" cy="4098960"/>
              </a:xfrm>
            </p:grpSpPr>
            <p:sp>
              <p:nvSpPr>
                <p:cNvPr id="214" name="Line 97"/>
                <p:cNvSpPr/>
                <p:nvPr/>
              </p:nvSpPr>
              <p:spPr>
                <a:xfrm flipV="1">
                  <a:off x="708696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 txBox="1"/>
                <p:nvPr/>
              </p:nvSpPr>
              <p:spPr>
                <a:xfrm rot="10800000">
                  <a:off x="708660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470000" y="1251360"/>
                <a:ext cx="2160" cy="4098960"/>
                <a:chOff x="7470000" y="1251360"/>
                <a:chExt cx="2160" cy="4098960"/>
              </a:xfrm>
            </p:grpSpPr>
            <p:sp>
              <p:nvSpPr>
                <p:cNvPr id="217" name="Line 98"/>
                <p:cNvSpPr/>
                <p:nvPr/>
              </p:nvSpPr>
              <p:spPr>
                <a:xfrm flipV="1">
                  <a:off x="747036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 txBox="1"/>
                <p:nvPr/>
              </p:nvSpPr>
              <p:spPr>
                <a:xfrm rot="10800000">
                  <a:off x="747000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853400" y="1251360"/>
                <a:ext cx="2160" cy="4098960"/>
                <a:chOff x="7853400" y="1251360"/>
                <a:chExt cx="2160" cy="4098960"/>
              </a:xfrm>
            </p:grpSpPr>
            <p:sp>
              <p:nvSpPr>
                <p:cNvPr id="220" name="Line 99"/>
                <p:cNvSpPr/>
                <p:nvPr/>
              </p:nvSpPr>
              <p:spPr>
                <a:xfrm flipV="1">
                  <a:off x="785376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 rot="10800000">
                  <a:off x="785340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8236800" y="1251360"/>
                <a:ext cx="2160" cy="4098960"/>
                <a:chOff x="8236800" y="1251360"/>
                <a:chExt cx="2160" cy="4098960"/>
              </a:xfrm>
            </p:grpSpPr>
            <p:sp>
              <p:nvSpPr>
                <p:cNvPr id="223" name="Line 100"/>
                <p:cNvSpPr/>
                <p:nvPr/>
              </p:nvSpPr>
              <p:spPr>
                <a:xfrm flipV="1">
                  <a:off x="8237160" y="1251360"/>
                  <a:ext cx="1800" cy="4098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 rot="10800000">
                  <a:off x="8236800" y="1251360"/>
                  <a:ext cx="1800" cy="40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01"/>
            <p:cNvGrpSpPr/>
            <p:nvPr/>
          </p:nvGrpSpPr>
          <p:grpSpPr>
            <a:xfrm>
              <a:off x="1900080" y="5440320"/>
              <a:ext cx="6510960" cy="276480"/>
              <a:chOff x="1900080" y="5440320"/>
              <a:chExt cx="6510960" cy="276480"/>
            </a:xfrm>
          </p:grpSpPr>
          <p:sp>
            <p:nvSpPr>
              <p:cNvPr id="226" name="Text Box 102"/>
              <p:cNvSpPr/>
              <p:nvPr/>
            </p:nvSpPr>
            <p:spPr>
              <a:xfrm>
                <a:off x="19000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03"/>
              <p:cNvSpPr/>
              <p:nvPr/>
            </p:nvSpPr>
            <p:spPr>
              <a:xfrm>
                <a:off x="22816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104"/>
              <p:cNvSpPr/>
              <p:nvPr/>
            </p:nvSpPr>
            <p:spPr>
              <a:xfrm>
                <a:off x="265680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05"/>
              <p:cNvSpPr/>
              <p:nvPr/>
            </p:nvSpPr>
            <p:spPr>
              <a:xfrm>
                <a:off x="30484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06"/>
              <p:cNvSpPr/>
              <p:nvPr/>
            </p:nvSpPr>
            <p:spPr>
              <a:xfrm>
                <a:off x="34318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07"/>
              <p:cNvSpPr/>
              <p:nvPr/>
            </p:nvSpPr>
            <p:spPr>
              <a:xfrm>
                <a:off x="38134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08"/>
              <p:cNvSpPr/>
              <p:nvPr/>
            </p:nvSpPr>
            <p:spPr>
              <a:xfrm>
                <a:off x="418860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09"/>
              <p:cNvSpPr/>
              <p:nvPr/>
            </p:nvSpPr>
            <p:spPr>
              <a:xfrm>
                <a:off x="45802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10"/>
              <p:cNvSpPr/>
              <p:nvPr/>
            </p:nvSpPr>
            <p:spPr>
              <a:xfrm>
                <a:off x="496368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11"/>
              <p:cNvSpPr/>
              <p:nvPr/>
            </p:nvSpPr>
            <p:spPr>
              <a:xfrm>
                <a:off x="534564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12"/>
              <p:cNvSpPr/>
              <p:nvPr/>
            </p:nvSpPr>
            <p:spPr>
              <a:xfrm>
                <a:off x="571392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13"/>
              <p:cNvSpPr/>
              <p:nvPr/>
            </p:nvSpPr>
            <p:spPr>
              <a:xfrm>
                <a:off x="611244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14"/>
              <p:cNvSpPr/>
              <p:nvPr/>
            </p:nvSpPr>
            <p:spPr>
              <a:xfrm>
                <a:off x="649584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15"/>
              <p:cNvSpPr/>
              <p:nvPr/>
            </p:nvSpPr>
            <p:spPr>
              <a:xfrm>
                <a:off x="687744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16"/>
              <p:cNvSpPr/>
              <p:nvPr/>
            </p:nvSpPr>
            <p:spPr>
              <a:xfrm>
                <a:off x="725256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17"/>
              <p:cNvSpPr/>
              <p:nvPr/>
            </p:nvSpPr>
            <p:spPr>
              <a:xfrm>
                <a:off x="764424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18"/>
              <p:cNvSpPr/>
              <p:nvPr/>
            </p:nvSpPr>
            <p:spPr>
              <a:xfrm>
                <a:off x="8056440" y="54403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19"/>
            <p:cNvGrpSpPr/>
            <p:nvPr/>
          </p:nvGrpSpPr>
          <p:grpSpPr>
            <a:xfrm>
              <a:off x="776880" y="1212840"/>
              <a:ext cx="790200" cy="4083120"/>
              <a:chOff x="776880" y="1212840"/>
              <a:chExt cx="790200" cy="4083120"/>
            </a:xfrm>
          </p:grpSpPr>
          <p:sp>
            <p:nvSpPr>
              <p:cNvPr id="244" name="Text Box 120"/>
              <p:cNvSpPr/>
              <p:nvPr/>
            </p:nvSpPr>
            <p:spPr>
              <a:xfrm>
                <a:off x="776880" y="50194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21"/>
              <p:cNvSpPr/>
              <p:nvPr/>
            </p:nvSpPr>
            <p:spPr>
              <a:xfrm>
                <a:off x="776880" y="46378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22"/>
              <p:cNvSpPr/>
              <p:nvPr/>
            </p:nvSpPr>
            <p:spPr>
              <a:xfrm>
                <a:off x="776880" y="42544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23"/>
              <p:cNvSpPr/>
              <p:nvPr/>
            </p:nvSpPr>
            <p:spPr>
              <a:xfrm>
                <a:off x="776880" y="38692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24"/>
              <p:cNvSpPr/>
              <p:nvPr/>
            </p:nvSpPr>
            <p:spPr>
              <a:xfrm>
                <a:off x="776880" y="3487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25"/>
              <p:cNvSpPr/>
              <p:nvPr/>
            </p:nvSpPr>
            <p:spPr>
              <a:xfrm>
                <a:off x="776880" y="31042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26"/>
              <p:cNvSpPr/>
              <p:nvPr/>
            </p:nvSpPr>
            <p:spPr>
              <a:xfrm>
                <a:off x="776880" y="27223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27"/>
              <p:cNvSpPr/>
              <p:nvPr/>
            </p:nvSpPr>
            <p:spPr>
              <a:xfrm>
                <a:off x="776880" y="23410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28"/>
              <p:cNvSpPr/>
              <p:nvPr/>
            </p:nvSpPr>
            <p:spPr>
              <a:xfrm>
                <a:off x="776880" y="1957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29"/>
              <p:cNvSpPr/>
              <p:nvPr/>
            </p:nvSpPr>
            <p:spPr>
              <a:xfrm>
                <a:off x="776880" y="15721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30"/>
              <p:cNvSpPr/>
              <p:nvPr/>
            </p:nvSpPr>
            <p:spPr>
              <a:xfrm>
                <a:off x="776880" y="12128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 Black"/>
                    <a:ea typeface="Gulim"/>
                  </a:rPr>
                  <a:t>Value 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31"/>
            <p:cNvSpPr/>
            <p:nvPr/>
          </p:nvSpPr>
          <p:spPr>
            <a:xfrm>
              <a:off x="2107800" y="1518480"/>
              <a:ext cx="3065400" cy="15336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32"/>
            <p:cNvSpPr/>
            <p:nvPr/>
          </p:nvSpPr>
          <p:spPr>
            <a:xfrm>
              <a:off x="2223000" y="1634760"/>
              <a:ext cx="26820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 Black"/>
                  <a:ea typeface="Gulim"/>
                </a:rPr>
                <a:t>Visual App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horz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b8e2e"/>
                </a:solidFill>
                <a:latin typeface="黑体"/>
              </a:rPr>
              <a:t>使用规范说明</a:t>
            </a:r>
            <a:endParaRPr b="1" lang="en-US" sz="3200" spc="-1" strike="noStrike">
              <a:solidFill>
                <a:srgbClr val="8b8e2e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8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8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8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b8e2e"/>
              </a:solidFill>
              <a:latin typeface="幼圆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CAB2-D48F-4222-BAA3-44D2585882F3}" type="slidenum">
              <a:t>2</a:t>
            </a:fld>
          </a:p>
        </p:txBody>
      </p:sp>
    </p:spTree>
  </p:cSld>
  <p:transition spd="med">
    <p:split dir="out" orient="horz"/>
    <p:sndAc>
      <p:stSnd>
        <p:snd r:embed="rId1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http://www.eeppt.com</dc:creator>
  <dc:description>ppt模板下载网站 http://www.eeppt.com</dc:description>
  <dc:language>en-US</dc:language>
  <cp:lastModifiedBy/>
  <dcterms:modified xsi:type="dcterms:W3CDTF">2015-06-15T00:45:35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