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832-96C6-49CD-BD2C-511DC2EF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0DC-60B7-4FFB-86A0-34742E07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EF3-0E09-4A11-8D54-CFE4EBD5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56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00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56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00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27E-8181-4AA1-B597-7949E191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8C66-750A-4B79-86DE-475098B3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327A-BB66-4091-8BC6-E65BA69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0FDA-45D9-491E-867F-802A4509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AD85-1232-4423-ADE0-4E1DC31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C8D3-5F49-4A74-88A4-45FFBF3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640" y="177840"/>
            <a:ext cx="68709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8031-3C31-4634-9AA0-4649F3FA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E116-27AD-4A9C-A93D-38847DB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325-0A20-477F-9ED1-9FCBE892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B41-8045-414E-9CAB-A722BBC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C0C-5258-4DE9-97A0-EB9D4538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E3C1-DDE3-4B6D-94DC-5D79110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325-4993-4DC4-B6EA-0A269FE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056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00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812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056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00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BEE5-7F03-4F57-9DA7-C0FAC80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F9C-AB24-43C3-BDB6-02B7AFC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36A-EAD7-4F2A-81E7-C3F05E1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436-CE98-4691-A105-0F86467E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640" y="177840"/>
            <a:ext cx="68709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9D3-A768-4B1C-A6A1-9999BC8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6D9-8542-4C29-885D-7CCE8BF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E5F-78B8-4AD8-99EF-A9957B8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1A5-5731-4D68-A427-677C175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13E5-F907-41B9-A470-F2091FBDA7BC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D75-A763-49D3-92C4-D753BB9177DB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Unbenannt-2"/>
          <p:cNvPicPr/>
          <p:nvPr/>
        </p:nvPicPr>
        <p:blipFill>
          <a:blip r:embed="rId1"/>
          <a:stretch/>
        </p:blipFill>
        <p:spPr>
          <a:xfrm>
            <a:off x="6262560" y="5456160"/>
            <a:ext cx="279360" cy="43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3640" y="43243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小人素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8120" y="1574280"/>
            <a:ext cx="822960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71960" y="4495320"/>
            <a:ext cx="33861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E6B-F8A3-491F-93B5-B97510A84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3:39:05Z</dcterms:created>
  <dc:creator>http://www.eeppt.com</dc:creator>
  <dc:description>ppt模板下载网站 http://www.eeppt.com</dc:description>
  <dc:language>en-US</dc:language>
  <cp:lastModifiedBy/>
  <dcterms:modified xsi:type="dcterms:W3CDTF">2015-06-15T01:09:2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