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B732-5351-4087-B2FA-6BC477040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59D0-C223-411C-A944-5F17C955F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05AF-24ED-47AF-BE46-27CA28C5E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268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92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268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92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D1F5-6666-4AA5-996D-F026AB789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F6D49-178D-4503-988F-46C359AF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B43D7-57AF-4673-8A0C-E921FB4F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8499A-890F-4B0A-9126-2FC685E6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4081A-839D-45ED-B5A5-D8264E5D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E5799-DF8D-49B2-85E7-62D216BD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75DE2-6E10-42F8-A7A5-A832635A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3A664-33C8-4213-B712-FEBE520D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1C6D-266C-442E-AD13-C0103E30F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0AD2A-A60B-4855-9696-544ABF18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2958F-2BAE-4490-BC36-98CA0C77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9C757-B1AC-4D37-86F6-F38ED3E4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669A5-A24B-48CA-982F-B94B747E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4268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92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4268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92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485BC-74C9-4DED-BBE2-5195DDEA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C63B-A323-4595-9441-463E3BBA7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EB6B-1C24-4A9D-A4F2-B636B4591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09F9-A6BB-4C3D-9021-DCC9E6B88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286F-B25B-44F2-90CB-AC6E2CDB9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0510-903D-4196-ACF9-B98230935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2C45-C109-4F7F-903C-1F4908FC8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0175-CCA4-4A28-B508-DFFD613B2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e1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84780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3923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33360"/>
            <a:ext cx="611280" cy="653724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e1d0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e1d0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223920"/>
          <a:ext cx="60660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3920"/>
                    <a:ext cx="6066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b9d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9AD7-F0FE-4321-9D08-349B6A3679C8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0"/>
            <a:ext cx="6985080" cy="63086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857840" y="0"/>
          <a:ext cx="3666960" cy="206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7840" y="0"/>
                    <a:ext cx="366696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547640" y="4076640"/>
            <a:ext cx="6985080" cy="720720"/>
          </a:xfrm>
          <a:prstGeom prst="rect">
            <a:avLst/>
          </a:prstGeom>
          <a:solidFill>
            <a:srgbClr val="e1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857840" y="1987560"/>
            <a:ext cx="3673440" cy="208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1d09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1d09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3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1d09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1d0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3080" y="6553080"/>
            <a:ext cx="1905120" cy="16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1d09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1589-3A2F-4119-90E8-11EBE4BCD91B}" type="slidenum">
              <a:rPr b="0" lang="en-US" sz="1400" spc="-1" strike="noStrike">
                <a:solidFill>
                  <a:srgbClr val="e1d09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1600200" y="4092120"/>
            <a:ext cx="6934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4d3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94400" y="228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tongyon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3549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c4d36"/>
                </a:solidFill>
                <a:latin typeface="Arial"/>
              </a:rPr>
              <a:t>培训经典</a:t>
            </a:r>
            <a:r>
              <a:rPr b="1" lang="en-US" sz="5400" spc="-1" strike="noStrike">
                <a:solidFill>
                  <a:srgbClr val="7c4d36"/>
                </a:solidFill>
                <a:latin typeface="Arial"/>
              </a:rPr>
              <a:t>ppt</a:t>
            </a:r>
            <a:r>
              <a:rPr b="1" lang="zh-CN" sz="5400" spc="-1" strike="noStrike">
                <a:solidFill>
                  <a:srgbClr val="7c4d36"/>
                </a:solidFill>
                <a:latin typeface="Arial"/>
              </a:rPr>
              <a:t>演示模板</a:t>
            </a:r>
            <a:endParaRPr b="1" lang="en-US" sz="5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962160" y="4800600"/>
            <a:ext cx="512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19320" y="1447920"/>
            <a:ext cx="6781680" cy="4114800"/>
            <a:chOff x="1219320" y="1447920"/>
            <a:chExt cx="6781680" cy="4114800"/>
          </a:xfrm>
        </p:grpSpPr>
        <p:sp>
          <p:nvSpPr>
            <p:cNvPr id="257" name=""/>
            <p:cNvSpPr/>
            <p:nvPr/>
          </p:nvSpPr>
          <p:spPr>
            <a:xfrm>
              <a:off x="3722760" y="327672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7c4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327672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7c4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27672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7c4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51440" y="207180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3a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13480" y="207180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b9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b9d5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b9d5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32760" y="15638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3542c"/>
                </a:gs>
                <a:gs pos="50000">
                  <a:srgbClr val="9b9d53"/>
                </a:gs>
                <a:gs pos="100000">
                  <a:srgbClr val="5354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57960" y="15717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b9d53">
                    <a:alpha val="0"/>
                  </a:srgbClr>
                </a:gs>
                <a:gs pos="100000">
                  <a:srgbClr val="6263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11960" y="163512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d9db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d9db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6520" y="15573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a5461"/>
                </a:gs>
                <a:gs pos="50000">
                  <a:srgbClr val="6d9db5"/>
                </a:gs>
                <a:gs pos="100000">
                  <a:srgbClr val="3a54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8320" y="15606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d9db5">
                    <a:alpha val="0"/>
                  </a:srgbClr>
                </a:gs>
                <a:gs pos="100000">
                  <a:srgbClr val="44637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81400" y="163224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501920" y="1650960"/>
              <a:ext cx="1290600" cy="1278000"/>
              <a:chOff x="1501920" y="1650960"/>
              <a:chExt cx="1290600" cy="1278000"/>
            </a:xfrm>
          </p:grpSpPr>
          <p:sp>
            <p:nvSpPr>
              <p:cNvPr id="273" name=""/>
              <p:cNvSpPr/>
              <p:nvPr/>
            </p:nvSpPr>
            <p:spPr>
              <a:xfrm>
                <a:off x="150192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1848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3180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0164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3a55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14c26"/>
                </a:gs>
                <a:gs pos="100000">
                  <a:srgbClr val="d3a55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70360" y="15638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1582c"/>
                </a:gs>
                <a:gs pos="50000">
                  <a:srgbClr val="d3a553"/>
                </a:gs>
                <a:gs pos="100000">
                  <a:srgbClr val="7158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72160" y="15652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d3a553">
                    <a:alpha val="0"/>
                  </a:srgbClr>
                </a:gs>
                <a:gs pos="100000">
                  <a:srgbClr val="8568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43440" y="16351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965760" y="1650960"/>
              <a:ext cx="1290600" cy="1278000"/>
              <a:chOff x="3965760" y="1650960"/>
              <a:chExt cx="1290600" cy="1278000"/>
            </a:xfrm>
          </p:grpSpPr>
          <p:sp>
            <p:nvSpPr>
              <p:cNvPr id="283" name=""/>
              <p:cNvSpPr/>
              <p:nvPr/>
            </p:nvSpPr>
            <p:spPr>
              <a:xfrm>
                <a:off x="396576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8232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9564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6548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435720" y="1650960"/>
              <a:ext cx="1292400" cy="1278000"/>
              <a:chOff x="6435720" y="1650960"/>
              <a:chExt cx="1292400" cy="1278000"/>
            </a:xfrm>
          </p:grpSpPr>
          <p:sp>
            <p:nvSpPr>
              <p:cNvPr id="288" name=""/>
              <p:cNvSpPr/>
              <p:nvPr/>
            </p:nvSpPr>
            <p:spPr>
              <a:xfrm>
                <a:off x="6435720" y="165096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52280" y="165780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65600" y="167040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35800" y="170280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7650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3360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006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93432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600200" y="993600"/>
            <a:ext cx="5715000" cy="5330520"/>
            <a:chOff x="1600200" y="993600"/>
            <a:chExt cx="5715000" cy="5330520"/>
          </a:xfrm>
        </p:grpSpPr>
        <p:sp>
          <p:nvSpPr>
            <p:cNvPr id="298" name=""/>
            <p:cNvSpPr/>
            <p:nvPr/>
          </p:nvSpPr>
          <p:spPr>
            <a:xfrm rot="13770000">
              <a:off x="4932720" y="35780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56000">
              <a:off x="2908080" y="30988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394200">
              <a:off x="5067720" y="19400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d7d7d7"/>
                </a:gs>
                <a:gs pos="100000">
                  <a:srgbClr val="80808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872160" y="1975680"/>
              <a:ext cx="1652400" cy="1684080"/>
              <a:chOff x="3872160" y="1975680"/>
              <a:chExt cx="1652400" cy="16840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872160" y="1975680"/>
                <a:ext cx="1652400" cy="1684080"/>
                <a:chOff x="3872160" y="1975680"/>
                <a:chExt cx="1652400" cy="16840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872160" y="19756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9db5"/>
                    </a:gs>
                    <a:gs pos="100000">
                      <a:srgbClr val="1a26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4060800" y="20034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9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978720" y="27079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317920" y="993600"/>
              <a:ext cx="925200" cy="912240"/>
              <a:chOff x="5317920" y="993600"/>
              <a:chExt cx="925200" cy="91224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317920" y="993600"/>
                <a:ext cx="894960" cy="912240"/>
                <a:chOff x="5317920" y="993600"/>
                <a:chExt cx="894960" cy="9122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317920" y="9936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3a553"/>
                    </a:gs>
                    <a:gs pos="100000">
                      <a:srgbClr val="3327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5420160" y="10087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3a55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5333760" y="13442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600200" y="2327040"/>
              <a:ext cx="1789920" cy="1894680"/>
              <a:chOff x="1600200" y="2327040"/>
              <a:chExt cx="1789920" cy="18946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1600200" y="2327040"/>
                <a:ext cx="1789920" cy="1894680"/>
                <a:chOff x="1600200" y="2327040"/>
                <a:chExt cx="1789920" cy="1894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600200" y="23270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d36"/>
                    </a:gs>
                    <a:gs pos="100000">
                      <a:srgbClr val="4e30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>
                  <a:off x="1804680" y="23583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c4d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716120" y="3169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249520" y="3730320"/>
              <a:ext cx="2065680" cy="2105280"/>
              <a:chOff x="5249520" y="3730320"/>
              <a:chExt cx="2065680" cy="21052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249520" y="3730320"/>
                <a:ext cx="2065680" cy="2105280"/>
                <a:chOff x="5249520" y="3730320"/>
                <a:chExt cx="2065680" cy="2105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49520" y="37303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9d53"/>
                    </a:gs>
                    <a:gs pos="100000">
                      <a:srgbClr val="4f50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未知"/>
                <p:cNvSpPr/>
                <p:nvPr/>
              </p:nvSpPr>
              <p:spPr>
                <a:xfrm>
                  <a:off x="5485680" y="37652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b9d5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564880" y="46425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806480" y="42919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9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10040" y="36633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9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93680" y="58359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9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55800" y="19756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9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7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b9d5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b9d5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3542c"/>
                </a:gs>
                <a:gs pos="50000">
                  <a:srgbClr val="9b9d53"/>
                </a:gs>
                <a:gs pos="100000">
                  <a:srgbClr val="5354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9b9d53">
                    <a:alpha val="0"/>
                  </a:srgbClr>
                </a:gs>
                <a:gs pos="100000">
                  <a:srgbClr val="6263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476280" y="76356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经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b9d53"/>
                </a:solidFill>
                <a:uFillTx/>
                <a:latin typeface="Arial"/>
                <a:hlinkClick r:id="rId1"/>
              </a:rPr>
              <a:t>http://www.eeppt.com/moban/tongy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937120" y="4997520"/>
            <a:ext cx="2163960" cy="86976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ef9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943600" y="1832040"/>
            <a:ext cx="2163600" cy="3961800"/>
            <a:chOff x="5943600" y="1832040"/>
            <a:chExt cx="2163600" cy="3961800"/>
          </a:xfrm>
        </p:grpSpPr>
        <p:sp>
          <p:nvSpPr>
            <p:cNvPr id="390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770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5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81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405" name="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406" name="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11" name="未知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未知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14" name="未知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32" name="未知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未知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5" name="未知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未知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53" name="未知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未知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6" name="未知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4" name="未知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未知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7" name="未知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未知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6" name=""/>
              <p:cNvCxnSpPr>
                <a:stCxn id="492" idx="3"/>
                <a:endCxn id="49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7" name=""/>
              <p:cNvCxnSpPr>
                <a:stCxn id="493" idx="3"/>
                <a:endCxn id="49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99" name=""/>
          <p:cNvSpPr/>
          <p:nvPr/>
        </p:nvSpPr>
        <p:spPr>
          <a:xfrm>
            <a:off x="7010280" y="6019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2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a553"/>
                  </a:gs>
                  <a:gs pos="100000">
                    <a:srgbClr val="927239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cda0"/>
                  </a:gs>
                  <a:gs pos="50000">
                    <a:srgbClr val="d3a553">
                      <a:alpha val="0"/>
                    </a:srgbClr>
                  </a:gs>
                  <a:gs pos="100000">
                    <a:srgbClr val="e6cd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9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1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5b781"/>
                  </a:gs>
                  <a:gs pos="100000">
                    <a:srgbClr val="9b9d53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9d53">
                      <a:alpha val="0"/>
                    </a:srgbClr>
                  </a:gs>
                  <a:gs pos="100000">
                    <a:srgbClr val="d3d4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6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8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b8d7e"/>
                  </a:gs>
                  <a:gs pos="100000">
                    <a:srgbClr val="7c4d36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4d36">
                      <a:alpha val="0"/>
                    </a:srgbClr>
                  </a:gs>
                  <a:gs pos="100000">
                    <a:srgbClr val="bea79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6151680" y="29764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56080" y="29764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3440" y="29764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29764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127520" y="1406160"/>
            <a:ext cx="6215400" cy="1324800"/>
            <a:chOff x="1127520" y="1406160"/>
            <a:chExt cx="6215400" cy="1324800"/>
          </a:xfrm>
        </p:grpSpPr>
        <p:sp>
          <p:nvSpPr>
            <p:cNvPr id="528" name=""/>
            <p:cNvSpPr/>
            <p:nvPr/>
          </p:nvSpPr>
          <p:spPr>
            <a:xfrm rot="3418800">
              <a:off x="1335240" y="161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258280" y="1787400"/>
              <a:ext cx="901080" cy="124200"/>
              <a:chOff x="2258280" y="1787400"/>
              <a:chExt cx="901080" cy="12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225828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4468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2292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09600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3418800">
              <a:off x="2999880" y="1551960"/>
              <a:ext cx="874080" cy="970920"/>
            </a:xfrm>
            <a:prstGeom prst="rect">
              <a:avLst/>
            </a:prstGeom>
            <a:solidFill>
              <a:srgbClr val="d3a5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922920" y="1787400"/>
              <a:ext cx="901080" cy="124200"/>
              <a:chOff x="3922920" y="1787400"/>
              <a:chExt cx="901080" cy="1242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2292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0932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8756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6064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rot="3418800">
              <a:off x="4595760" y="15516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87560" y="1787400"/>
              <a:ext cx="1178640" cy="124200"/>
              <a:chOff x="5587560" y="1787400"/>
              <a:chExt cx="1178640" cy="124200"/>
            </a:xfrm>
          </p:grpSpPr>
          <p:sp>
            <p:nvSpPr>
              <p:cNvPr id="542" name=""/>
              <p:cNvSpPr/>
              <p:nvPr/>
            </p:nvSpPr>
            <p:spPr>
              <a:xfrm>
                <a:off x="5587560" y="17874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00600" y="17881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87640" y="17892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83040" y="18280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rot="3418800">
              <a:off x="6260400" y="1551600"/>
              <a:ext cx="874080" cy="971280"/>
            </a:xfrm>
            <a:prstGeom prst="rect">
              <a:avLst/>
            </a:prstGeom>
            <a:solidFill>
              <a:srgbClr val="d3a5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4425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381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43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37956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490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428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8380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336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063800" y="2057400"/>
          <a:ext cx="7397640" cy="321480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9760"/>
                <a:gridCol w="1146240"/>
                <a:gridCol w="1137960"/>
              </a:tblGrid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e1d091"/>
                      </a:solidFill>
                    </a:lnR>
                    <a:lnT>
                      <a:noFill/>
                    </a:lnT>
                    <a:lnB w="5760">
                      <a:solidFill>
                        <a:srgbClr val="e1d0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d091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9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323232"/>
                </a:gs>
                <a:gs pos="5000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bbc8b"/>
                </a:gs>
                <a:gs pos="100000">
                  <a:srgbClr val="9b9d53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f6332"/>
                </a:gs>
                <a:gs pos="100000">
                  <a:srgbClr val="d3a55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43291d"/>
                </a:gs>
                <a:gs pos="100000">
                  <a:srgbClr val="7c4d3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dfdfd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71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d9db5"/>
                  </a:gs>
                  <a:gs pos="100000">
                    <a:srgbClr val="415f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24853"/>
                  </a:gs>
                  <a:gs pos="100000">
                    <a:srgbClr val="6d9db5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3"/>
                  </a:gs>
                  <a:gs pos="100000">
                    <a:srgbClr val="6d9d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701028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914400" y="1447920"/>
            <a:ext cx="7475400" cy="4680000"/>
            <a:chOff x="914400" y="1447920"/>
            <a:chExt cx="7475400" cy="4680000"/>
          </a:xfrm>
        </p:grpSpPr>
        <p:sp>
          <p:nvSpPr>
            <p:cNvPr id="581" name="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3a553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d5f32"/>
                </a:gs>
                <a:gs pos="50000">
                  <a:srgbClr val="9b9d53"/>
                </a:gs>
                <a:gs pos="100000">
                  <a:srgbClr val="5d5f32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r>
                <a:rPr b="0" lang="en-US" sz="2000" spc="-1" strike="noStrike">
                  <a:solidFill>
                    <a:srgbClr val="fef9e2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0360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9e2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914400" y="4083120"/>
              <a:ext cx="1486080" cy="2013120"/>
              <a:chOff x="914400" y="4083120"/>
              <a:chExt cx="1486080" cy="201312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86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c4d36"/>
                      </a:gs>
                      <a:gs pos="100000">
                        <a:srgbClr val="4e30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c4d3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1066680" y="5707080"/>
                <a:ext cx="1206720" cy="38916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fef9e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6781680" y="4038840"/>
              <a:ext cx="1608120" cy="2086920"/>
              <a:chOff x="6781680" y="4038840"/>
              <a:chExt cx="1608120" cy="208692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6781680" y="4038840"/>
                <a:ext cx="1523880" cy="1531440"/>
                <a:chOff x="6781680" y="4038840"/>
                <a:chExt cx="1523880" cy="153144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6781680" y="4038840"/>
                  <a:ext cx="1523880" cy="1531440"/>
                  <a:chOff x="6781680" y="4038840"/>
                  <a:chExt cx="1523880" cy="15314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6781680" y="4038840"/>
                    <a:ext cx="1523880" cy="153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d9db5"/>
                      </a:gs>
                      <a:gs pos="100000">
                        <a:srgbClr val="1a26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未知"/>
                  <p:cNvSpPr/>
                  <p:nvPr/>
                </p:nvSpPr>
                <p:spPr>
                  <a:xfrm>
                    <a:off x="6955920" y="4064040"/>
                    <a:ext cx="1175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d9db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6933960" y="563868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fef9e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819520" y="4083120"/>
              <a:ext cx="1523880" cy="2044800"/>
              <a:chOff x="2819520" y="4083120"/>
              <a:chExt cx="1523880" cy="204480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9d53"/>
                    </a:gs>
                    <a:gs pos="100000">
                      <a:srgbClr val="4f50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b9d5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88936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fef9e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876920" y="4038840"/>
              <a:ext cx="1600200" cy="2089080"/>
              <a:chOff x="4876920" y="4038840"/>
              <a:chExt cx="1600200" cy="208908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3a553"/>
                      </a:gs>
                      <a:gs pos="100000">
                        <a:srgbClr val="6b542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3a55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502308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fef9e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4d36"/>
                </a:gs>
                <a:gs pos="100000">
                  <a:srgbClr val="e2d8d3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c4d36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a553"/>
                </a:gs>
                <a:gs pos="100000">
                  <a:srgbClr val="f4ebd9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3a5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9d53"/>
                </a:gs>
                <a:gs pos="100000">
                  <a:srgbClr val="e8e9d9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9db5"/>
                </a:gs>
                <a:gs pos="100000">
                  <a:srgbClr val="dfe9ee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d9db5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2286000" y="29718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b9d53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b9d53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1d091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0E60-D146-49D1-A8AF-4C06AD6D79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462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4d36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7c4d36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b9d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1" lang="en-US" sz="2400" spc="-1" strike="noStrike">
                <a:solidFill>
                  <a:srgbClr val="e1d091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e1d09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2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b8d7e"/>
              </a:gs>
              <a:gs pos="100000">
                <a:srgbClr val="7c4d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4c28"/>
                    </a:gs>
                    <a:gs pos="100000">
                      <a:srgbClr val="9b9d5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9d53"/>
                    </a:gs>
                    <a:gs pos="100000">
                      <a:srgbClr val="d1d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d3a553"/>
                  </a:gs>
                  <a:gs pos="100000">
                    <a:srgbClr val="614c2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edec2"/>
                  </a:gs>
                  <a:gs pos="100000">
                    <a:srgbClr val="d3a55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d3a553">
                      <a:alpha val="48235"/>
                    </a:srgbClr>
                  </a:gs>
                  <a:gs pos="100000">
                    <a:srgbClr val="a682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d3a55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6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edec7"/>
              </a:gs>
              <a:gs pos="100000">
                <a:srgbClr val="9b9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1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b9d53"/>
                </a:gs>
                <a:gs pos="100000">
                  <a:srgbClr val="dfe0ca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3535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3a553"/>
                </a:gs>
                <a:gs pos="100000">
                  <a:srgbClr val="4133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c4d36"/>
                </a:gs>
                <a:gs pos="100000">
                  <a:srgbClr val="2c1b1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d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d9db5"/>
                </a:gs>
                <a:gs pos="100000">
                  <a:srgbClr val="2535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b3b3b">
                    <a:alpha val="12156"/>
                  </a:srgbClr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adada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adadad">
                    <a:alpha val="12156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01028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179" name=""/>
            <p:cNvGrpSpPr/>
            <p:nvPr/>
          </p:nvGrpSpPr>
          <p:grpSpPr>
            <a:xfrm>
              <a:off x="3009240" y="1905120"/>
              <a:ext cx="2900160" cy="2705400"/>
              <a:chOff x="3009240" y="1905120"/>
              <a:chExt cx="2900160" cy="2705400"/>
            </a:xfrm>
          </p:grpSpPr>
          <p:sp>
            <p:nvSpPr>
              <p:cNvPr id="180" name=""/>
              <p:cNvSpPr/>
              <p:nvPr/>
            </p:nvSpPr>
            <p:spPr>
              <a:xfrm flipH="1" rot="16200000">
                <a:off x="2927880" y="2951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2ebd3"/>
                  </a:gs>
                  <a:gs pos="100000">
                    <a:srgbClr val="e1d0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400000">
                <a:off x="5531400" y="290088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2ebd3"/>
                  </a:gs>
                  <a:gs pos="100000">
                    <a:srgbClr val="e1d09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0800000">
                <a:off x="4238640" y="430488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2ebd3"/>
                  </a:gs>
                  <a:gs pos="100000">
                    <a:srgbClr val="e1d09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05880" y="190512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38720" y="204012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b9d5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42c"/>
                  </a:gs>
                  <a:gs pos="50000">
                    <a:srgbClr val="9b9d53"/>
                  </a:gs>
                  <a:gs pos="100000">
                    <a:srgbClr val="53542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43000" y="340308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29034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340308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29034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7532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9e2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02520" y="475848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ef9e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20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20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20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5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9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2318"/>
                  </a:gs>
                  <a:gs pos="50000">
                    <a:srgbClr val="7c4d36"/>
                  </a:gs>
                  <a:gs pos="100000">
                    <a:srgbClr val="3923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c4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826"/>
                  </a:gs>
                  <a:gs pos="50000">
                    <a:srgbClr val="9b9d53"/>
                  </a:gs>
                  <a:gs pos="100000">
                    <a:srgbClr val="47482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b9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3"/>
                  </a:gs>
                  <a:gs pos="50000">
                    <a:srgbClr val="6d9db5"/>
                  </a:gs>
                  <a:gs pos="100000">
                    <a:srgbClr val="32485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4c26"/>
                  </a:gs>
                  <a:gs pos="50000">
                    <a:srgbClr val="d3a553"/>
                  </a:gs>
                  <a:gs pos="100000">
                    <a:srgbClr val="614c2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d3a5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593727"/>
                  </a:gs>
                  <a:gs pos="50000">
                    <a:srgbClr val="7c4d36"/>
                  </a:gs>
                  <a:gs pos="100000">
                    <a:srgbClr val="59372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70713b"/>
                  </a:gs>
                  <a:gs pos="50000">
                    <a:srgbClr val="9b9d53"/>
                  </a:gs>
                  <a:gs pos="100000">
                    <a:srgbClr val="7071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d9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e7182"/>
                  </a:gs>
                  <a:gs pos="50000">
                    <a:srgbClr val="6d9db5"/>
                  </a:gs>
                  <a:gs pos="100000">
                    <a:srgbClr val="4e718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98773b"/>
                  </a:gs>
                  <a:gs pos="50000">
                    <a:srgbClr val="d3a553"/>
                  </a:gs>
                  <a:gs pos="100000">
                    <a:srgbClr val="9877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4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b9d53"/>
                </a:gs>
                <a:gs pos="100000">
                  <a:srgbClr val="a3a562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c4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e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e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b9d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e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e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d9db5"/>
                </a:gs>
                <a:gs pos="100000">
                  <a:srgbClr val="aac5d3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9e2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7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d9d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3c45"/>
                  </a:gs>
                  <a:gs pos="50000">
                    <a:srgbClr val="6d9db5"/>
                  </a:gs>
                  <a:gs pos="100000">
                    <a:srgbClr val="2a3c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ef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ef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ef9e2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7:16:12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