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816-1F66-4458-B92A-F86C1A51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1A7-0500-47F0-B7B8-86B0352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51B-17F2-4DE3-BD14-E8AB92F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95E-F735-46CE-A9D7-42008B6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87B-2A4F-4D78-9E22-412F61B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201-5E33-4A6C-975B-F720E56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F8A-27AB-4FC1-88F5-DECD0C2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AD1-A7B3-48BA-8852-89B1E82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18A-28DC-4D2B-B44D-AC229387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05-436E-4647-A26B-72CE1D5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57E-061D-48CF-AC9B-2B8A965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91B-B2F4-476E-87BE-119E384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352-4460-4853-8DA3-BFD2B4131B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D4B9-F535-4AC7-BCAA-8672E6389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2286000"/>
            <a:ext cx="200016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0" y="3000240"/>
            <a:ext cx="278604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0" y="3714840"/>
            <a:ext cx="364320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4500720"/>
            <a:ext cx="428616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5500800"/>
            <a:ext cx="507204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642960" y="357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强调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1857240" y="2071800"/>
            <a:ext cx="85752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3286080" y="3500280"/>
            <a:ext cx="85716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2571840" y="278604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5000760" y="5286240"/>
            <a:ext cx="85716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4143240" y="4000680"/>
            <a:ext cx="1285920" cy="1285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标注 14"/>
          <p:cNvSpPr/>
          <p:nvPr/>
        </p:nvSpPr>
        <p:spPr>
          <a:xfrm>
            <a:off x="5643720" y="2214720"/>
            <a:ext cx="3000240" cy="1714320"/>
          </a:xfrm>
          <a:prstGeom prst="wedgeRoundRectCallout">
            <a:avLst>
              <a:gd name="adj1" fmla="val -69888"/>
              <a:gd name="adj2" fmla="val 67699"/>
              <a:gd name="adj3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86B-5439-4732-BCA9-A2EB75018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8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