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69D-EFB6-4698-B9C8-2CBD5F72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3B0-7F8E-4B75-8A13-E42DA11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7BF-44F0-45CA-9347-26F5096B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D1E-C65E-4312-BAFD-6322DC3E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573-F973-4350-A38E-9B783D91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6CB4-012C-4678-9AC8-A679998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D8DB-16B7-41D4-8D09-48FDF39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E593-E93C-4559-9280-40ADE02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1583-9510-4CD3-9812-287355FA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8415-A20B-49F7-B50B-A6E1642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26ED-D2A8-4206-AA07-AC16B0B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F85-A688-4AD2-8364-E481A2D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87D-CDE7-4FB5-A4D8-4183FB2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204C-0B6C-4D8A-9C72-788D441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CA96-80DF-42BD-8AFC-3A059056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631D-07AF-4F58-ABD0-FB5EA880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9EE0-8123-491C-AD1D-0CF41346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2B1-6E8A-4A10-8E3C-0EF34069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BB8-6E96-402D-BA0A-1D0D2610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2A4-501F-4206-97EC-1A9D034E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D7D-7070-48AD-8D5C-E2D4F1FB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CEA-086F-4420-B89F-3957682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1F4-FF37-4578-8690-8F8C2EC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5D3-E1CC-4140-A2FD-1298E8B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836F-213D-4A70-A31A-2600E15CE7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6A3-7B9E-49D7-A4C9-649E60A104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9D8D-A49E-4542-9294-10413C9952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189-2C2C-40F9-AA9B-CC752048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9"/>
          <p:cNvGrpSpPr/>
          <p:nvPr/>
        </p:nvGrpSpPr>
        <p:grpSpPr>
          <a:xfrm>
            <a:off x="2873520" y="2652840"/>
            <a:ext cx="3918960" cy="1766880"/>
            <a:chOff x="2873520" y="2652840"/>
            <a:chExt cx="3918960" cy="1766880"/>
          </a:xfrm>
        </p:grpSpPr>
        <p:sp>
          <p:nvSpPr>
            <p:cNvPr id="83" name="矩形 3"/>
            <p:cNvSpPr/>
            <p:nvPr/>
          </p:nvSpPr>
          <p:spPr>
            <a:xfrm>
              <a:off x="2873520" y="265284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"/>
            <p:cNvSpPr/>
            <p:nvPr/>
          </p:nvSpPr>
          <p:spPr>
            <a:xfrm>
              <a:off x="3860640" y="265284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5"/>
            <p:cNvSpPr/>
            <p:nvPr/>
          </p:nvSpPr>
          <p:spPr>
            <a:xfrm>
              <a:off x="4848120" y="265284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 形 6"/>
            <p:cNvSpPr/>
            <p:nvPr/>
          </p:nvSpPr>
          <p:spPr>
            <a:xfrm flipH="1">
              <a:off x="5276160" y="2652840"/>
              <a:ext cx="1515960" cy="174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7"/>
            <p:cNvSpPr/>
            <p:nvPr/>
          </p:nvSpPr>
          <p:spPr>
            <a:xfrm>
              <a:off x="4222080" y="356400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8"/>
            <p:cNvSpPr/>
            <p:nvPr/>
          </p:nvSpPr>
          <p:spPr>
            <a:xfrm>
              <a:off x="3150360" y="356400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0"/>
          <p:cNvSpPr/>
          <p:nvPr/>
        </p:nvSpPr>
        <p:spPr>
          <a:xfrm rot="645600">
            <a:off x="5330880" y="4002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肘形连接符 12"/>
          <p:cNvCxnSpPr/>
          <p:nvPr/>
        </p:nvCxnSpPr>
        <p:spPr>
          <a:xfrm rot="5400000">
            <a:off x="6167160" y="3811680"/>
            <a:ext cx="357840" cy="576360"/>
          </a:xfrm>
          <a:prstGeom prst="bentConnector3">
            <a:avLst>
              <a:gd name="adj1" fmla="val 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1" name="Text Box 39"/>
          <p:cNvSpPr/>
          <p:nvPr/>
        </p:nvSpPr>
        <p:spPr>
          <a:xfrm rot="457800">
            <a:off x="3203280" y="277020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 rot="457800">
            <a:off x="3989160" y="291780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 rot="457800">
            <a:off x="4862160" y="3060360"/>
            <a:ext cx="1058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 rot="457800">
            <a:off x="3131640" y="356076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 rot="457800">
            <a:off x="4076280" y="377028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 rot="457800">
            <a:off x="5917680" y="341784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形状 23"/>
          <p:cNvCxnSpPr/>
          <p:nvPr/>
        </p:nvCxnSpPr>
        <p:spPr>
          <a:xfrm flipH="1" flipV="1" rot="5400000">
            <a:off x="5635080" y="338400"/>
            <a:ext cx="1116720" cy="36392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cxnSp>
        <p:nvCxnSpPr>
          <p:cNvPr id="98" name="形状 24"/>
          <p:cNvCxnSpPr/>
          <p:nvPr/>
        </p:nvCxnSpPr>
        <p:spPr>
          <a:xfrm flipH="1" flipV="1" rot="5400000">
            <a:off x="6783120" y="1284120"/>
            <a:ext cx="361080" cy="284580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99" name="直接连接符 26"/>
          <p:cNvSpPr/>
          <p:nvPr/>
        </p:nvSpPr>
        <p:spPr>
          <a:xfrm>
            <a:off x="739800" y="277344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7"/>
          <p:cNvSpPr/>
          <p:nvPr/>
        </p:nvSpPr>
        <p:spPr>
          <a:xfrm>
            <a:off x="682560" y="3705120"/>
            <a:ext cx="2664000" cy="180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形状 30"/>
          <p:cNvCxnSpPr/>
          <p:nvPr/>
        </p:nvCxnSpPr>
        <p:spPr>
          <a:xfrm rot="5400000">
            <a:off x="3062160" y="2473920"/>
            <a:ext cx="396000" cy="500436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102" name="矩形 31"/>
          <p:cNvSpPr/>
          <p:nvPr/>
        </p:nvSpPr>
        <p:spPr>
          <a:xfrm>
            <a:off x="4432320" y="1219320"/>
            <a:ext cx="278748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491000" y="12063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4491000" y="1635120"/>
            <a:ext cx="394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4"/>
          <p:cNvSpPr/>
          <p:nvPr/>
        </p:nvSpPr>
        <p:spPr>
          <a:xfrm>
            <a:off x="5562720" y="213516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5619600" y="21225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05640" y="2563920"/>
            <a:ext cx="297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7"/>
          <p:cNvSpPr/>
          <p:nvPr/>
        </p:nvSpPr>
        <p:spPr>
          <a:xfrm>
            <a:off x="704880" y="242100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762120" y="240840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776160" y="277812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0"/>
          <p:cNvSpPr/>
          <p:nvPr/>
        </p:nvSpPr>
        <p:spPr>
          <a:xfrm>
            <a:off x="704880" y="334980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762120" y="333684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776160" y="370692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3"/>
          <p:cNvSpPr/>
          <p:nvPr/>
        </p:nvSpPr>
        <p:spPr>
          <a:xfrm>
            <a:off x="776160" y="479124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833400" y="47782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847800" y="514836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6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0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