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0B940-E4C2-4259-AF86-39854E38A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7F47-E789-4912-B0BA-4CA252336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574A-08DF-41F4-9C8C-1E9918318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04CB-2C0E-44A3-A106-6D8B4AA48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F6D68-D5CD-4570-90DF-4A857454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2CBE6-FF8B-4657-9FD8-40FAD334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1D287-2BF6-4EE8-818A-3E65198D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87421-E207-4BB4-B91A-1CA6F951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38525-5559-4870-942F-D42ABC85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2BA00-8B76-4C95-9BBB-B068CFFA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B5B6C-9C6C-4294-84B6-EB135CBB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C17FF-07DD-409E-B5D3-154C9FB3C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B4EA4-1693-4357-ABDD-F849470F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3006B-0CC2-430E-AAAD-9CF64F74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9A3FE-A4CC-435C-882F-223AC753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D17A1-C653-4BB4-8C65-B44D90E0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4F730-8265-45F5-8834-85C62C7B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CCC2-0F1D-420C-92BD-D15AFBE80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B6B4-EAEF-44C4-9352-4FF2CE91A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2703-25FB-4EC4-9697-2650C75AE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C835-74D7-4FEC-AC15-639209AC0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A539-3B83-47CC-A466-414242107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E0A2-2B9E-41F4-B578-E773F5F80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D455-6F65-497D-9BA6-A35AB376D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43600"/>
          </a:xfrm>
          <a:prstGeom prst="rect">
            <a:avLst/>
          </a:prstGeom>
          <a:gradFill rotWithShape="0">
            <a:gsLst>
              <a:gs pos="0">
                <a:srgbClr val="bad16f"/>
              </a:gs>
              <a:gs pos="50000">
                <a:srgbClr val="f2ef62"/>
              </a:gs>
              <a:gs pos="100000">
                <a:srgbClr val="bad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34800" y="971640"/>
            <a:ext cx="8496360" cy="5449680"/>
          </a:xfrm>
          <a:prstGeom prst="roundRect">
            <a:avLst>
              <a:gd name="adj" fmla="val 3352"/>
            </a:avLst>
          </a:prstGeom>
          <a:solidFill>
            <a:srgbClr val="ffffff"/>
          </a:solidFill>
          <a:ln w="0">
            <a:noFill/>
          </a:ln>
          <a:effectLst>
            <a:outerShdw dist="25560" dir="16200000" blurRad="0" rotWithShape="0">
              <a:srgbClr val="8fad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426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07800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d4d4d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F493-169B-4BB4-BE23-0054D21E12CF}" type="slidenum">
              <a:rPr b="0" lang="ko-KR" sz="1200" spc="-1" strike="noStrike">
                <a:solidFill>
                  <a:srgbClr val="4d4d4d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8040" y="958680"/>
            <a:ext cx="8496360" cy="5457960"/>
          </a:xfrm>
          <a:prstGeom prst="roundRect">
            <a:avLst>
              <a:gd name="adj" fmla="val 2940"/>
            </a:avLst>
          </a:prstGeom>
          <a:noFill/>
          <a:ln w="9360">
            <a:solidFill>
              <a:srgbClr val="5078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311680" y="4871880"/>
            <a:ext cx="703080" cy="1771560"/>
            <a:chOff x="8311680" y="4871880"/>
            <a:chExt cx="703080" cy="1771560"/>
          </a:xfrm>
        </p:grpSpPr>
        <p:grpSp>
          <p:nvGrpSpPr>
            <p:cNvPr id="8" name=""/>
            <p:cNvGrpSpPr/>
            <p:nvPr/>
          </p:nvGrpSpPr>
          <p:grpSpPr>
            <a:xfrm>
              <a:off x="8322840" y="4875480"/>
              <a:ext cx="691920" cy="1757880"/>
              <a:chOff x="8322840" y="4875480"/>
              <a:chExt cx="691920" cy="1757880"/>
            </a:xfrm>
          </p:grpSpPr>
          <p:sp>
            <p:nvSpPr>
              <p:cNvPr id="9" name=""/>
              <p:cNvSpPr/>
              <p:nvPr/>
            </p:nvSpPr>
            <p:spPr>
              <a:xfrm flipH="1">
                <a:off x="8322480" y="6213600"/>
                <a:ext cx="276120" cy="13788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 flipH="1">
                <a:off x="8460360" y="6281640"/>
                <a:ext cx="137880" cy="209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8323200" y="6281640"/>
                <a:ext cx="137880" cy="209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8322480" y="6072480"/>
                <a:ext cx="276120" cy="13860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H="1">
                <a:off x="8460360" y="6140520"/>
                <a:ext cx="137880" cy="209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" name="未知"/>
              <p:cNvSpPr/>
              <p:nvPr/>
            </p:nvSpPr>
            <p:spPr>
              <a:xfrm>
                <a:off x="8323560" y="6141240"/>
                <a:ext cx="137880" cy="2098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5" name=""/>
              <p:cNvGrpSpPr/>
              <p:nvPr/>
            </p:nvGrpSpPr>
            <p:grpSpPr>
              <a:xfrm>
                <a:off x="8326440" y="5934240"/>
                <a:ext cx="276120" cy="277920"/>
                <a:chOff x="8326440" y="5934240"/>
                <a:chExt cx="276120" cy="277920"/>
              </a:xfrm>
            </p:grpSpPr>
            <p:sp>
              <p:nvSpPr>
                <p:cNvPr id="16" name=""/>
                <p:cNvSpPr/>
                <p:nvPr/>
              </p:nvSpPr>
              <p:spPr>
                <a:xfrm flipH="1">
                  <a:off x="8326080" y="5934240"/>
                  <a:ext cx="276120" cy="1386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flipH="1">
                  <a:off x="8463960" y="600192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8" name="未知"/>
                <p:cNvSpPr/>
                <p:nvPr/>
              </p:nvSpPr>
              <p:spPr>
                <a:xfrm>
                  <a:off x="8327160" y="6001920"/>
                  <a:ext cx="137880" cy="210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" name=""/>
              <p:cNvSpPr/>
              <p:nvPr/>
            </p:nvSpPr>
            <p:spPr>
              <a:xfrm flipH="1">
                <a:off x="8462160" y="6283080"/>
                <a:ext cx="276120" cy="13788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" name="未知"/>
              <p:cNvSpPr/>
              <p:nvPr/>
            </p:nvSpPr>
            <p:spPr>
              <a:xfrm flipH="1">
                <a:off x="8597160" y="6351120"/>
                <a:ext cx="137880" cy="2102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" name="未知"/>
              <p:cNvSpPr/>
              <p:nvPr/>
            </p:nvSpPr>
            <p:spPr>
              <a:xfrm>
                <a:off x="8462880" y="6351120"/>
                <a:ext cx="137880" cy="2102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2" name=""/>
              <p:cNvGrpSpPr/>
              <p:nvPr/>
            </p:nvGrpSpPr>
            <p:grpSpPr>
              <a:xfrm>
                <a:off x="8462520" y="6143400"/>
                <a:ext cx="276120" cy="277200"/>
                <a:chOff x="8462520" y="6143400"/>
                <a:chExt cx="276120" cy="277200"/>
              </a:xfrm>
            </p:grpSpPr>
            <p:sp>
              <p:nvSpPr>
                <p:cNvPr id="23" name=""/>
                <p:cNvSpPr/>
                <p:nvPr/>
              </p:nvSpPr>
              <p:spPr>
                <a:xfrm flipH="1">
                  <a:off x="8462160" y="614340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" name="未知"/>
                <p:cNvSpPr/>
                <p:nvPr/>
              </p:nvSpPr>
              <p:spPr>
                <a:xfrm flipH="1">
                  <a:off x="8600040" y="621036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" name="未知"/>
                <p:cNvSpPr/>
                <p:nvPr/>
              </p:nvSpPr>
              <p:spPr>
                <a:xfrm>
                  <a:off x="8463240" y="621108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8466120" y="6006960"/>
                <a:ext cx="276120" cy="277560"/>
                <a:chOff x="8466120" y="6006960"/>
                <a:chExt cx="276120" cy="277560"/>
              </a:xfrm>
            </p:grpSpPr>
            <p:sp>
              <p:nvSpPr>
                <p:cNvPr id="27" name=""/>
                <p:cNvSpPr/>
                <p:nvPr/>
              </p:nvSpPr>
              <p:spPr>
                <a:xfrm flipH="1">
                  <a:off x="8465760" y="6006960"/>
                  <a:ext cx="276120" cy="13824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 flipH="1">
                  <a:off x="8601120" y="6073560"/>
                  <a:ext cx="137880" cy="209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8467200" y="6074640"/>
                  <a:ext cx="137880" cy="209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" name=""/>
              <p:cNvGrpSpPr/>
              <p:nvPr/>
            </p:nvGrpSpPr>
            <p:grpSpPr>
              <a:xfrm>
                <a:off x="8605800" y="6356160"/>
                <a:ext cx="276120" cy="277200"/>
                <a:chOff x="8605800" y="6356160"/>
                <a:chExt cx="276120" cy="277200"/>
              </a:xfrm>
            </p:grpSpPr>
            <p:sp>
              <p:nvSpPr>
                <p:cNvPr id="31" name=""/>
                <p:cNvSpPr/>
                <p:nvPr/>
              </p:nvSpPr>
              <p:spPr>
                <a:xfrm flipH="1">
                  <a:off x="8605440" y="635616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 flipH="1">
                  <a:off x="8743320" y="642312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8606520" y="642384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" name=""/>
              <p:cNvGrpSpPr/>
              <p:nvPr/>
            </p:nvGrpSpPr>
            <p:grpSpPr>
              <a:xfrm>
                <a:off x="8604360" y="6217200"/>
                <a:ext cx="276120" cy="277560"/>
                <a:chOff x="8604360" y="6217200"/>
                <a:chExt cx="276120" cy="277560"/>
              </a:xfrm>
            </p:grpSpPr>
            <p:sp>
              <p:nvSpPr>
                <p:cNvPr id="35" name=""/>
                <p:cNvSpPr/>
                <p:nvPr/>
              </p:nvSpPr>
              <p:spPr>
                <a:xfrm flipH="1">
                  <a:off x="8604000" y="6217200"/>
                  <a:ext cx="276120" cy="13824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6" name="未知"/>
                <p:cNvSpPr/>
                <p:nvPr/>
              </p:nvSpPr>
              <p:spPr>
                <a:xfrm flipH="1">
                  <a:off x="8740080" y="628488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7" name="未知"/>
                <p:cNvSpPr/>
                <p:nvPr/>
              </p:nvSpPr>
              <p:spPr>
                <a:xfrm>
                  <a:off x="8607240" y="6284880"/>
                  <a:ext cx="137880" cy="209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"/>
              <p:cNvGrpSpPr/>
              <p:nvPr/>
            </p:nvGrpSpPr>
            <p:grpSpPr>
              <a:xfrm>
                <a:off x="8322840" y="5795280"/>
                <a:ext cx="276120" cy="276480"/>
                <a:chOff x="8322840" y="5795280"/>
                <a:chExt cx="276120" cy="276480"/>
              </a:xfrm>
            </p:grpSpPr>
            <p:sp>
              <p:nvSpPr>
                <p:cNvPr id="39" name=""/>
                <p:cNvSpPr/>
                <p:nvPr/>
              </p:nvSpPr>
              <p:spPr>
                <a:xfrm flipH="1">
                  <a:off x="8322480" y="579528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0" name="未知"/>
                <p:cNvSpPr/>
                <p:nvPr/>
              </p:nvSpPr>
              <p:spPr>
                <a:xfrm flipH="1">
                  <a:off x="8456760" y="586296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1" name="未知"/>
                <p:cNvSpPr/>
                <p:nvPr/>
              </p:nvSpPr>
              <p:spPr>
                <a:xfrm>
                  <a:off x="8323200" y="586296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8465400" y="5864760"/>
                <a:ext cx="276120" cy="277920"/>
                <a:chOff x="8465400" y="5864760"/>
                <a:chExt cx="276120" cy="277920"/>
              </a:xfrm>
            </p:grpSpPr>
            <p:sp>
              <p:nvSpPr>
                <p:cNvPr id="43" name=""/>
                <p:cNvSpPr/>
                <p:nvPr/>
              </p:nvSpPr>
              <p:spPr>
                <a:xfrm flipH="1">
                  <a:off x="8465040" y="5864760"/>
                  <a:ext cx="276120" cy="1386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flipH="1">
                  <a:off x="8602920" y="593244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>
                  <a:off x="8466120" y="5932440"/>
                  <a:ext cx="137880" cy="210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8735760" y="5442120"/>
                <a:ext cx="276120" cy="277200"/>
                <a:chOff x="8735760" y="5442120"/>
                <a:chExt cx="276120" cy="277200"/>
              </a:xfrm>
            </p:grpSpPr>
            <p:sp>
              <p:nvSpPr>
                <p:cNvPr id="47" name=""/>
                <p:cNvSpPr/>
                <p:nvPr/>
              </p:nvSpPr>
              <p:spPr>
                <a:xfrm flipH="1">
                  <a:off x="8735400" y="544212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flipH="1">
                  <a:off x="8873280" y="550908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>
                  <a:off x="8736480" y="550980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8601480" y="5654160"/>
                <a:ext cx="276120" cy="276480"/>
                <a:chOff x="8601480" y="5654160"/>
                <a:chExt cx="276120" cy="276480"/>
              </a:xfrm>
            </p:grpSpPr>
            <p:sp>
              <p:nvSpPr>
                <p:cNvPr id="51" name=""/>
                <p:cNvSpPr/>
                <p:nvPr/>
              </p:nvSpPr>
              <p:spPr>
                <a:xfrm flipH="1">
                  <a:off x="8601120" y="565416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2" name="未知"/>
                <p:cNvSpPr/>
                <p:nvPr/>
              </p:nvSpPr>
              <p:spPr>
                <a:xfrm flipH="1">
                  <a:off x="8739000" y="572112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" name="未知"/>
                <p:cNvSpPr/>
                <p:nvPr/>
              </p:nvSpPr>
              <p:spPr>
                <a:xfrm>
                  <a:off x="8602200" y="572184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8607960" y="6076080"/>
                <a:ext cx="276120" cy="276480"/>
                <a:chOff x="8607960" y="6076080"/>
                <a:chExt cx="276120" cy="276480"/>
              </a:xfrm>
            </p:grpSpPr>
            <p:sp>
              <p:nvSpPr>
                <p:cNvPr id="55" name=""/>
                <p:cNvSpPr/>
                <p:nvPr/>
              </p:nvSpPr>
              <p:spPr>
                <a:xfrm flipH="1">
                  <a:off x="8607600" y="607608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flipH="1">
                  <a:off x="8745480" y="614304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>
                  <a:off x="8608680" y="614376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8726760" y="4875480"/>
                <a:ext cx="276120" cy="277200"/>
                <a:chOff x="8726760" y="4875480"/>
                <a:chExt cx="276120" cy="277200"/>
              </a:xfrm>
            </p:grpSpPr>
            <p:sp>
              <p:nvSpPr>
                <p:cNvPr id="59" name=""/>
                <p:cNvSpPr/>
                <p:nvPr/>
              </p:nvSpPr>
              <p:spPr>
                <a:xfrm flipH="1">
                  <a:off x="8726400" y="487548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0" name="未知"/>
                <p:cNvSpPr/>
                <p:nvPr/>
              </p:nvSpPr>
              <p:spPr>
                <a:xfrm flipH="1">
                  <a:off x="8864280" y="494244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1" name="未知"/>
                <p:cNvSpPr/>
                <p:nvPr/>
              </p:nvSpPr>
              <p:spPr>
                <a:xfrm>
                  <a:off x="8727480" y="494316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8738640" y="5859000"/>
                <a:ext cx="276120" cy="277200"/>
                <a:chOff x="8738640" y="5859000"/>
                <a:chExt cx="276120" cy="277200"/>
              </a:xfrm>
            </p:grpSpPr>
            <p:sp>
              <p:nvSpPr>
                <p:cNvPr id="63" name=""/>
                <p:cNvSpPr/>
                <p:nvPr/>
              </p:nvSpPr>
              <p:spPr>
                <a:xfrm flipH="1">
                  <a:off x="8738280" y="585900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4" name="未知"/>
                <p:cNvSpPr/>
                <p:nvPr/>
              </p:nvSpPr>
              <p:spPr>
                <a:xfrm flipH="1">
                  <a:off x="8874720" y="592668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5" name="未知"/>
                <p:cNvSpPr/>
                <p:nvPr/>
              </p:nvSpPr>
              <p:spPr>
                <a:xfrm>
                  <a:off x="8741880" y="592668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" name=""/>
            <p:cNvGrpSpPr/>
            <p:nvPr/>
          </p:nvGrpSpPr>
          <p:grpSpPr>
            <a:xfrm>
              <a:off x="8311680" y="4871880"/>
              <a:ext cx="691920" cy="1771560"/>
              <a:chOff x="8311680" y="4871880"/>
              <a:chExt cx="691920" cy="177156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8311320" y="6223320"/>
                <a:ext cx="276120" cy="13788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 flipH="1">
                <a:off x="8449200" y="6291360"/>
                <a:ext cx="137880" cy="209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8312040" y="6291360"/>
                <a:ext cx="137880" cy="209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8311320" y="6082200"/>
                <a:ext cx="276120" cy="138600"/>
              </a:xfrm>
              <a:prstGeom prst="diamond">
                <a:avLst/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 flipH="1">
                <a:off x="8449200" y="6150240"/>
                <a:ext cx="137880" cy="2098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8312400" y="6150960"/>
                <a:ext cx="137880" cy="209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8315280" y="5943960"/>
                <a:ext cx="276120" cy="277920"/>
                <a:chOff x="8315280" y="5943960"/>
                <a:chExt cx="276120" cy="277920"/>
              </a:xfrm>
            </p:grpSpPr>
            <p:sp>
              <p:nvSpPr>
                <p:cNvPr id="74" name=""/>
                <p:cNvSpPr/>
                <p:nvPr/>
              </p:nvSpPr>
              <p:spPr>
                <a:xfrm flipH="1">
                  <a:off x="8314920" y="5943960"/>
                  <a:ext cx="276120" cy="1386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75" name="未知"/>
                <p:cNvSpPr/>
                <p:nvPr/>
              </p:nvSpPr>
              <p:spPr>
                <a:xfrm flipH="1">
                  <a:off x="8452800" y="601164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76" name="未知"/>
                <p:cNvSpPr/>
                <p:nvPr/>
              </p:nvSpPr>
              <p:spPr>
                <a:xfrm>
                  <a:off x="8316000" y="6011640"/>
                  <a:ext cx="137880" cy="210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 flipH="1">
                <a:off x="8451000" y="6292800"/>
                <a:ext cx="276120" cy="13788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 flipH="1">
                <a:off x="8586000" y="6360840"/>
                <a:ext cx="137880" cy="210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8451720" y="6360840"/>
                <a:ext cx="137880" cy="210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8451360" y="6153120"/>
                <a:ext cx="276120" cy="277200"/>
                <a:chOff x="8451360" y="6153120"/>
                <a:chExt cx="276120" cy="277200"/>
              </a:xfrm>
            </p:grpSpPr>
            <p:sp>
              <p:nvSpPr>
                <p:cNvPr id="81" name=""/>
                <p:cNvSpPr/>
                <p:nvPr/>
              </p:nvSpPr>
              <p:spPr>
                <a:xfrm flipH="1">
                  <a:off x="8451000" y="615312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82" name="未知"/>
                <p:cNvSpPr/>
                <p:nvPr/>
              </p:nvSpPr>
              <p:spPr>
                <a:xfrm flipH="1">
                  <a:off x="8588880" y="622008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83" name="未知"/>
                <p:cNvSpPr/>
                <p:nvPr/>
              </p:nvSpPr>
              <p:spPr>
                <a:xfrm>
                  <a:off x="8452080" y="622080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8454960" y="6016680"/>
                <a:ext cx="276120" cy="277560"/>
                <a:chOff x="8454960" y="6016680"/>
                <a:chExt cx="276120" cy="277560"/>
              </a:xfrm>
            </p:grpSpPr>
            <p:sp>
              <p:nvSpPr>
                <p:cNvPr id="85" name=""/>
                <p:cNvSpPr/>
                <p:nvPr/>
              </p:nvSpPr>
              <p:spPr>
                <a:xfrm flipH="1">
                  <a:off x="8454600" y="6016680"/>
                  <a:ext cx="276120" cy="138240"/>
                </a:xfrm>
                <a:prstGeom prst="diamond">
                  <a:avLst/>
                </a:pr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 flipH="1">
                  <a:off x="8589960" y="6083280"/>
                  <a:ext cx="137880" cy="209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87" name="未知"/>
                <p:cNvSpPr/>
                <p:nvPr/>
              </p:nvSpPr>
              <p:spPr>
                <a:xfrm>
                  <a:off x="8456040" y="6084360"/>
                  <a:ext cx="137880" cy="209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8594640" y="6366240"/>
                <a:ext cx="276120" cy="277200"/>
                <a:chOff x="8594640" y="6366240"/>
                <a:chExt cx="276120" cy="27720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8594280" y="636624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 flipH="1">
                  <a:off x="8732160" y="643320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1" name="未知"/>
                <p:cNvSpPr/>
                <p:nvPr/>
              </p:nvSpPr>
              <p:spPr>
                <a:xfrm>
                  <a:off x="8595360" y="643392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8593200" y="6227280"/>
                <a:ext cx="276120" cy="277560"/>
                <a:chOff x="8593200" y="6227280"/>
                <a:chExt cx="276120" cy="277560"/>
              </a:xfrm>
            </p:grpSpPr>
            <p:sp>
              <p:nvSpPr>
                <p:cNvPr id="93" name=""/>
                <p:cNvSpPr/>
                <p:nvPr/>
              </p:nvSpPr>
              <p:spPr>
                <a:xfrm flipH="1">
                  <a:off x="8592840" y="6227280"/>
                  <a:ext cx="276120" cy="138240"/>
                </a:xfrm>
                <a:prstGeom prst="diamond">
                  <a:avLst/>
                </a:prstGeom>
                <a:solidFill>
                  <a:srgbClr val="f2ef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4" name="未知"/>
                <p:cNvSpPr/>
                <p:nvPr/>
              </p:nvSpPr>
              <p:spPr>
                <a:xfrm flipH="1">
                  <a:off x="8728920" y="629496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5" name="未知"/>
                <p:cNvSpPr/>
                <p:nvPr/>
              </p:nvSpPr>
              <p:spPr>
                <a:xfrm>
                  <a:off x="8596080" y="6294960"/>
                  <a:ext cx="137880" cy="209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8311680" y="5805000"/>
                <a:ext cx="276120" cy="276480"/>
                <a:chOff x="8311680" y="5805000"/>
                <a:chExt cx="276120" cy="276480"/>
              </a:xfrm>
            </p:grpSpPr>
            <p:sp>
              <p:nvSpPr>
                <p:cNvPr id="97" name=""/>
                <p:cNvSpPr/>
                <p:nvPr/>
              </p:nvSpPr>
              <p:spPr>
                <a:xfrm flipH="1">
                  <a:off x="8311320" y="580500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8" name="未知"/>
                <p:cNvSpPr/>
                <p:nvPr/>
              </p:nvSpPr>
              <p:spPr>
                <a:xfrm flipH="1">
                  <a:off x="8445600" y="587268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9" name="未知"/>
                <p:cNvSpPr/>
                <p:nvPr/>
              </p:nvSpPr>
              <p:spPr>
                <a:xfrm>
                  <a:off x="8312040" y="587268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8454240" y="5874480"/>
                <a:ext cx="276120" cy="277920"/>
                <a:chOff x="8454240" y="5874480"/>
                <a:chExt cx="276120" cy="277920"/>
              </a:xfrm>
            </p:grpSpPr>
            <p:sp>
              <p:nvSpPr>
                <p:cNvPr id="101" name=""/>
                <p:cNvSpPr/>
                <p:nvPr/>
              </p:nvSpPr>
              <p:spPr>
                <a:xfrm flipH="1">
                  <a:off x="8453880" y="5874480"/>
                  <a:ext cx="276120" cy="1386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2" name="未知"/>
                <p:cNvSpPr/>
                <p:nvPr/>
              </p:nvSpPr>
              <p:spPr>
                <a:xfrm flipH="1">
                  <a:off x="8591760" y="594216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3" name="未知"/>
                <p:cNvSpPr/>
                <p:nvPr/>
              </p:nvSpPr>
              <p:spPr>
                <a:xfrm>
                  <a:off x="8454960" y="5942160"/>
                  <a:ext cx="137880" cy="210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8724600" y="5451840"/>
                <a:ext cx="276120" cy="277200"/>
                <a:chOff x="8724600" y="5451840"/>
                <a:chExt cx="276120" cy="277200"/>
              </a:xfrm>
            </p:grpSpPr>
            <p:sp>
              <p:nvSpPr>
                <p:cNvPr id="105" name=""/>
                <p:cNvSpPr/>
                <p:nvPr/>
              </p:nvSpPr>
              <p:spPr>
                <a:xfrm flipH="1">
                  <a:off x="8724240" y="545184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6" name="未知"/>
                <p:cNvSpPr/>
                <p:nvPr/>
              </p:nvSpPr>
              <p:spPr>
                <a:xfrm flipH="1">
                  <a:off x="8862120" y="551880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7" name="未知"/>
                <p:cNvSpPr/>
                <p:nvPr/>
              </p:nvSpPr>
              <p:spPr>
                <a:xfrm>
                  <a:off x="8725320" y="551952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8590320" y="5664240"/>
                <a:ext cx="276120" cy="276480"/>
                <a:chOff x="8590320" y="5664240"/>
                <a:chExt cx="276120" cy="276480"/>
              </a:xfrm>
            </p:grpSpPr>
            <p:sp>
              <p:nvSpPr>
                <p:cNvPr id="109" name=""/>
                <p:cNvSpPr/>
                <p:nvPr/>
              </p:nvSpPr>
              <p:spPr>
                <a:xfrm flipH="1">
                  <a:off x="8589960" y="566424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0" name="未知"/>
                <p:cNvSpPr/>
                <p:nvPr/>
              </p:nvSpPr>
              <p:spPr>
                <a:xfrm flipH="1">
                  <a:off x="8727840" y="573120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1" name="未知"/>
                <p:cNvSpPr/>
                <p:nvPr/>
              </p:nvSpPr>
              <p:spPr>
                <a:xfrm>
                  <a:off x="8591040" y="573192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8590320" y="6085800"/>
                <a:ext cx="276120" cy="276480"/>
                <a:chOff x="8590320" y="6085800"/>
                <a:chExt cx="276120" cy="276480"/>
              </a:xfrm>
            </p:grpSpPr>
            <p:sp>
              <p:nvSpPr>
                <p:cNvPr id="113" name=""/>
                <p:cNvSpPr/>
                <p:nvPr/>
              </p:nvSpPr>
              <p:spPr>
                <a:xfrm flipH="1">
                  <a:off x="8589960" y="6085800"/>
                  <a:ext cx="276120" cy="13788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4" name="未知"/>
                <p:cNvSpPr/>
                <p:nvPr/>
              </p:nvSpPr>
              <p:spPr>
                <a:xfrm flipH="1">
                  <a:off x="8727840" y="615276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5" name="未知"/>
                <p:cNvSpPr/>
                <p:nvPr/>
              </p:nvSpPr>
              <p:spPr>
                <a:xfrm>
                  <a:off x="8591040" y="615348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8715600" y="4871880"/>
                <a:ext cx="276120" cy="277200"/>
                <a:chOff x="8715600" y="4871880"/>
                <a:chExt cx="276120" cy="277200"/>
              </a:xfrm>
            </p:grpSpPr>
            <p:sp>
              <p:nvSpPr>
                <p:cNvPr id="117" name=""/>
                <p:cNvSpPr/>
                <p:nvPr/>
              </p:nvSpPr>
              <p:spPr>
                <a:xfrm flipH="1">
                  <a:off x="8715240" y="4871880"/>
                  <a:ext cx="276120" cy="137880"/>
                </a:xfrm>
                <a:prstGeom prst="diamond">
                  <a:avLst/>
                </a:pr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8" name="未知"/>
                <p:cNvSpPr/>
                <p:nvPr/>
              </p:nvSpPr>
              <p:spPr>
                <a:xfrm flipH="1">
                  <a:off x="8853120" y="493884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9" name="未知"/>
                <p:cNvSpPr/>
                <p:nvPr/>
              </p:nvSpPr>
              <p:spPr>
                <a:xfrm>
                  <a:off x="8716320" y="493956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8727480" y="5868720"/>
                <a:ext cx="276120" cy="277200"/>
                <a:chOff x="8727480" y="5868720"/>
                <a:chExt cx="276120" cy="277200"/>
              </a:xfrm>
            </p:grpSpPr>
            <p:sp>
              <p:nvSpPr>
                <p:cNvPr id="121" name=""/>
                <p:cNvSpPr/>
                <p:nvPr/>
              </p:nvSpPr>
              <p:spPr>
                <a:xfrm flipH="1">
                  <a:off x="8727120" y="5868720"/>
                  <a:ext cx="276120" cy="137880"/>
                </a:xfrm>
                <a:prstGeom prst="diamond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2" name="未知"/>
                <p:cNvSpPr/>
                <p:nvPr/>
              </p:nvSpPr>
              <p:spPr>
                <a:xfrm flipH="1">
                  <a:off x="8863560" y="5936400"/>
                  <a:ext cx="137880" cy="208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3" name="未知"/>
                <p:cNvSpPr/>
                <p:nvPr/>
              </p:nvSpPr>
              <p:spPr>
                <a:xfrm>
                  <a:off x="8730720" y="5936400"/>
                  <a:ext cx="137880" cy="209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83040" y="2036880"/>
            <a:ext cx="4260960" cy="331632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bad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017800"/>
            <a:ext cx="4881600" cy="3316320"/>
          </a:xfrm>
          <a:prstGeom prst="rect">
            <a:avLst/>
          </a:prstGeom>
          <a:gradFill rotWithShape="0">
            <a:gsLst>
              <a:gs pos="0">
                <a:srgbClr val="bad16f"/>
              </a:gs>
              <a:gs pos="100000">
                <a:srgbClr val="507800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1806120" y="1541880"/>
            <a:ext cx="6505920" cy="5561280"/>
            <a:chOff x="-1806120" y="1541880"/>
            <a:chExt cx="6505920" cy="5561280"/>
          </a:xfrm>
        </p:grpSpPr>
        <p:sp>
          <p:nvSpPr>
            <p:cNvPr id="163" name=""/>
            <p:cNvSpPr/>
            <p:nvPr/>
          </p:nvSpPr>
          <p:spPr>
            <a:xfrm flipH="1" rot="5407800">
              <a:off x="-1037880" y="2493360"/>
              <a:ext cx="2074680" cy="360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95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9506"/>
                </a:path>
              </a:pathLst>
            </a:custGeom>
            <a:solidFill>
              <a:srgbClr val="5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756800">
              <a:off x="-289440" y="2337840"/>
              <a:ext cx="4292640" cy="396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95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9506"/>
                </a:path>
              </a:pathLst>
            </a:custGeom>
            <a:solidFill>
              <a:srgbClr val="5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0" y="2033640"/>
            <a:ext cx="4800600" cy="4800600"/>
          </a:xfrm>
          <a:prstGeom prst="ellipse">
            <a:avLst/>
          </a:prstGeom>
          <a:gradFill rotWithShape="0">
            <a:gsLst>
              <a:gs pos="0">
                <a:srgbClr val="bad16f"/>
              </a:gs>
              <a:gs pos="100000">
                <a:srgbClr val="8fad2f"/>
              </a:gs>
            </a:gsLst>
            <a:lin ang="13500000"/>
          </a:gradFill>
          <a:ln w="0">
            <a:noFill/>
          </a:ln>
          <a:effectLst>
            <a:outerShdw dist="92520" dir="20637765" blurRad="0" rotWithShape="0">
              <a:srgbClr val="8fad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02240"/>
            <a:ext cx="9144000" cy="2255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28496" dir="17774481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d4d4d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d4d4d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d4d4d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d4d4d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d4d4d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8A39-3ECB-435A-B213-4C6DCEDFECE8}" type="slidenum">
              <a:rPr b="0" lang="ko-KR" sz="1400" spc="-1" strike="noStrike">
                <a:solidFill>
                  <a:srgbClr val="4d4d4d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57440" y="61866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02560" y="4265640"/>
            <a:ext cx="1096920" cy="1062000"/>
            <a:chOff x="6802560" y="4265640"/>
            <a:chExt cx="1096920" cy="1062000"/>
          </a:xfrm>
        </p:grpSpPr>
        <p:sp>
          <p:nvSpPr>
            <p:cNvPr id="172" name=""/>
            <p:cNvSpPr/>
            <p:nvPr/>
          </p:nvSpPr>
          <p:spPr>
            <a:xfrm>
              <a:off x="6816960" y="4265640"/>
              <a:ext cx="1062000" cy="106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6802560" y="4311720"/>
              <a:ext cx="1096920" cy="9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8050320" y="4268880"/>
            <a:ext cx="1096920" cy="1062000"/>
            <a:chOff x="8050320" y="4268880"/>
            <a:chExt cx="1096920" cy="1062000"/>
          </a:xfrm>
        </p:grpSpPr>
        <p:sp>
          <p:nvSpPr>
            <p:cNvPr id="175" name=""/>
            <p:cNvSpPr/>
            <p:nvPr/>
          </p:nvSpPr>
          <p:spPr>
            <a:xfrm>
              <a:off x="8064720" y="4268880"/>
              <a:ext cx="1062000" cy="106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8050320" y="4314960"/>
              <a:ext cx="1096920" cy="9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5518080" y="4268880"/>
            <a:ext cx="1096920" cy="1062000"/>
            <a:chOff x="5518080" y="4268880"/>
            <a:chExt cx="1096920" cy="1062000"/>
          </a:xfrm>
        </p:grpSpPr>
        <p:sp>
          <p:nvSpPr>
            <p:cNvPr id="178" name=""/>
            <p:cNvSpPr/>
            <p:nvPr/>
          </p:nvSpPr>
          <p:spPr>
            <a:xfrm>
              <a:off x="5532480" y="4268880"/>
              <a:ext cx="1062000" cy="106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5518080" y="4314960"/>
              <a:ext cx="1096920" cy="9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385920" y="2395440"/>
            <a:ext cx="3290760" cy="3305160"/>
            <a:chOff x="385920" y="2395440"/>
            <a:chExt cx="3290760" cy="3305160"/>
          </a:xfrm>
        </p:grpSpPr>
        <p:sp>
          <p:nvSpPr>
            <p:cNvPr id="181" name=""/>
            <p:cNvSpPr/>
            <p:nvPr/>
          </p:nvSpPr>
          <p:spPr>
            <a:xfrm>
              <a:off x="400320" y="2423880"/>
              <a:ext cx="3276360" cy="32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5078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5920" y="2395440"/>
              <a:ext cx="3124080" cy="3124080"/>
            </a:xfrm>
            <a:prstGeom prst="ellipse">
              <a:avLst/>
            </a:prstGeom>
            <a:solidFill>
              <a:srgbClr val="8fa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0" y="1989000"/>
            <a:ext cx="9144000" cy="3952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507800">
                  <a:alpha val="80000"/>
                </a:srgbClr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62080" y="1560600"/>
            <a:ext cx="1495440" cy="3767040"/>
            <a:chOff x="1162080" y="1560600"/>
            <a:chExt cx="1495440" cy="3767040"/>
          </a:xfrm>
        </p:grpSpPr>
        <p:grpSp>
          <p:nvGrpSpPr>
            <p:cNvPr id="185" name=""/>
            <p:cNvGrpSpPr/>
            <p:nvPr/>
          </p:nvGrpSpPr>
          <p:grpSpPr>
            <a:xfrm>
              <a:off x="1185840" y="1568520"/>
              <a:ext cx="1471680" cy="3738240"/>
              <a:chOff x="1185840" y="1568520"/>
              <a:chExt cx="1471680" cy="3738240"/>
            </a:xfrm>
          </p:grpSpPr>
          <p:sp>
            <p:nvSpPr>
              <p:cNvPr id="186" name=""/>
              <p:cNvSpPr/>
              <p:nvPr/>
            </p:nvSpPr>
            <p:spPr>
              <a:xfrm flipH="1">
                <a:off x="1185840" y="4413240"/>
                <a:ext cx="587520" cy="29376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 flipH="1">
                <a:off x="1479600" y="455796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1185840" y="455796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1185840" y="4113360"/>
                <a:ext cx="587520" cy="29520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 flipH="1">
                <a:off x="1479600" y="425772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1187280" y="4259160"/>
                <a:ext cx="293760" cy="4464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193760" y="3819600"/>
                <a:ext cx="587520" cy="592200"/>
                <a:chOff x="1193760" y="3819600"/>
                <a:chExt cx="587520" cy="592200"/>
              </a:xfrm>
            </p:grpSpPr>
            <p:sp>
              <p:nvSpPr>
                <p:cNvPr id="193" name=""/>
                <p:cNvSpPr/>
                <p:nvPr/>
              </p:nvSpPr>
              <p:spPr>
                <a:xfrm flipH="1">
                  <a:off x="1193760" y="3819600"/>
                  <a:ext cx="587520" cy="2952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94" name="未知"/>
                <p:cNvSpPr/>
                <p:nvPr/>
              </p:nvSpPr>
              <p:spPr>
                <a:xfrm flipH="1">
                  <a:off x="1487520" y="396396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95" name="未知"/>
                <p:cNvSpPr/>
                <p:nvPr/>
              </p:nvSpPr>
              <p:spPr>
                <a:xfrm>
                  <a:off x="1195200" y="3963960"/>
                  <a:ext cx="293760" cy="447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 flipH="1">
                <a:off x="1482120" y="4560840"/>
                <a:ext cx="587160" cy="29376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 flipH="1">
                <a:off x="1770120" y="4705560"/>
                <a:ext cx="293760" cy="447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1482840" y="4705560"/>
                <a:ext cx="293400" cy="447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1482480" y="4264200"/>
                <a:ext cx="587160" cy="590400"/>
                <a:chOff x="1482480" y="4264200"/>
                <a:chExt cx="587160" cy="590400"/>
              </a:xfrm>
            </p:grpSpPr>
            <p:sp>
              <p:nvSpPr>
                <p:cNvPr id="200" name=""/>
                <p:cNvSpPr/>
                <p:nvPr/>
              </p:nvSpPr>
              <p:spPr>
                <a:xfrm flipH="1">
                  <a:off x="1482120" y="426420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1" name="未知"/>
                <p:cNvSpPr/>
                <p:nvPr/>
              </p:nvSpPr>
              <p:spPr>
                <a:xfrm flipH="1">
                  <a:off x="1775520" y="44071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2" name="未知"/>
                <p:cNvSpPr/>
                <p:nvPr/>
              </p:nvSpPr>
              <p:spPr>
                <a:xfrm>
                  <a:off x="1483920" y="44085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490760" y="3973680"/>
                <a:ext cx="586800" cy="590040"/>
                <a:chOff x="1490760" y="3973680"/>
                <a:chExt cx="586800" cy="590040"/>
              </a:xfrm>
            </p:grpSpPr>
            <p:sp>
              <p:nvSpPr>
                <p:cNvPr id="204" name=""/>
                <p:cNvSpPr/>
                <p:nvPr/>
              </p:nvSpPr>
              <p:spPr>
                <a:xfrm flipH="1">
                  <a:off x="1490760" y="3973680"/>
                  <a:ext cx="586800" cy="2941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5" name="未知"/>
                <p:cNvSpPr/>
                <p:nvPr/>
              </p:nvSpPr>
              <p:spPr>
                <a:xfrm flipH="1">
                  <a:off x="1777680" y="41158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6" name="未知"/>
                <p:cNvSpPr/>
                <p:nvPr/>
              </p:nvSpPr>
              <p:spPr>
                <a:xfrm>
                  <a:off x="1492200" y="41176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787400" y="4716360"/>
                <a:ext cx="587520" cy="590400"/>
                <a:chOff x="1787400" y="4716360"/>
                <a:chExt cx="587520" cy="590400"/>
              </a:xfrm>
            </p:grpSpPr>
            <p:sp>
              <p:nvSpPr>
                <p:cNvPr id="208" name=""/>
                <p:cNvSpPr/>
                <p:nvPr/>
              </p:nvSpPr>
              <p:spPr>
                <a:xfrm flipH="1">
                  <a:off x="1787400" y="4716360"/>
                  <a:ext cx="58752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9" name="未知"/>
                <p:cNvSpPr/>
                <p:nvPr/>
              </p:nvSpPr>
              <p:spPr>
                <a:xfrm flipH="1">
                  <a:off x="2081160" y="485928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10" name="未知"/>
                <p:cNvSpPr/>
                <p:nvPr/>
              </p:nvSpPr>
              <p:spPr>
                <a:xfrm>
                  <a:off x="1788840" y="486072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783800" y="4421160"/>
                <a:ext cx="587160" cy="590400"/>
                <a:chOff x="1783800" y="4421160"/>
                <a:chExt cx="587160" cy="590400"/>
              </a:xfrm>
            </p:grpSpPr>
            <p:sp>
              <p:nvSpPr>
                <p:cNvPr id="212" name=""/>
                <p:cNvSpPr/>
                <p:nvPr/>
              </p:nvSpPr>
              <p:spPr>
                <a:xfrm flipH="1">
                  <a:off x="1783440" y="4421160"/>
                  <a:ext cx="587160" cy="2941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13" name="未知"/>
                <p:cNvSpPr/>
                <p:nvPr/>
              </p:nvSpPr>
              <p:spPr>
                <a:xfrm flipH="1">
                  <a:off x="2072880" y="45651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14" name="未知"/>
                <p:cNvSpPr/>
                <p:nvPr/>
              </p:nvSpPr>
              <p:spPr>
                <a:xfrm>
                  <a:off x="1789560" y="4565160"/>
                  <a:ext cx="293400" cy="446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1185840" y="3524400"/>
                <a:ext cx="587520" cy="588960"/>
                <a:chOff x="1185840" y="3524400"/>
                <a:chExt cx="587520" cy="588960"/>
              </a:xfrm>
            </p:grpSpPr>
            <p:sp>
              <p:nvSpPr>
                <p:cNvPr id="216" name=""/>
                <p:cNvSpPr/>
                <p:nvPr/>
              </p:nvSpPr>
              <p:spPr>
                <a:xfrm flipH="1">
                  <a:off x="1185840" y="3524400"/>
                  <a:ext cx="58752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17" name="未知"/>
                <p:cNvSpPr/>
                <p:nvPr/>
              </p:nvSpPr>
              <p:spPr>
                <a:xfrm flipH="1">
                  <a:off x="1471680" y="3668760"/>
                  <a:ext cx="29376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18" name="未知"/>
                <p:cNvSpPr/>
                <p:nvPr/>
              </p:nvSpPr>
              <p:spPr>
                <a:xfrm>
                  <a:off x="1185840" y="3668760"/>
                  <a:ext cx="29376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488960" y="3672000"/>
                <a:ext cx="587520" cy="592200"/>
                <a:chOff x="1488960" y="3672000"/>
                <a:chExt cx="587520" cy="592200"/>
              </a:xfrm>
            </p:grpSpPr>
            <p:sp>
              <p:nvSpPr>
                <p:cNvPr id="220" name=""/>
                <p:cNvSpPr/>
                <p:nvPr/>
              </p:nvSpPr>
              <p:spPr>
                <a:xfrm flipH="1">
                  <a:off x="1488960" y="3672000"/>
                  <a:ext cx="587520" cy="2952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1" name="未知"/>
                <p:cNvSpPr/>
                <p:nvPr/>
              </p:nvSpPr>
              <p:spPr>
                <a:xfrm flipH="1">
                  <a:off x="1782720" y="381636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2" name="未知"/>
                <p:cNvSpPr/>
                <p:nvPr/>
              </p:nvSpPr>
              <p:spPr>
                <a:xfrm>
                  <a:off x="1490400" y="3816360"/>
                  <a:ext cx="293760" cy="447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2063520" y="2773440"/>
                <a:ext cx="587160" cy="590400"/>
                <a:chOff x="2063520" y="2773440"/>
                <a:chExt cx="587160" cy="590400"/>
              </a:xfrm>
            </p:grpSpPr>
            <p:sp>
              <p:nvSpPr>
                <p:cNvPr id="224" name=""/>
                <p:cNvSpPr/>
                <p:nvPr/>
              </p:nvSpPr>
              <p:spPr>
                <a:xfrm flipH="1">
                  <a:off x="2063160" y="277344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5" name="未知"/>
                <p:cNvSpPr/>
                <p:nvPr/>
              </p:nvSpPr>
              <p:spPr>
                <a:xfrm flipH="1">
                  <a:off x="2356560" y="29163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6" name="未知"/>
                <p:cNvSpPr/>
                <p:nvPr/>
              </p:nvSpPr>
              <p:spPr>
                <a:xfrm>
                  <a:off x="2064960" y="291780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777680" y="3224160"/>
                <a:ext cx="587160" cy="588960"/>
                <a:chOff x="1777680" y="3224160"/>
                <a:chExt cx="587160" cy="588960"/>
              </a:xfrm>
            </p:grpSpPr>
            <p:sp>
              <p:nvSpPr>
                <p:cNvPr id="228" name=""/>
                <p:cNvSpPr/>
                <p:nvPr/>
              </p:nvSpPr>
              <p:spPr>
                <a:xfrm flipH="1">
                  <a:off x="1777320" y="322416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9" name="未知"/>
                <p:cNvSpPr/>
                <p:nvPr/>
              </p:nvSpPr>
              <p:spPr>
                <a:xfrm flipH="1">
                  <a:off x="2070720" y="33670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0" name="未知"/>
                <p:cNvSpPr/>
                <p:nvPr/>
              </p:nvSpPr>
              <p:spPr>
                <a:xfrm>
                  <a:off x="1779120" y="33685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792080" y="4121280"/>
                <a:ext cx="587160" cy="588960"/>
                <a:chOff x="1792080" y="4121280"/>
                <a:chExt cx="587160" cy="588960"/>
              </a:xfrm>
            </p:grpSpPr>
            <p:sp>
              <p:nvSpPr>
                <p:cNvPr id="232" name=""/>
                <p:cNvSpPr/>
                <p:nvPr/>
              </p:nvSpPr>
              <p:spPr>
                <a:xfrm flipH="1">
                  <a:off x="1791720" y="412128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3" name="未知"/>
                <p:cNvSpPr/>
                <p:nvPr/>
              </p:nvSpPr>
              <p:spPr>
                <a:xfrm flipH="1">
                  <a:off x="2085120" y="42642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4" name="未知"/>
                <p:cNvSpPr/>
                <p:nvPr/>
              </p:nvSpPr>
              <p:spPr>
                <a:xfrm>
                  <a:off x="1793520" y="42656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044440" y="1568520"/>
                <a:ext cx="587160" cy="590400"/>
                <a:chOff x="2044440" y="1568520"/>
                <a:chExt cx="587160" cy="590400"/>
              </a:xfrm>
            </p:grpSpPr>
            <p:sp>
              <p:nvSpPr>
                <p:cNvPr id="236" name=""/>
                <p:cNvSpPr/>
                <p:nvPr/>
              </p:nvSpPr>
              <p:spPr>
                <a:xfrm flipH="1">
                  <a:off x="2044080" y="156852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7" name="未知"/>
                <p:cNvSpPr/>
                <p:nvPr/>
              </p:nvSpPr>
              <p:spPr>
                <a:xfrm flipH="1">
                  <a:off x="2337480" y="17114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8" name="未知"/>
                <p:cNvSpPr/>
                <p:nvPr/>
              </p:nvSpPr>
              <p:spPr>
                <a:xfrm>
                  <a:off x="2045880" y="17128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070000" y="3659400"/>
                <a:ext cx="587520" cy="590400"/>
                <a:chOff x="2070000" y="3659400"/>
                <a:chExt cx="587520" cy="590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070000" y="3659400"/>
                  <a:ext cx="58752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1" name="未知"/>
                <p:cNvSpPr/>
                <p:nvPr/>
              </p:nvSpPr>
              <p:spPr>
                <a:xfrm flipH="1">
                  <a:off x="2360520" y="3803760"/>
                  <a:ext cx="29376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2" name="未知"/>
                <p:cNvSpPr/>
                <p:nvPr/>
              </p:nvSpPr>
              <p:spPr>
                <a:xfrm>
                  <a:off x="2076480" y="38037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1162080" y="1560600"/>
              <a:ext cx="1471680" cy="3767040"/>
              <a:chOff x="1162080" y="1560600"/>
              <a:chExt cx="1471680" cy="376704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162080" y="4434120"/>
                <a:ext cx="587520" cy="29340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 flipH="1">
                <a:off x="1455840" y="457848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1162080" y="457848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1162080" y="4133880"/>
                <a:ext cx="587520" cy="295200"/>
              </a:xfrm>
              <a:prstGeom prst="diamond">
                <a:avLst/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 flipH="1">
                <a:off x="1455840" y="4278240"/>
                <a:ext cx="293760" cy="4464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1163520" y="428004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170000" y="3840120"/>
                <a:ext cx="587520" cy="592200"/>
                <a:chOff x="1170000" y="3840120"/>
                <a:chExt cx="587520" cy="592200"/>
              </a:xfrm>
            </p:grpSpPr>
            <p:sp>
              <p:nvSpPr>
                <p:cNvPr id="251" name=""/>
                <p:cNvSpPr/>
                <p:nvPr/>
              </p:nvSpPr>
              <p:spPr>
                <a:xfrm flipH="1">
                  <a:off x="1170000" y="3840120"/>
                  <a:ext cx="587520" cy="2952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2" name="未知"/>
                <p:cNvSpPr/>
                <p:nvPr/>
              </p:nvSpPr>
              <p:spPr>
                <a:xfrm flipH="1">
                  <a:off x="1463760" y="398448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3" name="未知"/>
                <p:cNvSpPr/>
                <p:nvPr/>
              </p:nvSpPr>
              <p:spPr>
                <a:xfrm>
                  <a:off x="1171440" y="3984480"/>
                  <a:ext cx="293760" cy="447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 flipH="1">
                <a:off x="1458360" y="4581720"/>
                <a:ext cx="587160" cy="29376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 flipH="1">
                <a:off x="1746360" y="4726080"/>
                <a:ext cx="293760" cy="4478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>
                <a:off x="1459080" y="4726080"/>
                <a:ext cx="293400" cy="4478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458720" y="4284720"/>
                <a:ext cx="587160" cy="590400"/>
                <a:chOff x="1458720" y="4284720"/>
                <a:chExt cx="587160" cy="590400"/>
              </a:xfrm>
            </p:grpSpPr>
            <p:sp>
              <p:nvSpPr>
                <p:cNvPr id="258" name=""/>
                <p:cNvSpPr/>
                <p:nvPr/>
              </p:nvSpPr>
              <p:spPr>
                <a:xfrm flipH="1">
                  <a:off x="1458360" y="4284720"/>
                  <a:ext cx="58716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9" name="未知"/>
                <p:cNvSpPr/>
                <p:nvPr/>
              </p:nvSpPr>
              <p:spPr>
                <a:xfrm flipH="1">
                  <a:off x="1751760" y="44276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0" name="未知"/>
                <p:cNvSpPr/>
                <p:nvPr/>
              </p:nvSpPr>
              <p:spPr>
                <a:xfrm>
                  <a:off x="1460160" y="44290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467000" y="3994200"/>
                <a:ext cx="586800" cy="590400"/>
                <a:chOff x="1467000" y="3994200"/>
                <a:chExt cx="586800" cy="590400"/>
              </a:xfrm>
            </p:grpSpPr>
            <p:sp>
              <p:nvSpPr>
                <p:cNvPr id="262" name=""/>
                <p:cNvSpPr/>
                <p:nvPr/>
              </p:nvSpPr>
              <p:spPr>
                <a:xfrm flipH="1">
                  <a:off x="1467000" y="3994200"/>
                  <a:ext cx="586800" cy="294120"/>
                </a:xfrm>
                <a:prstGeom prst="diamond">
                  <a:avLst/>
                </a:pr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3" name="未知"/>
                <p:cNvSpPr/>
                <p:nvPr/>
              </p:nvSpPr>
              <p:spPr>
                <a:xfrm flipH="1">
                  <a:off x="1753920" y="4136400"/>
                  <a:ext cx="293400" cy="446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4" name="未知"/>
                <p:cNvSpPr/>
                <p:nvPr/>
              </p:nvSpPr>
              <p:spPr>
                <a:xfrm>
                  <a:off x="1468440" y="4138200"/>
                  <a:ext cx="293400" cy="446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763640" y="4737240"/>
                <a:ext cx="587520" cy="590400"/>
                <a:chOff x="1763640" y="4737240"/>
                <a:chExt cx="587520" cy="590400"/>
              </a:xfrm>
            </p:grpSpPr>
            <p:sp>
              <p:nvSpPr>
                <p:cNvPr id="266" name=""/>
                <p:cNvSpPr/>
                <p:nvPr/>
              </p:nvSpPr>
              <p:spPr>
                <a:xfrm flipH="1">
                  <a:off x="1763640" y="4737240"/>
                  <a:ext cx="58752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7" name="未知"/>
                <p:cNvSpPr/>
                <p:nvPr/>
              </p:nvSpPr>
              <p:spPr>
                <a:xfrm flipH="1">
                  <a:off x="2057400" y="488016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8" name="未知"/>
                <p:cNvSpPr/>
                <p:nvPr/>
              </p:nvSpPr>
              <p:spPr>
                <a:xfrm>
                  <a:off x="1765080" y="488160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760040" y="4442040"/>
                <a:ext cx="587160" cy="590040"/>
                <a:chOff x="1760040" y="4442040"/>
                <a:chExt cx="587160" cy="590040"/>
              </a:xfrm>
            </p:grpSpPr>
            <p:sp>
              <p:nvSpPr>
                <p:cNvPr id="270" name=""/>
                <p:cNvSpPr/>
                <p:nvPr/>
              </p:nvSpPr>
              <p:spPr>
                <a:xfrm flipH="1">
                  <a:off x="1759680" y="4442040"/>
                  <a:ext cx="587160" cy="294120"/>
                </a:xfrm>
                <a:prstGeom prst="diamond">
                  <a:avLst/>
                </a:prstGeom>
                <a:solidFill>
                  <a:srgbClr val="f2ef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1" name="未知"/>
                <p:cNvSpPr/>
                <p:nvPr/>
              </p:nvSpPr>
              <p:spPr>
                <a:xfrm flipH="1">
                  <a:off x="2049120" y="45860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2" name="未知"/>
                <p:cNvSpPr/>
                <p:nvPr/>
              </p:nvSpPr>
              <p:spPr>
                <a:xfrm>
                  <a:off x="1765800" y="45860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1162080" y="3544920"/>
                <a:ext cx="587520" cy="588960"/>
                <a:chOff x="1162080" y="3544920"/>
                <a:chExt cx="587520" cy="588960"/>
              </a:xfrm>
            </p:grpSpPr>
            <p:sp>
              <p:nvSpPr>
                <p:cNvPr id="274" name=""/>
                <p:cNvSpPr/>
                <p:nvPr/>
              </p:nvSpPr>
              <p:spPr>
                <a:xfrm flipH="1">
                  <a:off x="1162080" y="3544920"/>
                  <a:ext cx="58752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5" name="未知"/>
                <p:cNvSpPr/>
                <p:nvPr/>
              </p:nvSpPr>
              <p:spPr>
                <a:xfrm flipH="1">
                  <a:off x="1447920" y="3689280"/>
                  <a:ext cx="29376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6" name="未知"/>
                <p:cNvSpPr/>
                <p:nvPr/>
              </p:nvSpPr>
              <p:spPr>
                <a:xfrm>
                  <a:off x="1162080" y="3689280"/>
                  <a:ext cx="29376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1465200" y="3692520"/>
                <a:ext cx="587520" cy="592200"/>
                <a:chOff x="1465200" y="3692520"/>
                <a:chExt cx="587520" cy="592200"/>
              </a:xfrm>
            </p:grpSpPr>
            <p:sp>
              <p:nvSpPr>
                <p:cNvPr id="278" name=""/>
                <p:cNvSpPr/>
                <p:nvPr/>
              </p:nvSpPr>
              <p:spPr>
                <a:xfrm flipH="1">
                  <a:off x="1465200" y="3692520"/>
                  <a:ext cx="587520" cy="2952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9" name="未知"/>
                <p:cNvSpPr/>
                <p:nvPr/>
              </p:nvSpPr>
              <p:spPr>
                <a:xfrm flipH="1">
                  <a:off x="1758960" y="3836880"/>
                  <a:ext cx="29376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0" name="未知"/>
                <p:cNvSpPr/>
                <p:nvPr/>
              </p:nvSpPr>
              <p:spPr>
                <a:xfrm>
                  <a:off x="1466640" y="3836880"/>
                  <a:ext cx="293760" cy="447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039760" y="2793960"/>
                <a:ext cx="587160" cy="590400"/>
                <a:chOff x="2039760" y="2793960"/>
                <a:chExt cx="587160" cy="590400"/>
              </a:xfrm>
            </p:grpSpPr>
            <p:sp>
              <p:nvSpPr>
                <p:cNvPr id="282" name=""/>
                <p:cNvSpPr/>
                <p:nvPr/>
              </p:nvSpPr>
              <p:spPr>
                <a:xfrm flipH="1">
                  <a:off x="2039400" y="2793960"/>
                  <a:ext cx="58716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3" name="未知"/>
                <p:cNvSpPr/>
                <p:nvPr/>
              </p:nvSpPr>
              <p:spPr>
                <a:xfrm flipH="1">
                  <a:off x="2332800" y="29368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4" name="未知"/>
                <p:cNvSpPr/>
                <p:nvPr/>
              </p:nvSpPr>
              <p:spPr>
                <a:xfrm>
                  <a:off x="2041200" y="29383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753920" y="3245040"/>
                <a:ext cx="587160" cy="588960"/>
                <a:chOff x="1753920" y="3245040"/>
                <a:chExt cx="587160" cy="588960"/>
              </a:xfrm>
            </p:grpSpPr>
            <p:sp>
              <p:nvSpPr>
                <p:cNvPr id="286" name=""/>
                <p:cNvSpPr/>
                <p:nvPr/>
              </p:nvSpPr>
              <p:spPr>
                <a:xfrm flipH="1">
                  <a:off x="1753560" y="3245040"/>
                  <a:ext cx="58716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7" name="未知"/>
                <p:cNvSpPr/>
                <p:nvPr/>
              </p:nvSpPr>
              <p:spPr>
                <a:xfrm flipH="1">
                  <a:off x="2046960" y="33879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8" name="未知"/>
                <p:cNvSpPr/>
                <p:nvPr/>
              </p:nvSpPr>
              <p:spPr>
                <a:xfrm>
                  <a:off x="1755360" y="33894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753920" y="4141800"/>
                <a:ext cx="587160" cy="588960"/>
                <a:chOff x="1753920" y="4141800"/>
                <a:chExt cx="587160" cy="588960"/>
              </a:xfrm>
            </p:grpSpPr>
            <p:sp>
              <p:nvSpPr>
                <p:cNvPr id="290" name=""/>
                <p:cNvSpPr/>
                <p:nvPr/>
              </p:nvSpPr>
              <p:spPr>
                <a:xfrm flipH="1">
                  <a:off x="1753560" y="4141800"/>
                  <a:ext cx="587160" cy="29376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1" name="未知"/>
                <p:cNvSpPr/>
                <p:nvPr/>
              </p:nvSpPr>
              <p:spPr>
                <a:xfrm flipH="1">
                  <a:off x="2046960" y="42847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2" name="未知"/>
                <p:cNvSpPr/>
                <p:nvPr/>
              </p:nvSpPr>
              <p:spPr>
                <a:xfrm>
                  <a:off x="1755360" y="42861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020680" y="1560600"/>
                <a:ext cx="587160" cy="590400"/>
                <a:chOff x="2020680" y="1560600"/>
                <a:chExt cx="587160" cy="590400"/>
              </a:xfrm>
            </p:grpSpPr>
            <p:sp>
              <p:nvSpPr>
                <p:cNvPr id="294" name=""/>
                <p:cNvSpPr/>
                <p:nvPr/>
              </p:nvSpPr>
              <p:spPr>
                <a:xfrm flipH="1">
                  <a:off x="2020320" y="1560600"/>
                  <a:ext cx="587160" cy="293760"/>
                </a:xfrm>
                <a:prstGeom prst="diamond">
                  <a:avLst/>
                </a:pr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5" name="未知"/>
                <p:cNvSpPr/>
                <p:nvPr/>
              </p:nvSpPr>
              <p:spPr>
                <a:xfrm flipH="1">
                  <a:off x="2313720" y="17035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6" name="未知"/>
                <p:cNvSpPr/>
                <p:nvPr/>
              </p:nvSpPr>
              <p:spPr>
                <a:xfrm>
                  <a:off x="2022120" y="17049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046240" y="3679920"/>
                <a:ext cx="587520" cy="590400"/>
                <a:chOff x="2046240" y="3679920"/>
                <a:chExt cx="587520" cy="590400"/>
              </a:xfrm>
            </p:grpSpPr>
            <p:sp>
              <p:nvSpPr>
                <p:cNvPr id="298" name=""/>
                <p:cNvSpPr/>
                <p:nvPr/>
              </p:nvSpPr>
              <p:spPr>
                <a:xfrm flipH="1">
                  <a:off x="2046240" y="3679920"/>
                  <a:ext cx="587520" cy="293760"/>
                </a:xfrm>
                <a:prstGeom prst="diamond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 flipH="1">
                  <a:off x="2336760" y="3824280"/>
                  <a:ext cx="29376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00" name="未知"/>
                <p:cNvSpPr/>
                <p:nvPr/>
              </p:nvSpPr>
              <p:spPr>
                <a:xfrm>
                  <a:off x="2052720" y="38242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1" name=""/>
          <p:cNvSpPr/>
          <p:nvPr/>
        </p:nvSpPr>
        <p:spPr>
          <a:xfrm flipV="1" rot="8419200">
            <a:off x="6585840" y="4744440"/>
            <a:ext cx="142920" cy="173160"/>
          </a:xfrm>
          <a:prstGeom prst="rtTriangle">
            <a:avLst/>
          </a:prstGeom>
          <a:solidFill>
            <a:srgbClr val="8fa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 rot="8419200">
            <a:off x="7867440" y="4768560"/>
            <a:ext cx="142560" cy="172800"/>
          </a:xfrm>
          <a:prstGeom prst="rtTriangle">
            <a:avLst/>
          </a:prstGeom>
          <a:solidFill>
            <a:srgbClr val="8fa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78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hyperlink" Target="http://www.eeppt.com/moban/jianjie/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514840" y="3530520"/>
            <a:ext cx="3621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48080" y="3133800"/>
            <a:ext cx="566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subtitle sty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57320" y="488880"/>
            <a:ext cx="7189920" cy="13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4d4d"/>
                </a:solidFill>
                <a:latin typeface="Verdana"/>
                <a:ea typeface="Gulim"/>
              </a:rPr>
              <a:t>浅绿色清新风格</a:t>
            </a:r>
            <a:r>
              <a:rPr b="1" lang="zh-CN" sz="4800" spc="-1" strike="noStrike">
                <a:solidFill>
                  <a:srgbClr val="4d4d4d"/>
                </a:solidFill>
                <a:latin typeface="Verdana"/>
                <a:ea typeface="宋体"/>
              </a:rPr>
              <a:t>PPT</a:t>
            </a:r>
            <a:r>
              <a:rPr b="1" lang="en-US" sz="4800" spc="-1" strike="noStrike">
                <a:solidFill>
                  <a:srgbClr val="4d4d4d"/>
                </a:solidFill>
                <a:latin typeface="Verdana"/>
                <a:ea typeface="Gulim"/>
              </a:rPr>
              <a:t>模板</a:t>
            </a:r>
            <a:r>
              <a:rPr b="1" lang="en-US" sz="4400" spc="-1" strike="noStrike">
                <a:solidFill>
                  <a:srgbClr val="507800"/>
                </a:solidFill>
                <a:latin typeface="Verdana"/>
                <a:ea typeface="Gulim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5616720" y="4503600"/>
            <a:ext cx="922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 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97600" y="4498920"/>
            <a:ext cx="922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 B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136000" y="4494240"/>
            <a:ext cx="922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 C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12080" y="6504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911160" y="4711680"/>
            <a:ext cx="1828800" cy="1346400"/>
          </a:xfrm>
          <a:prstGeom prst="rect">
            <a:avLst/>
          </a:prstGeom>
          <a:solidFill>
            <a:srgbClr val="50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739960" y="4711680"/>
            <a:ext cx="4089600" cy="134640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23760" y="4457880"/>
            <a:ext cx="2463840" cy="253800"/>
          </a:xfrm>
          <a:prstGeom prst="parallelogram">
            <a:avLst>
              <a:gd name="adj" fmla="val 261257"/>
            </a:avLst>
          </a:prstGeom>
          <a:solidFill>
            <a:srgbClr val="8fa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714760" y="4457880"/>
            <a:ext cx="4673520" cy="253800"/>
          </a:xfrm>
          <a:prstGeom prst="parallelogram">
            <a:avLst>
              <a:gd name="adj" fmla="val 210825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84320" y="5086440"/>
            <a:ext cx="1438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HY헤드라인M"/>
              </a:rPr>
              <a:t>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63720" y="4711680"/>
            <a:ext cx="39816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596960" y="3581280"/>
            <a:ext cx="1638360" cy="876600"/>
          </a:xfrm>
          <a:prstGeom prst="rect">
            <a:avLst/>
          </a:prstGeom>
          <a:solidFill>
            <a:srgbClr val="8fa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35320" y="3581280"/>
            <a:ext cx="4127400" cy="87660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09560" y="3327480"/>
            <a:ext cx="2210040" cy="253800"/>
          </a:xfrm>
          <a:prstGeom prst="parallelogram">
            <a:avLst>
              <a:gd name="adj" fmla="val 234345"/>
            </a:avLst>
          </a:pr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22720" y="3327480"/>
            <a:ext cx="4635360" cy="253800"/>
          </a:xfrm>
          <a:prstGeom prst="parallelogram">
            <a:avLst>
              <a:gd name="adj" fmla="val 193208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06800" y="2666880"/>
            <a:ext cx="1473120" cy="660600"/>
          </a:xfrm>
          <a:prstGeom prst="rect">
            <a:avLst/>
          </a:pr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9920" y="2666880"/>
            <a:ext cx="4152960" cy="66060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19400" y="2413080"/>
            <a:ext cx="1981080" cy="253800"/>
          </a:xfrm>
          <a:prstGeom prst="parallelogram">
            <a:avLst>
              <a:gd name="adj" fmla="val 210066"/>
            </a:avLst>
          </a:pr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54360" y="2400480"/>
            <a:ext cx="4635720" cy="266400"/>
          </a:xfrm>
          <a:prstGeom prst="parallelogram">
            <a:avLst>
              <a:gd name="adj" fmla="val 18408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752560" y="1638360"/>
            <a:ext cx="1359000" cy="774720"/>
          </a:xfrm>
          <a:prstGeom prst="rect">
            <a:avLst/>
          </a:pr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11560" y="1638360"/>
            <a:ext cx="4127400" cy="77472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52560" y="1409760"/>
            <a:ext cx="1841760" cy="228600"/>
          </a:xfrm>
          <a:prstGeom prst="parallelogram">
            <a:avLst>
              <a:gd name="adj" fmla="val 216822"/>
            </a:avLst>
          </a:prstGeom>
          <a:gradFill rotWithShape="0">
            <a:gsLst>
              <a:gs pos="0">
                <a:srgbClr val="ffffff"/>
              </a:gs>
              <a:gs pos="100000">
                <a:srgbClr val="f2ef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73400" y="1409760"/>
            <a:ext cx="4622760" cy="228600"/>
          </a:xfrm>
          <a:prstGeom prst="parallelogram">
            <a:avLst>
              <a:gd name="adj" fmla="val 213923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5480" y="6045120"/>
            <a:ext cx="7486920" cy="0"/>
          </a:xfrm>
          <a:prstGeom prst="line">
            <a:avLst/>
          </a:prstGeom>
          <a:ln w="2844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90520" y="4444920"/>
            <a:ext cx="7340760" cy="0"/>
          </a:xfrm>
          <a:prstGeom prst="line">
            <a:avLst/>
          </a:prstGeom>
          <a:ln w="28440">
            <a:solidFill>
              <a:srgbClr val="bad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800360" y="3340080"/>
            <a:ext cx="6743520" cy="0"/>
          </a:xfrm>
          <a:prstGeom prst="line">
            <a:avLst/>
          </a:prstGeom>
          <a:ln w="28440">
            <a:solidFill>
              <a:srgbClr val="bad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22440" y="2400480"/>
            <a:ext cx="6108840" cy="0"/>
          </a:xfrm>
          <a:prstGeom prst="line">
            <a:avLst/>
          </a:prstGeom>
          <a:ln w="28440">
            <a:solidFill>
              <a:srgbClr val="bad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16489800">
            <a:off x="1609560" y="1576440"/>
            <a:ext cx="1427040" cy="1239840"/>
          </a:xfrm>
          <a:custGeom>
            <a:avLst/>
            <a:gdLst>
              <a:gd name="textAreaLeft" fmla="*/ 0 w 1427040"/>
              <a:gd name="textAreaRight" fmla="*/ 1427400 w 14270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21600" h="21600">
                <a:moveTo>
                  <a:pt x="5287" y="11672"/>
                </a:moveTo>
                <a:arcTo wR="-5582" hR="-5582" stAng="10260809" swAng="-8266513"/>
                <a:lnTo>
                  <a:pt x="1767" y="4880"/>
                </a:lnTo>
                <a:arcTo wR="10800" hR="10800" stAng="-8805704" swAng="8266513"/>
                <a:lnTo>
                  <a:pt x="24134" y="8691"/>
                </a:lnTo>
                <a:lnTo>
                  <a:pt x="19720" y="14764"/>
                </a:lnTo>
                <a:lnTo>
                  <a:pt x="13647" y="10350"/>
                </a:lnTo>
                <a:close/>
              </a:path>
            </a:pathLst>
          </a:custGeom>
          <a:gradFill rotWithShape="0">
            <a:gsLst>
              <a:gs pos="0">
                <a:srgbClr val="bad16f"/>
              </a:gs>
              <a:gs pos="100000">
                <a:srgbClr val="ffffff">
                  <a:alpha val="50196"/>
                </a:srgbClr>
              </a:gs>
            </a:gsLst>
            <a:lin ang="159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6489800">
            <a:off x="1063440" y="2541600"/>
            <a:ext cx="1427040" cy="1239840"/>
          </a:xfrm>
          <a:custGeom>
            <a:avLst/>
            <a:gdLst>
              <a:gd name="textAreaLeft" fmla="*/ 0 w 1427040"/>
              <a:gd name="textAreaRight" fmla="*/ 1427400 w 14270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21600" h="21600">
                <a:moveTo>
                  <a:pt x="5287" y="11672"/>
                </a:moveTo>
                <a:arcTo wR="-5582" hR="-5582" stAng="10260809" swAng="-8266513"/>
                <a:lnTo>
                  <a:pt x="1767" y="4880"/>
                </a:lnTo>
                <a:arcTo wR="10800" hR="10800" stAng="-8805704" swAng="8266513"/>
                <a:lnTo>
                  <a:pt x="24134" y="8691"/>
                </a:lnTo>
                <a:lnTo>
                  <a:pt x="19720" y="14764"/>
                </a:lnTo>
                <a:lnTo>
                  <a:pt x="13647" y="10350"/>
                </a:lnTo>
                <a:close/>
              </a:path>
            </a:pathLst>
          </a:custGeom>
          <a:gradFill rotWithShape="0">
            <a:gsLst>
              <a:gs pos="0">
                <a:srgbClr val="bad16f"/>
              </a:gs>
              <a:gs pos="100000">
                <a:srgbClr val="ffffff">
                  <a:alpha val="50196"/>
                </a:srgbClr>
              </a:gs>
            </a:gsLst>
            <a:lin ang="159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489800">
            <a:off x="517320" y="3506760"/>
            <a:ext cx="1427040" cy="1239840"/>
          </a:xfrm>
          <a:custGeom>
            <a:avLst/>
            <a:gdLst>
              <a:gd name="textAreaLeft" fmla="*/ 0 w 1427040"/>
              <a:gd name="textAreaRight" fmla="*/ 1427400 w 14270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21600" h="21600">
                <a:moveTo>
                  <a:pt x="5287" y="11672"/>
                </a:moveTo>
                <a:arcTo wR="-5582" hR="-5582" stAng="10260809" swAng="-8266513"/>
                <a:lnTo>
                  <a:pt x="1767" y="4880"/>
                </a:lnTo>
                <a:arcTo wR="10800" hR="10800" stAng="-8805704" swAng="8266513"/>
                <a:lnTo>
                  <a:pt x="24134" y="8691"/>
                </a:lnTo>
                <a:lnTo>
                  <a:pt x="19720" y="14764"/>
                </a:lnTo>
                <a:lnTo>
                  <a:pt x="13647" y="10350"/>
                </a:lnTo>
                <a:close/>
              </a:path>
            </a:pathLst>
          </a:custGeom>
          <a:gradFill rotWithShape="0">
            <a:gsLst>
              <a:gs pos="0">
                <a:srgbClr val="bad16f"/>
              </a:gs>
              <a:gs pos="100000">
                <a:srgbClr val="ffffff">
                  <a:alpha val="50196"/>
                </a:srgbClr>
              </a:gs>
            </a:gsLst>
            <a:lin ang="159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1681200" y="3705120"/>
            <a:ext cx="1438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HY헤드라인M"/>
              </a:rPr>
              <a:t>B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32000" y="2692440"/>
            <a:ext cx="1349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782800" y="1679400"/>
            <a:ext cx="1262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ad2f"/>
                </a:solidFill>
                <a:latin typeface="Verdana"/>
                <a:ea typeface="HY헤드라인M"/>
              </a:rPr>
              <a:t>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84640" y="3627360"/>
            <a:ext cx="3981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9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87840" y="2639880"/>
            <a:ext cx="398124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91040" y="1652760"/>
            <a:ext cx="39812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8fad2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078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45C8-8A58-4B08-94EC-DCAD61DF12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Gulim"/>
              </a:rPr>
              <a:t>Strengths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Your strengths relative to competitors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Your weaknesses relative to competito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982880" y="3252960"/>
            <a:ext cx="6262560" cy="668160"/>
          </a:xfrm>
          <a:prstGeom prst="bevel">
            <a:avLst>
              <a:gd name="adj" fmla="val 5227"/>
            </a:avLst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6560" y="3252960"/>
            <a:ext cx="1231920" cy="663480"/>
          </a:xfrm>
          <a:prstGeom prst="bevel">
            <a:avLst>
              <a:gd name="adj" fmla="val 5736"/>
            </a:avLst>
          </a:prstGeom>
          <a:gradFill rotWithShape="0">
            <a:gsLst>
              <a:gs pos="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8360" y="3940200"/>
            <a:ext cx="1231560" cy="663480"/>
          </a:xfrm>
          <a:prstGeom prst="bevel">
            <a:avLst>
              <a:gd name="adj" fmla="val 5736"/>
            </a:avLst>
          </a:prstGeom>
          <a:gradFill rotWithShape="0">
            <a:gsLst>
              <a:gs pos="0">
                <a:srgbClr val="bad16f"/>
              </a:gs>
              <a:gs pos="100000">
                <a:srgbClr val="556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B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39800" y="4627440"/>
            <a:ext cx="1231920" cy="663840"/>
          </a:xfrm>
          <a:prstGeom prst="bevel">
            <a:avLst>
              <a:gd name="adj" fmla="val 5736"/>
            </a:avLst>
          </a:prstGeom>
          <a:gradFill rotWithShape="0">
            <a:gsLst>
              <a:gs pos="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1240" y="5315040"/>
            <a:ext cx="1231920" cy="663480"/>
          </a:xfrm>
          <a:prstGeom prst="bevel">
            <a:avLst>
              <a:gd name="adj" fmla="val 5736"/>
            </a:avLst>
          </a:prstGeom>
          <a:gradFill rotWithShape="0">
            <a:gsLst>
              <a:gs pos="0">
                <a:srgbClr val="bad16f"/>
              </a:gs>
              <a:gs pos="100000">
                <a:srgbClr val="556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D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3560" y="1393920"/>
            <a:ext cx="7459560" cy="1639800"/>
          </a:xfrm>
          <a:prstGeom prst="roundRect">
            <a:avLst>
              <a:gd name="adj" fmla="val 8713"/>
            </a:avLst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5160" y="1244520"/>
            <a:ext cx="2184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fad2f"/>
              </a:gs>
              <a:gs pos="100000">
                <a:srgbClr val="414f1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8496" dir="14625520" blurRad="0" rotWithShape="0">
              <a:srgbClr val="507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HY헤드라인M"/>
              </a:rPr>
              <a:t>Sub Tit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1982880" y="3929040"/>
            <a:ext cx="6262560" cy="668520"/>
          </a:xfrm>
          <a:prstGeom prst="bevel">
            <a:avLst>
              <a:gd name="adj" fmla="val 5227"/>
            </a:avLst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87560" y="4629240"/>
            <a:ext cx="6262560" cy="668160"/>
          </a:xfrm>
          <a:prstGeom prst="bevel">
            <a:avLst>
              <a:gd name="adj" fmla="val 5227"/>
            </a:avLst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87560" y="5305320"/>
            <a:ext cx="6262560" cy="668520"/>
          </a:xfrm>
          <a:prstGeom prst="bevel">
            <a:avLst>
              <a:gd name="adj" fmla="val 5227"/>
            </a:avLst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 flipH="1">
            <a:off x="7402320" y="4635360"/>
            <a:ext cx="166680" cy="35892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89160" y="4637160"/>
            <a:ext cx="166680" cy="35856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590560" y="4638600"/>
            <a:ext cx="166680" cy="35892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034640" y="4640400"/>
            <a:ext cx="166680" cy="35856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249800" y="1958760"/>
            <a:ext cx="1414440" cy="297180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46520" y="1547640"/>
            <a:ext cx="1832040" cy="533520"/>
          </a:xfrm>
          <a:prstGeom prst="rect">
            <a:avLst/>
          </a:prstGeom>
          <a:gradFill rotWithShape="0">
            <a:gsLst>
              <a:gs pos="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46720" y="2355840"/>
            <a:ext cx="1535040" cy="3999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414f1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71480" y="4900680"/>
            <a:ext cx="598680" cy="9874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646a52"/>
              </a:gs>
            </a:gsLst>
            <a:lin ang="5400000"/>
          </a:gradFill>
          <a:ln w="0">
            <a:noFill/>
          </a:ln>
          <a:effectLst>
            <a:outerShdw dist="40186" dir="97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60640" y="3683160"/>
            <a:ext cx="13575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40040" y="2979720"/>
            <a:ext cx="1371600" cy="40320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6f6e2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19800" y="2979720"/>
            <a:ext cx="1371600" cy="40320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6f6e2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30280" y="4900680"/>
            <a:ext cx="597240" cy="9874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646a52"/>
              </a:gs>
            </a:gsLst>
            <a:lin ang="5400000"/>
          </a:gradFill>
          <a:ln w="0">
            <a:noFill/>
          </a:ln>
          <a:effectLst>
            <a:outerShdw dist="40186" dir="97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B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68640" y="4900680"/>
            <a:ext cx="600120" cy="9874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646a52"/>
              </a:gs>
            </a:gsLst>
            <a:lin ang="5400000"/>
          </a:gradFill>
          <a:ln w="0">
            <a:noFill/>
          </a:ln>
          <a:effectLst>
            <a:outerShdw dist="40186" dir="97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24560" y="4900680"/>
            <a:ext cx="598320" cy="9874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646a52"/>
              </a:gs>
            </a:gsLst>
            <a:lin ang="5400000"/>
          </a:gradFill>
          <a:ln w="0">
            <a:noFill/>
          </a:ln>
          <a:effectLst>
            <a:outerShdw dist="40186" dir="97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11640" y="3192480"/>
            <a:ext cx="2993760" cy="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08160" y="4640400"/>
            <a:ext cx="6361200" cy="0"/>
          </a:xfrm>
          <a:prstGeom prst="line">
            <a:avLst/>
          </a:prstGeom>
          <a:ln w="93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Organization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7153200" y="4900680"/>
            <a:ext cx="598680" cy="9874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646a52"/>
              </a:gs>
            </a:gsLst>
            <a:lin ang="5400000"/>
          </a:gradFill>
          <a:ln w="0">
            <a:noFill/>
          </a:ln>
          <a:effectLst>
            <a:outerShdw dist="40186" dir="97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87520" y="1906560"/>
            <a:ext cx="1587240" cy="37623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93920" y="1914480"/>
            <a:ext cx="1587600" cy="376236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98880" y="1920960"/>
            <a:ext cx="1587600" cy="376236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703840" y="1927080"/>
            <a:ext cx="1587600" cy="376236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77120" y="2066760"/>
            <a:ext cx="1157400" cy="3610080"/>
          </a:xfrm>
          <a:custGeom>
            <a:avLst/>
            <a:gdLst>
              <a:gd name="textAreaLeft" fmla="*/ 0 w 1157400"/>
              <a:gd name="textAreaRight" fmla="*/ 1157400 w 1157400"/>
              <a:gd name="textAreaTop" fmla="*/ 0 h 3610080"/>
              <a:gd name="textAreaBottom" fmla="*/ 3610440 h 361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877" y="0"/>
                </a:lnTo>
                <a:lnTo>
                  <a:pt x="21600" y="10800"/>
                </a:lnTo>
                <a:lnTo>
                  <a:pt x="68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HY헤드라인M"/>
              </a:rPr>
              <a:t>Sub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HY헤드라인M"/>
              </a:rPr>
              <a:t>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721480" y="1522440"/>
            <a:ext cx="2104920" cy="1093680"/>
          </a:xfrm>
          <a:prstGeom prst="rightArrow">
            <a:avLst>
              <a:gd name="adj1" fmla="val 65917"/>
              <a:gd name="adj2" fmla="val 49684"/>
            </a:avLst>
          </a:prstGeom>
          <a:gradFill rotWithShape="0">
            <a:gsLst>
              <a:gs pos="0">
                <a:srgbClr val="6f6e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77920" y="3402000"/>
            <a:ext cx="292320" cy="29196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100000">
                <a:srgbClr val="414f15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2163960" y="348840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792600" y="3414600"/>
            <a:ext cx="291960" cy="292320"/>
          </a:xfrm>
          <a:prstGeom prst="ellipse">
            <a:avLst/>
          </a:prstGeom>
          <a:gradFill rotWithShape="0">
            <a:gsLst>
              <a:gs pos="0">
                <a:srgbClr val="f2ef62"/>
              </a:gs>
              <a:gs pos="100000">
                <a:srgbClr val="6f6e2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3879000" y="3501000"/>
            <a:ext cx="169920" cy="11448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02240" y="3414600"/>
            <a:ext cx="291960" cy="29232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100000">
                <a:srgbClr val="414f15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5400000">
            <a:off x="5588280" y="350100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93" name=""/>
          <p:cNvSpPr/>
          <p:nvPr/>
        </p:nvSpPr>
        <p:spPr>
          <a:xfrm>
            <a:off x="4035600" y="1522440"/>
            <a:ext cx="2103120" cy="1093680"/>
          </a:xfrm>
          <a:prstGeom prst="rightArrow">
            <a:avLst>
              <a:gd name="adj1" fmla="val 65917"/>
              <a:gd name="adj2" fmla="val 49641"/>
            </a:avLst>
          </a:prstGeom>
          <a:gradFill rotWithShape="0">
            <a:gsLst>
              <a:gs pos="0">
                <a:srgbClr val="414f15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316240" y="1522440"/>
            <a:ext cx="2128680" cy="1093680"/>
          </a:xfrm>
          <a:prstGeom prst="rightArrow">
            <a:avLst>
              <a:gd name="adj1" fmla="val 65917"/>
              <a:gd name="adj2" fmla="val 50244"/>
            </a:avLst>
          </a:prstGeom>
          <a:gradFill rotWithShape="0">
            <a:gsLst>
              <a:gs pos="0">
                <a:srgbClr val="6f6e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B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63400" y="1522440"/>
            <a:ext cx="2165400" cy="1093680"/>
          </a:xfrm>
          <a:prstGeom prst="rightArrow">
            <a:avLst>
              <a:gd name="adj1" fmla="val 65917"/>
              <a:gd name="adj2" fmla="val 51111"/>
            </a:avLst>
          </a:prstGeom>
          <a:gradFill rotWithShape="0">
            <a:gsLst>
              <a:gs pos="0">
                <a:srgbClr val="414f15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47560" y="5748480"/>
            <a:ext cx="775332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41320" y="3673440"/>
            <a:ext cx="3587760" cy="1890720"/>
          </a:xfrm>
          <a:prstGeom prst="cube">
            <a:avLst>
              <a:gd name="adj" fmla="val 4263"/>
            </a:avLst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24400" y="3678120"/>
            <a:ext cx="3587760" cy="1890720"/>
          </a:xfrm>
          <a:prstGeom prst="cube">
            <a:avLst>
              <a:gd name="adj" fmla="val 4263"/>
            </a:avLst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3400" y="1820880"/>
            <a:ext cx="3587760" cy="1860480"/>
          </a:xfrm>
          <a:prstGeom prst="cube">
            <a:avLst>
              <a:gd name="adj" fmla="val 4263"/>
            </a:avLst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16480" y="1825560"/>
            <a:ext cx="3587760" cy="1860480"/>
          </a:xfrm>
          <a:prstGeom prst="cube">
            <a:avLst>
              <a:gd name="adj" fmla="val 4263"/>
            </a:avLst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      </a:t>
            </a: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3400" y="1327320"/>
            <a:ext cx="3584520" cy="502920"/>
          </a:xfrm>
          <a:prstGeom prst="cube">
            <a:avLst>
              <a:gd name="adj" fmla="val 12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헤드라인M"/>
              </a:rPr>
              <a:t>Sub Tit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03880" y="1332000"/>
            <a:ext cx="3584520" cy="503280"/>
          </a:xfrm>
          <a:prstGeom prst="cube">
            <a:avLst>
              <a:gd name="adj" fmla="val 123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헤드라인M"/>
              </a:rPr>
              <a:t>Sub Tit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429080" y="3581280"/>
            <a:ext cx="162000" cy="163800"/>
            <a:chOff x="4429080" y="3581280"/>
            <a:chExt cx="162000" cy="163800"/>
          </a:xfrm>
        </p:grpSpPr>
        <p:sp>
          <p:nvSpPr>
            <p:cNvPr id="404" name=""/>
            <p:cNvSpPr/>
            <p:nvPr/>
          </p:nvSpPr>
          <p:spPr>
            <a:xfrm>
              <a:off x="4460040" y="3618000"/>
              <a:ext cx="114840" cy="1159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3"/>
            <a:stretch/>
          </p:blipFill>
          <p:spPr>
            <a:xfrm>
              <a:off x="4429080" y="3581280"/>
              <a:ext cx="162000" cy="1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"/>
          <p:cNvSpPr/>
          <p:nvPr/>
        </p:nvSpPr>
        <p:spPr>
          <a:xfrm>
            <a:off x="3586320" y="2949480"/>
            <a:ext cx="1492200" cy="14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Our Mission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3549600" y="2989440"/>
            <a:ext cx="1569960" cy="14331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811680" y="3489480"/>
            <a:ext cx="1027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28680" y="6440400"/>
            <a:ext cx="5754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ad16f"/>
                </a:solidFill>
                <a:uFillTx/>
                <a:latin typeface="Arial"/>
                <a:hlinkClick r:id="rId5"/>
              </a:rPr>
              <a:t>简洁ppt模板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90480" y="1892160"/>
            <a:ext cx="74613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857680"/>
            <a:ext cx="7461360" cy="49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4871880"/>
            <a:ext cx="74613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30320" y="5370480"/>
            <a:ext cx="6211800" cy="495360"/>
          </a:xfrm>
          <a:prstGeom prst="rect">
            <a:avLst/>
          </a:pr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30320" y="2354400"/>
            <a:ext cx="6211800" cy="495000"/>
          </a:xfrm>
          <a:prstGeom prst="rect">
            <a:avLst/>
          </a:pr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916280" y="3355920"/>
            <a:ext cx="6211800" cy="495360"/>
          </a:xfrm>
          <a:prstGeom prst="rect">
            <a:avLst/>
          </a:pr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30320" y="4383000"/>
            <a:ext cx="6211800" cy="495360"/>
          </a:xfrm>
          <a:prstGeom prst="rect">
            <a:avLst/>
          </a:pr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4880" y="1384200"/>
            <a:ext cx="7442280" cy="495360"/>
          </a:xfrm>
          <a:prstGeom prst="rect">
            <a:avLst/>
          </a:prstGeom>
          <a:solidFill>
            <a:srgbClr val="50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5160" y="4378320"/>
            <a:ext cx="7429680" cy="0"/>
          </a:xfrm>
          <a:prstGeom prst="line">
            <a:avLst/>
          </a:prstGeom>
          <a:ln w="0">
            <a:solidFill>
              <a:srgbClr val="dbe8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8120" y="1386000"/>
            <a:ext cx="7429320" cy="0"/>
          </a:xfrm>
          <a:prstGeom prst="line">
            <a:avLst/>
          </a:prstGeom>
          <a:ln w="1260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120" y="1881360"/>
            <a:ext cx="7429320" cy="0"/>
          </a:xfrm>
          <a:prstGeom prst="line">
            <a:avLst/>
          </a:prstGeom>
          <a:ln w="9360">
            <a:solidFill>
              <a:srgbClr val="bad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37200" y="1397160"/>
            <a:ext cx="0" cy="493560"/>
          </a:xfrm>
          <a:prstGeom prst="line">
            <a:avLst/>
          </a:prstGeom>
          <a:ln w="0">
            <a:solidFill>
              <a:srgbClr val="8fad2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692680" y="1397160"/>
            <a:ext cx="0" cy="493560"/>
          </a:xfrm>
          <a:prstGeom prst="line">
            <a:avLst/>
          </a:prstGeom>
          <a:ln w="0">
            <a:solidFill>
              <a:srgbClr val="8fad2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48160" y="1389240"/>
            <a:ext cx="0" cy="493560"/>
          </a:xfrm>
          <a:prstGeom prst="line">
            <a:avLst/>
          </a:prstGeom>
          <a:ln w="0">
            <a:solidFill>
              <a:srgbClr val="8fad2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03640" y="1386000"/>
            <a:ext cx="0" cy="493560"/>
          </a:xfrm>
          <a:prstGeom prst="line">
            <a:avLst/>
          </a:prstGeom>
          <a:ln w="0">
            <a:solidFill>
              <a:srgbClr val="8fad2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59120" y="1386000"/>
            <a:ext cx="0" cy="493560"/>
          </a:xfrm>
          <a:prstGeom prst="line">
            <a:avLst/>
          </a:prstGeom>
          <a:ln w="0">
            <a:solidFill>
              <a:srgbClr val="8fad2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11400" y="143352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55920" y="143352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00440" y="143352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45320" y="143352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89840" y="143352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2800" y="5370480"/>
            <a:ext cx="1247760" cy="495360"/>
          </a:xfrm>
          <a:prstGeom prst="rect">
            <a:avLst/>
          </a:pr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2800" y="2354400"/>
            <a:ext cx="1247760" cy="495000"/>
          </a:xfrm>
          <a:prstGeom prst="rect">
            <a:avLst/>
          </a:pr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2800" y="3355920"/>
            <a:ext cx="1247760" cy="495360"/>
          </a:xfrm>
          <a:prstGeom prst="rect">
            <a:avLst/>
          </a:pr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12800" y="4383000"/>
            <a:ext cx="1247760" cy="495360"/>
          </a:xfrm>
          <a:prstGeom prst="rect">
            <a:avLst/>
          </a:pr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33640" y="1916280"/>
            <a:ext cx="469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33640" y="239868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B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33640" y="2881440"/>
            <a:ext cx="469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C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33640" y="3392640"/>
            <a:ext cx="469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33640" y="387504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33640" y="442908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F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90440" y="4911840"/>
            <a:ext cx="470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33640" y="539424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5160" y="437832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8400" y="335592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5160" y="384984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8400" y="486900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8400" y="284328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8400" y="235728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8400" y="536724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8400" y="5859360"/>
            <a:ext cx="7429680" cy="0"/>
          </a:xfrm>
          <a:prstGeom prst="line">
            <a:avLst/>
          </a:prstGeom>
          <a:ln w="0">
            <a:solidFill>
              <a:srgbClr val="bad1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59120" y="1866960"/>
            <a:ext cx="4978080" cy="3993840"/>
            <a:chOff x="1959120" y="1866960"/>
            <a:chExt cx="4978080" cy="3993840"/>
          </a:xfrm>
        </p:grpSpPr>
        <p:sp>
          <p:nvSpPr>
            <p:cNvPr id="453" name=""/>
            <p:cNvSpPr/>
            <p:nvPr/>
          </p:nvSpPr>
          <p:spPr>
            <a:xfrm>
              <a:off x="6937200" y="1901520"/>
              <a:ext cx="0" cy="3959280"/>
            </a:xfrm>
            <a:prstGeom prst="line">
              <a:avLst/>
            </a:prstGeom>
            <a:ln w="0">
              <a:solidFill>
                <a:srgbClr val="bad1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92680" y="1901520"/>
              <a:ext cx="0" cy="3959280"/>
            </a:xfrm>
            <a:prstGeom prst="line">
              <a:avLst/>
            </a:prstGeom>
            <a:ln w="0">
              <a:solidFill>
                <a:srgbClr val="bad1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47800" y="1890000"/>
              <a:ext cx="0" cy="3959280"/>
            </a:xfrm>
            <a:prstGeom prst="line">
              <a:avLst/>
            </a:prstGeom>
            <a:ln w="0">
              <a:solidFill>
                <a:srgbClr val="bad1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03280" y="1878120"/>
              <a:ext cx="0" cy="3959280"/>
            </a:xfrm>
            <a:prstGeom prst="line">
              <a:avLst/>
            </a:prstGeom>
            <a:ln w="0">
              <a:solidFill>
                <a:srgbClr val="bad1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1866960"/>
              <a:ext cx="0" cy="3959280"/>
            </a:xfrm>
            <a:prstGeom prst="line">
              <a:avLst/>
            </a:prstGeom>
            <a:ln w="0">
              <a:solidFill>
                <a:srgbClr val="bad1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Index on Projects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7545240" y="1312920"/>
            <a:ext cx="898560" cy="2952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9880" y="3621240"/>
            <a:ext cx="7877160" cy="2369880"/>
          </a:xfrm>
          <a:prstGeom prst="rect">
            <a:avLst/>
          </a:prstGeom>
          <a:gradFill rotWithShape="0">
            <a:gsLst>
              <a:gs pos="0">
                <a:srgbClr val="dbe8b2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未知"/>
          <p:cNvSpPr/>
          <p:nvPr/>
        </p:nvSpPr>
        <p:spPr>
          <a:xfrm rot="19947600">
            <a:off x="4628880" y="1362240"/>
            <a:ext cx="311040" cy="312480"/>
          </a:xfrm>
          <a:custGeom>
            <a:avLst/>
            <a:gdLst/>
            <a:ahLst/>
            <a:rect l="l" t="t" r="r" b="b"/>
            <a:pathLst>
              <a:path w="408" h="411">
                <a:moveTo>
                  <a:pt x="0" y="411"/>
                </a:moveTo>
                <a:lnTo>
                  <a:pt x="408" y="411"/>
                </a:lnTo>
                <a:lnTo>
                  <a:pt x="408" y="0"/>
                </a:lnTo>
                <a:lnTo>
                  <a:pt x="0" y="411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100000">
                <a:srgbClr val="fefefe">
                  <a:alpha val="20000"/>
                </a:srgbClr>
              </a:gs>
            </a:gsLst>
            <a:lin ang="70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9880" y="1608120"/>
            <a:ext cx="7877160" cy="2030400"/>
          </a:xfrm>
          <a:prstGeom prst="rect">
            <a:avLst/>
          </a:prstGeom>
          <a:solidFill>
            <a:srgbClr val="dbe8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0720" y="1860480"/>
            <a:ext cx="36972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8120" y="2886120"/>
            <a:ext cx="217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8400" y="3938760"/>
            <a:ext cx="2451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71840" y="226692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14240" y="4927680"/>
            <a:ext cx="225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1312920"/>
            <a:ext cx="898560" cy="296640"/>
          </a:xfrm>
          <a:prstGeom prst="rect">
            <a:avLst/>
          </a:prstGeom>
          <a:gradFill rotWithShape="0">
            <a:gsLst>
              <a:gs pos="0">
                <a:srgbClr val="414f15"/>
              </a:gs>
              <a:gs pos="100000">
                <a:srgbClr val="8fad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764320" y="1312920"/>
            <a:ext cx="898560" cy="2966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56040" y="1312920"/>
            <a:ext cx="908280" cy="296640"/>
          </a:xfrm>
          <a:prstGeom prst="rect">
            <a:avLst/>
          </a:prstGeom>
          <a:gradFill rotWithShape="0">
            <a:gsLst>
              <a:gs pos="0">
                <a:srgbClr val="414f15"/>
              </a:gs>
              <a:gs pos="100000">
                <a:srgbClr val="8fad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81760" y="1320840"/>
            <a:ext cx="509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91120" y="1335240"/>
            <a:ext cx="465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86440" y="1322280"/>
            <a:ext cx="466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791480" y="1328760"/>
            <a:ext cx="392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81200" y="329076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4371840"/>
            <a:ext cx="1990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00280" y="532440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53160" y="1596960"/>
            <a:ext cx="3417840" cy="4411440"/>
            <a:chOff x="4853160" y="1596960"/>
            <a:chExt cx="3417840" cy="4411440"/>
          </a:xfrm>
        </p:grpSpPr>
        <p:grpSp>
          <p:nvGrpSpPr>
            <p:cNvPr id="479" name=""/>
            <p:cNvGrpSpPr/>
            <p:nvPr/>
          </p:nvGrpSpPr>
          <p:grpSpPr>
            <a:xfrm>
              <a:off x="4853160" y="1596960"/>
              <a:ext cx="3414600" cy="2045880"/>
              <a:chOff x="4853160" y="1596960"/>
              <a:chExt cx="3414600" cy="20458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53160" y="1599480"/>
                <a:ext cx="906480" cy="2031840"/>
                <a:chOff x="4853160" y="1599480"/>
                <a:chExt cx="906480" cy="20318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5577120" y="1599480"/>
                  <a:ext cx="182520" cy="2031480"/>
                </a:xfrm>
                <a:prstGeom prst="rect">
                  <a:avLst/>
                </a:prstGeom>
                <a:solidFill>
                  <a:srgbClr val="8fad2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853160" y="1600560"/>
                  <a:ext cx="182520" cy="2030760"/>
                </a:xfrm>
                <a:prstGeom prst="rect">
                  <a:avLst/>
                </a:prstGeom>
                <a:solidFill>
                  <a:srgbClr val="8fad2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221440" y="1599480"/>
                  <a:ext cx="182520" cy="2031480"/>
                </a:xfrm>
                <a:prstGeom prst="rect">
                  <a:avLst/>
                </a:prstGeom>
                <a:solidFill>
                  <a:srgbClr val="8fad2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6656400" y="1599480"/>
                <a:ext cx="169920" cy="203760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932800" y="1600200"/>
                <a:ext cx="182520" cy="203076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01080" y="1598040"/>
                <a:ext cx="166680" cy="203904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012080" y="1599480"/>
                <a:ext cx="182520" cy="203760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66320" y="1598040"/>
                <a:ext cx="182520" cy="204480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731360" y="1596960"/>
                <a:ext cx="182520" cy="204048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099640" y="1601640"/>
                <a:ext cx="168120" cy="204048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4856400" y="3638520"/>
              <a:ext cx="3414600" cy="2369880"/>
              <a:chOff x="4856400" y="3638520"/>
              <a:chExt cx="3414600" cy="236988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4856400" y="3641760"/>
                <a:ext cx="906480" cy="2353320"/>
                <a:chOff x="4856400" y="3641760"/>
                <a:chExt cx="906480" cy="23533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580360" y="3641760"/>
                  <a:ext cx="182520" cy="235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fad2f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0" y="3643200"/>
                  <a:ext cx="182520" cy="235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fad2f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224680" y="3641760"/>
                  <a:ext cx="182520" cy="235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fad2f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"/>
              <p:cNvSpPr/>
              <p:nvPr/>
            </p:nvSpPr>
            <p:spPr>
              <a:xfrm>
                <a:off x="6659640" y="3641760"/>
                <a:ext cx="169920" cy="23601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36040" y="3642480"/>
                <a:ext cx="182520" cy="235224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304320" y="3639960"/>
                <a:ext cx="166680" cy="23619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15320" y="3641760"/>
                <a:ext cx="182520" cy="23601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69560" y="3639960"/>
                <a:ext cx="182520" cy="236844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734600" y="3638520"/>
                <a:ext cx="182520" cy="23637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102880" y="3643920"/>
                <a:ext cx="168120" cy="23637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"/>
          <p:cNvSpPr/>
          <p:nvPr/>
        </p:nvSpPr>
        <p:spPr>
          <a:xfrm>
            <a:off x="577800" y="2577960"/>
            <a:ext cx="7866000" cy="0"/>
          </a:xfrm>
          <a:prstGeom prst="line">
            <a:avLst/>
          </a:prstGeom>
          <a:ln w="9360">
            <a:solidFill>
              <a:srgbClr val="8fad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" y="3637080"/>
            <a:ext cx="7866360" cy="0"/>
          </a:xfrm>
          <a:prstGeom prst="line">
            <a:avLst/>
          </a:prstGeom>
          <a:ln w="9360">
            <a:solidFill>
              <a:srgbClr val="8fad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9600" y="4710240"/>
            <a:ext cx="7866000" cy="0"/>
          </a:xfrm>
          <a:prstGeom prst="line">
            <a:avLst/>
          </a:prstGeom>
          <a:ln w="9360">
            <a:solidFill>
              <a:srgbClr val="8fad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859280" y="1989000"/>
            <a:ext cx="900000" cy="19548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80160" y="3024360"/>
            <a:ext cx="900000" cy="19512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59640" y="4086360"/>
            <a:ext cx="900000" cy="19512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551720" y="5102280"/>
            <a:ext cx="900000" cy="19512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Time Schedu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286680" y="1754280"/>
            <a:ext cx="2427120" cy="928440"/>
          </a:xfrm>
          <a:custGeom>
            <a:avLst/>
            <a:gdLst>
              <a:gd name="textAreaLeft" fmla="*/ 0 w 2427120"/>
              <a:gd name="textAreaRight" fmla="*/ 2427480 w 242712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14f15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08560" y="1754280"/>
            <a:ext cx="2388960" cy="928440"/>
          </a:xfrm>
          <a:custGeom>
            <a:avLst/>
            <a:gdLst>
              <a:gd name="textAreaLeft" fmla="*/ 0 w 2388960"/>
              <a:gd name="textAreaRight" fmla="*/ 2388960 w 238896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f6e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470320" y="1751040"/>
            <a:ext cx="2427120" cy="942840"/>
          </a:xfrm>
          <a:custGeom>
            <a:avLst/>
            <a:gdLst>
              <a:gd name="textAreaLeft" fmla="*/ 0 w 2427120"/>
              <a:gd name="textAreaRight" fmla="*/ 2427480 w 24271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14f15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4440" y="1752480"/>
            <a:ext cx="2378160" cy="93996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f6e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97520" y="2017800"/>
            <a:ext cx="1576440" cy="4395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D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902120" y="2014560"/>
            <a:ext cx="1609920" cy="438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C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27120" y="1982880"/>
            <a:ext cx="1931760" cy="434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90720" y="1987560"/>
            <a:ext cx="1792440" cy="438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B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381720" y="2641680"/>
            <a:ext cx="1949400" cy="30081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27720" y="2641680"/>
            <a:ext cx="1876320" cy="300816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530440" y="2639880"/>
            <a:ext cx="1986120" cy="300852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440" y="2646360"/>
            <a:ext cx="2011320" cy="300348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7120" y="3184560"/>
            <a:ext cx="18288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1380960" y="2565360"/>
            <a:ext cx="292320" cy="292320"/>
          </a:xfrm>
          <a:prstGeom prst="ellipse">
            <a:avLst/>
          </a:prstGeom>
          <a:gradFill rotWithShape="0">
            <a:gsLst>
              <a:gs pos="0">
                <a:srgbClr val="f2ef62"/>
              </a:gs>
              <a:gs pos="100000">
                <a:srgbClr val="6f6e2d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40000" y="2629080"/>
            <a:ext cx="16956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3387600" y="2565360"/>
            <a:ext cx="292320" cy="29232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100000">
                <a:srgbClr val="243700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46640" y="2629080"/>
            <a:ext cx="16956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5362200" y="2565360"/>
            <a:ext cx="292320" cy="291960"/>
          </a:xfrm>
          <a:prstGeom prst="ellipse">
            <a:avLst/>
          </a:prstGeom>
          <a:gradFill rotWithShape="0">
            <a:gsLst>
              <a:gs pos="0">
                <a:srgbClr val="f2ef62"/>
              </a:gs>
              <a:gs pos="100000">
                <a:srgbClr val="6f6e2d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21240" y="262908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6200000">
            <a:off x="7265880" y="2565360"/>
            <a:ext cx="292320" cy="29232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100000">
                <a:srgbClr val="243700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24560" y="262908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2614680" y="3193920"/>
            <a:ext cx="182880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59400" y="3203640"/>
            <a:ext cx="18288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475320" y="3213000"/>
            <a:ext cx="182880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3:14:51Z</dcterms:created>
  <dc:creator>http://www.eeppt.com</dc:creator>
  <dc:description>ppt模板下载网站 http://www.eeppt.com</dc:description>
  <dc:language>en-US</dc:language>
  <cp:lastModifiedBy/>
  <dcterms:modified xsi:type="dcterms:W3CDTF">2015-06-14T07:34:0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