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71B9-55FD-4FD8-A4AE-BA2B226E8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1F89-9FBA-4F83-B40F-8F9BAC27E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90EC-F584-42A0-B71B-51292AEA3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ACB2-C180-4E0C-8A45-FB5E77FA9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B53C-42F3-4A2A-98D2-7A4C03766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33F6-8F00-4D8D-BBCC-6DE8DB5FB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FD62-B0E5-4153-B612-24522C86F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2138-43EC-4F68-B96F-FE56A2C01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FF3B-746C-4199-BB29-11933F0BA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1BA3-7D69-47C3-9FE7-4A9AA2330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C563-DEF6-4827-A1B6-E0797AD8F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FF61-7B45-4A7D-A731-16970C4CF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grayscl/>
            <a:lum bright="-18000"/>
          </a:blip>
          <a:srcRect l="0" t="0" r="0" b="65994"/>
          <a:stretch/>
        </p:blipFill>
        <p:spPr>
          <a:xfrm>
            <a:off x="0" y="3240"/>
            <a:ext cx="9144000" cy="1060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538200"/>
          </a:xfrm>
          <a:prstGeom prst="rect">
            <a:avLst/>
          </a:prstGeom>
          <a:gradFill rotWithShape="0">
            <a:gsLst>
              <a:gs pos="0">
                <a:srgbClr val="ffffff">
                  <a:alpha val="3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C1139D3-9B9B-4D79-A0E2-7CA947DAB30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111480"/>
            <a:ext cx="9144000" cy="3741840"/>
          </a:xfrm>
          <a:prstGeom prst="rect">
            <a:avLst/>
          </a:prstGeom>
          <a:gradFill rotWithShape="0">
            <a:gsLst>
              <a:gs pos="0">
                <a:srgbClr val="c02500"/>
              </a:gs>
              <a:gs pos="100000">
                <a:srgbClr val="460d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0"/>
            <a:ext cx="9144000" cy="311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108240"/>
            <a:ext cx="91440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11160"/>
            <a:ext cx="9144000" cy="2283120"/>
          </a:xfrm>
          <a:prstGeom prst="rect">
            <a:avLst/>
          </a:prstGeom>
          <a:gradFill rotWithShape="0">
            <a:gsLst>
              <a:gs pos="0">
                <a:srgbClr val="ffffff">
                  <a:alpha val="3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361008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wmf"/><Relationship Id="rId3" Type="http://schemas.openxmlformats.org/officeDocument/2006/relationships/image" Target="../media/image18.png"/><Relationship Id="rId4" Type="http://schemas.openxmlformats.org/officeDocument/2006/relationships/image" Target="../media/image3.wmf"/><Relationship Id="rId5" Type="http://schemas.openxmlformats.org/officeDocument/2006/relationships/image" Target="../media/image18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92360" y="46890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692360" y="3610080"/>
            <a:ext cx="5904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起跑线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22080" y="63086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57280" y="1268280"/>
            <a:ext cx="178740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0">
                  <a:noFill/>
                </a:ln>
                <a:solidFill>
                  <a:srgbClr val="bc000d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0">
                <a:noFill/>
              </a:ln>
              <a:solidFill>
                <a:srgbClr val="bc000d"/>
              </a:solidFill>
              <a:latin typeface="黑体"/>
              <a:ea typeface="黑体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603760" y="1917360"/>
            <a:ext cx="1501920" cy="1515960"/>
            <a:chOff x="5603760" y="1917360"/>
            <a:chExt cx="1501920" cy="1515960"/>
          </a:xfrm>
        </p:grpSpPr>
        <p:sp>
          <p:nvSpPr>
            <p:cNvPr id="289" name="未知"/>
            <p:cNvSpPr/>
            <p:nvPr/>
          </p:nvSpPr>
          <p:spPr>
            <a:xfrm>
              <a:off x="5672160" y="2985840"/>
              <a:ext cx="143352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5603760" y="1917360"/>
              <a:ext cx="1488960" cy="14871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837040" y="2323800"/>
              <a:ext cx="211320" cy="49968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6095880" y="2314440"/>
              <a:ext cx="295200" cy="520200"/>
            </a:xfrm>
            <a:custGeom>
              <a:avLst/>
              <a:gdLst/>
              <a:ahLst/>
              <a:rect l="l" t="t" r="r" b="b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6426000" y="2314440"/>
              <a:ext cx="416160" cy="520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5668920" y="2784240"/>
              <a:ext cx="1423800" cy="6202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583000" y="1917360"/>
            <a:ext cx="1501200" cy="1515960"/>
            <a:chOff x="2583000" y="1917360"/>
            <a:chExt cx="1501200" cy="1515960"/>
          </a:xfrm>
        </p:grpSpPr>
        <p:sp>
          <p:nvSpPr>
            <p:cNvPr id="296" name="未知"/>
            <p:cNvSpPr/>
            <p:nvPr/>
          </p:nvSpPr>
          <p:spPr>
            <a:xfrm>
              <a:off x="2651040" y="2985840"/>
              <a:ext cx="143316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2583000" y="1917360"/>
              <a:ext cx="1488600" cy="14871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3298680" y="2314440"/>
              <a:ext cx="415440" cy="520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2647800" y="2784240"/>
              <a:ext cx="1423440" cy="6202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2917440" y="2336760"/>
              <a:ext cx="309240" cy="5234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217520" y="3882960"/>
            <a:ext cx="1501920" cy="1514520"/>
            <a:chOff x="1217520" y="3882960"/>
            <a:chExt cx="1501920" cy="1514520"/>
          </a:xfrm>
        </p:grpSpPr>
        <p:sp>
          <p:nvSpPr>
            <p:cNvPr id="302" name="未知"/>
            <p:cNvSpPr/>
            <p:nvPr/>
          </p:nvSpPr>
          <p:spPr>
            <a:xfrm>
              <a:off x="1285920" y="4950000"/>
              <a:ext cx="143352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1217520" y="3882960"/>
              <a:ext cx="1488960" cy="148608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1450800" y="4287960"/>
              <a:ext cx="211320" cy="50148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2039760" y="4280040"/>
              <a:ext cx="416160" cy="51912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1282680" y="4748400"/>
              <a:ext cx="1423800" cy="62064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1709640" y="4287960"/>
              <a:ext cx="309600" cy="5238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179960" y="3882960"/>
            <a:ext cx="1501200" cy="1514520"/>
            <a:chOff x="4179960" y="3882960"/>
            <a:chExt cx="1501200" cy="1514520"/>
          </a:xfrm>
        </p:grpSpPr>
        <p:sp>
          <p:nvSpPr>
            <p:cNvPr id="309" name="未知"/>
            <p:cNvSpPr/>
            <p:nvPr/>
          </p:nvSpPr>
          <p:spPr>
            <a:xfrm>
              <a:off x="4248000" y="4950000"/>
              <a:ext cx="143316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4179960" y="3882960"/>
              <a:ext cx="1488600" cy="148608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5067000" y="4280040"/>
              <a:ext cx="414000" cy="51912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4244760" y="4748400"/>
              <a:ext cx="1423440" cy="62064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393800" y="4284720"/>
              <a:ext cx="628200" cy="520200"/>
              <a:chOff x="4393800" y="4284720"/>
              <a:chExt cx="628200" cy="520200"/>
            </a:xfrm>
          </p:grpSpPr>
          <p:sp>
            <p:nvSpPr>
              <p:cNvPr id="314" name="未知"/>
              <p:cNvSpPr/>
              <p:nvPr/>
            </p:nvSpPr>
            <p:spPr>
              <a:xfrm>
                <a:off x="4393800" y="4284720"/>
                <a:ext cx="289080" cy="514080"/>
              </a:xfrm>
              <a:custGeom>
                <a:avLst/>
                <a:gdLst/>
                <a:ahLst/>
                <a:rect l="l" t="t" r="r" b="b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>
                <a:off x="4720320" y="4290840"/>
                <a:ext cx="301680" cy="514080"/>
              </a:xfrm>
              <a:custGeom>
                <a:avLst/>
                <a:gdLst/>
                <a:ahLst/>
                <a:rect l="l" t="t" r="r" b="b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2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2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2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2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064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2C91-ECFB-49A7-AF44-FFDA1C6BE5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900000" y="2144880"/>
            <a:ext cx="7344000" cy="2813040"/>
            <a:chOff x="900000" y="2144880"/>
            <a:chExt cx="7344000" cy="2813040"/>
          </a:xfrm>
        </p:grpSpPr>
        <p:sp>
          <p:nvSpPr>
            <p:cNvPr id="327" name=""/>
            <p:cNvSpPr/>
            <p:nvPr/>
          </p:nvSpPr>
          <p:spPr>
            <a:xfrm>
              <a:off x="900000" y="2151720"/>
              <a:ext cx="5257080" cy="27946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83000" y="2144880"/>
              <a:ext cx="2061000" cy="2813040"/>
            </a:xfrm>
            <a:prstGeom prst="rect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882360" y="4965480"/>
            <a:ext cx="7289640" cy="318960"/>
          </a:xfrm>
          <a:custGeom>
            <a:avLst/>
            <a:gdLst>
              <a:gd name="textAreaLeft" fmla="*/ 590400 w 7289640"/>
              <a:gd name="textAreaRight" fmla="*/ 6699240 w 7289640"/>
              <a:gd name="textAreaTop" fmla="*/ 25560 h 318960"/>
              <a:gd name="textAreaBottom" fmla="*/ 29340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1196-3118-4969-8BA9-892E17BF20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800 w 1342800"/>
              <a:gd name="textAreaRight" fmla="*/ 119700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800 w 1344600"/>
              <a:gd name="textAreaRight" fmla="*/ 119880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800 w 1343160"/>
              <a:gd name="textAreaRight" fmla="*/ 119736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800 w 1342800"/>
              <a:gd name="textAreaRight" fmla="*/ 119700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9720 w 1341360"/>
              <a:gd name="textAreaRight" fmla="*/ 1151640 w 134136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9720 w 1342800"/>
              <a:gd name="textAreaRight" fmla="*/ 1153080 w 134280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9720 w 1342800"/>
              <a:gd name="textAreaRight" fmla="*/ 1153080 w 134280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9720 w 1342800"/>
              <a:gd name="textAreaRight" fmla="*/ 1153080 w 134280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9720 w 1341720"/>
              <a:gd name="textAreaRight" fmla="*/ 1152000 w 134172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42" idx="0"/>
            <a:endCxn id="343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3132000" y="3903840"/>
            <a:ext cx="0" cy="6206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02360" y="3903840"/>
            <a:ext cx="0" cy="65376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560005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16440 w 2238120"/>
              <a:gd name="textAreaRight" fmla="*/ 1921680 w 2238120"/>
              <a:gd name="textAreaTop" fmla="*/ 18000 h 128880"/>
              <a:gd name="textAreaBottom" fmla="*/ 11088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800 w 1343160"/>
              <a:gd name="textAreaRight" fmla="*/ 119736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>
            <a:grayscl/>
            <a:lum contrast="6000"/>
          </a:blip>
          <a:srcRect l="0" t="0" r="121" b="210"/>
          <a:stretch/>
        </p:blipFill>
        <p:spPr>
          <a:xfrm>
            <a:off x="1095480" y="3851280"/>
            <a:ext cx="769680" cy="588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>
            <a:grayscl/>
            <a:lum contrast="12000"/>
          </a:blip>
          <a:srcRect l="0" t="0" r="44" b="52"/>
          <a:stretch/>
        </p:blipFill>
        <p:spPr>
          <a:xfrm>
            <a:off x="2739960" y="3846600"/>
            <a:ext cx="696960" cy="5889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>
            <a:grayscl/>
            <a:lum contrast="6000"/>
          </a:blip>
          <a:srcRect l="0" t="0" r="0" b="93"/>
          <a:stretch/>
        </p:blipFill>
        <p:spPr>
          <a:xfrm>
            <a:off x="4138560" y="3776760"/>
            <a:ext cx="849240" cy="6602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4">
            <a:grayscl/>
            <a:lum contrast="12000"/>
          </a:blip>
          <a:srcRect l="0" t="0" r="166" b="147"/>
          <a:stretch/>
        </p:blipFill>
        <p:spPr>
          <a:xfrm>
            <a:off x="5688000" y="3809880"/>
            <a:ext cx="739800" cy="6336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5">
            <a:grayscl/>
            <a:lum contrast="24000"/>
          </a:blip>
          <a:srcRect l="0" t="0" r="156" b="-46"/>
          <a:stretch/>
        </p:blipFill>
        <p:spPr>
          <a:xfrm>
            <a:off x="7068960" y="3755880"/>
            <a:ext cx="787680" cy="681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86480 w 2304720"/>
              <a:gd name="textAreaRight" fmla="*/ 2118240 w 2304720"/>
              <a:gd name="textAreaTop" fmla="*/ 25560 h 318960"/>
              <a:gd name="textAreaBottom" fmla="*/ 29340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bc000d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81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380" name="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383" name="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386" name="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389" name="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392" name="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395" name="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98" name="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99" name="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0" name="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1" name="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2" name="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04" name="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05" name="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bc000d">
                      <a:alpha val="90196"/>
                    </a:srgbClr>
                  </a:gs>
                  <a:gs pos="100000">
                    <a:srgbClr val="ff0517"/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未知"/>
            <p:cNvSpPr/>
            <p:nvPr/>
          </p:nvSpPr>
          <p:spPr>
            <a:xfrm rot="16200000">
              <a:off x="3872160" y="306828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 rot="5400000">
              <a:off x="4209840" y="205848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19" name="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23" name="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27" name="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31" name="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35" name="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"/>
          <p:cNvCxnSpPr>
            <a:stCxn id="423" idx="1"/>
            <a:endCxn id="421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ff0517"/>
            </a:solidFill>
            <a:miter/>
          </a:ln>
        </p:spPr>
      </p:cxnSp>
      <p:cxnSp>
        <p:nvCxnSpPr>
          <p:cNvPr id="437" name=""/>
          <p:cNvCxnSpPr>
            <a:stCxn id="417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ff0517"/>
            </a:solidFill>
            <a:miter/>
            <a:tailEnd len="lg" type="triangle" w="lg"/>
          </a:ln>
        </p:spPr>
      </p:cxnSp>
      <p:cxnSp>
        <p:nvCxnSpPr>
          <p:cNvPr id="438" name=""/>
          <p:cNvCxnSpPr>
            <a:stCxn id="423" idx="2"/>
            <a:endCxn id="425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ff0517"/>
            </a:solidFill>
            <a:miter/>
            <a:tailEnd len="lg" type="triangle" w="lg"/>
          </a:ln>
        </p:spPr>
      </p:cxnSp>
      <p:cxnSp>
        <p:nvCxnSpPr>
          <p:cNvPr id="439" name=""/>
          <p:cNvCxnSpPr>
            <a:stCxn id="427" idx="2"/>
            <a:endCxn id="429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48684"/>
            </a:avLst>
          </a:prstGeom>
          <a:ln w="9360">
            <a:solidFill>
              <a:srgbClr val="ff0517"/>
            </a:solidFill>
            <a:miter/>
            <a:tailEnd len="lg" type="triangle" w="lg"/>
          </a:ln>
        </p:spPr>
      </p:cxnSp>
      <p:cxnSp>
        <p:nvCxnSpPr>
          <p:cNvPr id="440" name=""/>
          <p:cNvCxnSpPr>
            <a:stCxn id="431" idx="2"/>
            <a:endCxn id="433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ff0517"/>
            </a:solidFill>
            <a:miter/>
            <a:tailEnd len="lg" type="triangle" w="lg"/>
          </a:ln>
        </p:spPr>
      </p:cxnSp>
      <p:sp>
        <p:nvSpPr>
          <p:cNvPr id="441" name=""/>
          <p:cNvSpPr/>
          <p:nvPr/>
        </p:nvSpPr>
        <p:spPr>
          <a:xfrm>
            <a:off x="6986520" y="2706840"/>
            <a:ext cx="1633680" cy="83340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86520" y="3681360"/>
            <a:ext cx="1633680" cy="83340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25" idx="3"/>
            <a:endCxn id="427" idx="3"/>
          </p:cNvCxnSpPr>
          <p:nvPr/>
        </p:nvCxnSpPr>
        <p:spPr>
          <a:xfrm>
            <a:off x="6429240" y="285120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ff0517"/>
            </a:solidFill>
            <a:miter/>
          </a:ln>
        </p:spPr>
      </p:cxnSp>
      <p:cxnSp>
        <p:nvCxnSpPr>
          <p:cNvPr id="444" name=""/>
          <p:cNvCxnSpPr>
            <a:stCxn id="431" idx="3"/>
            <a:endCxn id="429" idx="3"/>
          </p:cNvCxnSpPr>
          <p:nvPr/>
        </p:nvCxnSpPr>
        <p:spPr>
          <a:xfrm flipH="1" flipV="1">
            <a:off x="6428880" y="3820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ff0517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6602400" y="3057480"/>
            <a:ext cx="384120" cy="0"/>
          </a:xfrm>
          <a:prstGeom prst="line">
            <a:avLst/>
          </a:prstGeom>
          <a:ln w="9360">
            <a:solidFill>
              <a:srgbClr val="ff051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602400" y="4029120"/>
            <a:ext cx="384120" cy="0"/>
          </a:xfrm>
          <a:prstGeom prst="line">
            <a:avLst/>
          </a:prstGeom>
          <a:ln w="9360">
            <a:solidFill>
              <a:srgbClr val="ff051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75360" y="2709720"/>
            <a:ext cx="1644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75360" y="3691080"/>
            <a:ext cx="1644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616572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3a0004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0FA3-C7D6-4432-A211-93EF432393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31" descr=""/>
          <p:cNvPicPr/>
          <p:nvPr/>
        </p:nvPicPr>
        <p:blipFill>
          <a:blip r:embed="rId1"/>
          <a:stretch/>
        </p:blipFill>
        <p:spPr>
          <a:xfrm>
            <a:off x="469800" y="1469880"/>
            <a:ext cx="4471920" cy="4175280"/>
          </a:xfrm>
          <a:prstGeom prst="rect">
            <a:avLst/>
          </a:prstGeom>
          <a:ln w="0">
            <a:noFill/>
          </a:ln>
        </p:spPr>
      </p:pic>
      <p:sp>
        <p:nvSpPr>
          <p:cNvPr id="451" name="未知"/>
          <p:cNvSpPr/>
          <p:nvPr/>
        </p:nvSpPr>
        <p:spPr>
          <a:xfrm>
            <a:off x="1243080" y="1913040"/>
            <a:ext cx="2227320" cy="9651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ddddd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292760" y="4307400"/>
            <a:ext cx="2265480" cy="953640"/>
            <a:chOff x="1292760" y="4307400"/>
            <a:chExt cx="2265480" cy="953640"/>
          </a:xfrm>
        </p:grpSpPr>
        <p:grpSp>
          <p:nvGrpSpPr>
            <p:cNvPr id="453" name=""/>
            <p:cNvGrpSpPr/>
            <p:nvPr/>
          </p:nvGrpSpPr>
          <p:grpSpPr>
            <a:xfrm>
              <a:off x="1292760" y="4412520"/>
              <a:ext cx="1891080" cy="782640"/>
              <a:chOff x="1292760" y="4412520"/>
              <a:chExt cx="1891080" cy="782640"/>
            </a:xfrm>
          </p:grpSpPr>
          <p:sp>
            <p:nvSpPr>
              <p:cNvPr id="454" name=""/>
              <p:cNvSpPr/>
              <p:nvPr/>
            </p:nvSpPr>
            <p:spPr>
              <a:xfrm flipH="1" rot="6630600">
                <a:off x="1823040" y="4123440"/>
                <a:ext cx="326520" cy="13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rot="5815200">
                <a:off x="2038680" y="4194720"/>
                <a:ext cx="326160" cy="13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rot="5520000">
                <a:off x="2169000" y="4204080"/>
                <a:ext cx="326160" cy="13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rot="4987800">
                <a:off x="2325960" y="4210560"/>
                <a:ext cx="325800" cy="13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1702080" y="4307400"/>
              <a:ext cx="1856160" cy="953640"/>
              <a:chOff x="1702080" y="4307400"/>
              <a:chExt cx="1856160" cy="953640"/>
            </a:xfrm>
          </p:grpSpPr>
          <p:sp>
            <p:nvSpPr>
              <p:cNvPr id="459" name=""/>
              <p:cNvSpPr/>
              <p:nvPr/>
            </p:nvSpPr>
            <p:spPr>
              <a:xfrm flipH="1" rot="5278200">
                <a:off x="2223720" y="4216680"/>
                <a:ext cx="327600" cy="136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4462800">
                <a:off x="2450880" y="4199760"/>
                <a:ext cx="327600" cy="136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4167000">
                <a:off x="2574360" y="4158360"/>
                <a:ext cx="327600" cy="136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3634800">
                <a:off x="2720520" y="4103640"/>
                <a:ext cx="327600" cy="136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"/>
          <p:cNvSpPr/>
          <p:nvPr/>
        </p:nvSpPr>
        <p:spPr>
          <a:xfrm>
            <a:off x="4670280" y="2143080"/>
            <a:ext cx="3286440" cy="371520"/>
          </a:xfrm>
          <a:prstGeom prst="rect">
            <a:avLst/>
          </a:prstGeom>
          <a:gradFill rotWithShape="0">
            <a:gsLst>
              <a:gs pos="0">
                <a:srgbClr val="3a0004"/>
              </a:gs>
              <a:gs pos="100000">
                <a:srgbClr val="240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单击添加标题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70280" y="2577960"/>
            <a:ext cx="3286440" cy="24782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0800000">
            <a:off x="4669920" y="1895040"/>
            <a:ext cx="3286440" cy="247680"/>
          </a:xfrm>
          <a:custGeom>
            <a:avLst/>
            <a:gdLst>
              <a:gd name="textAreaLeft" fmla="*/ 730080 w 3286440"/>
              <a:gd name="textAreaRight" fmla="*/ 2556360 w 3286440"/>
              <a:gd name="textAreaTop" fmla="*/ 55080 h 247680"/>
              <a:gd name="textAreaBottom" fmla="*/ 19260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11" y="21600"/>
                </a:lnTo>
                <a:lnTo>
                  <a:pt x="5489" y="21600"/>
                </a:lnTo>
                <a:close/>
              </a:path>
            </a:pathLst>
          </a:custGeom>
          <a:gradFill rotWithShape="0">
            <a:gsLst>
              <a:gs pos="0">
                <a:srgbClr val="ff3b3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0800000">
            <a:off x="4669920" y="5073480"/>
            <a:ext cx="3286440" cy="246240"/>
          </a:xfrm>
          <a:custGeom>
            <a:avLst/>
            <a:gdLst>
              <a:gd name="textAreaLeft" fmla="*/ 266040 w 3286440"/>
              <a:gd name="textAreaRight" fmla="*/ 3020400 w 3286440"/>
              <a:gd name="textAreaTop" fmla="*/ 19800 h 246240"/>
              <a:gd name="textAreaBottom" fmla="*/ 226440 h 2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33000" y="60930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ededed"/>
              </a:gs>
              <a:gs pos="50000">
                <a:srgbClr val="b2b2b2"/>
              </a:gs>
              <a:gs pos="100000">
                <a:srgbClr val="ededed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743920" y="4775400"/>
            <a:ext cx="1130400" cy="1126440"/>
            <a:chOff x="2743920" y="4775400"/>
            <a:chExt cx="1130400" cy="1126440"/>
          </a:xfrm>
        </p:grpSpPr>
        <p:grpSp>
          <p:nvGrpSpPr>
            <p:cNvPr id="473" name=""/>
            <p:cNvGrpSpPr/>
            <p:nvPr/>
          </p:nvGrpSpPr>
          <p:grpSpPr>
            <a:xfrm>
              <a:off x="2743920" y="4775400"/>
              <a:ext cx="1130400" cy="1126440"/>
              <a:chOff x="2743920" y="4775400"/>
              <a:chExt cx="1130400" cy="1126440"/>
            </a:xfrm>
          </p:grpSpPr>
          <p:sp>
            <p:nvSpPr>
              <p:cNvPr id="474" name=""/>
              <p:cNvSpPr/>
              <p:nvPr/>
            </p:nvSpPr>
            <p:spPr>
              <a:xfrm rot="649800">
                <a:off x="2825640" y="48574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649800">
                <a:off x="2880000" y="49096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75020a"/>
                  </a:gs>
                  <a:gs pos="100000">
                    <a:srgbClr val="ff0517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未知"/>
            <p:cNvSpPr/>
            <p:nvPr/>
          </p:nvSpPr>
          <p:spPr>
            <a:xfrm rot="16200000">
              <a:off x="3057840" y="514764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 rot="5400000">
              <a:off x="3178800" y="47880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807560" y="3169080"/>
            <a:ext cx="1130040" cy="1126440"/>
            <a:chOff x="1807560" y="3169080"/>
            <a:chExt cx="1130040" cy="1126440"/>
          </a:xfrm>
        </p:grpSpPr>
        <p:grpSp>
          <p:nvGrpSpPr>
            <p:cNvPr id="479" name=""/>
            <p:cNvGrpSpPr/>
            <p:nvPr/>
          </p:nvGrpSpPr>
          <p:grpSpPr>
            <a:xfrm>
              <a:off x="1807560" y="3169080"/>
              <a:ext cx="1130040" cy="1126440"/>
              <a:chOff x="1807560" y="3169080"/>
              <a:chExt cx="1130040" cy="1126440"/>
            </a:xfrm>
          </p:grpSpPr>
          <p:sp>
            <p:nvSpPr>
              <p:cNvPr id="480" name=""/>
              <p:cNvSpPr/>
              <p:nvPr/>
            </p:nvSpPr>
            <p:spPr>
              <a:xfrm rot="649800">
                <a:off x="1889280" y="325116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649800">
                <a:off x="1943640" y="330300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560005"/>
                  </a:gs>
                  <a:gs pos="100000">
                    <a:srgbClr val="bc000d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未知"/>
            <p:cNvSpPr/>
            <p:nvPr/>
          </p:nvSpPr>
          <p:spPr>
            <a:xfrm rot="16200000">
              <a:off x="2121120" y="354096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 rot="5400000">
              <a:off x="2241720" y="318132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088600" y="4775400"/>
            <a:ext cx="1130400" cy="1126440"/>
            <a:chOff x="5088600" y="4775400"/>
            <a:chExt cx="1130400" cy="1126440"/>
          </a:xfrm>
        </p:grpSpPr>
        <p:grpSp>
          <p:nvGrpSpPr>
            <p:cNvPr id="485" name=""/>
            <p:cNvGrpSpPr/>
            <p:nvPr/>
          </p:nvGrpSpPr>
          <p:grpSpPr>
            <a:xfrm>
              <a:off x="5088600" y="4775400"/>
              <a:ext cx="1130400" cy="1126440"/>
              <a:chOff x="5088600" y="4775400"/>
              <a:chExt cx="1130400" cy="1126440"/>
            </a:xfrm>
          </p:grpSpPr>
          <p:sp>
            <p:nvSpPr>
              <p:cNvPr id="486" name=""/>
              <p:cNvSpPr/>
              <p:nvPr/>
            </p:nvSpPr>
            <p:spPr>
              <a:xfrm rot="649800">
                <a:off x="5170320" y="48574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649800">
                <a:off x="5224680" y="49096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1a0001"/>
                  </a:gs>
                  <a:gs pos="100000">
                    <a:srgbClr val="3a0004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未知"/>
            <p:cNvSpPr/>
            <p:nvPr/>
          </p:nvSpPr>
          <p:spPr>
            <a:xfrm rot="16200000">
              <a:off x="5402520" y="514764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 rot="5400000">
              <a:off x="5523480" y="47880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743920" y="1560600"/>
            <a:ext cx="1130400" cy="1126440"/>
            <a:chOff x="2743920" y="1560600"/>
            <a:chExt cx="1130400" cy="1126440"/>
          </a:xfrm>
        </p:grpSpPr>
        <p:grpSp>
          <p:nvGrpSpPr>
            <p:cNvPr id="491" name=""/>
            <p:cNvGrpSpPr/>
            <p:nvPr/>
          </p:nvGrpSpPr>
          <p:grpSpPr>
            <a:xfrm>
              <a:off x="2743920" y="1560600"/>
              <a:ext cx="1130400" cy="1126440"/>
              <a:chOff x="2743920" y="1560600"/>
              <a:chExt cx="1130400" cy="1126440"/>
            </a:xfrm>
          </p:grpSpPr>
          <p:sp>
            <p:nvSpPr>
              <p:cNvPr id="492" name=""/>
              <p:cNvSpPr/>
              <p:nvPr/>
            </p:nvSpPr>
            <p:spPr>
              <a:xfrm rot="649800">
                <a:off x="2825640" y="16426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649800">
                <a:off x="2880000" y="16948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1a0001"/>
                  </a:gs>
                  <a:gs pos="100000">
                    <a:srgbClr val="3a0004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未知"/>
            <p:cNvSpPr/>
            <p:nvPr/>
          </p:nvSpPr>
          <p:spPr>
            <a:xfrm rot="16200000">
              <a:off x="3057840" y="193284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 rot="5400000">
              <a:off x="3178800" y="15732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88600" y="1560600"/>
            <a:ext cx="1130400" cy="1126440"/>
            <a:chOff x="5088600" y="1560600"/>
            <a:chExt cx="1130400" cy="1126440"/>
          </a:xfrm>
        </p:grpSpPr>
        <p:grpSp>
          <p:nvGrpSpPr>
            <p:cNvPr id="497" name=""/>
            <p:cNvGrpSpPr/>
            <p:nvPr/>
          </p:nvGrpSpPr>
          <p:grpSpPr>
            <a:xfrm>
              <a:off x="5088600" y="1560600"/>
              <a:ext cx="1130400" cy="1126440"/>
              <a:chOff x="5088600" y="1560600"/>
              <a:chExt cx="1130400" cy="1126440"/>
            </a:xfrm>
          </p:grpSpPr>
          <p:sp>
            <p:nvSpPr>
              <p:cNvPr id="498" name=""/>
              <p:cNvSpPr/>
              <p:nvPr/>
            </p:nvSpPr>
            <p:spPr>
              <a:xfrm rot="649800">
                <a:off x="5170320" y="16426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649800">
                <a:off x="5224680" y="16948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75020a"/>
                  </a:gs>
                  <a:gs pos="100000">
                    <a:srgbClr val="ff0517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未知"/>
            <p:cNvSpPr/>
            <p:nvPr/>
          </p:nvSpPr>
          <p:spPr>
            <a:xfrm rot="16200000">
              <a:off x="5402520" y="193284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 rot="5400000">
              <a:off x="5523480" y="15732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055560" y="3168720"/>
            <a:ext cx="1130400" cy="1126440"/>
            <a:chOff x="6055560" y="3168720"/>
            <a:chExt cx="1130400" cy="1126440"/>
          </a:xfrm>
        </p:grpSpPr>
        <p:grpSp>
          <p:nvGrpSpPr>
            <p:cNvPr id="503" name=""/>
            <p:cNvGrpSpPr/>
            <p:nvPr/>
          </p:nvGrpSpPr>
          <p:grpSpPr>
            <a:xfrm>
              <a:off x="6055560" y="3168720"/>
              <a:ext cx="1130400" cy="1126440"/>
              <a:chOff x="6055560" y="3168720"/>
              <a:chExt cx="1130400" cy="1126440"/>
            </a:xfrm>
          </p:grpSpPr>
          <p:sp>
            <p:nvSpPr>
              <p:cNvPr id="504" name=""/>
              <p:cNvSpPr/>
              <p:nvPr/>
            </p:nvSpPr>
            <p:spPr>
              <a:xfrm rot="649800">
                <a:off x="6137280" y="325080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649800">
                <a:off x="6191640" y="330300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560005"/>
                  </a:gs>
                  <a:gs pos="100000">
                    <a:srgbClr val="bc000d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未知"/>
            <p:cNvSpPr/>
            <p:nvPr/>
          </p:nvSpPr>
          <p:spPr>
            <a:xfrm rot="16200000">
              <a:off x="6369480" y="354096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 rot="5400000">
              <a:off x="6490440" y="318132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33640" y="332280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68560" y="171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45280" y="171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68560" y="495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45280" y="495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281640" y="332280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4F47-6CF4-48B4-B50B-20E608ACBB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13200 w 1852560"/>
              <a:gd name="textAreaRight" fmla="*/ 1539360 w 1852560"/>
              <a:gd name="textAreaTop" fmla="*/ 77040 h 455760"/>
              <a:gd name="textAreaBottom" fmla="*/ 37872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72" y="21600"/>
                </a:lnTo>
                <a:lnTo>
                  <a:pt x="3428" y="2160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3a000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80240 w 2840040"/>
              <a:gd name="textAreaRight" fmla="*/ 2359800 w 2840040"/>
              <a:gd name="textAreaTop" fmla="*/ 118800 h 703080"/>
              <a:gd name="textAreaBottom" fmla="*/ 58428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72" y="21600"/>
                </a:lnTo>
                <a:lnTo>
                  <a:pt x="3428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38720 w 4367160"/>
              <a:gd name="textAreaRight" fmla="*/ 3628440 w 4367160"/>
              <a:gd name="textAreaTop" fmla="*/ 182520 h 1079280"/>
              <a:gd name="textAreaBottom" fmla="*/ 8967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72" y="21600"/>
                </a:lnTo>
                <a:lnTo>
                  <a:pt x="3428" y="2160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3a000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c000d"/>
              </a:gs>
              <a:gs pos="100000">
                <a:srgbClr val="3a00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56880 w 4351320"/>
              <a:gd name="textAreaRight" fmla="*/ 3394440 w 43513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62400 w 3013200"/>
              <a:gd name="textAreaRight" fmla="*/ 2350800 w 30132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624600 w 2840040"/>
              <a:gd name="textAreaRight" fmla="*/ 2215440 w 2840040"/>
              <a:gd name="textAreaTop" fmla="*/ 39240 h 179640"/>
              <a:gd name="textAreaBottom" fmla="*/ 1404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23000 w 1923840"/>
              <a:gd name="textAreaRight" fmla="*/ 1500840 w 19238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99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23000 w 1923840"/>
              <a:gd name="textAreaRight" fmla="*/ 1500840 w 1923840"/>
              <a:gd name="textAreaTop" fmla="*/ 29880 h 136440"/>
              <a:gd name="textAreaBottom" fmla="*/ 10656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99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55080 h 250920"/>
              <a:gd name="textAreaBottom" fmla="*/ 19584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44440 w 1112760"/>
              <a:gd name="textAreaRight" fmla="*/ 868320 w 1112760"/>
              <a:gd name="textAreaTop" fmla="*/ 27720 h 127080"/>
              <a:gd name="textAreaBottom" fmla="*/ 993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B35C-FEE6-49E7-A9ED-D4824DF97E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963800" y="1700280"/>
            <a:ext cx="1611360" cy="1585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981000" y="3263760"/>
            <a:ext cx="718524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84320" y="3838680"/>
            <a:ext cx="1711440" cy="1404720"/>
          </a:xfrm>
          <a:prstGeom prst="rightArrowCallout">
            <a:avLst>
              <a:gd name="adj1" fmla="val 50005"/>
              <a:gd name="adj2" fmla="val 25000"/>
              <a:gd name="adj3" fmla="val 12065"/>
              <a:gd name="adj4" fmla="val 90097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27440" y="3838680"/>
            <a:ext cx="1711080" cy="140472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bc000d"/>
              </a:gs>
              <a:gs pos="100000">
                <a:srgbClr val="3a0004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45000" y="3838680"/>
            <a:ext cx="1711440" cy="1404720"/>
          </a:xfrm>
          <a:prstGeom prst="rightArrowCallout">
            <a:avLst>
              <a:gd name="adj1" fmla="val 50005"/>
              <a:gd name="adj2" fmla="val 25000"/>
              <a:gd name="adj3" fmla="val 12065"/>
              <a:gd name="adj4" fmla="val 90097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300720" y="3838680"/>
            <a:ext cx="1709640" cy="1404720"/>
          </a:xfrm>
          <a:prstGeom prst="rightArrowCallout">
            <a:avLst>
              <a:gd name="adj1" fmla="val 50005"/>
              <a:gd name="adj2" fmla="val 25000"/>
              <a:gd name="adj3" fmla="val 12052"/>
              <a:gd name="adj4" fmla="val 90097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76600" y="33400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未知"/>
          <p:cNvSpPr/>
          <p:nvPr/>
        </p:nvSpPr>
        <p:spPr>
          <a:xfrm>
            <a:off x="1090440" y="38448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未知"/>
          <p:cNvSpPr/>
          <p:nvPr/>
        </p:nvSpPr>
        <p:spPr>
          <a:xfrm>
            <a:off x="2833560" y="3844800"/>
            <a:ext cx="139248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未知"/>
          <p:cNvSpPr/>
          <p:nvPr/>
        </p:nvSpPr>
        <p:spPr>
          <a:xfrm>
            <a:off x="4548240" y="38448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未知"/>
          <p:cNvSpPr/>
          <p:nvPr/>
        </p:nvSpPr>
        <p:spPr>
          <a:xfrm>
            <a:off x="6303960" y="38448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2520" y="383868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1600" y="383868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40320" y="383868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97480" y="383868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10800000">
            <a:off x="971640" y="5346360"/>
            <a:ext cx="7200720" cy="318960"/>
          </a:xfrm>
          <a:custGeom>
            <a:avLst/>
            <a:gdLst>
              <a:gd name="textAreaLeft" fmla="*/ 583200 w 7200720"/>
              <a:gd name="textAreaRight" fmla="*/ 6617520 w 7200720"/>
              <a:gd name="textAreaTop" fmla="*/ 25560 h 318960"/>
              <a:gd name="textAreaBottom" fmla="*/ 29340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073160" y="33400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F639-2E82-4D33-8B0D-7CD2D9B344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29560 w 6537240"/>
              <a:gd name="textAreaRight" fmla="*/ 6007680 w 6537240"/>
              <a:gd name="textAreaTop" fmla="*/ 13320 h 166680"/>
              <a:gd name="textAreaBottom" fmla="*/ 15336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517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481360" y="63086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C53B-3B1B-4F3B-BF06-2FA7D4848F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88" name="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3" name="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600"/>
              <a:gd name="textAreaBottom" fmla="*/ 1591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97" name="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600"/>
              <a:gd name="textAreaBottom" fmla="*/ 1591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106" name="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1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1" name="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600"/>
              <a:gd name="textAreaBottom" fmla="*/ 1591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115" name="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11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8" name="" descr="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20" name="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960"/>
              <a:gd name="textAreaBottom" fmla="*/ 15948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5DCF-3E0A-4370-8AC5-008411C039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585" name="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5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8" name="" descr="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590" name="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59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9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3" name="" descr="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595" name="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5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8" name="" descr="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9" name="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04" name="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0000">
                  <a:alpha val="20000"/>
                </a:srgbClr>
              </a:gs>
              <a:gs pos="100000">
                <a:srgbClr val="99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87BF-31A3-4158-B315-25EB97B3CB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b2b2b2">
                  <a:alpha val="90196"/>
                </a:srgbClr>
              </a:gs>
              <a:gs pos="50000">
                <a:srgbClr val="ffffff"/>
              </a:gs>
              <a:gs pos="100000">
                <a:srgbClr val="b2b2b2">
                  <a:alpha val="90196"/>
                </a:srgbClr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b2b2b2">
                  <a:alpha val="90196"/>
                </a:srgbClr>
              </a:gs>
              <a:gs pos="50000">
                <a:srgbClr val="ffffff"/>
              </a:gs>
              <a:gs pos="100000">
                <a:srgbClr val="b2b2b2">
                  <a:alpha val="90196"/>
                </a:srgbClr>
              </a:gs>
            </a:gsLst>
            <a:lin ang="90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617" name="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618" name="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bc000d">
                      <a:alpha val="90196"/>
                    </a:srgbClr>
                  </a:gs>
                  <a:gs pos="100000">
                    <a:srgbClr val="ff0517"/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3" name="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100000">
                <a:srgbClr val="c6c6c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517"/>
              </a:gs>
              <a:gs pos="100000">
                <a:srgbClr val="fe495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c000d"/>
              </a:gs>
              <a:gs pos="100000">
                <a:srgbClr val="cd454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a0004"/>
              </a:gs>
              <a:gs pos="100000">
                <a:srgbClr val="6f454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3b3b"/>
              </a:gs>
              <a:gs pos="100000">
                <a:srgbClr val="fe70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eb44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9134-945B-41E6-825B-C19FA16019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未知"/>
          <p:cNvSpPr/>
          <p:nvPr/>
        </p:nvSpPr>
        <p:spPr>
          <a:xfrm>
            <a:off x="2494080" y="-3830760"/>
            <a:ext cx="4103640" cy="13738320"/>
          </a:xfrm>
          <a:custGeom>
            <a:avLst/>
            <a:gdLst/>
            <a:ahLst/>
            <a:rect l="l" t="t" r="r" b="b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55600 w 3157560"/>
              <a:gd name="textAreaRight" fmla="*/ 2901960 w 3157560"/>
              <a:gd name="textAreaTop" fmla="*/ 16200 h 201600"/>
              <a:gd name="textAreaBottom" fmla="*/ 1854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1720 w 3230640"/>
              <a:gd name="textAreaRight" fmla="*/ 2968920 w 3230640"/>
              <a:gd name="textAreaTop" fmla="*/ 16200 h 201600"/>
              <a:gd name="textAreaBottom" fmla="*/ 1854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222C-B0DA-4504-B6E0-FB88853DF8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3240"/>
            <a:ext cx="9144000" cy="31179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0" y="3111480"/>
            <a:ext cx="9144000" cy="3741840"/>
          </a:xfrm>
          <a:prstGeom prst="rect">
            <a:avLst/>
          </a:prstGeom>
          <a:gradFill rotWithShape="0">
            <a:gsLst>
              <a:gs pos="0">
                <a:srgbClr val="c02500"/>
              </a:gs>
              <a:gs pos="100000">
                <a:srgbClr val="460d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1811160"/>
            <a:ext cx="9144000" cy="2283120"/>
          </a:xfrm>
          <a:prstGeom prst="rect">
            <a:avLst/>
          </a:prstGeom>
          <a:gradFill rotWithShape="0">
            <a:gsLst>
              <a:gs pos="0">
                <a:srgbClr val="ffffff">
                  <a:alpha val="3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468360" y="409428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             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108240"/>
            <a:ext cx="91440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38C2-8C1A-4D9E-87B8-ED974C8B9D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9721-1B83-4AD3-9313-DD295F10DA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28" name="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3440 w 6480000"/>
              <a:gd name="textAreaRight" fmla="*/ 5776560 w 6480000"/>
              <a:gd name="textAreaTop" fmla="*/ 29160 h 268560"/>
              <a:gd name="textAreaBottom" fmla="*/ 23940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5" name="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3440 w 6480000"/>
              <a:gd name="textAreaRight" fmla="*/ 577656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2" name="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3440 w 6480000"/>
              <a:gd name="textAreaRight" fmla="*/ 577656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B77E-4F77-4F7A-AC17-D533687AE3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5240 w 4010040"/>
              <a:gd name="textAreaRight" fmla="*/ 3574800 w 4010040"/>
              <a:gd name="textAreaTop" fmla="*/ 20520 h 188640"/>
              <a:gd name="textAreaBottom" fmla="*/ 16812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5240 w 4010040"/>
              <a:gd name="textAreaRight" fmla="*/ 3574800 w 4010040"/>
              <a:gd name="textAreaTop" fmla="*/ 20520 h 188640"/>
              <a:gd name="textAreaBottom" fmla="*/ 16812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1150560" y="2948040"/>
            <a:ext cx="2087640" cy="141120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1150560" y="2722680"/>
            <a:ext cx="2087640" cy="217440"/>
          </a:xfrm>
          <a:custGeom>
            <a:avLst/>
            <a:gdLst>
              <a:gd name="textAreaLeft" fmla="*/ 463680 w 2087640"/>
              <a:gd name="textAreaRight" fmla="*/ 1623960 w 2087640"/>
              <a:gd name="textAreaTop" fmla="*/ 48240 h 217440"/>
              <a:gd name="textAreaBottom" fmla="*/ 1692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11" y="21600"/>
                </a:lnTo>
                <a:lnTo>
                  <a:pt x="5489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5240 w 4010040"/>
              <a:gd name="textAreaRight" fmla="*/ 35748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0" idx="1"/>
          </p:cNvCxnSpPr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bc000d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9" idx="0"/>
          </p:cNvCxnSpPr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bc000d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endCxn id="152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bc000d"/>
            </a:solidFill>
            <a:miter/>
            <a:tailEnd len="med" type="triangle" w="med"/>
          </a:ln>
        </p:spPr>
      </p:cxn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FC05-2BFB-430A-8FDC-09F17CE9A6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1800 w 2504880"/>
              <a:gd name="textAreaRight" fmla="*/ 2233080 w 2504880"/>
              <a:gd name="textAreaTop" fmla="*/ 24120 h 222120"/>
              <a:gd name="textAreaBottom" fmla="*/ 1980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1800 w 2505240"/>
              <a:gd name="textAreaRight" fmla="*/ 2233440 w 2505240"/>
              <a:gd name="textAreaTop" fmla="*/ 24120 h 222120"/>
              <a:gd name="textAreaBottom" fmla="*/ 1980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0" name="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1800 w 2505240"/>
              <a:gd name="textAreaRight" fmla="*/ 2233440 w 2505240"/>
              <a:gd name="textAreaTop" fmla="*/ 24120 h 222120"/>
              <a:gd name="textAreaBottom" fmla="*/ 1980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7" name="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57000" y="63086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569E-7F82-448C-9A84-9EB9FC34F2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971640" y="5460120"/>
            <a:ext cx="7200720" cy="319320"/>
          </a:xfrm>
          <a:custGeom>
            <a:avLst/>
            <a:gdLst>
              <a:gd name="textAreaLeft" fmla="*/ 583200 w 7200720"/>
              <a:gd name="textAreaRight" fmla="*/ 6617520 w 7200720"/>
              <a:gd name="textAreaTop" fmla="*/ 25560 h 319320"/>
              <a:gd name="textAreaBottom" fmla="*/ 29376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879E-27BA-4E82-9E61-0523AA63E6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3600000">
            <a:off x="4570200" y="2043000"/>
            <a:ext cx="3081240" cy="307800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3600000">
            <a:off x="5002200" y="2439720"/>
            <a:ext cx="2286000" cy="228312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3600000">
            <a:off x="1474560" y="2043000"/>
            <a:ext cx="3081240" cy="307800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3600000">
            <a:off x="1906560" y="2439720"/>
            <a:ext cx="2286000" cy="228312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193" name="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194" name="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bc000d">
                      <a:alpha val="90196"/>
                    </a:srgbClr>
                  </a:gs>
                  <a:gs pos="100000">
                    <a:srgbClr val="ff0517"/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未知"/>
            <p:cNvSpPr/>
            <p:nvPr/>
          </p:nvSpPr>
          <p:spPr>
            <a:xfrm rot="16200000">
              <a:off x="1168560" y="334980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 rot="5400000">
              <a:off x="131616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199" name="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00" name="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bc000d">
                      <a:alpha val="90196"/>
                    </a:srgbClr>
                  </a:gs>
                  <a:gs pos="100000">
                    <a:srgbClr val="ff0517"/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未知"/>
            <p:cNvSpPr/>
            <p:nvPr/>
          </p:nvSpPr>
          <p:spPr>
            <a:xfrm rot="16200000">
              <a:off x="4159440" y="327096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 rot="5400000">
              <a:off x="4357440" y="267948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05" name="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06" name="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bc000d">
                      <a:alpha val="90196"/>
                    </a:srgbClr>
                  </a:gs>
                  <a:gs pos="100000">
                    <a:srgbClr val="ff0517"/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未知"/>
            <p:cNvSpPr/>
            <p:nvPr/>
          </p:nvSpPr>
          <p:spPr>
            <a:xfrm rot="16200000">
              <a:off x="7359840" y="334980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 rot="5400000">
              <a:off x="750744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19" name="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21" name="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22" name="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732720" y="4221000"/>
            <a:ext cx="674640" cy="3437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0" r="0" b="44387"/>
          <a:stretch/>
        </p:blipFill>
        <p:spPr>
          <a:xfrm>
            <a:off x="4427640" y="4341960"/>
            <a:ext cx="981000" cy="251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0D02-9636-4C69-AE9A-B4CE0F5EA7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22440" y="1832040"/>
            <a:ext cx="7542000" cy="3636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960480" y="437508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60480" y="46609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60480" y="52419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003320" y="1950840"/>
            <a:ext cx="0" cy="32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60480" y="20700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60480" y="23558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60480" y="49561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60480" y="26510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60480" y="293688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60480" y="32227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60480" y="35082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60480" y="38037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60480" y="40892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15040" y="3297240"/>
            <a:ext cx="1209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94600" y="5343480"/>
            <a:ext cx="1761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53120" y="197496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91280" y="235584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60840" y="5343480"/>
            <a:ext cx="1771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51400" y="4545000"/>
            <a:ext cx="190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6320" y="3801960"/>
            <a:ext cx="120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8640" y="5343480"/>
            <a:ext cx="1762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19440" y="4282920"/>
            <a:ext cx="120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84520" y="4802040"/>
            <a:ext cx="190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57520" y="379404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24400" y="324180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53200" y="2940120"/>
            <a:ext cx="120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18280" y="4159080"/>
            <a:ext cx="190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32400" y="5343480"/>
            <a:ext cx="1762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80120" y="4307040"/>
            <a:ext cx="1908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44920" y="5740560"/>
            <a:ext cx="183528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95680" y="5850000"/>
            <a:ext cx="93600" cy="93600"/>
          </a:xfrm>
          <a:prstGeom prst="rect">
            <a:avLst/>
          </a:prstGeom>
          <a:solidFill>
            <a:srgbClr val="3a0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5837400"/>
            <a:ext cx="93600" cy="93600"/>
          </a:xfrm>
          <a:prstGeom prst="rect">
            <a:avLst/>
          </a:prstGeom>
          <a:solidFill>
            <a:srgbClr val="bc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67120" y="5837400"/>
            <a:ext cx="93960" cy="93600"/>
          </a:xfrm>
          <a:prstGeom prst="rect">
            <a:avLst/>
          </a:prstGeom>
          <a:solidFill>
            <a:srgbClr val="ff05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35480" y="5813280"/>
            <a:ext cx="336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S"/>
                <a:ea typeface="宋体"/>
              </a:rPr>
              <a:t>项目二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11840" y="5813280"/>
            <a:ext cx="336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S"/>
                <a:ea typeface="宋体"/>
              </a:rPr>
              <a:t>项目三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40040" y="5826240"/>
            <a:ext cx="336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S"/>
                <a:ea typeface="宋体"/>
              </a:rPr>
              <a:t>项目一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0749-F334-4A8B-AFA8-3CF20FFE82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594720 w 7344000"/>
              <a:gd name="textAreaRight" fmla="*/ 6749280 w 7344000"/>
              <a:gd name="textAreaTop" fmla="*/ 24120 h 299880"/>
              <a:gd name="textAreaBottom" fmla="*/ 27576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bc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bc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594720 w 7344000"/>
              <a:gd name="textAreaRight" fmla="*/ 6749280 w 7344000"/>
              <a:gd name="textAreaTop" fmla="*/ 1224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1CD2-4B95-440B-9923-936872AE63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http://www.eeppt.com</dc:creator>
  <dc:description>ppt模板下载网站 http://www.eeppt.com</dc:description>
  <dc:language>en-US</dc:language>
  <cp:lastModifiedBy/>
  <dcterms:modified xsi:type="dcterms:W3CDTF">2015-06-14T07:28:57Z</dcterms:modified>
  <cp:revision>2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