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7F4-0BB2-49DC-B211-C201DF8E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4FD-D9BC-4FFF-8C63-EA70F352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BEF-255F-4D8E-A038-7FA8C6C5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83E-91BB-4C27-B302-54D5C242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32AC-F44B-4B26-96FC-BADFE512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8C6-EB93-432F-B1D4-3293B67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198-7ED8-4710-B2B5-DDFA902B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1991-91EC-4E63-B3B0-1E96ED31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158-3700-4669-B040-146C5ACC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545-3799-4B2F-B153-37A8206F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032C-3985-495C-B782-70E8D6A8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72C-24CE-4ECD-9969-8EAB16B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C3D2-A018-4345-AAC2-E6DFF51C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18D-1454-48CF-9AE0-261ED84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047-B6BC-41C7-B7F9-78392D69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4A5-3B6D-4981-8670-95A044D4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3C1-5047-45E2-99CF-03C5931E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DC6-8101-41CB-82C8-0EA75DD6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1FC-AA72-4D34-AB8D-C0EE345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F11-30A2-4BD1-B5CF-6B7A6FFC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A04-FDF8-4B76-A7C5-FAC3A7D4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7E7-6641-4AC7-A65D-05F78A1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E56-4B4A-4985-B824-CD68196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6C6-609E-4BAC-842C-9E72208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图片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10F-7055-4DA5-96A4-6F2EAB5FFB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图片2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图片1.jpg"/>
          <p:cNvPicPr/>
          <p:nvPr/>
        </p:nvPicPr>
        <p:blipFill>
          <a:blip r:embed="rId4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049A-5F42-4E50-BB0B-E5076BFA5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轻气球商务类</a:t>
            </a: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内容占位符 3"/>
          <p:cNvSpPr/>
          <p:nvPr/>
        </p:nvSpPr>
        <p:spPr>
          <a:xfrm>
            <a:off x="468360" y="112536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AutoShape 144"/>
          <p:cNvSpPr/>
          <p:nvPr/>
        </p:nvSpPr>
        <p:spPr>
          <a:xfrm>
            <a:off x="1785960" y="1428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89080" y="1428840"/>
            <a:ext cx="655560" cy="547560"/>
            <a:chOff x="1189080" y="1428840"/>
            <a:chExt cx="655560" cy="547560"/>
          </a:xfrm>
        </p:grpSpPr>
        <p:sp>
          <p:nvSpPr>
            <p:cNvPr id="93" name="Rectangle 7"/>
            <p:cNvSpPr/>
            <p:nvPr/>
          </p:nvSpPr>
          <p:spPr>
            <a:xfrm>
              <a:off x="1189080" y="142884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189080" y="143172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1195200" y="14414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flipH="1">
              <a:off x="1781280" y="143496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144"/>
          <p:cNvSpPr/>
          <p:nvPr/>
        </p:nvSpPr>
        <p:spPr>
          <a:xfrm>
            <a:off x="1785960" y="225576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89080" y="2255760"/>
            <a:ext cx="655560" cy="547920"/>
            <a:chOff x="1189080" y="2255760"/>
            <a:chExt cx="655560" cy="547920"/>
          </a:xfrm>
        </p:grpSpPr>
        <p:sp>
          <p:nvSpPr>
            <p:cNvPr id="99" name="Rectangle 7"/>
            <p:cNvSpPr/>
            <p:nvPr/>
          </p:nvSpPr>
          <p:spPr>
            <a:xfrm>
              <a:off x="1189080" y="225576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1189080" y="2258640"/>
              <a:ext cx="63360" cy="54180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1195200" y="22586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1781280" y="2261880"/>
              <a:ext cx="63360" cy="54180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144"/>
          <p:cNvSpPr/>
          <p:nvPr/>
        </p:nvSpPr>
        <p:spPr>
          <a:xfrm>
            <a:off x="1785960" y="30830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77920" y="3084480"/>
            <a:ext cx="654120" cy="549360"/>
            <a:chOff x="1177920" y="3084480"/>
            <a:chExt cx="654120" cy="549360"/>
          </a:xfrm>
        </p:grpSpPr>
        <p:sp>
          <p:nvSpPr>
            <p:cNvPr id="105" name="Rectangle 7"/>
            <p:cNvSpPr/>
            <p:nvPr/>
          </p:nvSpPr>
          <p:spPr>
            <a:xfrm>
              <a:off x="1177920" y="308448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177920" y="3087360"/>
              <a:ext cx="63360" cy="5432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1184040" y="3087360"/>
              <a:ext cx="64620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 flipH="1">
              <a:off x="1768680" y="3090600"/>
              <a:ext cx="63360" cy="5432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44"/>
          <p:cNvSpPr/>
          <p:nvPr/>
        </p:nvSpPr>
        <p:spPr>
          <a:xfrm>
            <a:off x="1785960" y="3919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62080" y="3911760"/>
            <a:ext cx="655560" cy="547560"/>
            <a:chOff x="1162080" y="3911760"/>
            <a:chExt cx="655560" cy="547560"/>
          </a:xfrm>
        </p:grpSpPr>
        <p:sp>
          <p:nvSpPr>
            <p:cNvPr id="111" name="Rectangle 7"/>
            <p:cNvSpPr/>
            <p:nvPr/>
          </p:nvSpPr>
          <p:spPr>
            <a:xfrm>
              <a:off x="1162080" y="391176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1162080" y="391464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1168200" y="3914640"/>
              <a:ext cx="64764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 flipH="1">
              <a:off x="1754280" y="391788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44"/>
          <p:cNvSpPr/>
          <p:nvPr/>
        </p:nvSpPr>
        <p:spPr>
          <a:xfrm>
            <a:off x="1785960" y="47401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79360" y="4738680"/>
            <a:ext cx="654120" cy="547560"/>
            <a:chOff x="1179360" y="4738680"/>
            <a:chExt cx="654120" cy="547560"/>
          </a:xfrm>
        </p:grpSpPr>
        <p:sp>
          <p:nvSpPr>
            <p:cNvPr id="117" name="Rectangle 7"/>
            <p:cNvSpPr/>
            <p:nvPr/>
          </p:nvSpPr>
          <p:spPr>
            <a:xfrm>
              <a:off x="1179360" y="4738680"/>
              <a:ext cx="65268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1179360" y="474156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1185480" y="4741560"/>
              <a:ext cx="646200" cy="1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1770120" y="4744800"/>
              <a:ext cx="63360" cy="54144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空心弧 3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空心弧 4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空心弧 5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81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空心弧 6"/>
          <p:cNvSpPr/>
          <p:nvPr/>
        </p:nvSpPr>
        <p:spPr>
          <a:xfrm>
            <a:off x="4745160" y="2014560"/>
            <a:ext cx="3213000" cy="321480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108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791680" y="4644360"/>
            <a:ext cx="1097640" cy="1099080"/>
            <a:chOff x="5791680" y="4644360"/>
            <a:chExt cx="1097640" cy="1099080"/>
          </a:xfrm>
        </p:grpSpPr>
        <p:grpSp>
          <p:nvGrpSpPr>
            <p:cNvPr id="127" name=""/>
            <p:cNvGrpSpPr/>
            <p:nvPr/>
          </p:nvGrpSpPr>
          <p:grpSpPr>
            <a:xfrm>
              <a:off x="5791680" y="4644360"/>
              <a:ext cx="1097640" cy="1099080"/>
              <a:chOff x="5791680" y="4644360"/>
              <a:chExt cx="1097640" cy="1099080"/>
            </a:xfrm>
          </p:grpSpPr>
          <p:sp>
            <p:nvSpPr>
              <p:cNvPr id="128" name="椭圆 10"/>
              <p:cNvSpPr/>
              <p:nvPr/>
            </p:nvSpPr>
            <p:spPr>
              <a:xfrm rot="21397200">
                <a:off x="5821200" y="4673880"/>
                <a:ext cx="1038240" cy="10396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11"/>
              <p:cNvSpPr/>
              <p:nvPr/>
            </p:nvSpPr>
            <p:spPr>
              <a:xfrm rot="21397200">
                <a:off x="5940000" y="4672440"/>
                <a:ext cx="771480" cy="669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9"/>
            <p:cNvSpPr/>
            <p:nvPr/>
          </p:nvSpPr>
          <p:spPr>
            <a:xfrm>
              <a:off x="5976360" y="5033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19920" y="3067560"/>
            <a:ext cx="1095840" cy="1099080"/>
            <a:chOff x="4219920" y="3067560"/>
            <a:chExt cx="1095840" cy="1099080"/>
          </a:xfrm>
        </p:grpSpPr>
        <p:grpSp>
          <p:nvGrpSpPr>
            <p:cNvPr id="132" name=""/>
            <p:cNvGrpSpPr/>
            <p:nvPr/>
          </p:nvGrpSpPr>
          <p:grpSpPr>
            <a:xfrm>
              <a:off x="4219920" y="3067560"/>
              <a:ext cx="1095840" cy="1099080"/>
              <a:chOff x="4219920" y="3067560"/>
              <a:chExt cx="1095840" cy="1099080"/>
            </a:xfrm>
          </p:grpSpPr>
          <p:sp>
            <p:nvSpPr>
              <p:cNvPr id="133" name="椭圆 15"/>
              <p:cNvSpPr/>
              <p:nvPr/>
            </p:nvSpPr>
            <p:spPr>
              <a:xfrm rot="21397200">
                <a:off x="4249440" y="3097080"/>
                <a:ext cx="1036440" cy="10396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16"/>
              <p:cNvSpPr/>
              <p:nvPr/>
            </p:nvSpPr>
            <p:spPr>
              <a:xfrm rot="21397200">
                <a:off x="4368600" y="309744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14"/>
            <p:cNvSpPr/>
            <p:nvPr/>
          </p:nvSpPr>
          <p:spPr>
            <a:xfrm>
              <a:off x="4404240" y="3458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07240" y="1535040"/>
            <a:ext cx="1049040" cy="857160"/>
            <a:chOff x="5907240" y="1535040"/>
            <a:chExt cx="1049040" cy="857160"/>
          </a:xfrm>
        </p:grpSpPr>
        <p:sp>
          <p:nvSpPr>
            <p:cNvPr id="137" name="椭圆 6"/>
            <p:cNvSpPr/>
            <p:nvPr/>
          </p:nvSpPr>
          <p:spPr>
            <a:xfrm>
              <a:off x="5970600" y="1535040"/>
              <a:ext cx="768240" cy="66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3"/>
            <p:cNvSpPr/>
            <p:nvPr/>
          </p:nvSpPr>
          <p:spPr>
            <a:xfrm>
              <a:off x="5907240" y="1917720"/>
              <a:ext cx="10490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63080" y="3069000"/>
            <a:ext cx="1096560" cy="1100880"/>
            <a:chOff x="7363080" y="3069000"/>
            <a:chExt cx="1096560" cy="1100880"/>
          </a:xfrm>
        </p:grpSpPr>
        <p:grpSp>
          <p:nvGrpSpPr>
            <p:cNvPr id="140" name=""/>
            <p:cNvGrpSpPr/>
            <p:nvPr/>
          </p:nvGrpSpPr>
          <p:grpSpPr>
            <a:xfrm>
              <a:off x="7363080" y="3069000"/>
              <a:ext cx="1096560" cy="1100880"/>
              <a:chOff x="7363080" y="3069000"/>
              <a:chExt cx="1096560" cy="1100880"/>
            </a:xfrm>
          </p:grpSpPr>
          <p:sp>
            <p:nvSpPr>
              <p:cNvPr id="141" name="椭圆 23"/>
              <p:cNvSpPr/>
              <p:nvPr/>
            </p:nvSpPr>
            <p:spPr>
              <a:xfrm rot="21397200">
                <a:off x="7392600" y="3098520"/>
                <a:ext cx="1036800" cy="104148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24"/>
              <p:cNvSpPr/>
              <p:nvPr/>
            </p:nvSpPr>
            <p:spPr>
              <a:xfrm rot="21397200">
                <a:off x="7511760" y="3097440"/>
                <a:ext cx="771840" cy="670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Box 22"/>
            <p:cNvSpPr/>
            <p:nvPr/>
          </p:nvSpPr>
          <p:spPr>
            <a:xfrm>
              <a:off x="7547400" y="3461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8"/>
          <p:cNvSpPr/>
          <p:nvPr/>
        </p:nvSpPr>
        <p:spPr>
          <a:xfrm>
            <a:off x="5738760" y="3443400"/>
            <a:ext cx="143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37240" y="2921040"/>
            <a:ext cx="1411200" cy="1496880"/>
            <a:chOff x="5637240" y="2921040"/>
            <a:chExt cx="1411200" cy="1496880"/>
          </a:xfrm>
        </p:grpSpPr>
        <p:pic>
          <p:nvPicPr>
            <p:cNvPr id="146" name="Picture 15" descr="light_shadow"/>
            <p:cNvPicPr/>
            <p:nvPr/>
          </p:nvPicPr>
          <p:blipFill>
            <a:blip r:embed="rId1"/>
            <a:stretch/>
          </p:blipFill>
          <p:spPr>
            <a:xfrm>
              <a:off x="5803920" y="4209120"/>
              <a:ext cx="1101960" cy="2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椭圆 9"/>
            <p:cNvSpPr/>
            <p:nvPr/>
          </p:nvSpPr>
          <p:spPr>
            <a:xfrm>
              <a:off x="5637240" y="2925720"/>
              <a:ext cx="1411200" cy="1413000"/>
            </a:xfrm>
            <a:prstGeom prst="ellipse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0"/>
            <p:cNvSpPr/>
            <p:nvPr/>
          </p:nvSpPr>
          <p:spPr>
            <a:xfrm>
              <a:off x="5827680" y="2921040"/>
              <a:ext cx="1050840" cy="906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6"/>
            <p:cNvSpPr/>
            <p:nvPr/>
          </p:nvSpPr>
          <p:spPr>
            <a:xfrm>
              <a:off x="5784480" y="3355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37400" y="1539360"/>
            <a:ext cx="1097640" cy="1098720"/>
            <a:chOff x="5837400" y="1539360"/>
            <a:chExt cx="1097640" cy="1098720"/>
          </a:xfrm>
        </p:grpSpPr>
        <p:grpSp>
          <p:nvGrpSpPr>
            <p:cNvPr id="151" name=""/>
            <p:cNvGrpSpPr/>
            <p:nvPr/>
          </p:nvGrpSpPr>
          <p:grpSpPr>
            <a:xfrm>
              <a:off x="5837400" y="1539360"/>
              <a:ext cx="1097640" cy="1098720"/>
              <a:chOff x="5837400" y="1539360"/>
              <a:chExt cx="1097640" cy="1098720"/>
            </a:xfrm>
          </p:grpSpPr>
          <p:sp>
            <p:nvSpPr>
              <p:cNvPr id="152" name="椭圆 34"/>
              <p:cNvSpPr/>
              <p:nvPr/>
            </p:nvSpPr>
            <p:spPr>
              <a:xfrm rot="21397200">
                <a:off x="5866920" y="1568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5"/>
              <p:cNvSpPr/>
              <p:nvPr/>
            </p:nvSpPr>
            <p:spPr>
              <a:xfrm rot="21397200">
                <a:off x="5986080" y="156888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3"/>
            <p:cNvSpPr/>
            <p:nvPr/>
          </p:nvSpPr>
          <p:spPr>
            <a:xfrm>
              <a:off x="6022440" y="1929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圆角矩形 36"/>
          <p:cNvSpPr/>
          <p:nvPr/>
        </p:nvSpPr>
        <p:spPr>
          <a:xfrm>
            <a:off x="928800" y="2098800"/>
            <a:ext cx="3000240" cy="3286080"/>
          </a:xfrm>
          <a:custGeom>
            <a:avLst/>
            <a:gdLst>
              <a:gd name="textAreaLeft" fmla="*/ 6120 w 3000240"/>
              <a:gd name="textAreaRight" fmla="*/ 2994120 w 3000240"/>
              <a:gd name="textAreaTop" fmla="*/ 6120 h 3286080"/>
              <a:gd name="textAreaBottom" fmla="*/ 3279960 h 3286080"/>
            </a:gdLst>
            <a:ahLst/>
            <a:rect l="textAreaLeft" t="textAreaTop" r="textAreaRight" b="textAreaBottom"/>
            <a:pathLst>
              <a:path w="21600" h="23658">
                <a:moveTo>
                  <a:pt x="151" y="0"/>
                </a:moveTo>
                <a:arcTo wR="151" hR="151" stAng="16200000" swAng="-5400000"/>
                <a:lnTo>
                  <a:pt x="0" y="23507"/>
                </a:lnTo>
                <a:arcTo wR="151" hR="151" stAng="10800000" swAng="-5400000"/>
                <a:lnTo>
                  <a:pt x="21449" y="23658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28800" y="1571760"/>
            <a:ext cx="3000240" cy="490320"/>
            <a:chOff x="928800" y="1571760"/>
            <a:chExt cx="3000240" cy="490320"/>
          </a:xfrm>
        </p:grpSpPr>
        <p:sp>
          <p:nvSpPr>
            <p:cNvPr id="157" name="圆角矩形 40"/>
            <p:cNvSpPr/>
            <p:nvPr/>
          </p:nvSpPr>
          <p:spPr>
            <a:xfrm>
              <a:off x="928800" y="1571760"/>
              <a:ext cx="3000240" cy="49032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928800" y="1581120"/>
              <a:ext cx="3000240" cy="14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201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49236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4"/>
          <p:cNvSpPr/>
          <p:nvPr/>
        </p:nvSpPr>
        <p:spPr>
          <a:xfrm>
            <a:off x="603252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947880" y="2643120"/>
            <a:ext cx="2111400" cy="271476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2714760"/>
              <a:gd name="textAreaBottom" fmla="*/ 2710440 h 2714760"/>
            </a:gdLst>
            <a:ahLst/>
            <a:rect l="textAreaLeft" t="textAreaTop" r="textAreaRight" b="textAreaBottom"/>
            <a:pathLst>
              <a:path w="21600" h="27771">
                <a:moveTo>
                  <a:pt x="151" y="0"/>
                </a:moveTo>
                <a:arcTo wR="151" hR="151" stAng="16200000" swAng="-5400000"/>
                <a:lnTo>
                  <a:pt x="0" y="27620"/>
                </a:lnTo>
                <a:arcTo wR="151" hR="151" stAng="10800000" swAng="-5400000"/>
                <a:lnTo>
                  <a:pt x="21449" y="27771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169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70120" y="1662120"/>
            <a:ext cx="2286000" cy="1181160"/>
            <a:chOff x="870120" y="1662120"/>
            <a:chExt cx="2286000" cy="1181160"/>
          </a:xfrm>
        </p:grpSpPr>
        <p:sp>
          <p:nvSpPr>
            <p:cNvPr id="165" name="圆角矩形 7"/>
            <p:cNvSpPr/>
            <p:nvPr/>
          </p:nvSpPr>
          <p:spPr>
            <a:xfrm>
              <a:off x="870120" y="1662120"/>
              <a:ext cx="2278440" cy="997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883800" y="2636640"/>
              <a:ext cx="2272320" cy="206640"/>
              <a:chOff x="883800" y="2636640"/>
              <a:chExt cx="2272320" cy="206640"/>
            </a:xfrm>
          </p:grpSpPr>
          <p:pic>
            <p:nvPicPr>
              <p:cNvPr id="167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83800" y="2636640"/>
                <a:ext cx="227232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887040" y="2643120"/>
                <a:ext cx="226116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Freeform 13"/>
            <p:cNvSpPr/>
            <p:nvPr/>
          </p:nvSpPr>
          <p:spPr>
            <a:xfrm>
              <a:off x="898560" y="1671480"/>
              <a:ext cx="2227680" cy="21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92640" y="1662120"/>
            <a:ext cx="2287440" cy="1179360"/>
            <a:chOff x="3392640" y="1662120"/>
            <a:chExt cx="2287440" cy="1179360"/>
          </a:xfrm>
        </p:grpSpPr>
        <p:sp>
          <p:nvSpPr>
            <p:cNvPr id="171" name="圆角矩形 11"/>
            <p:cNvSpPr/>
            <p:nvPr/>
          </p:nvSpPr>
          <p:spPr>
            <a:xfrm>
              <a:off x="3392640" y="1662120"/>
              <a:ext cx="2286360" cy="995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401640" y="2635200"/>
              <a:ext cx="2278440" cy="206280"/>
              <a:chOff x="3401640" y="2635200"/>
              <a:chExt cx="2278440" cy="206280"/>
            </a:xfrm>
          </p:grpSpPr>
          <p:pic>
            <p:nvPicPr>
              <p:cNvPr id="173" name="任意多边形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01640" y="2635200"/>
                <a:ext cx="2278440" cy="2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408120" y="2640240"/>
                <a:ext cx="226728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3"/>
            <p:cNvSpPr/>
            <p:nvPr/>
          </p:nvSpPr>
          <p:spPr>
            <a:xfrm>
              <a:off x="3419280" y="1671480"/>
              <a:ext cx="2232360" cy="21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29200" y="1662120"/>
            <a:ext cx="2286000" cy="1179360"/>
            <a:chOff x="5929200" y="1662120"/>
            <a:chExt cx="2286000" cy="1179360"/>
          </a:xfrm>
        </p:grpSpPr>
        <p:sp>
          <p:nvSpPr>
            <p:cNvPr id="177" name="圆角矩形 15"/>
            <p:cNvSpPr/>
            <p:nvPr/>
          </p:nvSpPr>
          <p:spPr>
            <a:xfrm>
              <a:off x="5929200" y="1662120"/>
              <a:ext cx="2284200" cy="995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37120" y="2635200"/>
              <a:ext cx="2278080" cy="206280"/>
              <a:chOff x="5937120" y="2635200"/>
              <a:chExt cx="2278080" cy="206280"/>
            </a:xfrm>
          </p:grpSpPr>
          <p:pic>
            <p:nvPicPr>
              <p:cNvPr id="179" name="任意多边形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937120" y="2635200"/>
                <a:ext cx="2278080" cy="2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944680" y="2640240"/>
                <a:ext cx="226692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13"/>
            <p:cNvSpPr/>
            <p:nvPr/>
          </p:nvSpPr>
          <p:spPr>
            <a:xfrm>
              <a:off x="5959080" y="1671480"/>
              <a:ext cx="2233440" cy="21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63817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商务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圆角矩形 3"/>
          <p:cNvSpPr/>
          <p:nvPr/>
        </p:nvSpPr>
        <p:spPr>
          <a:xfrm>
            <a:off x="2684520" y="2482920"/>
            <a:ext cx="5643360" cy="8269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4"/>
          <p:cNvSpPr/>
          <p:nvPr/>
        </p:nvSpPr>
        <p:spPr>
          <a:xfrm>
            <a:off x="2684520" y="353844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"/>
          <p:cNvSpPr/>
          <p:nvPr/>
        </p:nvSpPr>
        <p:spPr>
          <a:xfrm>
            <a:off x="2684520" y="459576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6"/>
          <p:cNvSpPr/>
          <p:nvPr/>
        </p:nvSpPr>
        <p:spPr>
          <a:xfrm>
            <a:off x="2684520" y="1428840"/>
            <a:ext cx="5643360" cy="8287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85880" y="1428840"/>
            <a:ext cx="1944720" cy="895320"/>
            <a:chOff x="785880" y="1428840"/>
            <a:chExt cx="1944720" cy="895320"/>
          </a:xfrm>
        </p:grpSpPr>
        <p:sp>
          <p:nvSpPr>
            <p:cNvPr id="189" name="圆角矩形 8"/>
            <p:cNvSpPr/>
            <p:nvPr/>
          </p:nvSpPr>
          <p:spPr>
            <a:xfrm>
              <a:off x="785880" y="1428840"/>
              <a:ext cx="1928880" cy="8247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98480" y="2245320"/>
              <a:ext cx="1920600" cy="78840"/>
              <a:chOff x="798480" y="2245320"/>
              <a:chExt cx="1920600" cy="78840"/>
            </a:xfrm>
          </p:grpSpPr>
          <p:pic>
            <p:nvPicPr>
              <p:cNvPr id="191" name="任意多边形 9" descr=""/>
              <p:cNvPicPr/>
              <p:nvPr/>
            </p:nvPicPr>
            <p:blipFill>
              <a:blip r:embed="rId1"/>
              <a:stretch/>
            </p:blipFill>
            <p:spPr>
              <a:xfrm>
                <a:off x="798480" y="2245320"/>
                <a:ext cx="192060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806040" y="2248560"/>
                <a:ext cx="190872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13"/>
            <p:cNvSpPr/>
            <p:nvPr/>
          </p:nvSpPr>
          <p:spPr>
            <a:xfrm>
              <a:off x="785880" y="1438200"/>
              <a:ext cx="1944720" cy="13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84080" y="2484360"/>
            <a:ext cx="1943280" cy="892080"/>
            <a:chOff x="784080" y="2484360"/>
            <a:chExt cx="1943280" cy="892080"/>
          </a:xfrm>
        </p:grpSpPr>
        <p:sp>
          <p:nvSpPr>
            <p:cNvPr id="195" name="圆角矩形 12"/>
            <p:cNvSpPr/>
            <p:nvPr/>
          </p:nvSpPr>
          <p:spPr>
            <a:xfrm>
              <a:off x="785520" y="2484360"/>
              <a:ext cx="1929240" cy="821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92000" y="3291840"/>
              <a:ext cx="1914480" cy="84600"/>
              <a:chOff x="792000" y="3291840"/>
              <a:chExt cx="1914480" cy="84600"/>
            </a:xfrm>
          </p:grpSpPr>
          <p:pic>
            <p:nvPicPr>
              <p:cNvPr id="197" name="任意多边形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00" y="3291840"/>
                <a:ext cx="191448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796320" y="3299040"/>
                <a:ext cx="190728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Freeform 13"/>
            <p:cNvSpPr/>
            <p:nvPr/>
          </p:nvSpPr>
          <p:spPr>
            <a:xfrm>
              <a:off x="784080" y="2491920"/>
              <a:ext cx="1943280" cy="12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85880" y="3541680"/>
            <a:ext cx="1944720" cy="897120"/>
            <a:chOff x="785880" y="3541680"/>
            <a:chExt cx="1944720" cy="897120"/>
          </a:xfrm>
        </p:grpSpPr>
        <p:sp>
          <p:nvSpPr>
            <p:cNvPr id="201" name="圆角矩形 16"/>
            <p:cNvSpPr/>
            <p:nvPr/>
          </p:nvSpPr>
          <p:spPr>
            <a:xfrm>
              <a:off x="785880" y="3541680"/>
              <a:ext cx="192888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86240" y="4354200"/>
              <a:ext cx="1926720" cy="84600"/>
              <a:chOff x="786240" y="4354200"/>
              <a:chExt cx="1926720" cy="84600"/>
            </a:xfrm>
          </p:grpSpPr>
          <p:pic>
            <p:nvPicPr>
              <p:cNvPr id="203" name="任意多边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786240" y="4354200"/>
                <a:ext cx="192672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794880" y="4362480"/>
                <a:ext cx="191016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13"/>
            <p:cNvSpPr/>
            <p:nvPr/>
          </p:nvSpPr>
          <p:spPr>
            <a:xfrm>
              <a:off x="785880" y="3552480"/>
              <a:ext cx="1944720" cy="12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85880" y="4600440"/>
            <a:ext cx="1952640" cy="900360"/>
            <a:chOff x="785880" y="4600440"/>
            <a:chExt cx="1952640" cy="900360"/>
          </a:xfrm>
        </p:grpSpPr>
        <p:sp>
          <p:nvSpPr>
            <p:cNvPr id="207" name="圆角矩形 20"/>
            <p:cNvSpPr/>
            <p:nvPr/>
          </p:nvSpPr>
          <p:spPr>
            <a:xfrm>
              <a:off x="791280" y="4600440"/>
              <a:ext cx="1923480" cy="8254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85880" y="5421960"/>
              <a:ext cx="1914840" cy="78840"/>
              <a:chOff x="785880" y="5421960"/>
              <a:chExt cx="1914840" cy="78840"/>
            </a:xfrm>
          </p:grpSpPr>
          <p:pic>
            <p:nvPicPr>
              <p:cNvPr id="209" name="任意多边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542196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791280" y="542556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Freeform 13"/>
            <p:cNvSpPr/>
            <p:nvPr/>
          </p:nvSpPr>
          <p:spPr>
            <a:xfrm>
              <a:off x="799200" y="4605120"/>
              <a:ext cx="1939320" cy="12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下箭头 23"/>
          <p:cNvSpPr/>
          <p:nvPr/>
        </p:nvSpPr>
        <p:spPr>
          <a:xfrm>
            <a:off x="1519200" y="43164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下箭头 24"/>
          <p:cNvSpPr/>
          <p:nvPr/>
        </p:nvSpPr>
        <p:spPr>
          <a:xfrm>
            <a:off x="1519200" y="326556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下箭头 25"/>
          <p:cNvSpPr/>
          <p:nvPr/>
        </p:nvSpPr>
        <p:spPr>
          <a:xfrm>
            <a:off x="1519200" y="2214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28040" y="1071360"/>
            <a:ext cx="5909760" cy="4803840"/>
            <a:chOff x="428040" y="1071360"/>
            <a:chExt cx="5909760" cy="4803840"/>
          </a:xfrm>
        </p:grpSpPr>
        <p:sp>
          <p:nvSpPr>
            <p:cNvPr id="217" name="Freeform 70"/>
            <p:cNvSpPr/>
            <p:nvPr/>
          </p:nvSpPr>
          <p:spPr>
            <a:xfrm rot="252600">
              <a:off x="488520" y="1459080"/>
              <a:ext cx="2281320" cy="174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 rot="252600">
              <a:off x="3819240" y="5607000"/>
              <a:ext cx="309240" cy="257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5"/>
            <p:cNvSpPr/>
            <p:nvPr/>
          </p:nvSpPr>
          <p:spPr>
            <a:xfrm rot="252600">
              <a:off x="3824280" y="5619600"/>
              <a:ext cx="291960" cy="231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 rot="252600">
              <a:off x="3981240" y="4920120"/>
              <a:ext cx="901440" cy="690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 rot="252600">
              <a:off x="2568240" y="4329360"/>
              <a:ext cx="1011240" cy="108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9"/>
            <p:cNvSpPr/>
            <p:nvPr/>
          </p:nvSpPr>
          <p:spPr>
            <a:xfrm rot="252600">
              <a:off x="3405240" y="4783320"/>
              <a:ext cx="860400" cy="642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0"/>
            <p:cNvSpPr/>
            <p:nvPr/>
          </p:nvSpPr>
          <p:spPr>
            <a:xfrm rot="252600">
              <a:off x="5241600" y="4896000"/>
              <a:ext cx="206280" cy="474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1"/>
            <p:cNvSpPr/>
            <p:nvPr/>
          </p:nvSpPr>
          <p:spPr>
            <a:xfrm rot="252600">
              <a:off x="5249520" y="4908600"/>
              <a:ext cx="188640" cy="446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2"/>
            <p:cNvSpPr/>
            <p:nvPr/>
          </p:nvSpPr>
          <p:spPr>
            <a:xfrm rot="252600">
              <a:off x="4772160" y="4521600"/>
              <a:ext cx="477720" cy="625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3"/>
            <p:cNvSpPr/>
            <p:nvPr/>
          </p:nvSpPr>
          <p:spPr>
            <a:xfrm rot="252600">
              <a:off x="3321000" y="4367520"/>
              <a:ext cx="693720" cy="61092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4"/>
            <p:cNvSpPr/>
            <p:nvPr/>
          </p:nvSpPr>
          <p:spPr>
            <a:xfrm rot="252600">
              <a:off x="3914640" y="4273560"/>
              <a:ext cx="620640" cy="741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5"/>
            <p:cNvSpPr/>
            <p:nvPr/>
          </p:nvSpPr>
          <p:spPr>
            <a:xfrm rot="252600">
              <a:off x="4471560" y="4275000"/>
              <a:ext cx="544320" cy="768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6"/>
            <p:cNvSpPr/>
            <p:nvPr/>
          </p:nvSpPr>
          <p:spPr>
            <a:xfrm rot="252600">
              <a:off x="2665080" y="3668760"/>
              <a:ext cx="1122120" cy="1109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7"/>
            <p:cNvSpPr/>
            <p:nvPr/>
          </p:nvSpPr>
          <p:spPr>
            <a:xfrm rot="252600">
              <a:off x="601560" y="3089160"/>
              <a:ext cx="2255760" cy="137772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8"/>
            <p:cNvSpPr/>
            <p:nvPr/>
          </p:nvSpPr>
          <p:spPr>
            <a:xfrm rot="252600">
              <a:off x="4987440" y="4218120"/>
              <a:ext cx="422280" cy="426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9"/>
            <p:cNvSpPr/>
            <p:nvPr/>
          </p:nvSpPr>
          <p:spPr>
            <a:xfrm rot="252600">
              <a:off x="3556080" y="3964320"/>
              <a:ext cx="531720" cy="564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0"/>
            <p:cNvSpPr/>
            <p:nvPr/>
          </p:nvSpPr>
          <p:spPr>
            <a:xfrm rot="252600">
              <a:off x="3901680" y="3887640"/>
              <a:ext cx="868320" cy="53820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1"/>
            <p:cNvSpPr/>
            <p:nvPr/>
          </p:nvSpPr>
          <p:spPr>
            <a:xfrm rot="252600">
              <a:off x="4627080" y="3679920"/>
              <a:ext cx="536400" cy="66168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2"/>
            <p:cNvSpPr/>
            <p:nvPr/>
          </p:nvSpPr>
          <p:spPr>
            <a:xfrm rot="252600">
              <a:off x="4768560" y="3605040"/>
              <a:ext cx="636480" cy="618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3"/>
            <p:cNvSpPr/>
            <p:nvPr/>
          </p:nvSpPr>
          <p:spPr>
            <a:xfrm rot="252600">
              <a:off x="4143240" y="3453120"/>
              <a:ext cx="641160" cy="6220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4"/>
            <p:cNvSpPr/>
            <p:nvPr/>
          </p:nvSpPr>
          <p:spPr>
            <a:xfrm rot="252600">
              <a:off x="3646080" y="3008160"/>
              <a:ext cx="566640" cy="10224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5"/>
            <p:cNvSpPr/>
            <p:nvPr/>
          </p:nvSpPr>
          <p:spPr>
            <a:xfrm rot="252600">
              <a:off x="1909080" y="2895840"/>
              <a:ext cx="1433520" cy="103644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6"/>
            <p:cNvSpPr/>
            <p:nvPr/>
          </p:nvSpPr>
          <p:spPr>
            <a:xfrm rot="252600">
              <a:off x="4138560" y="2881440"/>
              <a:ext cx="392040" cy="785520"/>
            </a:xfrm>
            <a:prstGeom prst="pie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7"/>
            <p:cNvSpPr/>
            <p:nvPr/>
          </p:nvSpPr>
          <p:spPr>
            <a:xfrm rot="252600">
              <a:off x="4640400" y="3211560"/>
              <a:ext cx="736560" cy="492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8"/>
            <p:cNvSpPr/>
            <p:nvPr/>
          </p:nvSpPr>
          <p:spPr>
            <a:xfrm rot="252600">
              <a:off x="3504600" y="3024000"/>
              <a:ext cx="318960" cy="522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9"/>
            <p:cNvSpPr/>
            <p:nvPr/>
          </p:nvSpPr>
          <p:spPr>
            <a:xfrm rot="252600">
              <a:off x="4471560" y="2589480"/>
              <a:ext cx="615960" cy="900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71"/>
            <p:cNvSpPr/>
            <p:nvPr/>
          </p:nvSpPr>
          <p:spPr>
            <a:xfrm rot="252600">
              <a:off x="2914200" y="1160640"/>
              <a:ext cx="2511360" cy="2147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2"/>
            <p:cNvSpPr/>
            <p:nvPr/>
          </p:nvSpPr>
          <p:spPr>
            <a:xfrm rot="252600">
              <a:off x="4643280" y="2827080"/>
              <a:ext cx="271440" cy="30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3"/>
            <p:cNvSpPr/>
            <p:nvPr/>
          </p:nvSpPr>
          <p:spPr>
            <a:xfrm rot="252600">
              <a:off x="4995360" y="2463480"/>
              <a:ext cx="679320" cy="635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4"/>
            <p:cNvSpPr/>
            <p:nvPr/>
          </p:nvSpPr>
          <p:spPr>
            <a:xfrm rot="252600">
              <a:off x="5157720" y="2112840"/>
              <a:ext cx="981000" cy="630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5"/>
            <p:cNvSpPr/>
            <p:nvPr/>
          </p:nvSpPr>
          <p:spPr>
            <a:xfrm rot="252600">
              <a:off x="5011560" y="1206000"/>
              <a:ext cx="1285920" cy="1149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6"/>
            <p:cNvSpPr/>
            <p:nvPr/>
          </p:nvSpPr>
          <p:spPr>
            <a:xfrm rot="252600">
              <a:off x="2323800" y="2476440"/>
              <a:ext cx="1633320" cy="1396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9"/>
          <p:cNvSpPr/>
          <p:nvPr/>
        </p:nvSpPr>
        <p:spPr>
          <a:xfrm>
            <a:off x="5846760" y="4305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6933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74"/>
          <p:cNvSpPr/>
          <p:nvPr/>
        </p:nvSpPr>
        <p:spPr>
          <a:xfrm>
            <a:off x="5891040" y="4695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5786280" y="4695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2"/>
          <p:cNvSpPr/>
          <p:nvPr/>
        </p:nvSpPr>
        <p:spPr>
          <a:xfrm>
            <a:off x="5835600" y="3006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fac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77"/>
          <p:cNvSpPr/>
          <p:nvPr/>
        </p:nvSpPr>
        <p:spPr>
          <a:xfrm>
            <a:off x="5880240" y="339732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5"/>
          <p:cNvSpPr/>
          <p:nvPr/>
        </p:nvSpPr>
        <p:spPr>
          <a:xfrm>
            <a:off x="5775480" y="33973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576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494B-4E16-4F31-BC95-AC8128E198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1:08:15Z</dcterms:created>
  <dc:creator>http://www.eeppt.com</dc:creator>
  <dc:description>ppt模板下载网站 http://www.eeppt.com</dc:description>
  <dc:language>en-US</dc:language>
  <cp:lastModifiedBy/>
  <dcterms:modified xsi:type="dcterms:W3CDTF">2015-06-14T08:15:5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