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7D4-73ED-4959-8760-40470E5B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EB8-677B-4497-B8B1-960BFAEA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BD5-C5C5-481C-8B76-3970AD43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A72-A8D2-4F32-B7E2-52EF3BC5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8DAD-1A96-4787-9E60-DF557AF9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3A14-2AB7-4892-81C1-12D62732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8A21-B660-45D7-8394-5D1B6F5C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12B5-176E-4C91-9C45-F26F07F1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1EDD-8999-46F7-AEBC-B74D6A85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09680" y="1519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EF31-60D7-469F-88F2-95441A43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7338-9DE8-41D7-9E4C-AF051ED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8D5-E7C1-439A-AD0C-B9240570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A346-23AC-4E25-9FB9-D4F1C2BA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45BE-A0D6-48F6-BDE4-CB8BA4D9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94D5-7AF5-44BC-8991-ADE5ECAB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38D2-A13F-490E-900F-D258CCB4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5044-400D-4E9D-8435-5A253889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FDC-2EBF-4CF1-B9E2-264A97E8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307-FBDB-4071-A41C-6F305386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F14-F60B-421C-8449-FCC07C2E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209680" y="1519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742-F086-47E4-9049-3650A30A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F7D-2C13-4BB8-B809-77937F12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F7A-7298-4B1D-B27D-55E71AB7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2AF-D38F-4189-B185-4A7F225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409920" y="533520"/>
            <a:ext cx="5756040" cy="6324480"/>
            <a:chOff x="3409920" y="533520"/>
            <a:chExt cx="5756040" cy="63244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3409920" y="1244160"/>
              <a:ext cx="5560920" cy="56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15178" t="0" r="5357" b="6129"/>
            <a:stretch/>
          </p:blipFill>
          <p:spPr>
            <a:xfrm>
              <a:off x="3753360" y="533520"/>
              <a:ext cx="5412600" cy="632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未知"/>
          <p:cNvSpPr/>
          <p:nvPr/>
        </p:nvSpPr>
        <p:spPr>
          <a:xfrm rot="185400">
            <a:off x="808200" y="556920"/>
            <a:ext cx="8348400" cy="1644480"/>
          </a:xfrm>
          <a:custGeom>
            <a:avLst/>
            <a:gdLst/>
            <a:ahLst/>
            <a:rect l="l" t="t" r="r" b="b"/>
            <a:pathLst>
              <a:path w="5376" h="1383">
                <a:moveTo>
                  <a:pt x="5376" y="942"/>
                </a:moveTo>
                <a:lnTo>
                  <a:pt x="5376" y="1137"/>
                </a:lnTo>
                <a:cubicBezTo>
                  <a:pt x="5376" y="1137"/>
                  <a:pt x="4224" y="21"/>
                  <a:pt x="2235" y="911"/>
                </a:cubicBezTo>
                <a:cubicBezTo>
                  <a:pt x="1185" y="1380"/>
                  <a:pt x="0" y="834"/>
                  <a:pt x="0" y="834"/>
                </a:cubicBezTo>
                <a:cubicBezTo>
                  <a:pt x="41" y="802"/>
                  <a:pt x="1179" y="1383"/>
                  <a:pt x="2481" y="720"/>
                </a:cubicBezTo>
                <a:cubicBezTo>
                  <a:pt x="4155" y="0"/>
                  <a:pt x="5376" y="942"/>
                  <a:pt x="5376" y="942"/>
                </a:cubicBezTo>
                <a:close/>
              </a:path>
            </a:pathLst>
          </a:custGeom>
          <a:solidFill>
            <a:srgbClr val="f4cc3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未知"/>
          <p:cNvSpPr/>
          <p:nvPr/>
        </p:nvSpPr>
        <p:spPr>
          <a:xfrm rot="185400">
            <a:off x="326520" y="387360"/>
            <a:ext cx="8828280" cy="1820880"/>
          </a:xfrm>
          <a:custGeom>
            <a:avLst/>
            <a:gdLst/>
            <a:ahLst/>
            <a:rect l="l" t="t" r="r" b="b"/>
            <a:pathLst>
              <a:path w="5324" h="1531">
                <a:moveTo>
                  <a:pt x="2468" y="868"/>
                </a:moveTo>
                <a:cubicBezTo>
                  <a:pt x="1212" y="1531"/>
                  <a:pt x="0" y="888"/>
                  <a:pt x="18" y="867"/>
                </a:cubicBezTo>
                <a:cubicBezTo>
                  <a:pt x="36" y="846"/>
                  <a:pt x="1311" y="1455"/>
                  <a:pt x="2578" y="744"/>
                </a:cubicBezTo>
                <a:cubicBezTo>
                  <a:pt x="4148" y="0"/>
                  <a:pt x="5324" y="771"/>
                  <a:pt x="5324" y="771"/>
                </a:cubicBezTo>
                <a:lnTo>
                  <a:pt x="5324" y="980"/>
                </a:lnTo>
                <a:cubicBezTo>
                  <a:pt x="5252" y="864"/>
                  <a:pt x="4040" y="96"/>
                  <a:pt x="2464" y="872"/>
                </a:cubicBezTo>
              </a:path>
            </a:pathLst>
          </a:custGeom>
          <a:solidFill>
            <a:srgbClr val="f4c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 rot="188400">
            <a:off x="733320" y="420840"/>
            <a:ext cx="8428320" cy="1788840"/>
          </a:xfrm>
          <a:custGeom>
            <a:avLst/>
            <a:gdLst/>
            <a:ahLst/>
            <a:rect l="l" t="t" r="r" b="b"/>
            <a:pathLst>
              <a:path w="5083" h="1504">
                <a:moveTo>
                  <a:pt x="5082" y="912"/>
                </a:moveTo>
                <a:lnTo>
                  <a:pt x="5083" y="1068"/>
                </a:lnTo>
                <a:cubicBezTo>
                  <a:pt x="5026" y="1020"/>
                  <a:pt x="3922" y="140"/>
                  <a:pt x="2288" y="880"/>
                </a:cubicBezTo>
                <a:cubicBezTo>
                  <a:pt x="1046" y="1504"/>
                  <a:pt x="11" y="947"/>
                  <a:pt x="6" y="940"/>
                </a:cubicBezTo>
                <a:cubicBezTo>
                  <a:pt x="0" y="932"/>
                  <a:pt x="1010" y="1416"/>
                  <a:pt x="2250" y="832"/>
                </a:cubicBezTo>
                <a:cubicBezTo>
                  <a:pt x="3853" y="0"/>
                  <a:pt x="5082" y="912"/>
                  <a:pt x="5082" y="912"/>
                </a:cubicBezTo>
                <a:close/>
              </a:path>
            </a:pathLst>
          </a:custGeom>
          <a:solidFill>
            <a:srgbClr val="f4cc3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438280" cy="20224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F808-C3DB-4BB4-9DCD-90BAEE6B0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55520" y="130320"/>
            <a:ext cx="1063800" cy="10634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bf8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未知"/>
          <p:cNvSpPr/>
          <p:nvPr/>
        </p:nvSpPr>
        <p:spPr>
          <a:xfrm>
            <a:off x="1557360" y="2743200"/>
            <a:ext cx="7581960" cy="2195640"/>
          </a:xfrm>
          <a:custGeom>
            <a:avLst/>
            <a:gdLst/>
            <a:ahLst/>
            <a:rect l="l" t="t" r="r" b="b"/>
            <a:pathLst>
              <a:path w="5376" h="1383">
                <a:moveTo>
                  <a:pt x="5376" y="942"/>
                </a:moveTo>
                <a:lnTo>
                  <a:pt x="5376" y="1137"/>
                </a:lnTo>
                <a:cubicBezTo>
                  <a:pt x="5376" y="1137"/>
                  <a:pt x="4224" y="21"/>
                  <a:pt x="2235" y="911"/>
                </a:cubicBezTo>
                <a:cubicBezTo>
                  <a:pt x="1185" y="1380"/>
                  <a:pt x="0" y="834"/>
                  <a:pt x="0" y="834"/>
                </a:cubicBezTo>
                <a:cubicBezTo>
                  <a:pt x="41" y="802"/>
                  <a:pt x="1179" y="1383"/>
                  <a:pt x="2481" y="720"/>
                </a:cubicBezTo>
                <a:cubicBezTo>
                  <a:pt x="4155" y="0"/>
                  <a:pt x="5376" y="942"/>
                  <a:pt x="5376" y="942"/>
                </a:cubicBezTo>
                <a:close/>
              </a:path>
            </a:pathLst>
          </a:custGeom>
          <a:solidFill>
            <a:srgbClr val="f4cc3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未知"/>
          <p:cNvSpPr/>
          <p:nvPr/>
        </p:nvSpPr>
        <p:spPr>
          <a:xfrm>
            <a:off x="1143000" y="2514600"/>
            <a:ext cx="8016840" cy="2430360"/>
          </a:xfrm>
          <a:custGeom>
            <a:avLst/>
            <a:gdLst/>
            <a:ahLst/>
            <a:rect l="l" t="t" r="r" b="b"/>
            <a:pathLst>
              <a:path w="5324" h="1531">
                <a:moveTo>
                  <a:pt x="2468" y="868"/>
                </a:moveTo>
                <a:cubicBezTo>
                  <a:pt x="1212" y="1531"/>
                  <a:pt x="0" y="888"/>
                  <a:pt x="18" y="867"/>
                </a:cubicBezTo>
                <a:cubicBezTo>
                  <a:pt x="36" y="846"/>
                  <a:pt x="1311" y="1455"/>
                  <a:pt x="2578" y="744"/>
                </a:cubicBezTo>
                <a:cubicBezTo>
                  <a:pt x="4148" y="0"/>
                  <a:pt x="5324" y="771"/>
                  <a:pt x="5324" y="771"/>
                </a:cubicBezTo>
                <a:lnTo>
                  <a:pt x="5324" y="980"/>
                </a:lnTo>
                <a:cubicBezTo>
                  <a:pt x="5252" y="864"/>
                  <a:pt x="4040" y="96"/>
                  <a:pt x="2464" y="872"/>
                </a:cubicBezTo>
              </a:path>
            </a:pathLst>
          </a:custGeom>
          <a:solidFill>
            <a:srgbClr val="f4c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未知"/>
          <p:cNvSpPr/>
          <p:nvPr/>
        </p:nvSpPr>
        <p:spPr>
          <a:xfrm>
            <a:off x="1488960" y="2558880"/>
            <a:ext cx="7655040" cy="2387880"/>
          </a:xfrm>
          <a:custGeom>
            <a:avLst/>
            <a:gdLst/>
            <a:ahLst/>
            <a:rect l="l" t="t" r="r" b="b"/>
            <a:pathLst>
              <a:path w="5083" h="1504">
                <a:moveTo>
                  <a:pt x="5082" y="912"/>
                </a:moveTo>
                <a:lnTo>
                  <a:pt x="5083" y="1068"/>
                </a:lnTo>
                <a:cubicBezTo>
                  <a:pt x="5026" y="1020"/>
                  <a:pt x="3922" y="140"/>
                  <a:pt x="2288" y="880"/>
                </a:cubicBezTo>
                <a:cubicBezTo>
                  <a:pt x="1046" y="1504"/>
                  <a:pt x="11" y="947"/>
                  <a:pt x="6" y="940"/>
                </a:cubicBezTo>
                <a:cubicBezTo>
                  <a:pt x="0" y="932"/>
                  <a:pt x="1010" y="1416"/>
                  <a:pt x="2250" y="832"/>
                </a:cubicBezTo>
                <a:cubicBezTo>
                  <a:pt x="3853" y="0"/>
                  <a:pt x="5082" y="912"/>
                  <a:pt x="5082" y="912"/>
                </a:cubicBezTo>
                <a:close/>
              </a:path>
            </a:pathLst>
          </a:custGeom>
          <a:solidFill>
            <a:srgbClr val="f4cc3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105760" cy="6721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CEFE-5DA6-43EB-916D-DE0F16FFB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166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L.O.G.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4840" y="419040"/>
            <a:ext cx="3582720" cy="3551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bf8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4419720"/>
            <a:ext cx="716292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meGallery</a:t>
            </a:r>
            <a:r>
              <a:rPr b="1" lang="en-US" sz="44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663300"/>
                </a:solidFill>
                <a:latin typeface="Verdana"/>
              </a:rPr>
              <a:t>PowerTemplate</a:t>
            </a:r>
            <a:endParaRPr b="1" lang="en-US" sz="54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733920" y="6095520"/>
            <a:ext cx="489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&gt;&g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Business Company sloga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0080" y="64008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829480" y="2900520"/>
            <a:ext cx="1711080" cy="536040"/>
            <a:chOff x="5829480" y="2900520"/>
            <a:chExt cx="1711080" cy="536040"/>
          </a:xfrm>
        </p:grpSpPr>
        <p:sp>
          <p:nvSpPr>
            <p:cNvPr id="321" name=""/>
            <p:cNvSpPr/>
            <p:nvPr/>
          </p:nvSpPr>
          <p:spPr>
            <a:xfrm>
              <a:off x="5829480" y="290052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55760" y="293292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080120" y="4832280"/>
            <a:ext cx="1086120" cy="1263600"/>
          </a:xfrm>
          <a:prstGeom prst="rect">
            <a:avLst/>
          </a:prstGeom>
          <a:gradFill rotWithShape="0">
            <a:gsLst>
              <a:gs pos="0">
                <a:srgbClr val="fe836e"/>
              </a:gs>
              <a:gs pos="100000">
                <a:srgbClr val="b75e4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4832280"/>
            <a:ext cx="1085760" cy="1263600"/>
          </a:xfrm>
          <a:prstGeom prst="rect">
            <a:avLst/>
          </a:prstGeom>
          <a:gradFill rotWithShape="0">
            <a:gsLst>
              <a:gs pos="0">
                <a:srgbClr val="fe836e"/>
              </a:gs>
              <a:gs pos="100000">
                <a:srgbClr val="b75e4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53920" y="4145040"/>
            <a:ext cx="2273400" cy="536040"/>
            <a:chOff x="853920" y="4145040"/>
            <a:chExt cx="2273400" cy="536040"/>
          </a:xfrm>
        </p:grpSpPr>
        <p:sp>
          <p:nvSpPr>
            <p:cNvPr id="326" name=""/>
            <p:cNvSpPr/>
            <p:nvPr/>
          </p:nvSpPr>
          <p:spPr>
            <a:xfrm>
              <a:off x="853920" y="41450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bd8d1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88840" y="41774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d8d15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899320" y="4145040"/>
            <a:ext cx="2273040" cy="536040"/>
            <a:chOff x="5899320" y="4145040"/>
            <a:chExt cx="2273040" cy="536040"/>
          </a:xfrm>
        </p:grpSpPr>
        <p:sp>
          <p:nvSpPr>
            <p:cNvPr id="329" name=""/>
            <p:cNvSpPr/>
            <p:nvPr/>
          </p:nvSpPr>
          <p:spPr>
            <a:xfrm>
              <a:off x="5899320" y="414504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fe836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34240" y="417744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e836e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373560" y="4154400"/>
            <a:ext cx="2273040" cy="536400"/>
            <a:chOff x="3373560" y="4154400"/>
            <a:chExt cx="2273040" cy="536400"/>
          </a:xfrm>
        </p:grpSpPr>
        <p:sp>
          <p:nvSpPr>
            <p:cNvPr id="332" name=""/>
            <p:cNvSpPr/>
            <p:nvPr/>
          </p:nvSpPr>
          <p:spPr>
            <a:xfrm>
              <a:off x="3373560" y="415440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4cc3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08480" y="418680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4cc3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656160" y="2900520"/>
            <a:ext cx="1711080" cy="536040"/>
            <a:chOff x="3656160" y="2900520"/>
            <a:chExt cx="1711080" cy="536040"/>
          </a:xfrm>
        </p:grpSpPr>
        <p:sp>
          <p:nvSpPr>
            <p:cNvPr id="335" name=""/>
            <p:cNvSpPr/>
            <p:nvPr/>
          </p:nvSpPr>
          <p:spPr>
            <a:xfrm>
              <a:off x="3656160" y="290052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82440" y="293292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714840" y="1886040"/>
            <a:ext cx="1596960" cy="536040"/>
            <a:chOff x="3714840" y="1886040"/>
            <a:chExt cx="1596960" cy="536040"/>
          </a:xfrm>
        </p:grpSpPr>
        <p:sp>
          <p:nvSpPr>
            <p:cNvPr id="338" name=""/>
            <p:cNvSpPr/>
            <p:nvPr/>
          </p:nvSpPr>
          <p:spPr>
            <a:xfrm>
              <a:off x="3714840" y="188604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39320" y="191844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873000" y="4832280"/>
            <a:ext cx="1086120" cy="1263600"/>
          </a:xfrm>
          <a:prstGeom prst="rect">
            <a:avLst/>
          </a:prstGeom>
          <a:gradFill rotWithShape="0">
            <a:gsLst>
              <a:gs pos="0">
                <a:srgbClr val="bd8d15"/>
              </a:gs>
              <a:gs pos="100000">
                <a:srgbClr val="88650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036880" y="4832280"/>
            <a:ext cx="1085760" cy="1263600"/>
          </a:xfrm>
          <a:prstGeom prst="rect">
            <a:avLst/>
          </a:prstGeom>
          <a:gradFill rotWithShape="0">
            <a:gsLst>
              <a:gs pos="0">
                <a:srgbClr val="bd8d15"/>
              </a:gs>
              <a:gs pos="100000">
                <a:srgbClr val="88650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"/>
          <p:cNvCxnSpPr/>
          <p:nvPr/>
        </p:nvCxnSpPr>
        <p:spPr>
          <a:xfrm flipH="1">
            <a:off x="5385600" y="314136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26" idx="0"/>
            <a:endCxn id="335" idx="2"/>
          </p:cNvCxnSpPr>
          <p:nvPr/>
        </p:nvCxnSpPr>
        <p:spPr>
          <a:xfrm flipH="1" flipV="1" rot="5400000">
            <a:off x="2896920" y="253008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29" idx="0"/>
            <a:endCxn id="335" idx="2"/>
          </p:cNvCxnSpPr>
          <p:nvPr/>
        </p:nvCxnSpPr>
        <p:spPr>
          <a:xfrm flipV="1" rot="16200000">
            <a:off x="5419080" y="252792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4010040" y="19670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38840" y="300024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940360" y="423540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80920" y="422604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73280" y="516744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32120" y="516744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03440" y="423216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90840" y="4832280"/>
            <a:ext cx="1085760" cy="1263600"/>
          </a:xfrm>
          <a:prstGeom prst="rect">
            <a:avLst/>
          </a:prstGeom>
          <a:gradFill rotWithShape="0">
            <a:gsLst>
              <a:gs pos="0">
                <a:srgbClr val="f4cc3a"/>
              </a:gs>
              <a:gs pos="100000">
                <a:srgbClr val="b0932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54360" y="4832280"/>
            <a:ext cx="1086120" cy="1263600"/>
          </a:xfrm>
          <a:prstGeom prst="rect">
            <a:avLst/>
          </a:prstGeom>
          <a:gradFill rotWithShape="0">
            <a:gsLst>
              <a:gs pos="0">
                <a:srgbClr val="f4cc3a"/>
              </a:gs>
              <a:gs pos="100000">
                <a:srgbClr val="b0932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90760" y="516744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449600" y="516744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16520" y="516744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75360" y="516744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86120" y="29764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"/>
          <p:cNvCxnSpPr>
            <a:stCxn id="338" idx="2"/>
            <a:endCxn id="335" idx="0"/>
          </p:cNvCxnSpPr>
          <p:nvPr/>
        </p:nvCxnSpPr>
        <p:spPr>
          <a:xfrm flipH="1">
            <a:off x="4510800" y="242244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35" idx="2"/>
            <a:endCxn id="332" idx="0"/>
          </p:cNvCxnSpPr>
          <p:nvPr/>
        </p:nvCxnSpPr>
        <p:spPr>
          <a:xfrm rot="5400000">
            <a:off x="4151520" y="3794400"/>
            <a:ext cx="71784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bf8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3300"/>
                </a:solidFill>
                <a:latin typeface="Arial"/>
              </a:rPr>
              <a:t>Thank You!</a:t>
            </a:r>
            <a:endParaRPr b="1" lang="en-US" sz="80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3580920" y="6019920"/>
            <a:ext cx="48927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&gt;&g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Business Company sloga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06e02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429-6DF8-4BA5-B7F5-B694B37AB3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322360"/>
            <a:ext cx="7238880" cy="38498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057400"/>
            <a:ext cx="6553080" cy="568440"/>
          </a:xfrm>
          <a:prstGeom prst="roundRect">
            <a:avLst>
              <a:gd name="adj" fmla="val 42181"/>
            </a:avLst>
          </a:prstGeom>
          <a:solidFill>
            <a:srgbClr val="ffffff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3720" y="2895480"/>
            <a:ext cx="4724280" cy="685800"/>
            <a:chOff x="2133720" y="289548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51460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836e"/>
                </a:gs>
                <a:gs pos="50000">
                  <a:srgbClr val="fde3df"/>
                </a:gs>
                <a:gs pos="100000">
                  <a:srgbClr val="fe836e"/>
                </a:gs>
              </a:gsLst>
              <a:lin ang="5400000"/>
            </a:gradFill>
            <a:ln w="12600">
              <a:solidFill>
                <a:srgbClr val="f7f6e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2895480"/>
              <a:ext cx="685800" cy="685800"/>
            </a:xfrm>
            <a:prstGeom prst="diamond">
              <a:avLst/>
            </a:prstGeom>
            <a:solidFill>
              <a:srgbClr val="fe836e"/>
            </a:solidFill>
            <a:ln w="25560">
              <a:solidFill>
                <a:srgbClr val="f7f6e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600" y="29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7f6e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33720" y="3657600"/>
            <a:ext cx="4724280" cy="685800"/>
            <a:chOff x="2133720" y="3657600"/>
            <a:chExt cx="4724280" cy="685800"/>
          </a:xfrm>
        </p:grpSpPr>
        <p:sp>
          <p:nvSpPr>
            <p:cNvPr id="108" name=""/>
            <p:cNvSpPr/>
            <p:nvPr/>
          </p:nvSpPr>
          <p:spPr>
            <a:xfrm>
              <a:off x="2514600" y="37767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4cc3a"/>
                </a:gs>
                <a:gs pos="50000">
                  <a:srgbClr val="fbf3d4"/>
                </a:gs>
                <a:gs pos="100000">
                  <a:srgbClr val="f4cc3a"/>
                </a:gs>
              </a:gsLst>
              <a:lin ang="5400000"/>
            </a:gradFill>
            <a:ln w="12600">
              <a:solidFill>
                <a:srgbClr val="f7f6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3657600"/>
              <a:ext cx="685800" cy="685800"/>
            </a:xfrm>
            <a:prstGeom prst="diamond">
              <a:avLst/>
            </a:prstGeom>
            <a:solidFill>
              <a:srgbClr val="f4cc3a"/>
            </a:solidFill>
            <a:ln w="25560">
              <a:solidFill>
                <a:srgbClr val="f7f6e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43200" y="38322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9600" y="37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7f6e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4419720"/>
            <a:ext cx="4724280" cy="685800"/>
            <a:chOff x="2133720" y="441972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514600" y="4538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6e02"/>
                </a:gs>
                <a:gs pos="50000">
                  <a:srgbClr val="fadfc8"/>
                </a:gs>
                <a:gs pos="100000">
                  <a:srgbClr val="f06e02"/>
                </a:gs>
              </a:gsLst>
              <a:lin ang="5400000"/>
            </a:gradFill>
            <a:ln w="12600">
              <a:solidFill>
                <a:srgbClr val="f7f6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419720"/>
              <a:ext cx="685800" cy="685800"/>
            </a:xfrm>
            <a:prstGeom prst="diamond">
              <a:avLst/>
            </a:prstGeom>
            <a:solidFill>
              <a:srgbClr val="f06e02"/>
            </a:solidFill>
            <a:ln w="25560">
              <a:solidFill>
                <a:srgbClr val="f7f6e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4594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9600" y="451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7f6e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5181480"/>
            <a:ext cx="4724280" cy="685800"/>
            <a:chOff x="2133720" y="5181480"/>
            <a:chExt cx="4724280" cy="685800"/>
          </a:xfrm>
        </p:grpSpPr>
        <p:sp>
          <p:nvSpPr>
            <p:cNvPr id="118" name=""/>
            <p:cNvSpPr/>
            <p:nvPr/>
          </p:nvSpPr>
          <p:spPr>
            <a:xfrm>
              <a:off x="2514600" y="5300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8d15"/>
                </a:gs>
                <a:gs pos="50000">
                  <a:srgbClr val="f0e5cc"/>
                </a:gs>
                <a:gs pos="100000">
                  <a:srgbClr val="bd8d15"/>
                </a:gs>
              </a:gsLst>
              <a:lin ang="5400000"/>
            </a:gradFill>
            <a:ln w="12600">
              <a:solidFill>
                <a:srgbClr val="f7f6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5181480"/>
              <a:ext cx="685800" cy="685800"/>
            </a:xfrm>
            <a:prstGeom prst="diamond">
              <a:avLst/>
            </a:prstGeom>
            <a:solidFill>
              <a:srgbClr val="bd8d15"/>
            </a:solidFill>
            <a:ln w="25560">
              <a:solidFill>
                <a:srgbClr val="f7f6e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5356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9600" y="5279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7f6e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5400000">
            <a:off x="3283920" y="2868480"/>
            <a:ext cx="2224080" cy="1173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7680" y="2327400"/>
            <a:ext cx="3657600" cy="688680"/>
            <a:chOff x="517680" y="2327400"/>
            <a:chExt cx="3657600" cy="688680"/>
          </a:xfrm>
        </p:grpSpPr>
        <p:sp>
          <p:nvSpPr>
            <p:cNvPr id="124" name=""/>
            <p:cNvSpPr/>
            <p:nvPr/>
          </p:nvSpPr>
          <p:spPr>
            <a:xfrm>
              <a:off x="517680" y="2327400"/>
              <a:ext cx="36576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e836e"/>
                </a:gs>
                <a:gs pos="50000">
                  <a:srgbClr val="e97864"/>
                </a:gs>
                <a:gs pos="100000">
                  <a:srgbClr val="fe83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26320" y="2348640"/>
              <a:ext cx="3643920" cy="636840"/>
              <a:chOff x="526320" y="2348640"/>
              <a:chExt cx="3643920" cy="636840"/>
            </a:xfrm>
          </p:grpSpPr>
          <p:sp>
            <p:nvSpPr>
              <p:cNvPr id="126" name=""/>
              <p:cNvSpPr/>
              <p:nvPr/>
            </p:nvSpPr>
            <p:spPr>
              <a:xfrm>
                <a:off x="526320" y="282060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836e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6320" y="234864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eae7"/>
                  </a:gs>
                  <a:gs pos="100000">
                    <a:srgbClr val="fe836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517680" y="3116160"/>
            <a:ext cx="3657600" cy="689040"/>
            <a:chOff x="517680" y="3116160"/>
            <a:chExt cx="3657600" cy="689040"/>
          </a:xfrm>
        </p:grpSpPr>
        <p:sp>
          <p:nvSpPr>
            <p:cNvPr id="129" name=""/>
            <p:cNvSpPr/>
            <p:nvPr/>
          </p:nvSpPr>
          <p:spPr>
            <a:xfrm>
              <a:off x="517680" y="311616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06e02"/>
                </a:gs>
                <a:gs pos="50000">
                  <a:srgbClr val="dc6401"/>
                </a:gs>
                <a:gs pos="100000">
                  <a:srgbClr val="f06e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526320" y="3137400"/>
              <a:ext cx="3643920" cy="636840"/>
              <a:chOff x="526320" y="3137400"/>
              <a:chExt cx="3643920" cy="636840"/>
            </a:xfrm>
          </p:grpSpPr>
          <p:sp>
            <p:nvSpPr>
              <p:cNvPr id="131" name=""/>
              <p:cNvSpPr/>
              <p:nvPr/>
            </p:nvSpPr>
            <p:spPr>
              <a:xfrm>
                <a:off x="526320" y="360936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06e02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6320" y="313740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d9bd"/>
                  </a:gs>
                  <a:gs pos="100000">
                    <a:srgbClr val="f06e0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517680" y="3897360"/>
            <a:ext cx="3657600" cy="689040"/>
            <a:chOff x="517680" y="3897360"/>
            <a:chExt cx="3657600" cy="689040"/>
          </a:xfrm>
        </p:grpSpPr>
        <p:sp>
          <p:nvSpPr>
            <p:cNvPr id="134" name=""/>
            <p:cNvSpPr/>
            <p:nvPr/>
          </p:nvSpPr>
          <p:spPr>
            <a:xfrm>
              <a:off x="517680" y="389736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d8d15"/>
                </a:gs>
                <a:gs pos="50000">
                  <a:srgbClr val="ad8113"/>
                </a:gs>
                <a:gs pos="100000">
                  <a:srgbClr val="bd8d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26320" y="3918600"/>
              <a:ext cx="3643920" cy="636840"/>
              <a:chOff x="526320" y="3918600"/>
              <a:chExt cx="3643920" cy="636840"/>
            </a:xfrm>
          </p:grpSpPr>
          <p:sp>
            <p:nvSpPr>
              <p:cNvPr id="136" name=""/>
              <p:cNvSpPr/>
              <p:nvPr/>
            </p:nvSpPr>
            <p:spPr>
              <a:xfrm>
                <a:off x="526320" y="439056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d8d15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6320" y="391860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e4c9"/>
                  </a:gs>
                  <a:gs pos="100000">
                    <a:srgbClr val="bd8d1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82680" y="2432160"/>
            <a:ext cx="23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0600" y="3193920"/>
            <a:ext cx="23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2400" y="3973680"/>
            <a:ext cx="23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52960" y="2125800"/>
            <a:ext cx="3395880" cy="2616120"/>
          </a:xfrm>
          <a:prstGeom prst="flowChartAlternateProcess">
            <a:avLst/>
          </a:prstGeom>
          <a:gradFill rotWithShape="0">
            <a:gsLst>
              <a:gs pos="0">
                <a:srgbClr val="e2e2e2"/>
              </a:gs>
              <a:gs pos="5000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35400" y="2160720"/>
            <a:ext cx="323064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a50021"/>
                </a:solidFill>
                <a:uFillTx/>
                <a:latin typeface="Calibri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. Description of  the cont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. Description of 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Description of 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504720" y="238284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6320" y="317196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504720" y="3962520"/>
            <a:ext cx="576360" cy="690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96760" y="4997520"/>
            <a:ext cx="712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3430440" y="2885400"/>
            <a:ext cx="2262240" cy="1817640"/>
          </a:xfrm>
          <a:prstGeom prst="upArrow">
            <a:avLst>
              <a:gd name="adj1" fmla="val 66602"/>
              <a:gd name="adj2" fmla="val 48259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7120" y="294012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f06e02"/>
          </a:solidFill>
          <a:ln w="3816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7280" y="2235240"/>
            <a:ext cx="3379680" cy="1133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09880" y="2255760"/>
            <a:ext cx="3340080" cy="46044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17680" y="4849920"/>
            <a:ext cx="6294240" cy="1452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142000" y="256788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165000" y="2613240"/>
            <a:ext cx="86508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90520" y="227808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6400" y="28512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ease write down of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1280" y="270180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7120" y="198900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06e02"/>
          </a:solidFill>
          <a:ln w="3816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16680" y="292896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e836e"/>
          </a:solidFill>
          <a:ln w="3816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21360" y="1996920"/>
            <a:ext cx="1659240" cy="762120"/>
          </a:xfrm>
          <a:prstGeom prst="roundRect">
            <a:avLst>
              <a:gd name="adj" fmla="val 16667"/>
            </a:avLst>
          </a:prstGeom>
          <a:solidFill>
            <a:srgbClr val="fe836e"/>
          </a:solidFill>
          <a:ln w="3816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50240" y="21844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50240" y="311472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00" y="21938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400" y="31338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183280"/>
            <a:ext cx="58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8680" y="632448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085840" y="1735200"/>
            <a:ext cx="4818240" cy="988920"/>
          </a:xfrm>
          <a:prstGeom prst="roundRect">
            <a:avLst>
              <a:gd name="adj" fmla="val 12727"/>
            </a:avLst>
          </a:prstGeom>
          <a:solidFill>
            <a:srgbClr val="f4c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300400" y="1895400"/>
            <a:ext cx="45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76480" y="1604880"/>
            <a:ext cx="1238040" cy="1236600"/>
            <a:chOff x="1176480" y="1604880"/>
            <a:chExt cx="1238040" cy="1236600"/>
          </a:xfrm>
        </p:grpSpPr>
        <p:sp>
          <p:nvSpPr>
            <p:cNvPr id="172" name="Oval 6"/>
            <p:cNvSpPr/>
            <p:nvPr/>
          </p:nvSpPr>
          <p:spPr>
            <a:xfrm>
              <a:off x="1176480" y="160488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f4c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"/>
            <p:cNvSpPr/>
            <p:nvPr/>
          </p:nvSpPr>
          <p:spPr>
            <a:xfrm>
              <a:off x="1227240" y="165564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f4cc3a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"/>
            <p:cNvSpPr/>
            <p:nvPr/>
          </p:nvSpPr>
          <p:spPr>
            <a:xfrm>
              <a:off x="1278000" y="170964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f4cc3a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9"/>
          <p:cNvSpPr/>
          <p:nvPr/>
        </p:nvSpPr>
        <p:spPr>
          <a:xfrm>
            <a:off x="1247760" y="1886040"/>
            <a:ext cx="10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2254320" y="2855880"/>
            <a:ext cx="4817880" cy="988920"/>
          </a:xfrm>
          <a:prstGeom prst="roundRect">
            <a:avLst>
              <a:gd name="adj" fmla="val 12727"/>
            </a:avLst>
          </a:prstGeom>
          <a:solidFill>
            <a:srgbClr val="fe8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259000" y="3027240"/>
            <a:ext cx="45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757920" y="2725560"/>
            <a:ext cx="1238400" cy="1236960"/>
            <a:chOff x="6757920" y="2725560"/>
            <a:chExt cx="1238400" cy="1236960"/>
          </a:xfrm>
        </p:grpSpPr>
        <p:sp>
          <p:nvSpPr>
            <p:cNvPr id="179" name="Oval 13"/>
            <p:cNvSpPr/>
            <p:nvPr/>
          </p:nvSpPr>
          <p:spPr>
            <a:xfrm>
              <a:off x="6757920" y="272556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fe83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"/>
            <p:cNvSpPr/>
            <p:nvPr/>
          </p:nvSpPr>
          <p:spPr>
            <a:xfrm>
              <a:off x="6808680" y="2776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fe836e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5"/>
            <p:cNvSpPr/>
            <p:nvPr/>
          </p:nvSpPr>
          <p:spPr>
            <a:xfrm>
              <a:off x="6859440" y="28303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fe836e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6"/>
          <p:cNvSpPr/>
          <p:nvPr/>
        </p:nvSpPr>
        <p:spPr>
          <a:xfrm>
            <a:off x="6829560" y="300672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2085840" y="3975120"/>
            <a:ext cx="4818240" cy="988920"/>
          </a:xfrm>
          <a:prstGeom prst="roundRect">
            <a:avLst>
              <a:gd name="adj" fmla="val 12727"/>
            </a:avLst>
          </a:prstGeom>
          <a:solidFill>
            <a:srgbClr val="f06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2300400" y="4145040"/>
            <a:ext cx="45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76480" y="3844800"/>
            <a:ext cx="1238040" cy="1236960"/>
            <a:chOff x="1176480" y="3844800"/>
            <a:chExt cx="1238040" cy="1236960"/>
          </a:xfrm>
        </p:grpSpPr>
        <p:sp>
          <p:nvSpPr>
            <p:cNvPr id="186" name="Oval 20"/>
            <p:cNvSpPr/>
            <p:nvPr/>
          </p:nvSpPr>
          <p:spPr>
            <a:xfrm>
              <a:off x="1176480" y="3844800"/>
              <a:ext cx="123804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f06e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1227240" y="389556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f06e02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1278000" y="394956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f06e02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23"/>
          <p:cNvSpPr/>
          <p:nvPr/>
        </p:nvSpPr>
        <p:spPr>
          <a:xfrm>
            <a:off x="1247760" y="4125960"/>
            <a:ext cx="10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2254320" y="5095800"/>
            <a:ext cx="4817880" cy="987480"/>
          </a:xfrm>
          <a:prstGeom prst="roundRect">
            <a:avLst>
              <a:gd name="adj" fmla="val 12727"/>
            </a:avLst>
          </a:prstGeom>
          <a:solidFill>
            <a:srgbClr val="bd8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2259000" y="5267160"/>
            <a:ext cx="45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757920" y="4965840"/>
            <a:ext cx="1238400" cy="1236600"/>
            <a:chOff x="6757920" y="4965840"/>
            <a:chExt cx="1238400" cy="1236600"/>
          </a:xfrm>
        </p:grpSpPr>
        <p:sp>
          <p:nvSpPr>
            <p:cNvPr id="193" name="Oval 27"/>
            <p:cNvSpPr/>
            <p:nvPr/>
          </p:nvSpPr>
          <p:spPr>
            <a:xfrm>
              <a:off x="6757920" y="496584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bd8d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808680" y="501660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bd8d15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859440" y="50706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bd8d15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30"/>
          <p:cNvSpPr/>
          <p:nvPr/>
        </p:nvSpPr>
        <p:spPr>
          <a:xfrm>
            <a:off x="6829560" y="52452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83360" y="3110040"/>
            <a:ext cx="2849400" cy="275256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f4c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46720" y="317484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73080" y="2546280"/>
            <a:ext cx="2857320" cy="466560"/>
            <a:chOff x="973080" y="2546280"/>
            <a:chExt cx="2857320" cy="466560"/>
          </a:xfrm>
        </p:grpSpPr>
        <p:sp>
          <p:nvSpPr>
            <p:cNvPr id="201" name=""/>
            <p:cNvSpPr/>
            <p:nvPr/>
          </p:nvSpPr>
          <p:spPr>
            <a:xfrm>
              <a:off x="973080" y="254628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6756"/>
                </a:gs>
                <a:gs pos="50000">
                  <a:srgbClr val="fe836e"/>
                </a:gs>
                <a:gs pos="100000">
                  <a:srgbClr val="c86756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687840" y="26161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03320" y="26161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257800" y="2546280"/>
            <a:ext cx="2857320" cy="466560"/>
            <a:chOff x="5257800" y="2546280"/>
            <a:chExt cx="2857320" cy="466560"/>
          </a:xfrm>
        </p:grpSpPr>
        <p:sp>
          <p:nvSpPr>
            <p:cNvPr id="205" name=""/>
            <p:cNvSpPr/>
            <p:nvPr/>
          </p:nvSpPr>
          <p:spPr>
            <a:xfrm>
              <a:off x="5257800" y="254628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b433"/>
                </a:gs>
                <a:gs pos="50000">
                  <a:srgbClr val="f4cc3a"/>
                </a:gs>
                <a:gs pos="100000">
                  <a:srgbClr val="d8b433"/>
                </a:gs>
              </a:gsLst>
              <a:lin ang="10800000"/>
            </a:gradFill>
            <a:ln w="12600">
              <a:solidFill>
                <a:srgbClr val="f4cc3a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972560" y="26161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88040" y="26161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973080" y="311004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e83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1239840" y="262584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5578560" y="262584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 rot="10806000">
            <a:off x="3904920" y="3652920"/>
            <a:ext cx="1293840" cy="755640"/>
          </a:xfrm>
          <a:prstGeom prst="rightArrow">
            <a:avLst>
              <a:gd name="adj1" fmla="val 46509"/>
              <a:gd name="adj2" fmla="val 37622"/>
            </a:avLst>
          </a:prstGeom>
          <a:gradFill rotWithShape="0">
            <a:gsLst>
              <a:gs pos="0">
                <a:srgbClr val="fe836e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26000" y="325116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4cc3a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4cc3a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14840" y="453060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4cc3a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4cc3a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6320" y="355608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56320" y="47768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415120" y="3321000"/>
            <a:ext cx="168120" cy="168480"/>
            <a:chOff x="5415120" y="3321000"/>
            <a:chExt cx="168120" cy="168480"/>
          </a:xfrm>
        </p:grpSpPr>
        <p:sp>
          <p:nvSpPr>
            <p:cNvPr id="217" name=""/>
            <p:cNvSpPr/>
            <p:nvPr/>
          </p:nvSpPr>
          <p:spPr>
            <a:xfrm>
              <a:off x="5415120" y="332100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28440" y="333504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f7dd81"/>
                </a:gs>
                <a:gs pos="100000">
                  <a:srgbClr val="f4cc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415120" y="4611600"/>
            <a:ext cx="168120" cy="168480"/>
            <a:chOff x="5415120" y="4611600"/>
            <a:chExt cx="168120" cy="168480"/>
          </a:xfrm>
        </p:grpSpPr>
        <p:sp>
          <p:nvSpPr>
            <p:cNvPr id="220" name=""/>
            <p:cNvSpPr/>
            <p:nvPr/>
          </p:nvSpPr>
          <p:spPr>
            <a:xfrm>
              <a:off x="5415120" y="461160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28440" y="462564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f7dd81"/>
                </a:gs>
                <a:gs pos="100000">
                  <a:srgbClr val="f4cc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125360" y="510048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9400" y="333684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fe83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9400" y="39211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fe83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9400" y="448164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e83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73880" y="3409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73880" y="39942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73880" y="4552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 rot="10794000">
            <a:off x="3873240" y="4259520"/>
            <a:ext cx="1296720" cy="755640"/>
          </a:xfrm>
          <a:prstGeom prst="rightArrow">
            <a:avLst>
              <a:gd name="adj1" fmla="val 46509"/>
              <a:gd name="adj2" fmla="val 37705"/>
            </a:avLst>
          </a:prstGeom>
          <a:gradFill rotWithShape="0">
            <a:gsLst>
              <a:gs pos="0">
                <a:srgbClr val="f4cc3a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914400" y="1797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4680" y="59878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44920" y="59878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 rot="18892800">
            <a:off x="871920" y="225000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bd8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 rot="2692800">
            <a:off x="871560" y="22118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e836e"/>
              </a:gs>
              <a:gs pos="100000">
                <a:srgbClr val="fda293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76840" y="257796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627440" y="241776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692800">
            <a:off x="845640" y="225108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06e02"/>
              </a:gs>
              <a:gs pos="100000">
                <a:srgbClr val="f29344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18907200">
            <a:off x="843120" y="22118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4cc3a"/>
              </a:gs>
              <a:gs pos="100000">
                <a:srgbClr val="f5d86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 rot="18991800">
            <a:off x="917280" y="283824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 rot="2855400">
            <a:off x="2084040" y="289584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 rot="2855400">
            <a:off x="910800" y="40356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 rot="18739200">
            <a:off x="2107440" y="397404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28720" y="39052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08120" y="335268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28640" y="38098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08680" y="4224240"/>
            <a:ext cx="247680" cy="247680"/>
          </a:xfrm>
          <a:prstGeom prst="donut">
            <a:avLst>
              <a:gd name="adj" fmla="val 25000"/>
            </a:avLst>
          </a:prstGeom>
          <a:solidFill>
            <a:srgbClr val="fe836e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97520" y="4557600"/>
            <a:ext cx="247680" cy="247680"/>
          </a:xfrm>
          <a:prstGeom prst="donut">
            <a:avLst>
              <a:gd name="adj" fmla="val 25000"/>
            </a:avLst>
          </a:prstGeom>
          <a:solidFill>
            <a:srgbClr val="bd8d15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08680" y="4862520"/>
            <a:ext cx="247680" cy="247680"/>
          </a:xfrm>
          <a:prstGeom prst="donut">
            <a:avLst>
              <a:gd name="adj" fmla="val 25000"/>
            </a:avLst>
          </a:prstGeom>
          <a:solidFill>
            <a:srgbClr val="f06e02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08680" y="5167440"/>
            <a:ext cx="247680" cy="247680"/>
          </a:xfrm>
          <a:prstGeom prst="donut">
            <a:avLst>
              <a:gd name="adj" fmla="val 25000"/>
            </a:avLst>
          </a:prstGeom>
          <a:solidFill>
            <a:srgbClr val="f4cc3a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62480" y="41832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62480" y="45194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62480" y="483408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62480" y="51386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69560" y="3108240"/>
            <a:ext cx="355788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68680" y="632448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8" name="未知"/>
          <p:cNvSpPr/>
          <p:nvPr/>
        </p:nvSpPr>
        <p:spPr>
          <a:xfrm>
            <a:off x="1060560" y="389736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7a7a7"/>
              </a:gs>
              <a:gs pos="50000">
                <a:srgbClr val="dddddd"/>
              </a:gs>
              <a:gs pos="100000">
                <a:srgbClr val="a7a7a7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84520" y="46911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4275000"/>
            <a:ext cx="463680" cy="193680"/>
          </a:xfrm>
          <a:prstGeom prst="ellipse">
            <a:avLst/>
          </a:prstGeom>
          <a:solidFill>
            <a:srgbClr val="bd8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30400" y="457848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4160" y="2060640"/>
            <a:ext cx="463680" cy="193680"/>
          </a:xfrm>
          <a:prstGeom prst="ellipse">
            <a:avLst/>
          </a:prstGeom>
          <a:solidFill>
            <a:srgbClr val="fe8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84200" y="464040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7960" y="3727440"/>
            <a:ext cx="463680" cy="193680"/>
          </a:xfrm>
          <a:prstGeom prst="ellipse">
            <a:avLst/>
          </a:prstGeom>
          <a:solidFill>
            <a:srgbClr val="f4c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62640" y="466884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89640" y="3448080"/>
            <a:ext cx="463680" cy="193680"/>
          </a:xfrm>
          <a:prstGeom prst="ellipse">
            <a:avLst/>
          </a:prstGeom>
          <a:solidFill>
            <a:srgbClr val="bd8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08880" y="45244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32640" y="3654360"/>
            <a:ext cx="463320" cy="193680"/>
          </a:xfrm>
          <a:prstGeom prst="ellipse">
            <a:avLst/>
          </a:prstGeom>
          <a:solidFill>
            <a:srgbClr val="fe8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62680" y="46180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85000" y="4429080"/>
            <a:ext cx="463320" cy="193680"/>
          </a:xfrm>
          <a:prstGeom prst="ellipse">
            <a:avLst/>
          </a:prstGeom>
          <a:solidFill>
            <a:srgbClr val="f4c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52520" y="508464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9440" y="510696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73320" y="337356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79560" y="171288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10000" y="391968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69080" y="4105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96200" y="33066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4360" y="3105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71520" y="5656320"/>
            <a:ext cx="648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3589200" y="1943280"/>
            <a:ext cx="2097360" cy="125064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14640" y="2055960"/>
            <a:ext cx="225720" cy="225360"/>
          </a:xfrm>
          <a:prstGeom prst="ellipse">
            <a:avLst/>
          </a:prstGeom>
          <a:gradFill rotWithShape="0">
            <a:gsLst>
              <a:gs pos="0">
                <a:srgbClr val="f4cc3a"/>
              </a:gs>
              <a:gs pos="100000">
                <a:srgbClr val="a287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14640" y="2438280"/>
            <a:ext cx="225720" cy="225720"/>
          </a:xfrm>
          <a:prstGeom prst="ellipse">
            <a:avLst/>
          </a:prstGeom>
          <a:gradFill rotWithShape="0">
            <a:gsLst>
              <a:gs pos="0">
                <a:srgbClr val="fe836e"/>
              </a:gs>
              <a:gs pos="100000">
                <a:srgbClr val="68352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14640" y="2832120"/>
            <a:ext cx="225720" cy="225360"/>
          </a:xfrm>
          <a:prstGeom prst="ellipse">
            <a:avLst/>
          </a:prstGeom>
          <a:gradFill rotWithShape="0">
            <a:gsLst>
              <a:gs pos="0">
                <a:srgbClr val="bd8d15"/>
              </a:gs>
              <a:gs pos="100000">
                <a:srgbClr val="7d5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26040" y="201132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6040" y="239400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26040" y="279864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441600" y="4004640"/>
            <a:ext cx="251784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10" y="-6385"/>
                </a:moveTo>
                <a:lnTo>
                  <a:pt x="-654" y="11818"/>
                </a:lnTo>
              </a:path>
              <a:path w="21600" h="21600">
                <a:moveTo>
                  <a:pt x="-654" y="0"/>
                </a:moveTo>
                <a:lnTo>
                  <a:pt x="-654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Calibri"/>
              </a:rPr>
              <a:t>Coordinate Depth in </a:t>
            </a:r>
            <a:r>
              <a:rPr b="1" lang="en-US" sz="1200" spc="-1" strike="noStrike">
                <a:solidFill>
                  <a:srgbClr val="1c1c1c"/>
                </a:solidFill>
                <a:latin typeface="Calibri"/>
              </a:rPr>
              <a:t>3-D Settings</a:t>
            </a:r>
            <a:r>
              <a:rPr b="0" lang="en-US" sz="1200" spc="-1" strike="noStrike">
                <a:solidFill>
                  <a:srgbClr val="1c1c1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7f6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44640" y="2048040"/>
            <a:ext cx="3343320" cy="1376280"/>
          </a:xfrm>
          <a:prstGeom prst="rect">
            <a:avLst/>
          </a:prstGeom>
          <a:gradFill rotWithShape="0">
            <a:gsLst>
              <a:gs pos="0">
                <a:srgbClr val="fe836e"/>
              </a:gs>
              <a:gs pos="100000">
                <a:srgbClr val="d97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02120" y="2155680"/>
            <a:ext cx="111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alibri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38600" y="2043000"/>
            <a:ext cx="3467160" cy="1376640"/>
          </a:xfrm>
          <a:prstGeom prst="rect">
            <a:avLst/>
          </a:prstGeom>
          <a:gradFill rotWithShape="0">
            <a:gsLst>
              <a:gs pos="0">
                <a:srgbClr val="bd8d15"/>
              </a:gs>
              <a:gs pos="100000">
                <a:srgbClr val="a178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4920" y="2154240"/>
            <a:ext cx="11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alibri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42840" y="3819600"/>
            <a:ext cx="3345120" cy="1374840"/>
          </a:xfrm>
          <a:prstGeom prst="rect">
            <a:avLst/>
          </a:prstGeom>
          <a:gradFill rotWithShape="0">
            <a:gsLst>
              <a:gs pos="0">
                <a:srgbClr val="f4cc3a"/>
              </a:gs>
              <a:gs pos="100000">
                <a:srgbClr val="d0ae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38400" y="47656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alibri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3821040"/>
            <a:ext cx="3470400" cy="1366920"/>
          </a:xfrm>
          <a:prstGeom prst="rect">
            <a:avLst/>
          </a:prstGeom>
          <a:gradFill rotWithShape="0">
            <a:gsLst>
              <a:gs pos="0">
                <a:srgbClr val="f06e02"/>
              </a:gs>
              <a:gs pos="100000">
                <a:srgbClr val="cd5e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18160" y="478800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alibri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87480" y="3983040"/>
            <a:ext cx="203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01880" y="2155680"/>
            <a:ext cx="19476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54680" y="2195640"/>
            <a:ext cx="210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37120" y="4022640"/>
            <a:ext cx="20210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Calibri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889520" y="3967200"/>
            <a:ext cx="742680" cy="744120"/>
            <a:chOff x="4889520" y="3967200"/>
            <a:chExt cx="742680" cy="744120"/>
          </a:xfrm>
        </p:grpSpPr>
        <p:sp>
          <p:nvSpPr>
            <p:cNvPr id="302" name="未知"/>
            <p:cNvSpPr/>
            <p:nvPr/>
          </p:nvSpPr>
          <p:spPr>
            <a:xfrm>
              <a:off x="4889520" y="3967200"/>
              <a:ext cx="742680" cy="7441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5077800" y="4201920"/>
              <a:ext cx="367920" cy="34452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251160" y="2549520"/>
            <a:ext cx="763200" cy="750600"/>
            <a:chOff x="3251160" y="2549520"/>
            <a:chExt cx="763200" cy="750600"/>
          </a:xfrm>
        </p:grpSpPr>
        <p:sp>
          <p:nvSpPr>
            <p:cNvPr id="305" name="未知"/>
            <p:cNvSpPr/>
            <p:nvPr/>
          </p:nvSpPr>
          <p:spPr>
            <a:xfrm>
              <a:off x="3640320" y="2571480"/>
              <a:ext cx="357120" cy="28152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3335400" y="3005640"/>
              <a:ext cx="204840" cy="24228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3335400" y="2603160"/>
              <a:ext cx="204840" cy="24084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3640320" y="2998080"/>
              <a:ext cx="357120" cy="27972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3251160" y="2549520"/>
              <a:ext cx="763200" cy="75060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238560" y="3956040"/>
            <a:ext cx="744120" cy="740880"/>
            <a:chOff x="3238560" y="3956040"/>
            <a:chExt cx="744120" cy="740880"/>
          </a:xfrm>
        </p:grpSpPr>
        <p:sp>
          <p:nvSpPr>
            <p:cNvPr id="311" name="未知"/>
            <p:cNvSpPr/>
            <p:nvPr/>
          </p:nvSpPr>
          <p:spPr>
            <a:xfrm>
              <a:off x="3238560" y="3956040"/>
              <a:ext cx="744120" cy="7408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3564720" y="4102560"/>
              <a:ext cx="255240" cy="41472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3350520" y="4218480"/>
              <a:ext cx="184680" cy="20484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879800" y="2577960"/>
            <a:ext cx="741240" cy="740880"/>
            <a:chOff x="4879800" y="2577960"/>
            <a:chExt cx="741240" cy="740880"/>
          </a:xfrm>
        </p:grpSpPr>
        <p:sp>
          <p:nvSpPr>
            <p:cNvPr id="315" name="未知"/>
            <p:cNvSpPr/>
            <p:nvPr/>
          </p:nvSpPr>
          <p:spPr>
            <a:xfrm>
              <a:off x="4879800" y="2577960"/>
              <a:ext cx="741240" cy="3704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4971240" y="2700720"/>
              <a:ext cx="279000" cy="49536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4879800" y="2948400"/>
              <a:ext cx="741240" cy="3704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25640" y="5367240"/>
            <a:ext cx="686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1:41:29Z</dcterms:created>
  <dc:creator>http://www.eeppt.com</dc:creator>
  <dc:description>ppt模板下载网站 http://www.eeppt.com</dc:description>
  <dc:language>en-US</dc:language>
  <cp:lastModifiedBy/>
  <dcterms:modified xsi:type="dcterms:W3CDTF">2015-06-14T07:55:07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