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50E-8E01-4BAE-B8AB-C7D510DA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667-C3DB-4433-BB7D-70644256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C43-3A7C-4AF7-8F64-ADDA5621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ADF-4B41-4098-A032-169B25AC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9AD-AD93-45E5-B678-6FF5354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687-E9F8-4855-8562-DB7288A1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B90-46C9-4BD4-B19D-0D49F4A0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A45-02E2-4BCD-A3B2-198A3BBE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841-727C-4088-8FD3-56B37E50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03B-D985-408C-A6F3-2798B85C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907-A5D3-4EA0-B0B4-29B8A29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56A-27A6-4348-8F1D-2AFF86C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9A4-5186-42E5-8AE1-E42335B4C4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1976-AADD-4F0F-B913-7079EA1AB7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59450-12051PPZ555.jpg"/>
          <p:cNvPicPr/>
          <p:nvPr/>
        </p:nvPicPr>
        <p:blipFill>
          <a:blip r:embed="rId1"/>
          <a:stretch/>
        </p:blipFill>
        <p:spPr>
          <a:xfrm>
            <a:off x="392040" y="0"/>
            <a:ext cx="875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59450-12051PP22590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159450-12051PRZ511.jpg"/>
          <p:cNvPicPr/>
          <p:nvPr/>
        </p:nvPicPr>
        <p:blipFill>
          <a:blip r:embed="rId1"/>
          <a:stretch/>
        </p:blipFill>
        <p:spPr>
          <a:xfrm>
            <a:off x="1681200" y="685800"/>
            <a:ext cx="5221080" cy="554688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5.jpg"/>
          <p:cNvPicPr/>
          <p:nvPr/>
        </p:nvPicPr>
        <p:blipFill>
          <a:blip r:embed="rId1"/>
          <a:stretch/>
        </p:blipFill>
        <p:spPr>
          <a:xfrm>
            <a:off x="3274920" y="98748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