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A4E-CB4A-4D82-A0AA-5BB75DE7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A27-9933-488E-8642-DB85CD98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804-668D-46B6-94BC-EB03D1AA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9BE-1D85-47F1-8E80-5DDD56E1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4DE-5D78-404A-9144-4F9D3AEA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649-F30B-484D-AC43-BF1D6287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922-29EC-4FD4-B71A-2288CE33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F4B-D7CF-4827-AE21-50F4CD21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D6E-BA6B-4EBC-BCA6-CD8A2225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3BB-83E2-4333-8A73-1F5A616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207-E365-47F1-ABB0-D3D54C3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740-4BC6-4E5D-96D5-3AA09F3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" y="1440"/>
            <a:ext cx="7329600" cy="1070280"/>
          </a:xfrm>
          <a:prstGeom prst="rect">
            <a:avLst/>
          </a:prstGeom>
          <a:solidFill>
            <a:srgbClr val="715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24560" y="1440"/>
            <a:ext cx="219240" cy="10702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124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53360"/>
            <a:ext cx="1676520" cy="404640"/>
          </a:xfrm>
          <a:prstGeom prst="rect">
            <a:avLst/>
          </a:prstGeom>
          <a:solidFill>
            <a:srgbClr val="98c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5e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715e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715e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752120" y="6540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038480" y="6552720"/>
            <a:ext cx="236232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CDE4-D6D7-4C90-A686-794FF2E058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47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05520" y="0"/>
            <a:ext cx="4047840" cy="3003480"/>
          </a:xfrm>
          <a:prstGeom prst="rect">
            <a:avLst/>
          </a:pr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solidFill>
            <a:srgbClr val="98c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0"/>
            <a:ext cx="4124160" cy="300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0480" y="3352680"/>
            <a:ext cx="4043520" cy="3505320"/>
          </a:xfrm>
          <a:prstGeom prst="rect">
            <a:avLst/>
          </a:prstGeom>
          <a:solidFill>
            <a:srgbClr val="98c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7280" y="5986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0"/>
            <a:ext cx="5104080" cy="3352680"/>
          </a:xfrm>
          <a:prstGeom prst="rect">
            <a:avLst/>
          </a:prstGeom>
          <a:solidFill>
            <a:srgbClr val="715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997360"/>
            <a:ext cx="4038480" cy="3603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0" y="2992320"/>
            <a:ext cx="5100840" cy="36036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52680"/>
            <a:ext cx="5100480" cy="3505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9040" y="0"/>
            <a:ext cx="4044960" cy="3008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15ee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hyperlink" Target="http://www.eeppt.com/moban/fengjing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四季风景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40bad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238dd5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98c1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bad2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40bad2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98c13d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715ee6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1244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1244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478" name="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1244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未知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rcRect l="37892" t="32815" r="31252" b="24483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7892" t="32815" r="31252" b="24483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rcRect l="37892" t="32815" r="31252" b="24483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rcRect l="37892" t="32815" r="31252" b="24483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5"/>
          <a:srcRect l="37892" t="32815" r="31252" b="24483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6"/>
          <a:srcRect l="37892" t="32815" r="31252" b="24483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7"/>
          <a:srcRect l="37892" t="32815" r="31252" b="24483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8"/>
          <a:srcRect l="37892" t="32815" r="31252" b="24483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9"/>
          <a:srcRect l="37892" t="32815" r="31252" b="24483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0"/>
          <a:srcRect l="37892" t="32815" r="31252" b="24483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1"/>
          <a:srcRect l="37892" t="32815" r="31252" b="24483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2"/>
          <a:srcRect l="37892" t="32815" r="31252" b="24483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648028">
                  <a:alpha val="12156"/>
                </a:srgbClr>
              </a:gs>
              <a:gs pos="50000">
                <a:srgbClr val="98c13d"/>
              </a:gs>
              <a:gs pos="100000">
                <a:srgbClr val="64802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87584"/>
              </a:gs>
              <a:gs pos="100000">
                <a:srgbClr val="40bad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2"/>
              </a:gs>
              <a:gs pos="100000">
                <a:srgbClr val="98c13d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2"/>
              </a:gs>
              <a:gs pos="100000">
                <a:srgbClr val="98c13d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2"/>
              </a:gs>
              <a:gs pos="100000">
                <a:srgbClr val="98c13d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2260440" y="1744920"/>
            <a:ext cx="153612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124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2396880" y="16434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c2baf3"/>
              </a:gs>
              <a:gs pos="100000">
                <a:srgbClr val="715e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2334600" y="1743480"/>
            <a:ext cx="137952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238dd5"/>
              </a:gs>
              <a:gs pos="100000">
                <a:srgbClr val="93c6e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2326680" y="173196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b1e2eb"/>
              </a:gs>
              <a:gs pos="100000">
                <a:srgbClr val="40bad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2291040" y="1361880"/>
            <a:ext cx="184464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4d621f"/>
              </a:gs>
              <a:gs pos="100000">
                <a:srgbClr val="98c1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未知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8c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6200000">
            <a:off x="2301120" y="119772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98c13d"/>
              </a:gs>
              <a:gs pos="100000">
                <a:srgbClr val="85a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"/>
          <p:cNvCxnSpPr>
            <a:endCxn id="564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endCxn id="557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445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70" name="未知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7972f"/>
                </a:gs>
                <a:gs pos="100000">
                  <a:srgbClr val="98c1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73" name="未知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5849b4"/>
                </a:gs>
                <a:gs pos="100000">
                  <a:srgbClr val="715ee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76" name="未知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1b6ea7"/>
                </a:gs>
                <a:gs pos="100000">
                  <a:srgbClr val="238dd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79" name="未知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3292a4"/>
                </a:gs>
                <a:gs pos="100000">
                  <a:srgbClr val="40ba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1" name="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587" name="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588" name="未知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未知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2029320" y="2155680"/>
              <a:ext cx="344880" cy="359280"/>
              <a:chOff x="2029320" y="2155680"/>
              <a:chExt cx="344880" cy="35928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596" name="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 rot="13928400">
                  <a:off x="213264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2029320" y="2177280"/>
                <a:ext cx="271800" cy="337680"/>
                <a:chOff x="2029320" y="2177280"/>
                <a:chExt cx="271800" cy="3376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rot="13687200">
                  <a:off x="212580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rot="12871200">
                  <a:off x="20959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rot="12576000">
                  <a:off x="2085120" y="22233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" name=""/>
            <p:cNvGrpSpPr/>
            <p:nvPr/>
          </p:nvGrpSpPr>
          <p:grpSpPr>
            <a:xfrm>
              <a:off x="1849320" y="2691360"/>
              <a:ext cx="429120" cy="517320"/>
              <a:chOff x="1849320" y="2691360"/>
              <a:chExt cx="429120" cy="5173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1849320" y="2691360"/>
                <a:ext cx="429120" cy="405000"/>
                <a:chOff x="1849320" y="2691360"/>
                <a:chExt cx="429120" cy="405000"/>
              </a:xfrm>
            </p:grpSpPr>
            <p:sp>
              <p:nvSpPr>
                <p:cNvPr id="607" name=""/>
                <p:cNvSpPr/>
                <p:nvPr/>
              </p:nvSpPr>
              <p:spPr>
                <a:xfrm flipH="1" rot="14424600">
                  <a:off x="204516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rot="13608600">
                  <a:off x="199296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rot="13313400">
                  <a:off x="1969200" y="269856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1850760" y="2719800"/>
                <a:ext cx="307800" cy="488880"/>
                <a:chOff x="1850760" y="2719800"/>
                <a:chExt cx="307800" cy="488880"/>
              </a:xfrm>
            </p:grpSpPr>
            <p:sp>
              <p:nvSpPr>
                <p:cNvPr id="612" name="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rot="12256200">
                  <a:off x="192240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rot="11960400">
                  <a:off x="1909080" y="27932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6" name="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18" name="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19" name="未知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未知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40bad2"/>
                </a:gs>
                <a:gs pos="100000">
                  <a:srgbClr val="10303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40bad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236775"/>
                </a:gs>
                <a:gs pos="50000">
                  <a:srgbClr val="40bad2"/>
                </a:gs>
                <a:gs pos="100000">
                  <a:srgbClr val="236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40bad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627" name="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632" name="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"/>
            <p:cNvGrpSpPr/>
            <p:nvPr/>
          </p:nvGrpSpPr>
          <p:grpSpPr>
            <a:xfrm>
              <a:off x="1315800" y="2691360"/>
              <a:ext cx="429120" cy="517320"/>
              <a:chOff x="1315800" y="2691360"/>
              <a:chExt cx="429120" cy="51732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1315800" y="2691360"/>
                <a:ext cx="429120" cy="405000"/>
                <a:chOff x="1315800" y="2691360"/>
                <a:chExt cx="429120" cy="405000"/>
              </a:xfrm>
            </p:grpSpPr>
            <p:sp>
              <p:nvSpPr>
                <p:cNvPr id="638" name=""/>
                <p:cNvSpPr/>
                <p:nvPr/>
              </p:nvSpPr>
              <p:spPr>
                <a:xfrm flipH="1" rot="14424600">
                  <a:off x="151164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rot="13608600">
                  <a:off x="145944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rot="13313400">
                  <a:off x="1435680" y="269856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1317240" y="2719800"/>
                <a:ext cx="307800" cy="488880"/>
                <a:chOff x="1317240" y="2719800"/>
                <a:chExt cx="307800" cy="488880"/>
              </a:xfrm>
            </p:grpSpPr>
            <p:sp>
              <p:nvSpPr>
                <p:cNvPr id="643" name="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rot="12256200">
                  <a:off x="138888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rot="11960400">
                  <a:off x="1375560" y="27932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7" name="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 flipH="1">
            <a:off x="2401200" y="1771560"/>
            <a:ext cx="4428360" cy="454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solidFill>
            <a:srgbClr val="40bad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412720" y="1870560"/>
            <a:ext cx="4374000" cy="43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8c13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340360" y="1771560"/>
            <a:ext cx="45378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89" swAng="5413589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89" swAng="5413589"/>
              </a:path>
            </a:pathLst>
          </a:custGeom>
          <a:solidFill>
            <a:srgbClr val="238dd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340000" y="1853280"/>
            <a:ext cx="453672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12445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27920" y="1930320"/>
            <a:ext cx="4164480" cy="42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186294"/>
              </a:gs>
              <a:gs pos="100000">
                <a:srgbClr val="238dd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3151080" y="2505960"/>
            <a:ext cx="292680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98c13d"/>
              </a:gs>
              <a:gs pos="100000">
                <a:srgbClr val="69862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434400" y="2823840"/>
            <a:ext cx="2351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81f28"/>
              </a:gs>
              <a:gs pos="100000">
                <a:srgbClr val="124458">
                  <a:alpha val="9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961720" y="2354400"/>
            <a:ext cx="3307320" cy="33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gradFill rotWithShape="0">
            <a:gsLst>
              <a:gs pos="0">
                <a:srgbClr val="26707f"/>
              </a:gs>
              <a:gs pos="100000">
                <a:srgbClr val="40bad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60" name="" descr="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未知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未知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68" name="" descr="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未知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72" name="" descr="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未知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8c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15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15e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15e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3c327b"/>
              </a:gs>
              <a:gs pos="50000">
                <a:srgbClr val="715ee6"/>
              </a:gs>
              <a:gs pos="100000">
                <a:srgbClr val="3c32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715ee6">
                  <a:alpha val="0"/>
                </a:srgbClr>
              </a:gs>
              <a:gs pos="100000">
                <a:srgbClr val="473b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38dd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238dd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124c72"/>
              </a:gs>
              <a:gs pos="50000">
                <a:srgbClr val="238dd5"/>
              </a:gs>
              <a:gs pos="100000">
                <a:srgbClr val="124c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238dd5">
                  <a:alpha val="0"/>
                </a:srgbClr>
              </a:gs>
              <a:gs pos="100000">
                <a:srgbClr val="16598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702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8c13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46581c"/>
              </a:gs>
              <a:gs pos="100000">
                <a:srgbClr val="98c13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516820"/>
              </a:gs>
              <a:gs pos="50000">
                <a:srgbClr val="98c13d"/>
              </a:gs>
              <a:gs pos="100000">
                <a:srgbClr val="5168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98c13d">
                  <a:alpha val="0"/>
                </a:srgbClr>
              </a:gs>
              <a:gs pos="100000">
                <a:srgbClr val="607a2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712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17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6e0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730" name="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308c9f"/>
              </a:gs>
              <a:gs pos="100000">
                <a:srgbClr val="40ba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1e79b7"/>
              </a:gs>
              <a:gs pos="100000">
                <a:srgbClr val="238d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2a534"/>
              </a:gs>
              <a:gs pos="100000">
                <a:srgbClr val="98c1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50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54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8c13d"/>
                </a:gs>
                <a:gs pos="100000">
                  <a:srgbClr val="4658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0bad2"/>
                </a:gs>
                <a:gs pos="100000">
                  <a:srgbClr val="1d55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715ee6"/>
                </a:gs>
                <a:gs pos="100000">
                  <a:srgbClr val="9789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98c13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124458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762" name="未知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89898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2095200" y="2615400"/>
            <a:ext cx="2745720" cy="2503080"/>
            <a:chOff x="2095200" y="2615400"/>
            <a:chExt cx="2745720" cy="2503080"/>
          </a:xfrm>
        </p:grpSpPr>
        <p:grpSp>
          <p:nvGrpSpPr>
            <p:cNvPr id="765" name=""/>
            <p:cNvGrpSpPr/>
            <p:nvPr/>
          </p:nvGrpSpPr>
          <p:grpSpPr>
            <a:xfrm>
              <a:off x="2728440" y="2615400"/>
              <a:ext cx="2112480" cy="2478240"/>
              <a:chOff x="2728440" y="2615400"/>
              <a:chExt cx="2112480" cy="2478240"/>
            </a:xfrm>
          </p:grpSpPr>
          <p:sp>
            <p:nvSpPr>
              <p:cNvPr id="766" name=""/>
              <p:cNvSpPr/>
              <p:nvPr/>
            </p:nvSpPr>
            <p:spPr>
              <a:xfrm flipH="1" flipV="1" rot="1528800">
                <a:off x="3905280" y="2622960"/>
                <a:ext cx="502560" cy="2058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 rot="2344200">
                <a:off x="3745440" y="292608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 rot="2640000">
                <a:off x="3613320" y="3072600"/>
                <a:ext cx="50256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095200" y="3297240"/>
              <a:ext cx="2653920" cy="1821240"/>
              <a:chOff x="2095200" y="3297240"/>
              <a:chExt cx="2653920" cy="1821240"/>
            </a:xfrm>
          </p:grpSpPr>
          <p:sp>
            <p:nvSpPr>
              <p:cNvPr id="771" name=""/>
              <p:cNvSpPr/>
              <p:nvPr/>
            </p:nvSpPr>
            <p:spPr>
              <a:xfrm flipH="1" flipV="1" rot="2881800">
                <a:off x="3561840" y="314388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 rot="3697200">
                <a:off x="3297960" y="336204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 rot="3993000">
                <a:off x="3118680" y="344772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flipH="1" flipV="1" rot="5400000">
            <a:off x="1519920" y="1841400"/>
            <a:ext cx="3168360" cy="31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1"/>
                </a:moveTo>
                <a:arcTo wR="10800" hR="10800" stAng="-5363540" swAng="5395462"/>
                <a:lnTo>
                  <a:pt x="10800" y="10800"/>
                </a:lnTo>
                <a:close/>
              </a:path>
              <a:path fill="none" w="21600" h="21600">
                <a:moveTo>
                  <a:pt x="10915" y="1"/>
                </a:moveTo>
                <a:arcTo wR="10800" hR="10800" stAng="-5363540" swAng="5395462"/>
              </a:path>
            </a:pathLst>
          </a:custGeom>
          <a:solidFill>
            <a:srgbClr val="98c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57360" y="1844640"/>
            <a:ext cx="3117600" cy="31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rot="16200000">
            <a:off x="1558800" y="1855080"/>
            <a:ext cx="3095640" cy="316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0" y="2"/>
                </a:moveTo>
                <a:arcTo wR="10800" hR="10800" stAng="-5473296" swAng="5505218"/>
                <a:lnTo>
                  <a:pt x="10800" y="10800"/>
                </a:lnTo>
                <a:close/>
              </a:path>
              <a:path fill="none" w="21600" h="21600">
                <a:moveTo>
                  <a:pt x="10570" y="2"/>
                </a:moveTo>
                <a:arcTo wR="10800" hR="10800" stAng="-5473296" swAng="5505218"/>
              </a:path>
            </a:pathLst>
          </a:custGeom>
          <a:solidFill>
            <a:srgbClr val="238d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557360" y="1872360"/>
            <a:ext cx="3117600" cy="310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784" name="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 rot="2905200">
              <a:off x="3799800" y="35388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flipV="1" rot="3200400">
              <a:off x="3684240" y="3636720"/>
              <a:ext cx="353880" cy="159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</a:rPr>
              <a:t>A title abou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0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Company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995720" y="2198520"/>
            <a:ext cx="286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2286000" y="304776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2133720" y="20574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24458"/>
                    </a:gs>
                    <a:gs pos="100000">
                      <a:srgbClr val="715ee6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24458"/>
                  </a:gs>
                  <a:gs pos="100000">
                    <a:srgbClr val="715ee6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0bad2"/>
                </a:gs>
                <a:gs pos="50000">
                  <a:srgbClr val="d5eff4"/>
                </a:gs>
                <a:gs pos="100000">
                  <a:srgbClr val="40bad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40bad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8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c13d"/>
                </a:gs>
                <a:gs pos="50000">
                  <a:srgbClr val="e8f0d5"/>
                </a:gs>
                <a:gs pos="100000">
                  <a:srgbClr val="98c13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98c13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15ee6"/>
                </a:gs>
                <a:gs pos="50000">
                  <a:srgbClr val="e0dcf8"/>
                </a:gs>
                <a:gs pos="100000">
                  <a:srgbClr val="715ee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715e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38dd5"/>
                </a:gs>
                <a:gs pos="50000">
                  <a:srgbClr val="cfe5f5"/>
                </a:gs>
                <a:gs pos="100000">
                  <a:srgbClr val="238dd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238d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A7E-8D01-4B84-8A29-6E272479B8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c13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c13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a8de"/>
              </a:gs>
              <a:gs pos="50000">
                <a:srgbClr val="238dd5"/>
              </a:gs>
              <a:gs pos="100000">
                <a:srgbClr val="58a8d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ec9dc"/>
              </a:gs>
              <a:gs pos="50000">
                <a:srgbClr val="40bad2"/>
              </a:gs>
              <a:gs pos="100000">
                <a:srgbClr val="6ec9d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34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8c13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8c1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37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bad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0ba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40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8c13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8c1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46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47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238dd5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715ee6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40bad2"/>
          </a:solidFill>
          <a:ln w="9360">
            <a:solidFill>
              <a:srgbClr val="40bad2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40bad2">
              <a:alpha val="50000"/>
            </a:srgbClr>
          </a:solidFill>
          <a:ln w="9360">
            <a:solidFill>
              <a:srgbClr val="40b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238d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196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18399600">
              <a:off x="3515040" y="32659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8dd5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5ee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bad2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11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12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 rot="7872600">
                <a:off x="5245560" y="12290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17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 rot="6519600">
                <a:off x="4917240" y="10065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24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dbe9bc"/>
              </a:gs>
              <a:gs pos="100000">
                <a:srgbClr val="98c13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124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42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56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74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292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18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344" name="未知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349" name="未知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54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55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61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67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73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74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80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86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1752480" y="640080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15ee6"/>
                </a:solidFill>
                <a:uFillTx/>
                <a:latin typeface="Arial"/>
                <a:hlinkClick r:id="rId3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458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458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98c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98c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08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 rot="5400000">
              <a:off x="3032640" y="231804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 flipV="1" rot="16200000">
              <a:off x="303588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16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26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34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35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bad2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0bad2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49" name="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8f0d5"/>
                </a:gs>
                <a:gs pos="100000">
                  <a:srgbClr val="98c1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52" name="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0dcf8"/>
                </a:gs>
                <a:gs pos="100000">
                  <a:srgbClr val="715e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55" name="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5eff4"/>
                </a:gs>
                <a:gs pos="100000">
                  <a:srgbClr val="40ba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56:08Z</dcterms:created>
  <dc:creator>http://www.eeppt.com</dc:creator>
  <dc:description>ppt模板下载网站 http://www.eeppt.com</dc:description>
  <dc:language>en-US</dc:language>
  <cp:lastModifiedBy/>
  <dcterms:modified xsi:type="dcterms:W3CDTF">2015-06-14T08:04:1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