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85E-8E7E-4C03-AB67-9F935579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90924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C48-41F3-42CC-905B-A69798A0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84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EFE-8FE5-4FFB-98EB-AEF61F75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400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08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400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08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F87-93AF-45ED-B2BD-3D799029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3AF8-7FCB-4CA7-A2F8-336EE53F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81471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e02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C308-5059-40F0-80A2-BB86AC5E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22FC-9C58-4F2C-9189-6AB87EE0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53CD-AD7A-49C3-9DE4-2186A40E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C7F3-622B-4860-B841-C2B3178B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09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e0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C7D0-7D73-461B-95C8-2F36A253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1AFF-912A-4702-8FC4-37BCFCF7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81471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e02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CE7-2DB3-4795-959A-B3B0E3C2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84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FC07-8868-4D3A-A7E6-4968384E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2E50-5143-40FA-80CC-11D4C7E0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390924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1C5C-9414-4840-B816-EA662DA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84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689F-8009-4478-9715-6F0BF0FE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400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908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400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908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37AA-F17F-4EF3-B968-8F20AF8B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342-2EC6-4193-8EE1-6F11CDFB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5A1-CDBB-4F88-979A-13CEF3CA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10F-C293-4D82-B8AB-D2845218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09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e0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FB7-9C40-4DE9-9A5D-D445F50C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F31-B2C0-4340-A062-B21300A4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84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227-B399-4B51-9F61-6262C27F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DFF-5CD9-4C68-81ED-BBC65404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-3240" y="-19080"/>
            <a:ext cx="9147240" cy="1703520"/>
          </a:xfrm>
          <a:custGeom>
            <a:avLst/>
            <a:gdLst/>
            <a:ahLst/>
            <a:rect l="l" t="t" r="r" b="b"/>
            <a:pathLst>
              <a:path w="5767" h="1078">
                <a:moveTo>
                  <a:pt x="0" y="0"/>
                </a:moveTo>
                <a:lnTo>
                  <a:pt x="7" y="803"/>
                </a:lnTo>
                <a:cubicBezTo>
                  <a:pt x="617" y="653"/>
                  <a:pt x="921" y="478"/>
                  <a:pt x="2823" y="511"/>
                </a:cubicBezTo>
                <a:cubicBezTo>
                  <a:pt x="4725" y="545"/>
                  <a:pt x="5767" y="1030"/>
                  <a:pt x="5767" y="1078"/>
                </a:cubicBezTo>
                <a:lnTo>
                  <a:pt x="5767" y="0"/>
                </a:lnTo>
                <a:lnTo>
                  <a:pt x="0" y="0"/>
                </a:lnTo>
                <a:close/>
              </a:path>
            </a:pathLst>
          </a:custGeom>
          <a:solidFill>
            <a:srgbClr val="7f9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0" y="-19080"/>
            <a:ext cx="9147240" cy="1413000"/>
          </a:xfrm>
          <a:custGeom>
            <a:avLst/>
            <a:gdLst/>
            <a:ahLst/>
            <a:rect l="l" t="t" r="r" b="b"/>
            <a:pathLst>
              <a:path w="5767" h="907">
                <a:moveTo>
                  <a:pt x="0" y="0"/>
                </a:moveTo>
                <a:lnTo>
                  <a:pt x="0" y="807"/>
                </a:lnTo>
                <a:cubicBezTo>
                  <a:pt x="610" y="669"/>
                  <a:pt x="1022" y="443"/>
                  <a:pt x="2924" y="474"/>
                </a:cubicBezTo>
                <a:cubicBezTo>
                  <a:pt x="4826" y="505"/>
                  <a:pt x="5767" y="863"/>
                  <a:pt x="5767" y="907"/>
                </a:cubicBezTo>
                <a:lnTo>
                  <a:pt x="576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160" y="6093000"/>
            <a:ext cx="91328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ce0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9280" y="1267920"/>
            <a:ext cx="81471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1e1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228600" y="6477120"/>
            <a:ext cx="2612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3048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33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9C8A-1050-4562-8339-D81C1E70BB04}" type="slidenum">
              <a:rPr b="0" lang="ko-KR" sz="1200" spc="-1" strike="noStrike">
                <a:solidFill>
                  <a:srgbClr val="0033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563920"/>
            <a:ext cx="8424720" cy="19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4921-83D1-4FEF-98CE-FEBF0829B7A8}" type="slidenum">
              <a:rPr b="0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02a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dce02a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541e1e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541e1e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fengjing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81400" y="2057400"/>
            <a:ext cx="543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森林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风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未知"/>
          <p:cNvSpPr/>
          <p:nvPr/>
        </p:nvSpPr>
        <p:spPr>
          <a:xfrm>
            <a:off x="2635200" y="313380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2c7ec8"/>
              </a:gs>
              <a:gs pos="100000">
                <a:srgbClr val="143a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未知"/>
          <p:cNvSpPr/>
          <p:nvPr/>
        </p:nvSpPr>
        <p:spPr>
          <a:xfrm rot="7200000">
            <a:off x="4326480" y="205344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dce02a"/>
              </a:gs>
              <a:gs pos="100000">
                <a:srgbClr val="656713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663280" y="1796400"/>
            <a:ext cx="2482920" cy="2629800"/>
            <a:chOff x="2663280" y="1796400"/>
            <a:chExt cx="2482920" cy="2629800"/>
          </a:xfrm>
        </p:grpSpPr>
        <p:sp>
          <p:nvSpPr>
            <p:cNvPr id="254" name=""/>
            <p:cNvSpPr/>
            <p:nvPr/>
          </p:nvSpPr>
          <p:spPr>
            <a:xfrm rot="12600000">
              <a:off x="2717280" y="350316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dce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 rot="7200000">
              <a:off x="3112560" y="270792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dce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 rot="7200000">
              <a:off x="4185720" y="178092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dce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57" name="未知"/>
          <p:cNvSpPr/>
          <p:nvPr/>
        </p:nvSpPr>
        <p:spPr>
          <a:xfrm rot="14400000">
            <a:off x="4440600" y="390708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476240" y="2684520"/>
            <a:ext cx="2172960" cy="2759400"/>
            <a:chOff x="4476240" y="2684520"/>
            <a:chExt cx="2172960" cy="2759400"/>
          </a:xfrm>
        </p:grpSpPr>
        <p:sp>
          <p:nvSpPr>
            <p:cNvPr id="259" name=""/>
            <p:cNvSpPr/>
            <p:nvPr/>
          </p:nvSpPr>
          <p:spPr>
            <a:xfrm rot="19800000">
              <a:off x="4530600" y="3003120"/>
              <a:ext cx="1438200" cy="603360"/>
            </a:xfrm>
            <a:prstGeom prst="triangle">
              <a:avLst>
                <a:gd name="adj" fmla="val 50000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 rot="14400000">
              <a:off x="4914000" y="3589920"/>
              <a:ext cx="150480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 rot="14400000">
              <a:off x="5743440" y="435096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627280" y="4338720"/>
            <a:ext cx="2493360" cy="1395000"/>
            <a:chOff x="2627280" y="4338720"/>
            <a:chExt cx="2493360" cy="1395000"/>
          </a:xfrm>
        </p:grpSpPr>
        <p:sp>
          <p:nvSpPr>
            <p:cNvPr id="263" name="未知"/>
            <p:cNvSpPr/>
            <p:nvPr/>
          </p:nvSpPr>
          <p:spPr>
            <a:xfrm>
              <a:off x="2627280" y="4338720"/>
              <a:ext cx="583200" cy="110592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2c7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4102920" y="4716000"/>
              <a:ext cx="1393560" cy="641880"/>
            </a:xfrm>
            <a:prstGeom prst="triangle">
              <a:avLst>
                <a:gd name="adj" fmla="val 50000"/>
              </a:avLst>
            </a:prstGeom>
            <a:solidFill>
              <a:srgbClr val="2c7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3152880" y="4663080"/>
              <a:ext cx="1601640" cy="7815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2c7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75564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0072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64000" y="15350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未知"/>
          <p:cNvSpPr/>
          <p:nvPr/>
        </p:nvSpPr>
        <p:spPr>
          <a:xfrm flipH="1">
            <a:off x="4788000" y="25956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eac29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228680" y="1730160"/>
            <a:ext cx="4062240" cy="3859200"/>
            <a:chOff x="1228680" y="1730160"/>
            <a:chExt cx="4062240" cy="3859200"/>
          </a:xfrm>
        </p:grpSpPr>
        <p:sp>
          <p:nvSpPr>
            <p:cNvPr id="272" name=""/>
            <p:cNvSpPr/>
            <p:nvPr/>
          </p:nvSpPr>
          <p:spPr>
            <a:xfrm rot="16200000">
              <a:off x="3833280" y="3002400"/>
              <a:ext cx="1562400" cy="135252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56713"/>
                </a:gs>
                <a:gs pos="100000">
                  <a:srgbClr val="dce02a"/>
                </a:gs>
              </a:gsLst>
              <a:lin ang="162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139560" y="1833480"/>
              <a:ext cx="1560600" cy="1353960"/>
            </a:xfrm>
            <a:prstGeom prst="hexagon">
              <a:avLst>
                <a:gd name="adj" fmla="val 28815"/>
                <a:gd name="vf" fmla="val 115470"/>
              </a:avLst>
            </a:prstGeom>
            <a:gradFill rotWithShape="0">
              <a:gsLst>
                <a:gs pos="0">
                  <a:srgbClr val="143a5c"/>
                </a:gs>
                <a:gs pos="50000">
                  <a:srgbClr val="2c7ec8"/>
                </a:gs>
                <a:gs pos="100000">
                  <a:srgbClr val="143a5c"/>
                </a:gs>
              </a:gsLst>
              <a:lin ang="189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184560" y="4132800"/>
              <a:ext cx="1560960" cy="1352160"/>
            </a:xfrm>
            <a:prstGeom prst="hexagon">
              <a:avLst>
                <a:gd name="adj" fmla="val 28860"/>
                <a:gd name="vf" fmla="val 115470"/>
              </a:avLst>
            </a:prstGeom>
            <a:gradFill rotWithShape="0">
              <a:gsLst>
                <a:gs pos="0">
                  <a:srgbClr val="143a5c"/>
                </a:gs>
                <a:gs pos="50000">
                  <a:srgbClr val="2c7ec8"/>
                </a:gs>
                <a:gs pos="100000">
                  <a:srgbClr val="143a5c"/>
                </a:gs>
              </a:gsLst>
              <a:lin ang="189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2467080" y="2995560"/>
              <a:ext cx="1560600" cy="1353960"/>
            </a:xfrm>
            <a:prstGeom prst="hexagon">
              <a:avLst>
                <a:gd name="adj" fmla="val 28815"/>
                <a:gd name="vf" fmla="val 115470"/>
              </a:avLst>
            </a:prstGeom>
            <a:gradFill rotWithShape="0">
              <a:gsLst>
                <a:gs pos="0">
                  <a:srgbClr val="3a4715"/>
                </a:gs>
                <a:gs pos="50000">
                  <a:srgbClr val="7f9c2e"/>
                </a:gs>
                <a:gs pos="100000">
                  <a:srgbClr val="3a4715"/>
                </a:gs>
              </a:gsLst>
              <a:lin ang="162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1786320" y="1834200"/>
              <a:ext cx="1560600" cy="1352520"/>
            </a:xfrm>
            <a:prstGeom prst="hexagon">
              <a:avLst>
                <a:gd name="adj" fmla="val 28846"/>
                <a:gd name="vf" fmla="val 115470"/>
              </a:avLst>
            </a:prstGeom>
            <a:gradFill rotWithShape="0">
              <a:gsLst>
                <a:gs pos="0">
                  <a:srgbClr val="656713"/>
                </a:gs>
                <a:gs pos="100000">
                  <a:srgbClr val="dce02a"/>
                </a:gs>
              </a:gsLst>
              <a:lin ang="162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1784520" y="4132440"/>
              <a:ext cx="1560960" cy="1352520"/>
            </a:xfrm>
            <a:prstGeom prst="hexagon">
              <a:avLst>
                <a:gd name="adj" fmla="val 28853"/>
                <a:gd name="vf" fmla="val 115470"/>
              </a:avLst>
            </a:prstGeom>
            <a:gradFill rotWithShape="0">
              <a:gsLst>
                <a:gs pos="0">
                  <a:srgbClr val="656713"/>
                </a:gs>
                <a:gs pos="100000">
                  <a:srgbClr val="dce02a"/>
                </a:gs>
              </a:gsLst>
              <a:lin ang="162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1123560" y="3002760"/>
              <a:ext cx="1562400" cy="1352160"/>
            </a:xfrm>
            <a:prstGeom prst="hexagon">
              <a:avLst>
                <a:gd name="adj" fmla="val 28887"/>
                <a:gd name="vf" fmla="val 115470"/>
              </a:avLst>
            </a:prstGeom>
            <a:gradFill rotWithShape="0">
              <a:gsLst>
                <a:gs pos="0">
                  <a:srgbClr val="143a5c"/>
                </a:gs>
                <a:gs pos="50000">
                  <a:srgbClr val="2c7ec8"/>
                </a:gs>
                <a:gs pos="100000">
                  <a:srgbClr val="143a5c"/>
                </a:gs>
              </a:gsLst>
              <a:lin ang="189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 rot="16200000">
            <a:off x="6042600" y="764280"/>
            <a:ext cx="729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Arial"/>
                <a:ea typeface="Gulim"/>
              </a:rPr>
              <a:t>Add title text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 flipH="1" rot="16200000">
            <a:off x="2257200" y="3101760"/>
            <a:ext cx="64764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eac29a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5400000">
            <a:off x="6047640" y="3030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eac29a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rot="10800000">
            <a:off x="4151880" y="501300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eac29a"/>
              </a:gs>
              <a:gs pos="100000">
                <a:srgbClr val="cc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797200" y="162720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1916280"/>
            <a:ext cx="2803320" cy="280332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516480" y="2346480"/>
            <a:ext cx="1946160" cy="1949400"/>
            <a:chOff x="3516480" y="2346480"/>
            <a:chExt cx="1946160" cy="1949400"/>
          </a:xfrm>
        </p:grpSpPr>
        <p:sp>
          <p:nvSpPr>
            <p:cNvPr id="288" name="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7e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2c7ec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43920" y="247392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17436b"/>
                </a:gs>
                <a:gs pos="50000">
                  <a:srgbClr val="2c7ec8"/>
                </a:gs>
                <a:gs pos="100000">
                  <a:srgbClr val="1743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43920" y="247392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153d60"/>
                </a:gs>
                <a:gs pos="100000">
                  <a:srgbClr val="2c7e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8520" y="2558880"/>
              <a:ext cx="1521720" cy="1524240"/>
            </a:xfrm>
            <a:prstGeom prst="ellipse">
              <a:avLst/>
            </a:prstGeom>
            <a:gradFill rotWithShape="0">
              <a:gsLst>
                <a:gs pos="0">
                  <a:srgbClr val="143a5c"/>
                </a:gs>
                <a:gs pos="100000">
                  <a:srgbClr val="2c7e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11280" y="357192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292248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2274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120" y="3067200"/>
            <a:ext cx="12200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32720" y="3579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4671e"/>
              </a:gs>
              <a:gs pos="50000">
                <a:srgbClr val="7f9c2e"/>
              </a:gs>
              <a:gs pos="100000">
                <a:srgbClr val="5467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2720" y="29304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4671e"/>
              </a:gs>
              <a:gs pos="50000">
                <a:srgbClr val="7f9c2e"/>
              </a:gs>
              <a:gs pos="100000">
                <a:srgbClr val="5467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32720" y="228276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4671e"/>
              </a:gs>
              <a:gs pos="50000">
                <a:srgbClr val="7f9c2e"/>
              </a:gs>
              <a:gs pos="100000">
                <a:srgbClr val="5467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68360" y="5589720"/>
            <a:ext cx="4537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60d0d"/>
              </a:gs>
              <a:gs pos="50000">
                <a:srgbClr val="541e1e"/>
              </a:gs>
              <a:gs pos="100000">
                <a:srgbClr val="260d0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3673440" y="410544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73440" y="3456000"/>
            <a:ext cx="180036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73440" y="280836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44960" y="1486080"/>
            <a:ext cx="280800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941b"/>
              </a:gs>
              <a:gs pos="50000">
                <a:srgbClr val="dce02a"/>
              </a:gs>
              <a:gs pos="100000">
                <a:srgbClr val="9294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32000" y="5446800"/>
            <a:ext cx="2808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c599d"/>
              </a:gs>
              <a:gs pos="50000">
                <a:srgbClr val="8c87ed"/>
              </a:gs>
              <a:gs pos="100000">
                <a:srgbClr val="5c59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2087640" y="3322800"/>
            <a:ext cx="1944720" cy="1008000"/>
          </a:xfrm>
          <a:prstGeom prst="upArrow">
            <a:avLst>
              <a:gd name="adj1" fmla="val 43843"/>
              <a:gd name="adj2" fmla="val 63148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rot="5400000">
            <a:off x="5002920" y="3359160"/>
            <a:ext cx="1944720" cy="934920"/>
          </a:xfrm>
          <a:prstGeom prst="upArrow">
            <a:avLst>
              <a:gd name="adj1" fmla="val 46778"/>
              <a:gd name="adj2" fmla="val 6349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0800000">
            <a:off x="4284360" y="4799160"/>
            <a:ext cx="647640" cy="57600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09920" y="2244600"/>
            <a:ext cx="648000" cy="50508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2422440"/>
            <a:ext cx="1800000" cy="324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77">
                <a:moveTo>
                  <a:pt x="3600" y="0"/>
                </a:moveTo>
                <a:arcTo wR="3600" hR="3600" stAng="16200000" swAng="-5400000"/>
                <a:lnTo>
                  <a:pt x="0" y="35277"/>
                </a:lnTo>
                <a:arcTo wR="3600" hR="3600" stAng="10800000" swAng="-5400000"/>
                <a:lnTo>
                  <a:pt x="18000" y="38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2711520"/>
            <a:ext cx="158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e02a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88000" y="2351160"/>
            <a:ext cx="1800360" cy="324000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69">
                <a:moveTo>
                  <a:pt x="3600" y="0"/>
                </a:moveTo>
                <a:arcTo wR="3600" hR="3600" stAng="16200000" swAng="-5400000"/>
                <a:lnTo>
                  <a:pt x="0" y="35269"/>
                </a:lnTo>
                <a:arcTo wR="3600" hR="3600" stAng="10800000" swAng="-5400000"/>
                <a:lnTo>
                  <a:pt x="18000" y="38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80160" y="2639880"/>
            <a:ext cx="158436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9c2e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 rot="20239200">
            <a:off x="1115640" y="2363400"/>
            <a:ext cx="6519960" cy="3062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9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20240400">
            <a:off x="1255320" y="2572920"/>
            <a:ext cx="592632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293840" y="28972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54280" y="1525680"/>
            <a:ext cx="1295640" cy="12189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462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99360" y="19828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2c7ec8"/>
              </a:gs>
              <a:gs pos="100000">
                <a:srgbClr val="0f2b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25480" y="480204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2840" y="43448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4e4f0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03520" y="34304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81120" y="2178000"/>
          <a:ext cx="7640640" cy="3616200"/>
        </p:xfrm>
        <a:graphic>
          <a:graphicData uri="http://schemas.openxmlformats.org/drawingml/2006/table">
            <a:tbl>
              <a:tblPr/>
              <a:tblGrid>
                <a:gridCol w="1717560"/>
                <a:gridCol w="1204920"/>
                <a:gridCol w="1163880"/>
                <a:gridCol w="1185840"/>
                <a:gridCol w="1187280"/>
                <a:gridCol w="1181160"/>
              </a:tblGrid>
              <a:tr h="438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1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a5c"/>
                        </a:gs>
                        <a:gs pos="50000">
                          <a:srgbClr val="2c7ec8"/>
                        </a:gs>
                        <a:gs pos="100000">
                          <a:srgbClr val="143a5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2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a5c"/>
                        </a:gs>
                        <a:gs pos="50000">
                          <a:srgbClr val="2c7ec8"/>
                        </a:gs>
                        <a:gs pos="100000">
                          <a:srgbClr val="143a5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3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a5c"/>
                        </a:gs>
                        <a:gs pos="50000">
                          <a:srgbClr val="2c7ec8"/>
                        </a:gs>
                        <a:gs pos="100000">
                          <a:srgbClr val="143a5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4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a5c"/>
                        </a:gs>
                        <a:gs pos="50000">
                          <a:srgbClr val="2c7ec8"/>
                        </a:gs>
                        <a:gs pos="100000">
                          <a:srgbClr val="143a5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5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a5c"/>
                        </a:gs>
                        <a:gs pos="50000">
                          <a:srgbClr val="2c7ec8"/>
                        </a:gs>
                        <a:gs pos="100000">
                          <a:srgbClr val="143a5c"/>
                        </a:gs>
                      </a:gsLst>
                      <a:lin ang="5400000"/>
                    </a:gradFill>
                  </a:tcPr>
                </a:tc>
              </a:tr>
              <a:tr h="77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1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713"/>
                        </a:gs>
                        <a:gs pos="50000">
                          <a:srgbClr val="dce02a"/>
                        </a:gs>
                        <a:gs pos="100000">
                          <a:srgbClr val="6567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80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2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713"/>
                        </a:gs>
                        <a:gs pos="50000">
                          <a:srgbClr val="dce02a"/>
                        </a:gs>
                        <a:gs pos="100000">
                          <a:srgbClr val="6567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80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3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713"/>
                        </a:gs>
                        <a:gs pos="50000">
                          <a:srgbClr val="dce02a"/>
                        </a:gs>
                        <a:gs pos="100000">
                          <a:srgbClr val="6567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78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4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713"/>
                        </a:gs>
                        <a:gs pos="50000">
                          <a:srgbClr val="dce02a"/>
                        </a:gs>
                        <a:gs pos="100000">
                          <a:srgbClr val="6567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210132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210132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54113"/>
              </a:gs>
              <a:gs pos="100000">
                <a:srgbClr val="7f9c2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8680" y="210132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c5e11"/>
              </a:gs>
              <a:gs pos="100000">
                <a:srgbClr val="dce02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284940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9fa21e"/>
              </a:gs>
              <a:gs pos="100000">
                <a:srgbClr val="dce02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494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c7121"/>
              </a:gs>
              <a:gs pos="100000">
                <a:srgbClr val="7f9c2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28494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8140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67000" y="1542960"/>
          <a:ext cx="606744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542960"/>
                    <a:ext cx="606744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335916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3359160"/>
            <a:ext cx="1665000" cy="259092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9">
                <a:moveTo>
                  <a:pt x="2969" y="0"/>
                </a:moveTo>
                <a:arcTo wR="2969" hR="2969" stAng="16200000" swAng="-5400000"/>
                <a:lnTo>
                  <a:pt x="0" y="30640"/>
                </a:lnTo>
                <a:arcTo wR="2969" hR="2969" stAng="10800000" swAng="-5400000"/>
                <a:lnTo>
                  <a:pt x="18631" y="3360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08440" y="335916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335916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200960" y="1865160"/>
            <a:ext cx="6436800" cy="1387800"/>
            <a:chOff x="1200960" y="1865160"/>
            <a:chExt cx="6436800" cy="1387800"/>
          </a:xfrm>
        </p:grpSpPr>
        <p:sp>
          <p:nvSpPr>
            <p:cNvPr id="343" name=""/>
            <p:cNvSpPr/>
            <p:nvPr/>
          </p:nvSpPr>
          <p:spPr>
            <a:xfrm rot="3418800">
              <a:off x="1411560" y="2089800"/>
              <a:ext cx="924120" cy="10036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375280" y="2261880"/>
              <a:ext cx="932040" cy="131760"/>
              <a:chOff x="2375280" y="2261880"/>
              <a:chExt cx="932040" cy="131760"/>
            </a:xfrm>
          </p:grpSpPr>
          <p:sp>
            <p:nvSpPr>
              <p:cNvPr id="345" name=""/>
              <p:cNvSpPr/>
              <p:nvPr/>
            </p:nvSpPr>
            <p:spPr>
              <a:xfrm>
                <a:off x="2375280" y="22618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64560" y="22629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66200" y="22640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241440" y="23050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 rot="3418800">
              <a:off x="3132720" y="2023920"/>
              <a:ext cx="924120" cy="1003680"/>
            </a:xfrm>
            <a:prstGeom prst="rect">
              <a:avLst/>
            </a:prstGeom>
            <a:solidFill>
              <a:srgbClr val="dce02a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4096440" y="2261880"/>
              <a:ext cx="932040" cy="131760"/>
              <a:chOff x="4096440" y="2261880"/>
              <a:chExt cx="932040" cy="131760"/>
            </a:xfrm>
          </p:grpSpPr>
          <p:sp>
            <p:nvSpPr>
              <p:cNvPr id="351" name=""/>
              <p:cNvSpPr/>
              <p:nvPr/>
            </p:nvSpPr>
            <p:spPr>
              <a:xfrm>
                <a:off x="4096440" y="22618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85720" y="22629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87360" y="22640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62600" y="23050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rot="3418800">
              <a:off x="4781520" y="2023920"/>
              <a:ext cx="924120" cy="10040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5817600" y="2261880"/>
              <a:ext cx="1218600" cy="131760"/>
              <a:chOff x="5817600" y="2261880"/>
              <a:chExt cx="1218600" cy="131760"/>
            </a:xfrm>
          </p:grpSpPr>
          <p:sp>
            <p:nvSpPr>
              <p:cNvPr id="357" name=""/>
              <p:cNvSpPr/>
              <p:nvPr/>
            </p:nvSpPr>
            <p:spPr>
              <a:xfrm>
                <a:off x="5817600" y="22618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934240" y="22629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851520" y="22640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50160" y="23050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3418800">
              <a:off x="6502680" y="2023920"/>
              <a:ext cx="924120" cy="1004040"/>
            </a:xfrm>
            <a:prstGeom prst="rect">
              <a:avLst/>
            </a:prstGeom>
            <a:solidFill>
              <a:srgbClr val="dce02a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297080" y="23479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22734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0" y="22734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00800" y="22734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455148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0601600">
            <a:off x="1636560" y="243792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003300"/>
              </a:gs>
              <a:gs pos="50000">
                <a:srgbClr val="c0ccc0"/>
              </a:gs>
              <a:gs pos="100000">
                <a:srgbClr val="00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20601600">
            <a:off x="1699920" y="228456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20601600">
            <a:off x="1557000" y="229392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601600">
            <a:off x="1609560" y="226188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gradFill rotWithShape="0">
            <a:gsLst>
              <a:gs pos="0">
                <a:srgbClr val="003300"/>
              </a:gs>
              <a:gs pos="100000">
                <a:srgbClr val="000b00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20602200">
            <a:off x="1594080" y="2292120"/>
            <a:ext cx="57337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4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0601600">
            <a:off x="1630080" y="2282040"/>
            <a:ext cx="5682600" cy="283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143a5c"/>
              </a:gs>
              <a:gs pos="100000">
                <a:srgbClr val="2c7ec8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20602200">
            <a:off x="1599480" y="2280600"/>
            <a:ext cx="572580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17584f"/>
              </a:gs>
              <a:gs pos="100000">
                <a:srgbClr val="33c1ad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5" name="未知"/>
          <p:cNvSpPr/>
          <p:nvPr/>
        </p:nvSpPr>
        <p:spPr>
          <a:xfrm rot="20601600">
            <a:off x="4681440" y="359712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 rot="20601600">
            <a:off x="4574880" y="334440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20712600">
            <a:off x="956160" y="2366640"/>
            <a:ext cx="6413400" cy="281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gradFill rotWithShape="0">
            <a:gsLst>
              <a:gs pos="0">
                <a:srgbClr val="001500"/>
              </a:gs>
              <a:gs pos="100000">
                <a:srgbClr val="00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8" name="未知"/>
          <p:cNvSpPr/>
          <p:nvPr/>
        </p:nvSpPr>
        <p:spPr>
          <a:xfrm rot="20712600">
            <a:off x="4361040" y="3565080"/>
            <a:ext cx="1377720" cy="153684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260d0d"/>
              </a:gs>
              <a:gs pos="100000">
                <a:srgbClr val="541e1e"/>
              </a:gs>
            </a:gsLst>
            <a:lin ang="11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78280" y="1298160"/>
            <a:ext cx="6957360" cy="4863240"/>
            <a:chOff x="1178280" y="1298160"/>
            <a:chExt cx="6957360" cy="4863240"/>
          </a:xfrm>
        </p:grpSpPr>
        <p:sp>
          <p:nvSpPr>
            <p:cNvPr id="380" name="未知"/>
            <p:cNvSpPr/>
            <p:nvPr/>
          </p:nvSpPr>
          <p:spPr>
            <a:xfrm rot="20712600">
              <a:off x="5736960" y="373320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4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 rot="20601600">
              <a:off x="6248160" y="363636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dce02a"/>
                </a:gs>
                <a:gs pos="100000">
                  <a:srgbClr val="eee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539200">
              <a:off x="1498320" y="218412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gradFill rotWithShape="0">
              <a:gsLst>
                <a:gs pos="0">
                  <a:srgbClr val="dce02a"/>
                </a:gs>
                <a:gs pos="100000">
                  <a:srgbClr val="656713"/>
                </a:gs>
              </a:gsLst>
              <a:lin ang="64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 rot="20601600">
              <a:off x="4933440" y="3547440"/>
              <a:ext cx="1359000" cy="15940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8b8d1a"/>
                </a:gs>
                <a:gs pos="100000">
                  <a:srgbClr val="dce0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rot="20601600">
            <a:off x="3154320" y="29905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541e1e"/>
              </a:gs>
              <a:gs pos="50000">
                <a:srgbClr val="d4c7c7"/>
              </a:gs>
              <a:gs pos="100000">
                <a:srgbClr val="541e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0601600">
            <a:off x="3254400" y="324324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084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22464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270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15000" y="36939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430380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45324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471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1e1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1" lang="en-US" sz="2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7e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1e1e"/>
                </a:solidFill>
                <a:latin typeface="Verdana"/>
                <a:ea typeface="Gulim"/>
              </a:rPr>
              <a:t>On the </a:t>
            </a:r>
            <a:r>
              <a:rPr b="1" lang="en-US" sz="2000" spc="-1" strike="noStrike">
                <a:solidFill>
                  <a:srgbClr val="7f9c2e"/>
                </a:solidFill>
                <a:latin typeface="Verdana"/>
                <a:ea typeface="Gulim"/>
              </a:rPr>
              <a:t>[View]</a:t>
            </a:r>
            <a:r>
              <a:rPr b="1" lang="en-US" sz="2000" spc="-1" strike="noStrike">
                <a:solidFill>
                  <a:srgbClr val="541e1e"/>
                </a:solidFill>
                <a:latin typeface="Verdana"/>
                <a:ea typeface="Gulim"/>
              </a:rPr>
              <a:t> menu, point to </a:t>
            </a:r>
            <a:r>
              <a:rPr b="1" lang="en-US" sz="2000" spc="-1" strike="noStrike">
                <a:solidFill>
                  <a:srgbClr val="7f9c2e"/>
                </a:solidFill>
                <a:latin typeface="Verdana"/>
                <a:ea typeface="Gulim"/>
              </a:rPr>
              <a:t>[Master],</a:t>
            </a:r>
            <a:r>
              <a:rPr b="1" lang="en-US" sz="2000" spc="-1" strike="noStrike">
                <a:solidFill>
                  <a:srgbClr val="541e1e"/>
                </a:solidFill>
                <a:latin typeface="Verdana"/>
                <a:ea typeface="Gulim"/>
              </a:rPr>
              <a:t> and then click </a:t>
            </a:r>
            <a:r>
              <a:rPr b="1" lang="en-US" sz="2000" spc="-1" strike="noStrike">
                <a:solidFill>
                  <a:srgbClr val="7f9c2e"/>
                </a:solidFill>
                <a:latin typeface="Verdana"/>
                <a:ea typeface="Gulim"/>
              </a:rPr>
              <a:t>[Slide Master]</a:t>
            </a:r>
            <a:r>
              <a:rPr b="1" lang="en-US" sz="2000" spc="-1" strike="noStrike">
                <a:solidFill>
                  <a:srgbClr val="541e1e"/>
                </a:solidFill>
                <a:latin typeface="Verdana"/>
                <a:ea typeface="Gulim"/>
              </a:rPr>
              <a:t> or Notes Master. Change images to the one you like, then it will apply to all the other slides. </a:t>
            </a: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1e1e"/>
                </a:solidFill>
                <a:latin typeface="Verdana"/>
                <a:ea typeface="Gulim"/>
              </a:rPr>
              <a:t>[Image information in product]</a:t>
            </a: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1e1e"/>
                </a:solidFill>
                <a:latin typeface="Verdana"/>
                <a:ea typeface="Gulim"/>
              </a:rPr>
              <a:t>Note to customers: This image has been licensed to be used within this PowerPoint template only. </a:t>
            </a: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1e1e"/>
                </a:solidFill>
                <a:latin typeface="Verdana"/>
                <a:ea typeface="Gulim"/>
              </a:rPr>
              <a:t>      </a:t>
            </a:r>
            <a:r>
              <a:rPr b="1" lang="en-US" sz="1000" spc="-1" strike="noStrike">
                <a:solidFill>
                  <a:srgbClr val="541e1e"/>
                </a:solidFill>
                <a:latin typeface="Verdana"/>
                <a:ea typeface="Gulim"/>
              </a:rPr>
              <a:t>You may not extract the image for any other use.</a:t>
            </a: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177640" y="4868640"/>
            <a:ext cx="479124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e02a"/>
              </a:solidFill>
              <a:latin typeface="Verdana"/>
              <a:ea typeface="Gulim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763640" y="2781360"/>
            <a:ext cx="575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c7ec8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c7ec8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741-7D79-445B-8340-B6F780F260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85840" y="22766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7ec8"/>
              </a:gs>
              <a:gs pos="100000">
                <a:srgbClr val="143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00240" y="31338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02a"/>
              </a:gs>
              <a:gs pos="100000">
                <a:srgbClr val="65671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5840" y="398448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f9c2e"/>
              </a:gs>
              <a:gs pos="100000">
                <a:srgbClr val="3a471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85840" y="48625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397240" y="221616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Introduc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7760" y="30672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trate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08400" y="392580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hallenges Forward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479736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nclus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46280" y="2076480"/>
            <a:ext cx="685800" cy="685800"/>
          </a:xfrm>
          <a:prstGeom prst="diamond">
            <a:avLst/>
          </a:prstGeom>
          <a:solidFill>
            <a:srgbClr val="2c7ec8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914560"/>
            <a:ext cx="685800" cy="685800"/>
          </a:xfrm>
          <a:prstGeom prst="diamond">
            <a:avLst/>
          </a:prstGeom>
          <a:solidFill>
            <a:srgbClr val="dce02a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46280" y="3828960"/>
            <a:ext cx="685800" cy="685800"/>
          </a:xfrm>
          <a:prstGeom prst="diamond">
            <a:avLst/>
          </a:prstGeom>
          <a:solidFill>
            <a:srgbClr val="7f9c2e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46280" y="4667400"/>
            <a:ext cx="685800" cy="685800"/>
          </a:xfrm>
          <a:prstGeom prst="diamond">
            <a:avLst/>
          </a:prstGeom>
          <a:solidFill>
            <a:srgbClr val="cc6600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722920" y="2997360"/>
            <a:ext cx="2665440" cy="316836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360"/>
              <a:gd name="textAreaBottom" fmla="*/ 3038400 h 3168360"/>
            </a:gdLst>
            <a:ahLst/>
            <a:rect l="textAreaLeft" t="textAreaTop" r="textAreaRight" b="textAreaBottom"/>
            <a:pathLst>
              <a:path w="21600" h="25675">
                <a:moveTo>
                  <a:pt x="3600" y="0"/>
                </a:moveTo>
                <a:arcTo wR="3600" hR="3600" stAng="16200000" swAng="-5400000"/>
                <a:lnTo>
                  <a:pt x="0" y="22075"/>
                </a:lnTo>
                <a:arcTo wR="3600" hR="3600" stAng="10800000" swAng="-5400000"/>
                <a:lnTo>
                  <a:pt x="18000" y="256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54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92428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54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32000" y="1630440"/>
            <a:ext cx="3057480" cy="1487520"/>
            <a:chOff x="3132000" y="1630440"/>
            <a:chExt cx="3057480" cy="1487520"/>
          </a:xfrm>
        </p:grpSpPr>
        <p:sp>
          <p:nvSpPr>
            <p:cNvPr id="106" name=""/>
            <p:cNvSpPr/>
            <p:nvPr/>
          </p:nvSpPr>
          <p:spPr>
            <a:xfrm>
              <a:off x="3165480" y="1677960"/>
              <a:ext cx="3024000" cy="1440000"/>
            </a:xfrm>
            <a:prstGeom prst="ellipse">
              <a:avLst/>
            </a:prstGeom>
            <a:gradFill rotWithShape="0">
              <a:gsLst>
                <a:gs pos="0">
                  <a:srgbClr val="dce02a"/>
                </a:gs>
                <a:gs pos="100000">
                  <a:srgbClr val="8b8d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32000" y="1630440"/>
              <a:ext cx="3024360" cy="1440000"/>
            </a:xfrm>
            <a:prstGeom prst="ellipse">
              <a:avLst/>
            </a:prstGeom>
            <a:gradFill rotWithShape="0">
              <a:gsLst>
                <a:gs pos="0">
                  <a:srgbClr val="dce02a"/>
                </a:gs>
                <a:gs pos="100000">
                  <a:srgbClr val="eef09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8" name="未知"/>
          <p:cNvSpPr/>
          <p:nvPr/>
        </p:nvSpPr>
        <p:spPr>
          <a:xfrm>
            <a:off x="3419640" y="3143160"/>
            <a:ext cx="92052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2f4ba"/>
              </a:gs>
              <a:gs pos="100000">
                <a:srgbClr val="dce0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 flipH="1">
            <a:off x="4948200" y="3143160"/>
            <a:ext cx="92088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d5ec"/>
              </a:gs>
              <a:gs pos="100000">
                <a:srgbClr val="2c7e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276720" y="1484280"/>
            <a:ext cx="2736360" cy="1368360"/>
            <a:chOff x="3276720" y="1484280"/>
            <a:chExt cx="2736360" cy="1368360"/>
          </a:xfrm>
        </p:grpSpPr>
        <p:sp>
          <p:nvSpPr>
            <p:cNvPr id="111" name=""/>
            <p:cNvSpPr/>
            <p:nvPr/>
          </p:nvSpPr>
          <p:spPr>
            <a:xfrm>
              <a:off x="3276720" y="1484280"/>
              <a:ext cx="2736360" cy="1368360"/>
            </a:xfrm>
            <a:prstGeom prst="ellipse">
              <a:avLst/>
            </a:prstGeom>
            <a:gradFill rotWithShape="0">
              <a:gsLst>
                <a:gs pos="0">
                  <a:srgbClr val="2c7ec8"/>
                </a:gs>
                <a:gs pos="100000">
                  <a:srgbClr val="143a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11640" y="1491840"/>
              <a:ext cx="2670480" cy="1334160"/>
            </a:xfrm>
            <a:prstGeom prst="ellipse">
              <a:avLst/>
            </a:prstGeom>
            <a:gradFill rotWithShape="0">
              <a:gsLst>
                <a:gs pos="0">
                  <a:srgbClr val="b4d1ea"/>
                </a:gs>
                <a:gs pos="100000">
                  <a:srgbClr val="2c7ec8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40080" y="1504800"/>
              <a:ext cx="2539800" cy="1246680"/>
            </a:xfrm>
            <a:prstGeom prst="ellipse">
              <a:avLst/>
            </a:prstGeom>
            <a:gradFill rotWithShape="0">
              <a:gsLst>
                <a:gs pos="0">
                  <a:srgbClr val="2c7ec8">
                    <a:alpha val="48235"/>
                  </a:srgbClr>
                </a:gs>
                <a:gs pos="100000">
                  <a:srgbClr val="2263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88760" y="1539720"/>
              <a:ext cx="2257560" cy="1011960"/>
            </a:xfrm>
            <a:prstGeom prst="ellipse">
              <a:avLst/>
            </a:prstGeom>
            <a:gradFill rotWithShape="0">
              <a:gsLst>
                <a:gs pos="0">
                  <a:srgbClr val="2c7ec8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Verdana"/>
                  <a:ea typeface="Gulim"/>
                </a:rPr>
                <a:t>2Part Concep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16360" y="285444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c7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492360" y="2062080"/>
            <a:ext cx="2089440" cy="2087640"/>
            <a:chOff x="3492360" y="2062080"/>
            <a:chExt cx="2089440" cy="2087640"/>
          </a:xfrm>
        </p:grpSpPr>
        <p:sp>
          <p:nvSpPr>
            <p:cNvPr id="118" name=""/>
            <p:cNvSpPr/>
            <p:nvPr/>
          </p:nvSpPr>
          <p:spPr>
            <a:xfrm>
              <a:off x="3492360" y="2062080"/>
              <a:ext cx="2089440" cy="2087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7e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92360" y="2062080"/>
              <a:ext cx="2089440" cy="2087640"/>
            </a:xfrm>
            <a:prstGeom prst="ellipse">
              <a:avLst/>
            </a:prstGeom>
            <a:gradFill rotWithShape="0">
              <a:gsLst>
                <a:gs pos="0">
                  <a:srgbClr val="2c7ec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916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17436b"/>
                </a:gs>
                <a:gs pos="50000">
                  <a:srgbClr val="2c7ec8"/>
                </a:gs>
                <a:gs pos="100000">
                  <a:srgbClr val="1743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2916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153d60"/>
                </a:gs>
                <a:gs pos="100000">
                  <a:srgbClr val="2c7e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19880" y="2289600"/>
              <a:ext cx="1633680" cy="1632600"/>
            </a:xfrm>
            <a:prstGeom prst="ellipse">
              <a:avLst/>
            </a:prstGeom>
            <a:gradFill rotWithShape="0">
              <a:gsLst>
                <a:gs pos="0">
                  <a:srgbClr val="143a5c"/>
                </a:gs>
                <a:gs pos="100000">
                  <a:srgbClr val="2c7e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710520" y="29257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55640" y="2062080"/>
            <a:ext cx="2089080" cy="2087640"/>
            <a:chOff x="755640" y="2062080"/>
            <a:chExt cx="2089080" cy="2087640"/>
          </a:xfrm>
        </p:grpSpPr>
        <p:sp>
          <p:nvSpPr>
            <p:cNvPr id="125" name=""/>
            <p:cNvSpPr/>
            <p:nvPr/>
          </p:nvSpPr>
          <p:spPr>
            <a:xfrm>
              <a:off x="755640" y="2062080"/>
              <a:ext cx="2089080" cy="2087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f9c2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5640" y="2062080"/>
              <a:ext cx="2089080" cy="2087640"/>
            </a:xfrm>
            <a:prstGeom prst="ellipse">
              <a:avLst/>
            </a:prstGeom>
            <a:gradFill rotWithShape="0">
              <a:gsLst>
                <a:gs pos="0">
                  <a:srgbClr val="7f9c2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9244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445418"/>
                </a:gs>
                <a:gs pos="50000">
                  <a:srgbClr val="7f9c2e"/>
                </a:gs>
                <a:gs pos="100000">
                  <a:srgbClr val="44541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9244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3d4b16"/>
                </a:gs>
                <a:gs pos="100000">
                  <a:srgbClr val="7f9c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83160" y="2289600"/>
              <a:ext cx="1633680" cy="1632600"/>
            </a:xfrm>
            <a:prstGeom prst="ellipse">
              <a:avLst/>
            </a:prstGeom>
            <a:gradFill rotWithShape="0">
              <a:gsLst>
                <a:gs pos="0">
                  <a:srgbClr val="3a4715"/>
                </a:gs>
                <a:gs pos="100000">
                  <a:srgbClr val="7f9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45080" y="29275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227640" y="2062080"/>
            <a:ext cx="2089440" cy="2087640"/>
            <a:chOff x="6227640" y="2062080"/>
            <a:chExt cx="2089440" cy="2087640"/>
          </a:xfrm>
        </p:grpSpPr>
        <p:sp>
          <p:nvSpPr>
            <p:cNvPr id="132" name=""/>
            <p:cNvSpPr/>
            <p:nvPr/>
          </p:nvSpPr>
          <p:spPr>
            <a:xfrm>
              <a:off x="6227640" y="2062080"/>
              <a:ext cx="2089440" cy="2087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ce02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27640" y="2062080"/>
              <a:ext cx="2089440" cy="2087640"/>
            </a:xfrm>
            <a:prstGeom prst="ellipse">
              <a:avLst/>
            </a:prstGeom>
            <a:gradFill rotWithShape="0">
              <a:gsLst>
                <a:gs pos="0">
                  <a:srgbClr val="dce02a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6444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767816"/>
                </a:gs>
                <a:gs pos="50000">
                  <a:srgbClr val="dce02a"/>
                </a:gs>
                <a:gs pos="100000">
                  <a:srgbClr val="7678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6444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6a6c14"/>
                </a:gs>
                <a:gs pos="100000">
                  <a:srgbClr val="dce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55160" y="2289600"/>
              <a:ext cx="1633680" cy="1632600"/>
            </a:xfrm>
            <a:prstGeom prst="ellipse">
              <a:avLst/>
            </a:prstGeom>
            <a:gradFill rotWithShape="0">
              <a:gsLst>
                <a:gs pos="0">
                  <a:srgbClr val="656713"/>
                </a:gs>
                <a:gs pos="100000">
                  <a:srgbClr val="dce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45800" y="29275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1640" y="285444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ce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472608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54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1e1e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4726080"/>
            <a:ext cx="201600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54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1e1e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0720" y="472608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54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1e1e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未知"/>
          <p:cNvSpPr/>
          <p:nvPr/>
        </p:nvSpPr>
        <p:spPr>
          <a:xfrm>
            <a:off x="974880" y="1685880"/>
            <a:ext cx="6408720" cy="46227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c7ec8"/>
              </a:gs>
              <a:gs pos="100000">
                <a:srgbClr val="dce02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03640" y="3701880"/>
            <a:ext cx="2181240" cy="2376360"/>
            <a:chOff x="3203640" y="3701880"/>
            <a:chExt cx="2181240" cy="2376360"/>
          </a:xfrm>
        </p:grpSpPr>
        <p:sp>
          <p:nvSpPr>
            <p:cNvPr id="145" name=""/>
            <p:cNvSpPr/>
            <p:nvPr/>
          </p:nvSpPr>
          <p:spPr>
            <a:xfrm>
              <a:off x="3203640" y="5155560"/>
              <a:ext cx="2181240" cy="922680"/>
            </a:xfrm>
            <a:prstGeom prst="ellipse">
              <a:avLst/>
            </a:prstGeom>
            <a:gradFill rotWithShape="0">
              <a:gsLst>
                <a:gs pos="0">
                  <a:srgbClr val="0033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00480" y="3701880"/>
              <a:ext cx="1986840" cy="198756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26400" y="3712320"/>
              <a:ext cx="1938600" cy="19393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6560" y="3731400"/>
              <a:ext cx="1844640" cy="18122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53480" y="3782880"/>
              <a:ext cx="1640520" cy="1470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rot="16200000">
            <a:off x="3934080" y="4259880"/>
            <a:ext cx="6678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387440" y="3125880"/>
            <a:ext cx="1744560" cy="1900080"/>
            <a:chOff x="1387440" y="3125880"/>
            <a:chExt cx="1744560" cy="1900080"/>
          </a:xfrm>
        </p:grpSpPr>
        <p:sp>
          <p:nvSpPr>
            <p:cNvPr id="152" name=""/>
            <p:cNvSpPr/>
            <p:nvPr/>
          </p:nvSpPr>
          <p:spPr>
            <a:xfrm>
              <a:off x="1387440" y="4288320"/>
              <a:ext cx="1744560" cy="737640"/>
            </a:xfrm>
            <a:prstGeom prst="ellipse">
              <a:avLst/>
            </a:prstGeom>
            <a:gradFill rotWithShape="0">
              <a:gsLst>
                <a:gs pos="0">
                  <a:srgbClr val="0033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4840" y="3125880"/>
              <a:ext cx="1589040" cy="15890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85720" y="3134160"/>
              <a:ext cx="1550520" cy="15505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1920" y="3149640"/>
              <a:ext cx="1475280" cy="14486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87240" y="3190680"/>
              <a:ext cx="1312200" cy="1175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90680" y="1685880"/>
            <a:ext cx="1309680" cy="1425240"/>
            <a:chOff x="1390680" y="1685880"/>
            <a:chExt cx="1309680" cy="1425240"/>
          </a:xfrm>
        </p:grpSpPr>
        <p:sp>
          <p:nvSpPr>
            <p:cNvPr id="158" name=""/>
            <p:cNvSpPr/>
            <p:nvPr/>
          </p:nvSpPr>
          <p:spPr>
            <a:xfrm>
              <a:off x="1390680" y="2557800"/>
              <a:ext cx="1309680" cy="553320"/>
            </a:xfrm>
            <a:prstGeom prst="ellipse">
              <a:avLst/>
            </a:prstGeom>
            <a:gradFill rotWithShape="0">
              <a:gsLst>
                <a:gs pos="0">
                  <a:srgbClr val="0033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9000" y="1685880"/>
              <a:ext cx="1193040" cy="119232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64120" y="1692000"/>
              <a:ext cx="1163880" cy="11631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703520"/>
              <a:ext cx="1107720" cy="108720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40800" y="1734480"/>
              <a:ext cx="984960" cy="88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701800" y="1181160"/>
            <a:ext cx="871560" cy="949320"/>
            <a:chOff x="2701800" y="1181160"/>
            <a:chExt cx="871560" cy="949320"/>
          </a:xfrm>
        </p:grpSpPr>
        <p:sp>
          <p:nvSpPr>
            <p:cNvPr id="164" name=""/>
            <p:cNvSpPr/>
            <p:nvPr/>
          </p:nvSpPr>
          <p:spPr>
            <a:xfrm>
              <a:off x="2701800" y="1761840"/>
              <a:ext cx="871560" cy="368640"/>
            </a:xfrm>
            <a:prstGeom prst="ellipse">
              <a:avLst/>
            </a:prstGeom>
            <a:gradFill rotWithShape="0">
              <a:gsLst>
                <a:gs pos="0">
                  <a:srgbClr val="0033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0320" y="1181160"/>
              <a:ext cx="793800" cy="79380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50760" y="1185120"/>
              <a:ext cx="774720" cy="7747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59040" y="1193040"/>
              <a:ext cx="736920" cy="72396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1520" y="1213560"/>
              <a:ext cx="655560" cy="587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6200000">
            <a:off x="1933560" y="3508560"/>
            <a:ext cx="60696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Gulim"/>
              </a:rPr>
              <a:t>Tex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1787040" y="1972800"/>
            <a:ext cx="485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2934360" y="1365120"/>
            <a:ext cx="393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Gulim"/>
              </a:rPr>
              <a:t>Text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6853320" y="2212920"/>
            <a:ext cx="5461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rot="19254000">
            <a:off x="4932000" y="2549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131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851200">
            <a:off x="4932720" y="4420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79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3646400">
            <a:off x="3456360" y="25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187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7687200">
            <a:off x="3528360" y="45280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31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34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2987280" y="35190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1757520"/>
            <a:ext cx="3743280" cy="374472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92440" y="2684520"/>
            <a:ext cx="1946520" cy="1949400"/>
            <a:chOff x="3592440" y="2684520"/>
            <a:chExt cx="1946520" cy="1949400"/>
          </a:xfrm>
        </p:grpSpPr>
        <p:sp>
          <p:nvSpPr>
            <p:cNvPr id="183" name="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7e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2c7ec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19880" y="281196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17436b"/>
                </a:gs>
                <a:gs pos="50000">
                  <a:srgbClr val="2c7ec8"/>
                </a:gs>
                <a:gs pos="100000">
                  <a:srgbClr val="1743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19880" y="281196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153d60"/>
                </a:gs>
                <a:gs pos="100000">
                  <a:srgbClr val="2c7e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4480" y="289692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143a5c"/>
                </a:gs>
                <a:gs pos="100000">
                  <a:srgbClr val="2c7e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14040" y="34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79120" y="5284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54400" y="521352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19480" y="34686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50760" y="1612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38400" y="16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8000" y="3413160"/>
            <a:ext cx="1015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3494160"/>
            <a:ext cx="35856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97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2044800"/>
            <a:ext cx="35856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341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485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4997520"/>
            <a:ext cx="35892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92360" y="234936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dddddd"/>
              </a:gs>
              <a:gs pos="100000">
                <a:srgbClr val="f8f8f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1701720"/>
            <a:ext cx="504036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7ec8"/>
              </a:gs>
              <a:gs pos="50000">
                <a:srgbClr val="fefefe"/>
              </a:gs>
              <a:gs pos="100000">
                <a:srgbClr val="2c7ec8"/>
              </a:gs>
            </a:gsLst>
            <a:lin ang="10800000"/>
          </a:gra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Gulim"/>
              </a:rPr>
              <a:t>Add Your Text her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714920" y="4222800"/>
            <a:ext cx="1512720" cy="1511280"/>
            <a:chOff x="4714920" y="4222800"/>
            <a:chExt cx="1512720" cy="1511280"/>
          </a:xfrm>
        </p:grpSpPr>
        <p:sp>
          <p:nvSpPr>
            <p:cNvPr id="205" name="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7e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2c7ec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7436b"/>
                </a:gs>
                <a:gs pos="50000">
                  <a:srgbClr val="2c7ec8"/>
                </a:gs>
                <a:gs pos="100000">
                  <a:srgbClr val="1743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53d60"/>
                </a:gs>
                <a:gs pos="100000">
                  <a:srgbClr val="2c7e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980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143a5c"/>
                </a:gs>
                <a:gs pos="100000">
                  <a:srgbClr val="2c7e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116000" y="4222800"/>
            <a:ext cx="1513080" cy="1511280"/>
            <a:chOff x="1116000" y="4222800"/>
            <a:chExt cx="1513080" cy="1511280"/>
          </a:xfrm>
        </p:grpSpPr>
        <p:sp>
          <p:nvSpPr>
            <p:cNvPr id="211" name="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f9c2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7f9c2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45418"/>
                </a:gs>
                <a:gs pos="50000">
                  <a:srgbClr val="7f9c2e"/>
                </a:gs>
                <a:gs pos="100000">
                  <a:srgbClr val="44541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d4b16"/>
                </a:gs>
                <a:gs pos="100000">
                  <a:srgbClr val="7f9c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80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3a4715"/>
                </a:gs>
                <a:gs pos="100000">
                  <a:srgbClr val="7f9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588000" y="4222800"/>
            <a:ext cx="1513080" cy="1511280"/>
            <a:chOff x="6588000" y="4222800"/>
            <a:chExt cx="1513080" cy="1511280"/>
          </a:xfrm>
        </p:grpSpPr>
        <p:sp>
          <p:nvSpPr>
            <p:cNvPr id="217" name="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ce02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dce02a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767816"/>
                </a:gs>
                <a:gs pos="50000">
                  <a:srgbClr val="dce02a"/>
                </a:gs>
                <a:gs pos="100000">
                  <a:srgbClr val="7678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a6c14"/>
                </a:gs>
                <a:gs pos="100000">
                  <a:srgbClr val="dce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2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656713"/>
                </a:gs>
                <a:gs pos="100000">
                  <a:srgbClr val="dce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916360" y="4222800"/>
            <a:ext cx="1512720" cy="1511280"/>
            <a:chOff x="2916360" y="4222800"/>
            <a:chExt cx="1512720" cy="1511280"/>
          </a:xfrm>
        </p:grpSpPr>
        <p:sp>
          <p:nvSpPr>
            <p:cNvPr id="223" name="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ab82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ab82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16311"/>
                </a:gs>
                <a:gs pos="50000">
                  <a:srgbClr val="7ab820"/>
                </a:gs>
                <a:gs pos="100000">
                  <a:srgbClr val="41631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b590f"/>
                </a:gs>
                <a:gs pos="100000">
                  <a:srgbClr val="7ab8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8124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8540e"/>
                </a:gs>
                <a:gs pos="100000">
                  <a:srgbClr val="7ab8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477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816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4972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49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7760" y="5845320"/>
            <a:ext cx="618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2c7ec8"/>
                </a:solidFill>
                <a:uFillTx/>
                <a:latin typeface="Arial"/>
                <a:hlinkClick r:id="rId1"/>
              </a:rPr>
              <a:t>自然风景ppt模板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http://www.eeppt.com/moban/fengjing/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943600" y="2311560"/>
            <a:ext cx="2160720" cy="502920"/>
          </a:xfrm>
          <a:prstGeom prst="roundRect">
            <a:avLst>
              <a:gd name="adj" fmla="val 50000"/>
            </a:avLst>
          </a:prstGeom>
          <a:solidFill>
            <a:srgbClr val="dce02a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2349360"/>
            <a:ext cx="2160720" cy="503280"/>
          </a:xfrm>
          <a:prstGeom prst="roundRect">
            <a:avLst>
              <a:gd name="adj" fmla="val 5000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437920" y="1628280"/>
            <a:ext cx="3978720" cy="3653640"/>
            <a:chOff x="2437920" y="1628280"/>
            <a:chExt cx="3978720" cy="3653640"/>
          </a:xfrm>
        </p:grpSpPr>
        <p:sp>
          <p:nvSpPr>
            <p:cNvPr id="237" name=""/>
            <p:cNvSpPr/>
            <p:nvPr/>
          </p:nvSpPr>
          <p:spPr>
            <a:xfrm>
              <a:off x="2999880" y="1929240"/>
              <a:ext cx="2924640" cy="288000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003300"/>
                </a:gs>
                <a:gs pos="50000">
                  <a:srgbClr val="e6eae6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 rot="5400000">
              <a:off x="4436640" y="1848600"/>
              <a:ext cx="1436400" cy="146304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7f9c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 rot="7200000">
              <a:off x="4705920" y="2307240"/>
              <a:ext cx="1436400" cy="146268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3a4715"/>
                </a:gs>
                <a:gs pos="100000">
                  <a:srgbClr val="7f9c2e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00000">
              <a:off x="4769280" y="3393720"/>
              <a:ext cx="1234440" cy="781560"/>
            </a:xfrm>
            <a:prstGeom prst="triangle">
              <a:avLst>
                <a:gd name="adj" fmla="val 50000"/>
              </a:avLst>
            </a:prstGeom>
            <a:solidFill>
              <a:srgbClr val="2c7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165840" y="3304080"/>
              <a:ext cx="2518200" cy="1977840"/>
              <a:chOff x="3165840" y="3304080"/>
              <a:chExt cx="2518200" cy="1977840"/>
            </a:xfrm>
          </p:grpSpPr>
          <p:sp>
            <p:nvSpPr>
              <p:cNvPr id="242" name="未知"/>
              <p:cNvSpPr/>
              <p:nvPr/>
            </p:nvSpPr>
            <p:spPr>
              <a:xfrm rot="12600000">
                <a:off x="3961800" y="3573360"/>
                <a:ext cx="145980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2c7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 rot="14400000">
                <a:off x="3440160" y="3560040"/>
                <a:ext cx="1436400" cy="14630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43a5c"/>
                  </a:gs>
                  <a:gs pos="100000">
                    <a:srgbClr val="2c7ec8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 rot="9000000">
              <a:off x="2928960" y="3573360"/>
              <a:ext cx="1234440" cy="700560"/>
            </a:xfrm>
            <a:prstGeom prst="triangle">
              <a:avLst>
                <a:gd name="adj" fmla="val 50000"/>
              </a:avLst>
            </a:prstGeom>
            <a:solidFill>
              <a:srgbClr val="908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437920" y="1866240"/>
              <a:ext cx="1988280" cy="2166480"/>
              <a:chOff x="2437920" y="1866240"/>
              <a:chExt cx="1988280" cy="2166480"/>
            </a:xfrm>
          </p:grpSpPr>
          <p:sp>
            <p:nvSpPr>
              <p:cNvPr id="246" name="未知"/>
              <p:cNvSpPr/>
              <p:nvPr/>
            </p:nvSpPr>
            <p:spPr>
              <a:xfrm rot="19800000">
                <a:off x="2700360" y="2323080"/>
                <a:ext cx="145908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08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2966760" y="1866240"/>
                <a:ext cx="14594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06e"/>
                  </a:gs>
                  <a:gs pos="100000">
                    <a:srgbClr val="908b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rot="16200000">
              <a:off x="3637800" y="1838160"/>
              <a:ext cx="1215720" cy="795600"/>
            </a:xfrm>
            <a:prstGeom prst="triangle">
              <a:avLst>
                <a:gd name="adj" fmla="val 50000"/>
              </a:avLst>
            </a:prstGeom>
            <a:solidFill>
              <a:srgbClr val="7f9c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346560" y="5157720"/>
            <a:ext cx="2160360" cy="503280"/>
          </a:xfrm>
          <a:prstGeom prst="roundRect">
            <a:avLst>
              <a:gd name="adj" fmla="val 50000"/>
            </a:avLst>
          </a:prstGeom>
          <a:solidFill>
            <a:srgbClr val="003300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45:41Z</dcterms:created>
  <dc:creator>http://www.eeppt.com</dc:creator>
  <dc:description>ppt模板下载网站 http://www.eeppt.com</dc:description>
  <dc:language>en-US</dc:language>
  <cp:lastModifiedBy/>
  <dcterms:modified xsi:type="dcterms:W3CDTF">2015-06-14T08:19:33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