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ACB-997B-448B-8128-5C017A7B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A11-6E5D-49DF-ABC4-24C2D0A1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8B4-9CE8-4E3E-B434-4C1CA4BB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4F8-429A-4E32-BE09-7966DBFB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B146-A050-4B20-8F6E-104E9885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864C-18F8-4394-9AE4-2A0B28F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FA8D-0831-4EF6-94A4-4E69715F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4CE2-AE57-4506-B12C-174ED14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6F8-E2F1-46D2-A300-ECB85F2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C992-D4B0-41B0-9B9A-DB3CF3C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10A1-3F04-425C-9AF0-9DA1D7F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901-F3BE-4974-805B-CB94F3E1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CB8B-3F55-4EF7-B96A-0BAE8BF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0B87-2EEF-4D63-A441-57AD262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61FF-046E-4948-861C-20AA995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A4F-F2B1-43CE-B469-BCDECD89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F7C-3F6C-4E03-A48D-08FD88E4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62B-30DF-488E-978A-2B4748E2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234-B38F-431F-9F43-DD09BC6D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26E-D61E-49E7-BB1E-D1C06EBC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812-28C3-483E-B938-44D16222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63F-B0A1-479C-B24B-7ADE474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059-F08C-4881-879B-D1E3B0F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7C1-BDBE-47F0-94E4-9B2D820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E9BF-9996-4E1A-A53A-E5ADEDA3A7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C430-334A-4097-A416-A73FA3C2D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3B56-6648-4B57-B5AF-FF6BF19A2E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7FAA-ED95-447C-85BA-E97BD4D5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上箭头 3"/>
          <p:cNvSpPr/>
          <p:nvPr/>
        </p:nvSpPr>
        <p:spPr>
          <a:xfrm>
            <a:off x="4275000" y="2406600"/>
            <a:ext cx="56844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上箭头 4"/>
          <p:cNvSpPr/>
          <p:nvPr/>
        </p:nvSpPr>
        <p:spPr>
          <a:xfrm rot="16200000">
            <a:off x="3047400" y="2848680"/>
            <a:ext cx="56808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上箭头 5"/>
          <p:cNvSpPr/>
          <p:nvPr/>
        </p:nvSpPr>
        <p:spPr>
          <a:xfrm rot="16200000">
            <a:off x="3050280" y="4352040"/>
            <a:ext cx="568080" cy="50940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箭头 6"/>
          <p:cNvSpPr/>
          <p:nvPr/>
        </p:nvSpPr>
        <p:spPr>
          <a:xfrm rot="5400000">
            <a:off x="5477760" y="2848680"/>
            <a:ext cx="56808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上箭头 7"/>
          <p:cNvSpPr/>
          <p:nvPr/>
        </p:nvSpPr>
        <p:spPr>
          <a:xfrm rot="5400000">
            <a:off x="5477760" y="4352040"/>
            <a:ext cx="56808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上箭头 8"/>
          <p:cNvSpPr/>
          <p:nvPr/>
        </p:nvSpPr>
        <p:spPr>
          <a:xfrm rot="10800000">
            <a:off x="4274640" y="4794120"/>
            <a:ext cx="568440" cy="509760"/>
          </a:xfrm>
          <a:prstGeom prst="upArrow">
            <a:avLst>
              <a:gd name="adj1" fmla="val 66491"/>
              <a:gd name="adj2" fmla="val 56560"/>
            </a:avLst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 rot="5400000">
            <a:off x="4362840" y="2507400"/>
            <a:ext cx="374400" cy="119196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 rot="5400000">
            <a:off x="4362840" y="4010760"/>
            <a:ext cx="374400" cy="119196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箭头 11"/>
          <p:cNvSpPr/>
          <p:nvPr/>
        </p:nvSpPr>
        <p:spPr>
          <a:xfrm>
            <a:off x="5041800" y="240660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箭头 12"/>
          <p:cNvSpPr/>
          <p:nvPr/>
        </p:nvSpPr>
        <p:spPr>
          <a:xfrm rot="10800000">
            <a:off x="5041440" y="401904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162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上箭头 13"/>
          <p:cNvSpPr/>
          <p:nvPr/>
        </p:nvSpPr>
        <p:spPr>
          <a:xfrm>
            <a:off x="3487680" y="240984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上箭头 14"/>
          <p:cNvSpPr/>
          <p:nvPr/>
        </p:nvSpPr>
        <p:spPr>
          <a:xfrm rot="10800000">
            <a:off x="3487320" y="4019040"/>
            <a:ext cx="568440" cy="1251000"/>
          </a:xfrm>
          <a:prstGeom prst="upArrow">
            <a:avLst>
              <a:gd name="adj1" fmla="val 66491"/>
              <a:gd name="adj2" fmla="val 49986"/>
            </a:avLst>
          </a:pr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16200000"/>
          </a:gradFill>
          <a:ln w="324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上箭头 15"/>
          <p:cNvSpPr/>
          <p:nvPr/>
        </p:nvSpPr>
        <p:spPr>
          <a:xfrm rot="16200000">
            <a:off x="3462120" y="3212640"/>
            <a:ext cx="568440" cy="1250640"/>
          </a:xfrm>
          <a:prstGeom prst="upArrow">
            <a:avLst>
              <a:gd name="adj1" fmla="val 66491"/>
              <a:gd name="adj2" fmla="val 49961"/>
            </a:avLst>
          </a:pr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上箭头 16"/>
          <p:cNvSpPr/>
          <p:nvPr/>
        </p:nvSpPr>
        <p:spPr>
          <a:xfrm rot="5400000">
            <a:off x="5087520" y="3213000"/>
            <a:ext cx="568440" cy="1251000"/>
          </a:xfrm>
          <a:prstGeom prst="upArrow">
            <a:avLst>
              <a:gd name="adj1" fmla="val 66491"/>
              <a:gd name="adj2" fmla="val 49975"/>
            </a:avLst>
          </a:pr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>
            <a:off x="3986280" y="206856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3198240" y="206856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4753080" y="206856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>
            <a:off x="3986280" y="5413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3198240" y="541332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4753080" y="5413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2052720" y="2965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2052720" y="36990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2052720" y="44686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5946840" y="29653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5946840" y="36990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5946840" y="44686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4371840" y="3300480"/>
            <a:ext cx="374760" cy="109836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54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5805720" y="2556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十二箭头四面交叉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>
            <a:hlinkClick r:id="rId1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1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