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E138-95BC-4597-B64B-5AEF5B415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3C5E-9534-44A7-B6DE-EE31E36D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AB9B-EF28-4365-85A1-3EAB162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C5BF-60CA-4279-BB92-10A6EC815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363E-D04E-4D08-ABDD-ABAEE682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8474-9316-403E-916F-6D99125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AA337-23E6-4128-B4D5-31F12F9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2FBBC-5293-42EC-B7A4-F748D9D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60C97-65EC-44E2-9659-0F0F4CF4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EFEB0-3B83-4624-88DD-08098A9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AF0B-21A7-4AE2-BF32-0B5DEEB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9AB4-9A19-4572-AA9D-F447A71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BC0D5-4653-4F31-B5AD-D0AFF28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49DA-D10F-4B84-B6C8-8BE37CB0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806D-96A6-40BD-B90B-5AEED8A5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B377-C54F-4810-93E3-2228C855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CFFE-B16F-4913-BD2F-543FAD49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1A4F-7F48-4D7A-B40E-FCB8F72F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FF78-CE45-45A1-9798-0515A9B3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827D-65DB-41A4-A0E5-F2D5BFE7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29EF-EA44-4E94-9224-D690C038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2ED9-D857-4A8F-8D98-D450A65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279B-F979-4732-983E-CBD6302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C6B7-981B-4976-B7C2-80D0AF6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E14-9762-40BE-899B-F5EBB1C2E5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3" name="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1371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C66-B617-45DB-A36D-379254DEBB77}" type="slidenum"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2590920" y="2514240"/>
            <a:ext cx="63244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e815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商务交流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模板免费下载</a:t>
            </a:r>
            <a:endParaRPr b="1" lang="en-US" sz="32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84" name=""/>
            <p:cNvSpPr/>
            <p:nvPr/>
          </p:nvSpPr>
          <p:spPr>
            <a:xfrm rot="13770000">
              <a:off x="4912920" y="38815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867120" y="2126880"/>
              <a:ext cx="1701360" cy="1836720"/>
              <a:chOff x="3867120" y="2126880"/>
              <a:chExt cx="1701360" cy="1836720"/>
            </a:xfrm>
          </p:grpSpPr>
          <p:sp>
            <p:nvSpPr>
              <p:cNvPr id="287" name=""/>
              <p:cNvSpPr/>
              <p:nvPr/>
            </p:nvSpPr>
            <p:spPr>
              <a:xfrm rot="18394200">
                <a:off x="5040360" y="233928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867120" y="2377080"/>
                <a:ext cx="1609560" cy="1586520"/>
                <a:chOff x="3867120" y="2377080"/>
                <a:chExt cx="1609560" cy="15865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67120" y="237708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228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90" name="未知"/>
                <p:cNvSpPr/>
                <p:nvPr/>
              </p:nvSpPr>
              <p:spPr>
                <a:xfrm>
                  <a:off x="4051080" y="2403360"/>
                  <a:ext cx="1241640" cy="59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3953880" y="3067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93b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57d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b4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20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23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26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29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23b29"/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52" name="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59" name="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67" name="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81" name="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04920" y="64771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e815b"/>
                </a:solidFill>
                <a:uFillTx/>
                <a:latin typeface="Arial"/>
                <a:hlinkClick r:id="rId2"/>
              </a:rPr>
              <a:t>商务ppt模板下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32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8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01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02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05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14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9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0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3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1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36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37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40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49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4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5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8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67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80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0" idx="3"/>
              <a:endCxn id="481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9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1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75b8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bbe0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2bb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6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8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5a287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0c8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3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5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c6cc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8d3d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表格样例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914400" y="2057400"/>
          <a:ext cx="746748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824760" y="504360"/>
            <a:ext cx="7379640" cy="5581800"/>
            <a:chOff x="824760" y="504360"/>
            <a:chExt cx="7379640" cy="5581800"/>
          </a:xfrm>
        </p:grpSpPr>
        <p:sp>
          <p:nvSpPr>
            <p:cNvPr id="546" name="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60956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aa91"/>
                </a:gs>
                <a:gs pos="100000">
                  <a:srgbClr val="6e815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65852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4f79"/>
                </a:gs>
                <a:gs pos="100000">
                  <a:srgbClr val="3984c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61640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8333b"/>
                </a:gs>
                <a:gs pos="100000">
                  <a:srgbClr val="2e62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62648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05e14"/>
                </a:gs>
                <a:gs pos="100000">
                  <a:srgbClr val="77ae2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824760" y="504360"/>
              <a:ext cx="7379640" cy="5581800"/>
              <a:chOff x="824760" y="504360"/>
              <a:chExt cx="7379640" cy="5581800"/>
            </a:xfrm>
          </p:grpSpPr>
          <p:sp>
            <p:nvSpPr>
              <p:cNvPr id="558" name="未知"/>
              <p:cNvSpPr/>
              <p:nvPr/>
            </p:nvSpPr>
            <p:spPr>
              <a:xfrm>
                <a:off x="566892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5765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539200">
                <a:off x="124308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>
                <a:off x="480348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48120" y="41907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0FDA-413E-45D8-B5AF-690F68BEA6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1ecd0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4e4f2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dfe3db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6ebed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ca74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d6ca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5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16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3e2c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bec6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984c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48235"/>
                  </a:srgbClr>
                </a:gs>
                <a:gs pos="100000">
                  <a:srgbClr val="2c689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26" name="未知"/>
            <p:cNvSpPr/>
            <p:nvPr/>
          </p:nvSpPr>
          <p:spPr>
            <a:xfrm rot="20241600">
              <a:off x="127116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52c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129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139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9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e815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b4531"/>
                  </a:gs>
                  <a:gs pos="50000">
                    <a:srgbClr val="6e815b"/>
                  </a:gs>
                  <a:gs pos="100000">
                    <a:srgbClr val="3b453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8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65011"/>
                </a:gs>
                <a:gs pos="50000">
                  <a:srgbClr val="77ae26"/>
                </a:gs>
                <a:gs pos="100000">
                  <a:srgbClr val="3650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557d1b"/>
                </a:gs>
                <a:gs pos="50000">
                  <a:srgbClr val="77ae26"/>
                </a:gs>
                <a:gs pos="100000">
                  <a:srgbClr val="557d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f5d41"/>
                </a:gs>
                <a:gs pos="50000">
                  <a:srgbClr val="6e815b"/>
                </a:gs>
                <a:gs pos="100000">
                  <a:srgbClr val="4f5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97f"/>
                </a:gs>
                <a:gs pos="50000">
                  <a:srgbClr val="90a8b0"/>
                </a:gs>
                <a:gs pos="100000">
                  <a:srgbClr val="6879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5f91"/>
                </a:gs>
                <a:gs pos="50000">
                  <a:srgbClr val="3984c9"/>
                </a:gs>
                <a:gs pos="100000">
                  <a:srgbClr val="295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7a8b69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011"/>
              </a:gs>
              <a:gs pos="50000">
                <a:srgbClr val="77ae26"/>
              </a:gs>
              <a:gs pos="100000">
                <a:srgbClr val="365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3b29"/>
              </a:gs>
              <a:gs pos="50000">
                <a:srgbClr val="6e815b"/>
              </a:gs>
              <a:gs pos="100000">
                <a:srgbClr val="323b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becc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35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4044"/>
                </a:gs>
                <a:gs pos="50000">
                  <a:srgbClr val="90a8b0"/>
                </a:gs>
                <a:gs pos="100000">
                  <a:srgbClr val="374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图示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0a8b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d5a5e"/>
              </a:gs>
              <a:gs pos="50000">
                <a:srgbClr val="90a8b0"/>
              </a:gs>
              <a:gs pos="100000">
                <a:srgbClr val="4d5a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a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0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984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a3c5c"/>
              </a:gs>
              <a:gs pos="100000">
                <a:srgbClr val="3984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e476c"/>
              </a:gs>
              <a:gs pos="50000">
                <a:srgbClr val="3984c9"/>
              </a:gs>
              <a:gs pos="100000">
                <a:srgbClr val="1e47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984c9">
                  <a:alpha val="0"/>
                </a:srgbClr>
              </a:gs>
              <a:gs pos="100000">
                <a:srgbClr val="245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0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5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52:28Z</dcterms:created>
  <dc:creator>http://www.eeppt.com</dc:creator>
  <dc:description>ppt模板下载网站 http://www.eeppt.com</dc:description>
  <dc:language>en-US</dc:language>
  <cp:lastModifiedBy/>
  <dcterms:modified xsi:type="dcterms:W3CDTF">2015-06-14T08:23:0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