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1E6-967D-4EFD-8736-C984E297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E7F-9844-46D0-A882-37286599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1B5-0AA2-4244-B724-B07DD658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729-3E3A-4D79-8FED-2DF750F9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F1DF-BE76-4F8B-8D7B-6A0D0818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09DC-F210-44BA-808B-CE318F0A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3027-FEE0-4AD6-A432-A5F6C552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735D-57FF-46A6-96D1-42E80B5D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CE37-4759-47D8-B091-41F15C11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253D-556D-4F82-A3FB-4FF087EA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BABC-435A-4EAA-8316-CA89AB59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314-24EC-41A6-A1D5-20C6AB5D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7BBE-B993-4A61-AFCC-5DC5A97C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8656-208A-4B72-8476-A314FE2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D169-4AC2-475C-9429-8F2954A3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38B-BD4B-41C9-8145-98FB5E7F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B483-3929-4CFB-B51C-DA7FAB4D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B9A-45E4-4CCA-826E-4D23AE01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587-C589-4294-95DA-2DB6531F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2BB-E72C-4659-981D-B8D2A497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759-1C41-4F2B-8C88-5F833B19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EF9-E87C-4C0D-AB0F-0B65AF8A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F09-6675-45DA-8903-7D57CC16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F97-FE65-44C8-9148-7453376C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第一课件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1keji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89AD-480C-471E-9C1F-CC7881ECA9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E665-5784-41C7-9278-4F11C6558D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ouo.com/baike/3131.htm" TargetMode="External"/><Relationship Id="rId2" Type="http://schemas.openxmlformats.org/officeDocument/2006/relationships/hyperlink" Target="http://www.soouo.com/baike/3562.htm" TargetMode="External"/><Relationship Id="rId3" Type="http://schemas.openxmlformats.org/officeDocument/2006/relationships/hyperlink" Target="http://www.soouo.com/baike/2542.htm" TargetMode="External"/><Relationship Id="rId4" Type="http://schemas.openxmlformats.org/officeDocument/2006/relationships/hyperlink" Target="http://www.soouo.com/baike/3918.htm" TargetMode="External"/><Relationship Id="rId5" Type="http://schemas.openxmlformats.org/officeDocument/2006/relationships/hyperlink" Target="http://www.soouo.com/baike/3483.ht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 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844640"/>
            <a:ext cx="868680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</a:t>
            </a:r>
            <a:r>
              <a:rPr b="0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孙悟空三打白骨精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E1C-29A7-451D-BDC3-C413CE5A6E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570" b="4298"/>
          <a:stretch/>
        </p:blipFill>
        <p:spPr>
          <a:xfrm>
            <a:off x="2133720" y="457200"/>
            <a:ext cx="4454280" cy="4627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0" y="57150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孙悟空一打白骨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BE4-AD46-4B85-9CA5-D8AE03FE8C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404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骨精为了吃唐僧肉，变成一个村姑，穿着花衣服，提着一篮馒头，笑着向唐僧走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916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婆子拄着竹杖，口中喊着寻女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48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70828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骨精又变成一个老头儿，手持拐杖，来找唐僧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005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老头大声呼喊：“救命啊，救命！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86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老头冲到悟空面前说：“你打死了我的老伴和女儿，我这条老命也不要了，索性跟你拼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A3D-E1F7-49CA-B6A5-5A48109976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476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孙悟空用鼻子一嗅，闻到一股妖气，再用火眼金睛凝视，一下子看出那村姑是一个妖怪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84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胆妖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一声吆喝，举起金箍棒，劈面便打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3213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看得仔细，认出那婆子也是那个妖怪变的，就飞步向前，大喝一声：“妖怪，你又来了，再吃我一棒！”金箍棒当头劈去，那婆子便应声倒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F03-51C7-4962-8884-251817A90B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2060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气得毛发直竖，大喝道：“不管你千变万化，妖怪总是妖怪！”说罢抡棒就打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认出那老头又是白骨精的化身，上前喝道：“大胆妖精，你骗不了我老孙！”说着又要举棒打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335772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回答说：“妖怪吃人本性不变。你今天救了它，它却不会放过你。是妖就要打，哪能讲慈悲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300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撇开唐僧，一棒打去，把那老头儿打下深涧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154-76AB-4803-9029-B3490FA5AA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9079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识破妖计，正要追赶，却被唐僧一把拉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正要追赶，又被唐僧拦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386064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正要去追，又被唐僧拦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379-E7AA-4433-BA47-30620287E1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2692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责怪悟空不该错杀好人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268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怒喝道：“你接连打死母女两人，是何道理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645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上前护住老头儿，沉着脸说：“人以慈悲为本，不准杀他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263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急忙喝住悟空，不准再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E22-BFC7-49CE-9086-D978CC2D1A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15F-53C3-47D1-8ED2-ADB7C48FCC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0"/>
            <a:ext cx="8893080" cy="25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《西游记》 ，明代小说家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吴承恩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字汝忠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号射阳居士 ）著。《西游记》成书于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1"/>
              </a:rPr>
              <a:t>明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中叶，根据唐玄奘去天竺取经这一真实的历史事件，自问世以来在中国及世界各地广为流传，被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2"/>
              </a:rPr>
              <a:t>翻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成多种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3"/>
              </a:rPr>
              <a:t>语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在中国，乃至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4"/>
              </a:rPr>
              <a:t>亚洲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部分地区西游记家喻户晓，其中孙悟空、唐僧、猪八戒、沙僧等人物和“大闹天宫”、“三打白骨精”、“火焰山”等故事尤其为人熟悉。几百年以来，西游记被改编成了各种地方戏曲，及电影、电视剧、动画片、漫画，版本繁多。它是中国“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5"/>
              </a:rPr>
              <a:t>四大名著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”之一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BA2-B028-4145-8474-2354738657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836640"/>
            <a:ext cx="849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听准６个生字和１３个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孙悟空一打、二打、三打白骨精化身的自然段前，标上“一打、二打、三打”等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认为分别用什么词语来概括孙悟空、唐僧、白骨精的特点最恰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4AA-7CAE-488C-9FCD-4489050A5C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476280"/>
            <a:ext cx="86421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轻声读课文，并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骨精为了吃唐僧肉，先变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又变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最后变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都被孙悟空识破，孙悟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怒打白骨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一打、二打、三打的段落，边读边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划出能反映孙悟空坚定不移、机智勇敢、善于识别敌人诡计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﹏﹏”划出能反映白骨精诡计多端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　　”划出能反映唐僧“慈悲为本”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00000" y="5805360"/>
            <a:ext cx="649440" cy="71280"/>
            <a:chOff x="900000" y="5805360"/>
            <a:chExt cx="649440" cy="71280"/>
          </a:xfrm>
        </p:grpSpPr>
        <p:sp>
          <p:nvSpPr>
            <p:cNvPr id="93" name=""/>
            <p:cNvSpPr/>
            <p:nvPr/>
          </p:nvSpPr>
          <p:spPr>
            <a:xfrm>
              <a:off x="900000" y="580536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0000" y="58766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044-72F9-4098-AF34-88FF565D71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08360" y="5084640"/>
            <a:ext cx="2808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ē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80536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唐　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43556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88000" y="1484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慈悲为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300-6684-4BED-BC90-732F601698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56000" y="5157720"/>
            <a:ext cx="459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5877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孙悟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538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76280"/>
            <a:ext cx="208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坚定不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1989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机智勇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3645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善于识别敌人诡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DF4-8F19-4878-B6FE-FD37499609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57340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骨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2773440" cy="374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64000" y="3213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诡计多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14842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残害百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256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44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善于变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306-20BA-4B2D-BE05-0F0573CEC4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27280" y="638172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6237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猪八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86640" cy="6324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54080" y="4552920"/>
            <a:ext cx="6110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5A2-CC26-40F8-8BEB-39796468E4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5708520" cy="587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2000" y="587700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沙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6D7-E5F4-4ED6-9C0C-15589066DC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1:36:54Z</dcterms:created>
  <dc:creator>http://www.eeppt.com</dc:creator>
  <dc:description>ppt模板下载网站 http://www.eeppt.com</dc:description>
  <dc:language>en-US</dc:language>
  <cp:lastModifiedBy/>
  <dcterms:modified xsi:type="dcterms:W3CDTF">2015-06-15T00:41:17Z</dcterms:modified>
  <cp:revision>20</cp:revision>
  <dc:subject/>
  <dc:title>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