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A8B3-C7CD-42D6-9579-09C59E20B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4585-F4F7-45E0-BA82-EE2527453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E674-7FBB-4714-A6B9-EF45D6F82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E42B-C4BA-424A-86AB-5DD22AB8F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B5DD8-B2AB-4683-9744-7260B1FB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15BC3-A18E-4A90-8FEA-40B3D3F3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A008F-CD35-4825-A769-EA81068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A2B64-CA0F-4CF6-AC2C-BA384EAC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D1ADA-684F-4229-BE91-B1D30B32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99D76-3D38-44DA-B0D3-F9425830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E6D0E-7818-4BFE-9C43-5BC0AF6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6B52-5AC4-4AC0-96A9-E3312354C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29F3-4756-4CD7-92C1-7BB3F05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73322-650A-4BE9-A8C8-350F7AD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7935F-FC9D-4ADD-85C2-68B66B8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15D12-3A61-47E3-9521-4B5AED7B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E0FE-FB7D-4263-B3C9-8FE96E5A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B6AF-A70B-4061-862B-C9B619230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4242-7A5D-4CB2-A091-1F091E1FE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8ACF-0BBE-48F9-B833-9AD890084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7A4B-EF86-4EA7-B6D4-8C944B82B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FB6E-7F51-4C62-A391-CFB46E2E9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97C1-E366-445A-81EC-B792F821D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BC70-6C3D-4DAA-A60D-1DB0ACA53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E34-5FDA-4E96-80DC-C53870EE4A0E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FB7-EC12-4056-B586-FBF962443649}" type="slidenum"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商务型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模板在线下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17600" y="6477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7b7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6546a"/>
              </a:gs>
              <a:gs pos="100000">
                <a:srgbClr val="77b7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27c"/>
              </a:gs>
              <a:gs pos="50000">
                <a:srgbClr val="77b7e7"/>
              </a:gs>
              <a:gs pos="100000">
                <a:srgbClr val="4062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7b7e7">
                  <a:alpha val="0"/>
                </a:srgbClr>
              </a:gs>
              <a:gs pos="100000">
                <a:srgbClr val="4b73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未知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291" name="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68440" y="38386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78240" y="389916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6552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0826600">
              <a:off x="147312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396800" y="3448080"/>
              <a:ext cx="1371240" cy="1441080"/>
              <a:chOff x="1396800" y="3448080"/>
              <a:chExt cx="1371240" cy="1441080"/>
            </a:xfrm>
          </p:grpSpPr>
          <p:sp>
            <p:nvSpPr>
              <p:cNvPr id="299" name=""/>
              <p:cNvSpPr/>
              <p:nvPr/>
            </p:nvSpPr>
            <p:spPr>
              <a:xfrm>
                <a:off x="139680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14800" y="34563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277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99400" y="35064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772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9536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36720" y="17049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8120" y="839880"/>
            <a:ext cx="5715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17347d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319" name="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659040" y="3126600"/>
              <a:ext cx="1907640" cy="1967040"/>
              <a:chOff x="3659040" y="3126600"/>
              <a:chExt cx="1907640" cy="1967040"/>
            </a:xfrm>
          </p:grpSpPr>
          <p:sp>
            <p:nvSpPr>
              <p:cNvPr id="321" name=""/>
              <p:cNvSpPr/>
              <p:nvPr/>
            </p:nvSpPr>
            <p:spPr>
              <a:xfrm>
                <a:off x="3659040" y="3126600"/>
                <a:ext cx="190764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951720" y="3899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224240" y="1861920"/>
              <a:ext cx="635760" cy="607320"/>
              <a:chOff x="4224240" y="1861920"/>
              <a:chExt cx="635760" cy="6073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4224240" y="1861920"/>
                <a:ext cx="635760" cy="607320"/>
                <a:chOff x="4224240" y="1861920"/>
                <a:chExt cx="635760" cy="607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224240" y="186192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>
                  <a:off x="4296960" y="1872000"/>
                  <a:ext cx="49032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4363920" y="19551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06480" y="4890600"/>
              <a:ext cx="341280" cy="308880"/>
              <a:chOff x="3606480" y="4890600"/>
              <a:chExt cx="341280" cy="308880"/>
            </a:xfrm>
          </p:grpSpPr>
          <p:sp>
            <p:nvSpPr>
              <p:cNvPr id="330" name=""/>
              <p:cNvSpPr/>
              <p:nvPr/>
            </p:nvSpPr>
            <p:spPr>
              <a:xfrm rot="18226800">
                <a:off x="3633120" y="5047200"/>
                <a:ext cx="122040" cy="1299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226800">
                <a:off x="3798360" y="4912200"/>
                <a:ext cx="122040" cy="1299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>
                  <a:off x="3095640" y="5170320"/>
                  <a:ext cx="49032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3158640" y="52783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34760" y="3126600"/>
              <a:ext cx="633240" cy="639360"/>
              <a:chOff x="6134760" y="3126600"/>
              <a:chExt cx="633240" cy="6393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134760" y="3126600"/>
                <a:ext cx="633240" cy="639360"/>
                <a:chOff x="6134760" y="3126600"/>
                <a:chExt cx="633240" cy="639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134760" y="3126600"/>
                  <a:ext cx="633240" cy="63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>
                  <a:off x="6207120" y="3137040"/>
                  <a:ext cx="48852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625680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566680" y="5164200"/>
              <a:ext cx="606240" cy="573840"/>
              <a:chOff x="5566680" y="5164200"/>
              <a:chExt cx="606240" cy="57384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566680" y="5164200"/>
                <a:ext cx="606240" cy="573840"/>
                <a:chOff x="5566680" y="5164200"/>
                <a:chExt cx="606240" cy="5738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566680" y="5164200"/>
                  <a:ext cx="606240" cy="57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>
                  <a:off x="5635800" y="5173560"/>
                  <a:ext cx="467640" cy="216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698800" y="51948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552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0" name="未知"/>
                <p:cNvSpPr/>
                <p:nvPr/>
              </p:nvSpPr>
              <p:spPr>
                <a:xfrm>
                  <a:off x="2601360" y="3137040"/>
                  <a:ext cx="49032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rot="18226800">
              <a:off x="5495760" y="501444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8226800">
              <a:off x="5354640" y="487404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211920" y="3522600"/>
              <a:ext cx="385920" cy="241200"/>
              <a:chOff x="3211920" y="3522600"/>
              <a:chExt cx="385920" cy="241200"/>
            </a:xfrm>
          </p:grpSpPr>
          <p:sp>
            <p:nvSpPr>
              <p:cNvPr id="355" name=""/>
              <p:cNvSpPr/>
              <p:nvPr/>
            </p:nvSpPr>
            <p:spPr>
              <a:xfrm rot="18226800">
                <a:off x="3238200" y="354456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4698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226800">
                <a:off x="3448440" y="361188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9586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484160" y="2580120"/>
              <a:ext cx="173880" cy="430920"/>
              <a:chOff x="4484160" y="2580120"/>
              <a:chExt cx="173880" cy="430920"/>
            </a:xfrm>
          </p:grpSpPr>
          <p:sp>
            <p:nvSpPr>
              <p:cNvPr id="358" name=""/>
              <p:cNvSpPr/>
              <p:nvPr/>
            </p:nvSpPr>
            <p:spPr>
              <a:xfrm rot="18226800">
                <a:off x="4510440" y="2601720"/>
                <a:ext cx="12132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d3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226800">
                <a:off x="4510440" y="2860920"/>
                <a:ext cx="12096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1523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rot="18226800">
              <a:off x="5866560" y="3566160"/>
              <a:ext cx="119520" cy="1278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343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8226800">
              <a:off x="5637240" y="3680640"/>
              <a:ext cx="119520" cy="1278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343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120" y="326700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15280" y="53751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02440" y="53751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369" name="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820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384" name="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476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32240" y="19126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0160" y="19159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6280" y="19224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81560" y="19382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45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880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398" name=""/>
            <p:cNvSpPr/>
            <p:nvPr/>
          </p:nvSpPr>
          <p:spPr>
            <a:xfrm>
              <a:off x="594360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436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6688080" y="1908000"/>
              <a:ext cx="642960" cy="642960"/>
              <a:chOff x="6688080" y="1908000"/>
              <a:chExt cx="642960" cy="642960"/>
            </a:xfrm>
          </p:grpSpPr>
          <p:sp>
            <p:nvSpPr>
              <p:cNvPr id="403" name=""/>
              <p:cNvSpPr/>
              <p:nvPr/>
            </p:nvSpPr>
            <p:spPr>
              <a:xfrm>
                <a:off x="668808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456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0248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896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280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8140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7464960" y="61722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8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9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2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1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7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0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3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4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7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6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2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5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4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9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7" idx="3"/>
              <a:endCxn id="498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98" idx="3"/>
              <a:endCxn id="499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698920" y="1785600"/>
            <a:ext cx="4013640" cy="4250880"/>
            <a:chOff x="2698920" y="1785600"/>
            <a:chExt cx="4013640" cy="4250880"/>
          </a:xfrm>
        </p:grpSpPr>
        <p:sp>
          <p:nvSpPr>
            <p:cNvPr id="506" name="未知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 rot="7200000">
              <a:off x="4393080" y="203760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509" name="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12" name="未知"/>
            <p:cNvSpPr/>
            <p:nvPr/>
          </p:nvSpPr>
          <p:spPr>
            <a:xfrm rot="14400000">
              <a:off x="4507560" y="389160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514" name="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 rot="14400000">
                <a:off x="4982400" y="3575160"/>
                <a:ext cx="1504800" cy="8046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518" name="未知"/>
              <p:cNvSpPr/>
              <p:nvPr/>
            </p:nvSpPr>
            <p:spPr>
              <a:xfrm>
                <a:off x="2698920" y="4327560"/>
                <a:ext cx="582120" cy="110232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400000">
                <a:off x="4177800" y="4707720"/>
                <a:ext cx="1388520" cy="64080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3223440" y="4650840"/>
                <a:ext cx="1598400" cy="77904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654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1f4e3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838080" y="243216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7464960" y="61722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825120" y="755280"/>
            <a:ext cx="7378560" cy="5581080"/>
            <a:chOff x="825120" y="755280"/>
            <a:chExt cx="7378560" cy="5581080"/>
          </a:xfrm>
        </p:grpSpPr>
        <p:sp>
          <p:nvSpPr>
            <p:cNvPr id="545" name="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693080" y="22665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609560" y="225216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0602200">
              <a:off x="1658520" y="225252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527f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616400" y="226332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626480" y="226188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f4e39"/>
                </a:gs>
                <a:gs pos="100000">
                  <a:srgbClr val="45ab7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6c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539200">
              <a:off x="1243440" y="165960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49640" y="2441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4617720" y="425448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a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3255840" y="323352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cbcfe"/>
              </a:gs>
              <a:gs pos="100000">
                <a:srgbClr val="9999ff">
                  <a:alpha val="99215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066680" y="4254480"/>
            <a:ext cx="1579680" cy="2070000"/>
            <a:chOff x="1066680" y="4254480"/>
            <a:chExt cx="1579680" cy="2070000"/>
          </a:xfrm>
        </p:grpSpPr>
        <p:grpSp>
          <p:nvGrpSpPr>
            <p:cNvPr id="569" name=""/>
            <p:cNvGrpSpPr/>
            <p:nvPr/>
          </p:nvGrpSpPr>
          <p:grpSpPr>
            <a:xfrm>
              <a:off x="1066680" y="4254480"/>
              <a:ext cx="1486080" cy="1514520"/>
              <a:chOff x="1066680" y="4254480"/>
              <a:chExt cx="1486080" cy="15145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066680" y="4254480"/>
                <a:ext cx="1486080" cy="1514520"/>
                <a:chOff x="1066680" y="4254480"/>
                <a:chExt cx="1486080" cy="15145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066680" y="4254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b6c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72" name="未知"/>
                <p:cNvSpPr/>
                <p:nvPr/>
              </p:nvSpPr>
              <p:spPr>
                <a:xfrm>
                  <a:off x="123660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122472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06668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800" y="4254480"/>
            <a:ext cx="1617840" cy="2070000"/>
            <a:chOff x="2971800" y="4254480"/>
            <a:chExt cx="1617840" cy="2070000"/>
          </a:xfrm>
        </p:grpSpPr>
        <p:grpSp>
          <p:nvGrpSpPr>
            <p:cNvPr id="576" name=""/>
            <p:cNvGrpSpPr/>
            <p:nvPr/>
          </p:nvGrpSpPr>
          <p:grpSpPr>
            <a:xfrm>
              <a:off x="2971800" y="4254480"/>
              <a:ext cx="1523880" cy="1521000"/>
              <a:chOff x="2971800" y="4254480"/>
              <a:chExt cx="1523880" cy="1521000"/>
            </a:xfrm>
          </p:grpSpPr>
          <p:sp>
            <p:nvSpPr>
              <p:cNvPr id="577" name=""/>
              <p:cNvSpPr/>
              <p:nvPr/>
            </p:nvSpPr>
            <p:spPr>
              <a:xfrm>
                <a:off x="2971800" y="42544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314604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304812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0996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582" name="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583" name="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c5d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>
                <a:off x="520344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10552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817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588" name=""/>
            <p:cNvGrpSpPr/>
            <p:nvPr/>
          </p:nvGrpSpPr>
          <p:grpSpPr>
            <a:xfrm>
              <a:off x="6934320" y="4210200"/>
              <a:ext cx="1523520" cy="1531440"/>
              <a:chOff x="6934320" y="4210200"/>
              <a:chExt cx="1523520" cy="153144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6934320" y="4210200"/>
                <a:ext cx="1523520" cy="1531440"/>
                <a:chOff x="6934320" y="4210200"/>
                <a:chExt cx="1523520" cy="15314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934320" y="4210200"/>
                  <a:ext cx="152352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91" name="未知"/>
                <p:cNvSpPr/>
                <p:nvPr/>
              </p:nvSpPr>
              <p:spPr>
                <a:xfrm>
                  <a:off x="710820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707688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82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82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82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117" name="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82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17347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17347d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52A9-0FB8-4AC0-94E6-5DEE72747E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8c8ab"/>
              </a:gs>
              <a:gs pos="100000">
                <a:srgbClr val="45ab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0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4f5"/>
                </a:gs>
                <a:gs pos="100000">
                  <a:srgbClr val="77b7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48235"/>
                  </a:srgbClr>
                </a:gs>
                <a:gs pos="100000">
                  <a:srgbClr val="5d90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141" name="未知"/>
            <p:cNvSpPr/>
            <p:nvPr/>
          </p:nvSpPr>
          <p:spPr>
            <a:xfrm rot="20241600">
              <a:off x="140940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efefef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7180920" y="281160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3031560" y="547380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5614920" y="4899600"/>
              <a:ext cx="1095840" cy="3128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4920" y="1951200"/>
              <a:ext cx="117396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8480" y="330480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4160" y="481176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83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0000" y="425232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0040" y="2153160"/>
              <a:ext cx="110844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740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H="1">
              <a:off x="890280" y="2356920"/>
              <a:ext cx="177336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160" name="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464960" y="62485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e39"/>
                </a:gs>
                <a:gs pos="50000">
                  <a:srgbClr val="45ab7d"/>
                </a:gs>
                <a:gs pos="100000">
                  <a:srgbClr val="1f4e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5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210" name=""/>
            <p:cNvGrpSpPr/>
            <p:nvPr/>
          </p:nvGrpSpPr>
          <p:grpSpPr>
            <a:xfrm>
              <a:off x="1828800" y="1752480"/>
              <a:ext cx="5334120" cy="1226160"/>
              <a:chOff x="1828800" y="1752480"/>
              <a:chExt cx="5334120" cy="1226160"/>
            </a:xfrm>
          </p:grpSpPr>
          <p:sp>
            <p:nvSpPr>
              <p:cNvPr id="211" name=""/>
              <p:cNvSpPr/>
              <p:nvPr/>
            </p:nvSpPr>
            <p:spPr>
              <a:xfrm>
                <a:off x="1828800" y="175248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945080" y="1865160"/>
                <a:ext cx="1027800" cy="1002960"/>
                <a:chOff x="1945080" y="1865160"/>
                <a:chExt cx="1027800" cy="1002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945080" y="1865160"/>
                  <a:ext cx="102780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27fa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>
                  <a:off x="2009160" y="1929600"/>
                  <a:ext cx="51228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4d6f0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4d6f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22840" y="2137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828800" y="3193920"/>
              <a:ext cx="5334120" cy="1226160"/>
              <a:chOff x="1828800" y="3193920"/>
              <a:chExt cx="5334120" cy="1226160"/>
            </a:xfrm>
          </p:grpSpPr>
          <p:sp>
            <p:nvSpPr>
              <p:cNvPr id="218" name=""/>
              <p:cNvSpPr/>
              <p:nvPr/>
            </p:nvSpPr>
            <p:spPr>
              <a:xfrm>
                <a:off x="1828800" y="319392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45080" y="3306600"/>
                <a:ext cx="1027800" cy="1002960"/>
                <a:chOff x="1945080" y="3306600"/>
                <a:chExt cx="1027800" cy="10029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45080" y="3306600"/>
                  <a:ext cx="102780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4b4fe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1" name="未知"/>
                <p:cNvSpPr/>
                <p:nvPr/>
              </p:nvSpPr>
              <p:spPr>
                <a:xfrm>
                  <a:off x="2009160" y="3371040"/>
                  <a:ext cx="51228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99ff">
                        <a:alpha val="0"/>
                      </a:srgbClr>
                    </a:gs>
                    <a:gs pos="100000">
                      <a:srgbClr val="d2d2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022840" y="3580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3114000" y="336168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225" name="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1945080" y="4756680"/>
                <a:ext cx="1027800" cy="1002960"/>
                <a:chOff x="1945080" y="4756680"/>
                <a:chExt cx="1027800" cy="10029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945080" y="4756680"/>
                  <a:ext cx="102780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8c8ab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8" name="未知"/>
                <p:cNvSpPr/>
                <p:nvPr/>
              </p:nvSpPr>
              <p:spPr>
                <a:xfrm>
                  <a:off x="2009160" y="4821120"/>
                  <a:ext cx="51228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ab7d">
                        <a:alpha val="0"/>
                      </a:srgbClr>
                    </a:gs>
                    <a:gs pos="100000">
                      <a:srgbClr val="a3d5b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22840" y="50310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625040" y="989280"/>
            <a:ext cx="5481000" cy="5149080"/>
            <a:chOff x="1625040" y="989280"/>
            <a:chExt cx="5481000" cy="5149080"/>
          </a:xfrm>
        </p:grpSpPr>
        <p:sp>
          <p:nvSpPr>
            <p:cNvPr id="233" name="未知"/>
            <p:cNvSpPr/>
            <p:nvPr/>
          </p:nvSpPr>
          <p:spPr>
            <a:xfrm rot="20805000">
              <a:off x="4592520" y="27226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47ec4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 rot="5461200">
              <a:off x="2798640" y="22698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2a684c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 rot="14128200">
              <a:off x="4644000" y="7448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625040" y="1494360"/>
              <a:ext cx="5481000" cy="4644000"/>
              <a:chOff x="1625040" y="1494360"/>
              <a:chExt cx="5481000" cy="4644000"/>
            </a:xfrm>
          </p:grpSpPr>
          <p:sp>
            <p:nvSpPr>
              <p:cNvPr id="237" name="未知"/>
              <p:cNvSpPr/>
              <p:nvPr/>
            </p:nvSpPr>
            <p:spPr>
              <a:xfrm>
                <a:off x="4394880" y="28224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 rot="6256200">
                <a:off x="2798640" y="21218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 rot="14922600">
                <a:off x="4776480" y="9738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884760" y="2786040"/>
              <a:ext cx="1339560" cy="1338120"/>
              <a:chOff x="3884760" y="2786040"/>
              <a:chExt cx="1339560" cy="133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3884760" y="27860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4037760" y="28080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080240" y="32767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65240" y="2976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60960" y="21477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95600" y="4699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464960" y="62485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http://www.eeppt.com</dc:creator>
  <dc:description>ppt模板下载网站 http://www.eeppt.com</dc:description>
  <dc:language>en-US</dc:language>
  <cp:lastModifiedBy/>
  <dcterms:modified xsi:type="dcterms:W3CDTF">2015-06-14T08:01:29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