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91A-F6D8-4096-B586-A72E21EC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64B-34CF-4EE2-AC74-65F39FC1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E73-EE69-4779-93E0-59623885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C1C-CEC3-43E0-A736-F88B4E34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3531-4172-4E47-B91A-FDEBCD3B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53AF-ABF0-4B93-8A21-36BE2C2C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7533-C304-484B-9FDF-1D74612A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FD35-C56E-4954-9B0A-C50FCA3D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E4EF-638F-4570-B9A9-2FFA80CC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D6B8-7EC8-40AE-A401-072DEDF5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C2F7-5832-45FB-BBCE-E76B46BC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E8E-F253-4A46-95E4-357D94C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F431-AAF8-492A-8C02-132596E8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8110-BCBE-49C0-936A-6AD45ABC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2B6C-7787-4AA5-9C01-04D1FA27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BB4B-0859-45EA-B6D2-4A1AE4D2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970C-5CC7-4BB2-8156-6D8797BC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443-AAC9-4A93-85B5-67282C02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914-441D-406F-AC8C-6BEBCA89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267-6D0B-40C6-BB6F-355D0FC7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05F-F52F-4C1C-805F-F67525B2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93B-70A2-4BE5-88D8-3A13F46C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147-BBB2-499F-8284-1FD582D8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6BCB-6484-4540-AB0E-58AAEAD4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E7D-8D34-44F6-AB8E-48FF6874AC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DFF4-EC49-4FBA-B18C-E9A506337D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8F67-2714-4D69-BD7F-E1755E9A5B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1D71-0731-407C-98FC-5C5772548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75"/>
          <p:cNvSpPr/>
          <p:nvPr/>
        </p:nvSpPr>
        <p:spPr>
          <a:xfrm>
            <a:off x="2050920" y="4519440"/>
            <a:ext cx="5884920" cy="1346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顶部logo"/>
          <p:cNvGrpSpPr/>
          <p:nvPr/>
        </p:nvGrpSpPr>
        <p:grpSpPr>
          <a:xfrm>
            <a:off x="0" y="181080"/>
            <a:ext cx="9144000" cy="637920"/>
            <a:chOff x="0" y="181080"/>
            <a:chExt cx="9144000" cy="637920"/>
          </a:xfrm>
        </p:grpSpPr>
        <p:sp>
          <p:nvSpPr>
            <p:cNvPr id="84" name="矩形 98"/>
            <p:cNvSpPr/>
            <p:nvPr/>
          </p:nvSpPr>
          <p:spPr>
            <a:xfrm>
              <a:off x="0" y="711360"/>
              <a:ext cx="9144000" cy="107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99"/>
            <p:cNvSpPr/>
            <p:nvPr/>
          </p:nvSpPr>
          <p:spPr>
            <a:xfrm>
              <a:off x="5883480" y="299160"/>
              <a:ext cx="179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三项循环关系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图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3" descr="I:\盘古老人.png"/>
            <p:cNvPicPr/>
            <p:nvPr/>
          </p:nvPicPr>
          <p:blipFill>
            <a:blip r:embed="rId1"/>
            <a:stretch/>
          </p:blipFill>
          <p:spPr>
            <a:xfrm>
              <a:off x="1247040" y="320040"/>
              <a:ext cx="80460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4" descr="I:\盘古老人印.png"/>
            <p:cNvPicPr/>
            <p:nvPr/>
          </p:nvPicPr>
          <p:blipFill>
            <a:blip r:embed="rId2"/>
            <a:stretch/>
          </p:blipFill>
          <p:spPr>
            <a:xfrm>
              <a:off x="830880" y="181080"/>
              <a:ext cx="36000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组合 1"/>
          <p:cNvGrpSpPr/>
          <p:nvPr/>
        </p:nvGrpSpPr>
        <p:grpSpPr>
          <a:xfrm>
            <a:off x="2853720" y="2531880"/>
            <a:ext cx="3612960" cy="3655800"/>
            <a:chOff x="2853720" y="2531880"/>
            <a:chExt cx="3612960" cy="3655800"/>
          </a:xfrm>
        </p:grpSpPr>
        <p:sp>
          <p:nvSpPr>
            <p:cNvPr id="89" name="Freeform 19"/>
            <p:cNvSpPr/>
            <p:nvPr/>
          </p:nvSpPr>
          <p:spPr>
            <a:xfrm rot="270600">
              <a:off x="4623840" y="2720160"/>
              <a:ext cx="1746720" cy="25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 rot="270600">
              <a:off x="2952360" y="2598840"/>
              <a:ext cx="1805760" cy="2586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5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 rot="270600">
              <a:off x="3138480" y="4927680"/>
              <a:ext cx="2900160" cy="114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3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54"/>
          <p:cNvGrpSpPr/>
          <p:nvPr/>
        </p:nvGrpSpPr>
        <p:grpSpPr>
          <a:xfrm>
            <a:off x="3457440" y="2619360"/>
            <a:ext cx="2260800" cy="2251080"/>
            <a:chOff x="3457440" y="2619360"/>
            <a:chExt cx="2260800" cy="2251080"/>
          </a:xfrm>
        </p:grpSpPr>
        <p:sp>
          <p:nvSpPr>
            <p:cNvPr id="93" name="椭圆 55"/>
            <p:cNvSpPr/>
            <p:nvPr/>
          </p:nvSpPr>
          <p:spPr>
            <a:xfrm>
              <a:off x="3476160" y="2619360"/>
              <a:ext cx="2242080" cy="224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56"/>
            <p:cNvSpPr/>
            <p:nvPr/>
          </p:nvSpPr>
          <p:spPr>
            <a:xfrm>
              <a:off x="3457440" y="2628000"/>
              <a:ext cx="2242080" cy="2242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7"/>
            <p:cNvSpPr/>
            <p:nvPr/>
          </p:nvSpPr>
          <p:spPr>
            <a:xfrm>
              <a:off x="4130280" y="2701080"/>
              <a:ext cx="934200" cy="46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1"/>
          <p:cNvSpPr/>
          <p:nvPr/>
        </p:nvSpPr>
        <p:spPr>
          <a:xfrm flipH="1">
            <a:off x="3699720" y="331164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3969720" y="375768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3967200" y="3994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61"/>
          <p:cNvSpPr/>
          <p:nvPr/>
        </p:nvSpPr>
        <p:spPr>
          <a:xfrm>
            <a:off x="6883560" y="389268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62"/>
          <p:cNvSpPr/>
          <p:nvPr/>
        </p:nvSpPr>
        <p:spPr>
          <a:xfrm>
            <a:off x="649440" y="360036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1069920" y="3552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1065240" y="319104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7407360" y="39164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7154280" y="355284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67"/>
          <p:cNvSpPr/>
          <p:nvPr/>
        </p:nvSpPr>
        <p:spPr>
          <a:xfrm>
            <a:off x="4149720" y="5130720"/>
            <a:ext cx="314280" cy="7952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4743360" y="58910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>
            <a:off x="4657680" y="55278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72"/>
          <p:cNvSpPr/>
          <p:nvPr/>
        </p:nvSpPr>
        <p:spPr>
          <a:xfrm>
            <a:off x="4464000" y="5924520"/>
            <a:ext cx="200016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73"/>
          <p:cNvSpPr/>
          <p:nvPr/>
        </p:nvSpPr>
        <p:spPr>
          <a:xfrm flipH="1" flipV="1">
            <a:off x="2680920" y="3600360"/>
            <a:ext cx="731880" cy="29520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74"/>
          <p:cNvSpPr/>
          <p:nvPr/>
        </p:nvSpPr>
        <p:spPr>
          <a:xfrm flipV="1">
            <a:off x="6080040" y="3892320"/>
            <a:ext cx="831960" cy="40932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30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