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AD9-CCE4-4840-911A-41C2A008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859-B494-4ED3-9137-E6A9A9C6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458-C90C-4020-8670-9736F36A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EC0-B928-4BDF-AF58-5532F6B0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560C-9B8B-4085-9A07-588FAFB4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0B2E-BEC2-4784-969F-7859C6E0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AEC9-ACEF-4A30-85C6-2851F1F4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2D7B-6AA7-4740-A73F-6E6AFC9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BE01-BA0E-44A3-B6F2-6D4F7309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901-41CA-4371-826C-AD18F193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23F7-D6FA-42F0-93B4-FFD7AEB1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F4A-6986-465D-BDE4-2FA3809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BCCD-EF3E-4451-9226-C9F47D40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776B-5F41-4445-827B-2B7F91B9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40E-69EB-44CC-9A3C-25232F1B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CF0-AA90-4353-B602-A90A44D8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431A-0002-497D-984C-25A8787B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6C9-C275-4CE2-825E-50AC2DF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727-02AA-4D05-BD1D-3D50DD23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A19-DA9C-4F69-BFC3-2035093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F8B-B6D0-4D44-9C97-2E7F3741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35F-5D62-4863-841E-F2607CB6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86A-73B4-4632-A0FB-7E21FA80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3E7-3DA3-4AEB-BC17-120D09B3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FFB4-80B7-4E25-A00F-73096AB13F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1152-1C76-4FBD-BCE5-29FAD17AF8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C3D6-0D85-4FC8-9409-94EA87A46E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80FB-6071-4E10-BFA1-C3EFFCA6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62"/>
          <p:cNvSpPr/>
          <p:nvPr/>
        </p:nvSpPr>
        <p:spPr>
          <a:xfrm>
            <a:off x="1184400" y="5511960"/>
            <a:ext cx="6696000" cy="10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"/>
          <p:cNvGrpSpPr/>
          <p:nvPr/>
        </p:nvGrpSpPr>
        <p:grpSpPr>
          <a:xfrm>
            <a:off x="2781360" y="1820880"/>
            <a:ext cx="3273480" cy="3732120"/>
            <a:chOff x="2781360" y="1820880"/>
            <a:chExt cx="3273480" cy="3732120"/>
          </a:xfrm>
        </p:grpSpPr>
        <p:grpSp>
          <p:nvGrpSpPr>
            <p:cNvPr id="84" name="组合 45"/>
            <p:cNvGrpSpPr/>
            <p:nvPr/>
          </p:nvGrpSpPr>
          <p:grpSpPr>
            <a:xfrm>
              <a:off x="2901960" y="3224160"/>
              <a:ext cx="2389320" cy="2328840"/>
              <a:chOff x="2901960" y="3224160"/>
              <a:chExt cx="2389320" cy="2328840"/>
            </a:xfrm>
          </p:grpSpPr>
          <p:sp>
            <p:nvSpPr>
              <p:cNvPr id="85" name="Freeform 12"/>
              <p:cNvSpPr/>
              <p:nvPr/>
            </p:nvSpPr>
            <p:spPr>
              <a:xfrm>
                <a:off x="2954160" y="3728880"/>
                <a:ext cx="725400" cy="101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"/>
              <p:cNvSpPr/>
              <p:nvPr/>
            </p:nvSpPr>
            <p:spPr>
              <a:xfrm>
                <a:off x="3755880" y="4003560"/>
                <a:ext cx="1222560" cy="15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9"/>
              <p:cNvSpPr/>
              <p:nvPr/>
            </p:nvSpPr>
            <p:spPr>
              <a:xfrm>
                <a:off x="3714840" y="4025880"/>
                <a:ext cx="1249560" cy="152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0"/>
              <p:cNvSpPr/>
              <p:nvPr/>
            </p:nvSpPr>
            <p:spPr>
              <a:xfrm>
                <a:off x="2901960" y="3638520"/>
                <a:ext cx="758880" cy="1155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3"/>
              <p:cNvSpPr/>
              <p:nvPr/>
            </p:nvSpPr>
            <p:spPr>
              <a:xfrm>
                <a:off x="2965320" y="3224160"/>
                <a:ext cx="2325960" cy="227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组合 44"/>
            <p:cNvGrpSpPr/>
            <p:nvPr/>
          </p:nvGrpSpPr>
          <p:grpSpPr>
            <a:xfrm>
              <a:off x="5110200" y="2498760"/>
              <a:ext cx="944640" cy="1971720"/>
              <a:chOff x="5110200" y="2498760"/>
              <a:chExt cx="944640" cy="1971720"/>
            </a:xfrm>
          </p:grpSpPr>
          <p:sp>
            <p:nvSpPr>
              <p:cNvPr id="91" name="Freeform 6"/>
              <p:cNvSpPr/>
              <p:nvPr/>
            </p:nvSpPr>
            <p:spPr>
              <a:xfrm>
                <a:off x="5629320" y="2724120"/>
                <a:ext cx="266760" cy="139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7"/>
              <p:cNvSpPr/>
              <p:nvPr/>
            </p:nvSpPr>
            <p:spPr>
              <a:xfrm>
                <a:off x="5110200" y="2608200"/>
                <a:ext cx="881280" cy="1862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8"/>
              <p:cNvSpPr/>
              <p:nvPr/>
            </p:nvSpPr>
            <p:spPr>
              <a:xfrm>
                <a:off x="5640480" y="2712960"/>
                <a:ext cx="25560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"/>
              <p:cNvSpPr/>
              <p:nvPr/>
            </p:nvSpPr>
            <p:spPr>
              <a:xfrm>
                <a:off x="5155920" y="2638440"/>
                <a:ext cx="830520" cy="178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1"/>
              <p:cNvSpPr/>
              <p:nvPr/>
            </p:nvSpPr>
            <p:spPr>
              <a:xfrm>
                <a:off x="5170320" y="2498760"/>
                <a:ext cx="884520" cy="190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4"/>
              <p:cNvSpPr/>
              <p:nvPr/>
            </p:nvSpPr>
            <p:spPr>
              <a:xfrm>
                <a:off x="5197320" y="2498760"/>
                <a:ext cx="857520" cy="1794240"/>
              </a:xfrm>
              <a:prstGeom prst="pi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24"/>
            <p:cNvGrpSpPr/>
            <p:nvPr/>
          </p:nvGrpSpPr>
          <p:grpSpPr>
            <a:xfrm>
              <a:off x="2781360" y="1820880"/>
              <a:ext cx="2397240" cy="1224000"/>
              <a:chOff x="2781360" y="1820880"/>
              <a:chExt cx="2397240" cy="1224000"/>
            </a:xfrm>
          </p:grpSpPr>
          <p:sp>
            <p:nvSpPr>
              <p:cNvPr id="98" name="Freeform 10"/>
              <p:cNvSpPr/>
              <p:nvPr/>
            </p:nvSpPr>
            <p:spPr>
              <a:xfrm>
                <a:off x="4127760" y="1858680"/>
                <a:ext cx="430200" cy="463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1"/>
              <p:cNvSpPr/>
              <p:nvPr/>
            </p:nvSpPr>
            <p:spPr>
              <a:xfrm>
                <a:off x="2825640" y="2273400"/>
                <a:ext cx="2216520" cy="72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5"/>
              <p:cNvSpPr/>
              <p:nvPr/>
            </p:nvSpPr>
            <p:spPr>
              <a:xfrm>
                <a:off x="2844720" y="1820880"/>
                <a:ext cx="2333880" cy="115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7"/>
              <p:cNvSpPr/>
              <p:nvPr/>
            </p:nvSpPr>
            <p:spPr>
              <a:xfrm>
                <a:off x="4091040" y="1850760"/>
                <a:ext cx="455400" cy="53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8"/>
              <p:cNvSpPr/>
              <p:nvPr/>
            </p:nvSpPr>
            <p:spPr>
              <a:xfrm>
                <a:off x="2781360" y="2276640"/>
                <a:ext cx="2216520" cy="768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4143600" y="1820880"/>
                <a:ext cx="1035000" cy="1035360"/>
              </a:xfrm>
              <a:prstGeom prst="pie">
                <a:avLst/>
              </a:prstGeom>
              <a:solidFill>
                <a:srgbClr val="f2f2f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矩形 1"/>
          <p:cNvSpPr/>
          <p:nvPr/>
        </p:nvSpPr>
        <p:spPr>
          <a:xfrm>
            <a:off x="5569920" y="255600"/>
            <a:ext cx="25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哭脸”三元素反对关系</a:t>
            </a:r>
            <a:r>
              <a:rPr b="1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 flipH="1">
            <a:off x="1744560" y="12952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e1247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1728720" y="49039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36c09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52"/>
          <p:cNvGrpSpPr/>
          <p:nvPr/>
        </p:nvGrpSpPr>
        <p:grpSpPr>
          <a:xfrm>
            <a:off x="1717200" y="1681200"/>
            <a:ext cx="2114640" cy="464040"/>
            <a:chOff x="1717200" y="1681200"/>
            <a:chExt cx="2114640" cy="464040"/>
          </a:xfrm>
        </p:grpSpPr>
        <p:sp>
          <p:nvSpPr>
            <p:cNvPr id="108" name="TextBox 11"/>
            <p:cNvSpPr/>
            <p:nvPr/>
          </p:nvSpPr>
          <p:spPr>
            <a:xfrm flipH="1">
              <a:off x="1716840" y="16862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1"/>
            <p:cNvSpPr/>
            <p:nvPr/>
          </p:nvSpPr>
          <p:spPr>
            <a:xfrm flipH="1">
              <a:off x="2684880" y="168120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55"/>
          <p:cNvGrpSpPr/>
          <p:nvPr/>
        </p:nvGrpSpPr>
        <p:grpSpPr>
          <a:xfrm>
            <a:off x="1711440" y="5270400"/>
            <a:ext cx="2114280" cy="464040"/>
            <a:chOff x="1711440" y="5270400"/>
            <a:chExt cx="2114280" cy="464040"/>
          </a:xfrm>
        </p:grpSpPr>
        <p:sp>
          <p:nvSpPr>
            <p:cNvPr id="111" name="TextBox 11"/>
            <p:cNvSpPr/>
            <p:nvPr/>
          </p:nvSpPr>
          <p:spPr>
            <a:xfrm flipH="1">
              <a:off x="1711440" y="52754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1"/>
            <p:cNvSpPr/>
            <p:nvPr/>
          </p:nvSpPr>
          <p:spPr>
            <a:xfrm flipH="1">
              <a:off x="2679480" y="52704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直接连接符 58"/>
          <p:cNvSpPr/>
          <p:nvPr/>
        </p:nvSpPr>
        <p:spPr>
          <a:xfrm flipH="1">
            <a:off x="5483160" y="3173400"/>
            <a:ext cx="2517840" cy="1440"/>
          </a:xfrm>
          <a:prstGeom prst="line">
            <a:avLst/>
          </a:prstGeom>
          <a:ln w="648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 flipH="1">
            <a:off x="6912000" y="32050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>
            <a:off x="6607080" y="280188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flipH="1">
            <a:off x="5940360" y="32036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38"/>
          <p:cNvSpPr/>
          <p:nvPr/>
        </p:nvSpPr>
        <p:spPr>
          <a:xfrm flipV="1">
            <a:off x="1746360" y="3808440"/>
            <a:ext cx="2543040" cy="1449360"/>
          </a:xfrm>
          <a:prstGeom prst="pie">
            <a:avLst/>
          </a:prstGeom>
          <a:noFill/>
          <a:ln w="6480">
            <a:solidFill>
              <a:srgbClr val="e36c09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39"/>
          <p:cNvSpPr/>
          <p:nvPr/>
        </p:nvSpPr>
        <p:spPr>
          <a:xfrm>
            <a:off x="1749600" y="1657440"/>
            <a:ext cx="2342880" cy="954000"/>
          </a:xfrm>
          <a:prstGeom prst="pie">
            <a:avLst/>
          </a:prstGeom>
          <a:noFill/>
          <a:ln w="648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30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